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FDD-B03A-4E50-874E-D5642EFF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859-0473-4C85-9EA7-172D260F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6B5-59A9-467D-9656-D7171F2E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85C-2675-47F6-BB5D-F74E848A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1E8D-E404-4FFD-A461-4558DF07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FA69-075E-46AA-8AC9-1EAF7E7E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0B8C-31D6-4891-A91E-4224BC0F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4F23-D1D7-488A-91B0-F9C5BDFE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66D2-5F07-47BA-964C-BC138B91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1EE5-318A-499E-8782-EF0331F5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6841-0AF7-4236-82D6-A348DF98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738C-6145-4A3B-B083-E04761D5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00A2-C6BB-42C9-A850-5FC75E71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A763-6A19-4E66-A5C4-37F1DE1A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F73C-7DAE-444B-A270-1431DDBF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73CA-C738-4854-B2C1-DF577A26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A2F3-D674-48C0-B982-CCACE0EF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F4C-65FD-4FE2-B665-4B823657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19B-5D9C-4296-8E31-EDA8B96F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BD3-5667-49D1-A99A-D4E156EF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9512-AC73-4B63-A18E-B725FFBB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7E7D-C94B-4DB0-9D4B-E438765B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FDB-9B99-41FD-A0AC-820A91CE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49F-542E-4AE0-A552-025E0EB6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C1F4-C58B-4C01-88C1-DDCDBE25D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924680" y="6248520"/>
            <a:ext cx="106704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329A-E239-4C68-8CA7-D6D0CDD2C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Lea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, throughout thei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s knowledge for themselves (Jean Pia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erson who brings a wealth and depth of experience (John Dew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pers in a community of learners (Lave and Wegn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owerment (Ivan Illich, Paulo Fri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using tools to create objects is a learning experience (Seymour Pap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aths for many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multiple entry-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, system,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 the tools with the lea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, express, and con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by making vs. learning by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6T19:35:57Z</dcterms:created>
  <dc:creator>S S</dc:creator>
  <dc:description/>
  <dc:language>en-US</dc:language>
  <cp:lastModifiedBy>S S</cp:lastModifiedBy>
  <dcterms:modified xsi:type="dcterms:W3CDTF">2001-01-25T17:36:07Z</dcterms:modified>
  <cp:revision>59</cp:revision>
  <dc:subject/>
  <dc:title>Lifelong Kindergarten</dc:title>
</cp:coreProperties>
</file>