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ct" ContentType="image/x-pict"/>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133360" y="533160"/>
            <a:ext cx="2361960" cy="177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457200" y="2514600"/>
            <a:ext cx="601992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031E-45A9-43B1-8648-147977D57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2133720" y="533520"/>
            <a:ext cx="2361960" cy="1771560"/>
          </a:xfrm>
          <a:prstGeom prst="rect">
            <a:avLst/>
          </a:prstGeom>
          <a:ln w="0">
            <a:noFill/>
          </a:ln>
        </p:spPr>
      </p:sp>
      <p:sp>
        <p:nvSpPr>
          <p:cNvPr id="72" name="PlaceHolder 2"/>
          <p:cNvSpPr>
            <a:spLocks noGrp="1"/>
          </p:cNvSpPr>
          <p:nvPr>
            <p:ph type="body"/>
          </p:nvPr>
        </p:nvSpPr>
        <p:spPr>
          <a:xfrm>
            <a:off x="457200" y="2514600"/>
            <a:ext cx="601992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very interested in what computing will look like when the processing elements become enviromentally robust, shrink to the size of sand, and migrate off the precision engineered mother boards into the ambient environment; into building material, furniture, disposables, even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ng on past experience, I decided software was the harder portion of the problem and have focused the last two years on techniques for programming a paintable computer – my catch-word for granularized computing elements that are laminated into surfaces or suspending in a viscous medium and dispensed like pai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2133720" y="533520"/>
            <a:ext cx="2361960" cy="1771560"/>
          </a:xfrm>
          <a:prstGeom prst="rect">
            <a:avLst/>
          </a:prstGeom>
          <a:ln w="0">
            <a:noFill/>
          </a:ln>
        </p:spPr>
      </p:sp>
      <p:sp>
        <p:nvSpPr>
          <p:cNvPr id="74" name="PlaceHolder 2"/>
          <p:cNvSpPr>
            <a:spLocks noGrp="1"/>
          </p:cNvSpPr>
          <p:nvPr>
            <p:ph type="body"/>
          </p:nvPr>
        </p:nvSpPr>
        <p:spPr>
          <a:xfrm>
            <a:off x="457200" y="2514600"/>
            <a:ext cx="6019920" cy="6019920"/>
          </a:xfrm>
          <a:prstGeom prst="rect">
            <a:avLst/>
          </a:prstGeom>
          <a:noFill/>
          <a:ln w="0">
            <a:noFill/>
          </a:ln>
        </p:spPr>
        <p:txBody>
          <a:bodyPr lIns="90000" rIns="90000" tIns="46800" bIns="4680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sounds out of reach, the hardware is in many way s conventional.</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ndard low power micro – clock speed on the order of 50 MHz -- is fetching code and data from 50-100K of RAM. All the I/O to the micro is gated through a wireless transceiver with a minimum rate of 100 Kb/s.Range is limited to the nearest neighbors. A power harvesting subsystem generates power either chemically, optically or via electromagnetic coupling. In response to environmental limits, this power subsystem will regulate to the clock on the micro to match the load to the available power. In the limited literature on this field, these IC’s are naturally referred to as particle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exposed to power, each particle builds an enumerated list of its neighbors but has no hardware support for recovering relative orientation or distance. Critically, no particle has any knowledge of the world beyond its communication radiu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an ensemble like this is a perennial nightmare, with little hope of getting a human to structure procedures for unrestricted use. So we cooked a way to get the code to structure itself. Specifically, we defined techniques for “process self-assembly” – the unsupervised reassembly of running processes from fragments of code which are mobile in a virtual environmen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2133720" y="533520"/>
            <a:ext cx="2361960" cy="1771560"/>
          </a:xfrm>
          <a:prstGeom prst="rect">
            <a:avLst/>
          </a:prstGeom>
          <a:ln w="0">
            <a:noFill/>
          </a:ln>
        </p:spPr>
      </p:sp>
      <p:sp>
        <p:nvSpPr>
          <p:cNvPr id="76" name="PlaceHolder 2"/>
          <p:cNvSpPr>
            <a:spLocks noGrp="1"/>
          </p:cNvSpPr>
          <p:nvPr>
            <p:ph type="body"/>
          </p:nvPr>
        </p:nvSpPr>
        <p:spPr>
          <a:xfrm>
            <a:off x="457200" y="2514600"/>
            <a:ext cx="601992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m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lf-assembly is defined around the concept of a process fragments, smal autonomous, self contained components of code which actively migrate from particle to particle, using posts to a locally viewable bulletin board space as a means of communicating to other fragments in the neighboring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ragments read these post from their neighbors and respond by altering their own posts, by migrating to a neighboring particle, by erasing iteself, or just by doing no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33720" y="533520"/>
            <a:ext cx="2361960" cy="1771560"/>
          </a:xfrm>
          <a:prstGeom prst="rect">
            <a:avLst/>
          </a:prstGeom>
          <a:ln w="0">
            <a:noFill/>
          </a:ln>
        </p:spPr>
      </p:sp>
      <p:sp>
        <p:nvSpPr>
          <p:cNvPr id="78" name="PlaceHolder 2"/>
          <p:cNvSpPr>
            <a:spLocks noGrp="1"/>
          </p:cNvSpPr>
          <p:nvPr>
            <p:ph type="body"/>
          </p:nvPr>
        </p:nvSpPr>
        <p:spPr>
          <a:xfrm>
            <a:off x="457200" y="2514600"/>
            <a:ext cx="601992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sel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cursor to procedural self-assembly is simple pattern formation. This movie illustrates a simple example of two classes of code fragments cooperating to tessellate an arbitrary 2D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configuration is a subset of particle ensemble selected graphically with the simulator. A single portal makes contact with this regions and diffuses into the ensemble 30 Centroid code fragments. Each Centroid seeks to position itself such that it is equidistant from the nearest neighboring Centroids. In the absence of any support for estimating relative distance, the best these Centroids can do is a random walk, ceasing only when there are no other Centroids in the local communication radius. This strategy has no guarantee of a finite settling time and spatial partitioning is certain to b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ment later, a single instance of a MultiGrad code fragment is passed into the ensemble at a single entry point and propagates a single copy of itself into every particle. Functionally, MultiGrad is a “portalbe Gradient” that enables any other code fragment to radiate a gradient field over a finite distance. Centroids use the MultiGrads to radiate a field containing ID information and a local estimate of distance from the radiating Centroid. Other Centroids interpret the distance estimates as a repulsive spring force and seek the position which minimizes the potential energy. The result is a much closer approximation to a uniform distribution of the Centro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ensing and positioning is an ongoing process, the Centroids will adapt to unexpected changes in topology. When the clocks on the previously disabled particles are turned back on, the MultiGrad’s propagate outward, followed by the Centroids. In the new steady state, the Centroids have repositioned themselves to again evenly subdivide of the 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33720" y="533520"/>
            <a:ext cx="2361960" cy="1771560"/>
          </a:xfrm>
          <a:prstGeom prst="rect">
            <a:avLst/>
          </a:prstGeom>
          <a:ln w="0">
            <a:noFill/>
          </a:ln>
        </p:spPr>
      </p:sp>
      <p:sp>
        <p:nvSpPr>
          <p:cNvPr id="80" name="PlaceHolder 2"/>
          <p:cNvSpPr>
            <a:spLocks noGrp="1"/>
          </p:cNvSpPr>
          <p:nvPr>
            <p:ph type="body"/>
          </p:nvPr>
        </p:nvSpPr>
        <p:spPr>
          <a:xfrm>
            <a:off x="457200" y="2514600"/>
            <a:ext cx="6019920" cy="6019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3          Surface 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is application is peer to peer communication between devices that are arbitrarily positioned on the surface of a table. Peers are any computational artifacts that exchange data; laptops, PDA’s, keyboards, displays, etc.  A particle ensemble, embedded in a planar surface, acts as both a communication medium and a computational resource for these devices. Peers are assumed to have a footprint which is large compared to the density of the particles in the surface beneath them, and be fitted with multiple transceivers capable of contacting neighborhoods of particles. Peers use these transceivers both to establish multi-channel connections and to direct the surface to execute some processing on the messages that they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nels emerge from the interaction of several code fragment types. Tracer code fragments that walk up Gradient fields radiated my the portals on the peers. The Tracer leaves a bread-crumb-like trail s that message packets then use as a guide for directing the progress of messages between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s to script the interaction of the code fragments so that the channels which emerge are bandwidth efficient, and are robust against changes in the number and position of the peers. Additionally, two peers which are exchanging data should be able to direct the intervening particles to perform some processing on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n this application is still incomplete. This movie shows, as an interim result, an instance of two peers establishing a multi-channel connection. Peers announce their presence by radiating gradients which carry device and channel ID’s in addition to the locally maintained distance estimates. Peer compare this ID info to decide which one emits the Tracer code fragments that build the trails. Tracer code fragments also radiate mini-gradients fields whose end effect is to maintain the spacing between the channels and inhibit their cro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33720" y="533520"/>
            <a:ext cx="2361960" cy="1771560"/>
          </a:xfrm>
          <a:prstGeom prst="rect">
            <a:avLst/>
          </a:prstGeom>
          <a:ln w="0">
            <a:noFill/>
          </a:ln>
        </p:spPr>
      </p:sp>
      <p:sp>
        <p:nvSpPr>
          <p:cNvPr id="82" name="PlaceHolder 2"/>
          <p:cNvSpPr>
            <a:spLocks noGrp="1"/>
          </p:cNvSpPr>
          <p:nvPr>
            <p:ph type="body"/>
          </p:nvPr>
        </p:nvSpPr>
        <p:spPr>
          <a:xfrm>
            <a:off x="457200" y="2514600"/>
            <a:ext cx="6019920" cy="6019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3          Surface 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is application is peer to peer communication between devices that are arbitrarily positioned on the surface of a table. Peers are any computational artifacts that exchange data; laptops, PDA’s, keyboards, displays, etc.  A particle ensemble, embedded in a planar surface, acts as both a communication medium and a computational resource for these devices. Peers are assumed to have a footprint which is large compared to the density of the particles in the surface beneath them, and be fitted with multiple transceivers capable of contacting neighborhoods of particles. Peers use these transceivers both to establish multi-channel connections and to direct the surface to execute some processing on the messages that they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nels emerge from the interaction of several code fragment types. Tracer code fragments that walk up Gradient fields radiated my the portals on the peers. The Tracer leaves a bread-crumb-like trail s that message packets then use as a guide for directing the progress of messages between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s to script the interaction of the code fragments so that the channels which emerge are bandwidth efficient, and are robust against changes in the number and position of the peers. Additionally, two peers which are exchanging data should be able to direct the intervening particles to perform some processing on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n this application is still incomplete. This movie shows, as an interim result, an instance of two peers establishing a multi-channel connection. Peers announce their presence by radiating gradients which carry device and channel ID’s in addition to the locally maintained distance estimates. Peer compare this ID info to decide which one emits the Tracer code fragments that build the trails. Tracer code fragments also radiate mini-gradients fields whose end effect is to maintain the spacing between the channels and inhibit their cro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7F40D-3D15-4602-911A-990E2FC0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1A94-2AF2-4E8E-805C-F7F157EC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2B5AD-C782-4485-B319-A00F46576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971F0-CFA6-4671-A346-C0D6EF7A3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64E6-8F34-4438-8EB0-909C1C09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7794-2B07-4B56-B10A-EA313DFB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A6F70-A25C-4B4D-A095-BF84F125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3162-580F-4A9F-9F00-89326098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7AF6-83BB-4474-A448-5059D41D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10D2-BAF9-432A-91B8-B680A86C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7FFF1-FCA2-4BEA-A8E7-311AD52B3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F02B-EDF1-4431-A8F6-AF2A090C8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7ED2-FFB4-4CBD-9AB7-CCFE3A1DD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16120" y="1047600"/>
            <a:ext cx="7807320" cy="2611440"/>
          </a:xfrm>
          <a:prstGeom prst="rect">
            <a:avLst/>
          </a:prstGeom>
          <a:ln w="0">
            <a:noFill/>
          </a:ln>
        </p:spPr>
      </p:pic>
      <p:pic>
        <p:nvPicPr>
          <p:cNvPr id="49" name="" descr=""/>
          <p:cNvPicPr/>
          <p:nvPr/>
        </p:nvPicPr>
        <p:blipFill>
          <a:blip r:embed="rId2"/>
          <a:stretch/>
        </p:blipFill>
        <p:spPr>
          <a:xfrm>
            <a:off x="450720" y="1913040"/>
            <a:ext cx="4408560" cy="4106880"/>
          </a:xfrm>
          <a:prstGeom prst="rect">
            <a:avLst/>
          </a:prstGeom>
          <a:ln w="0">
            <a:noFill/>
          </a:ln>
        </p:spPr>
      </p:pic>
      <p:sp>
        <p:nvSpPr>
          <p:cNvPr id="50" name=""/>
          <p:cNvSpPr/>
          <p:nvPr/>
        </p:nvSpPr>
        <p:spPr>
          <a:xfrm>
            <a:off x="446040" y="6404040"/>
            <a:ext cx="833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902320" y="1914480"/>
            <a:ext cx="5520600" cy="82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ntable Computer</a:t>
            </a:r>
            <a:r>
              <a:rPr b="0" lang="en-US" sz="1800" spc="-1" strike="noStrike">
                <a:solidFill>
                  <a:srgbClr val="000000"/>
                </a:solidFill>
                <a:latin typeface="Arial"/>
              </a:rPr>
              <a:t>: </a:t>
            </a:r>
            <a:r>
              <a:rPr b="0" lang="en-US" sz="1500" spc="-1" strike="noStrike">
                <a:solidFill>
                  <a:srgbClr val="000000"/>
                </a:solidFill>
                <a:latin typeface="Arial"/>
              </a:rPr>
              <a:t>n [L. </a:t>
            </a:r>
            <a:r>
              <a:rPr b="0" i="1" lang="en-US" sz="1500" spc="-1" strike="noStrike">
                <a:solidFill>
                  <a:srgbClr val="000000"/>
                </a:solidFill>
                <a:latin typeface="Arial"/>
              </a:rPr>
              <a:t>pretty</a:t>
            </a:r>
            <a:r>
              <a:rPr b="0" lang="en-US" sz="1500" spc="-1" strike="noStrike">
                <a:solidFill>
                  <a:srgbClr val="000000"/>
                </a:solidFill>
                <a:latin typeface="Arial"/>
              </a:rPr>
              <a:t> + Gk </a:t>
            </a:r>
            <a:r>
              <a:rPr b="0" i="1" lang="en-US" sz="1500" spc="-1" strike="noStrike">
                <a:solidFill>
                  <a:srgbClr val="000000"/>
                </a:solidFill>
                <a:latin typeface="Arial"/>
              </a:rPr>
              <a:t>cool</a:t>
            </a:r>
            <a:r>
              <a:rPr b="0" lang="en-US" sz="1500" spc="-1" strike="noStrike">
                <a:solidFill>
                  <a:srgbClr val="000000"/>
                </a:solidFill>
                <a:latin typeface="Arial"/>
              </a:rPr>
              <a:t>]  1: an x486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d 50K of RAM, shrunken to the size of sand and painte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by the thousands on furniture and walls</a:t>
            </a:r>
            <a:r>
              <a:rPr b="0" i="1" lang="en-US" sz="1500" spc="-1" strike="noStrike">
                <a:solidFill>
                  <a:srgbClr val="000000"/>
                </a:solidFill>
                <a:latin typeface="Arial"/>
              </a:rPr>
              <a:t>.   see also</a:t>
            </a:r>
            <a:r>
              <a:rPr b="0" lang="en-US" sz="1500" spc="-1" strike="noStrike">
                <a:solidFill>
                  <a:srgbClr val="000000"/>
                </a:solidFill>
                <a:latin typeface="Arial"/>
              </a:rPr>
              <a:t>: </a:t>
            </a:r>
            <a:r>
              <a:rPr b="1" lang="en-US" sz="1500" spc="-1" strike="noStrike">
                <a:solidFill>
                  <a:srgbClr val="000000"/>
                </a:solidFill>
                <a:latin typeface="Arial"/>
              </a:rPr>
              <a:t>wack-o</a:t>
            </a:r>
            <a:endParaRPr b="0" lang="en-US" sz="1500" spc="-1" strike="noStrike">
              <a:solidFill>
                <a:srgbClr val="000000"/>
              </a:solidFill>
              <a:latin typeface="Times New Roman"/>
            </a:endParaRPr>
          </a:p>
        </p:txBody>
      </p:sp>
      <p:sp>
        <p:nvSpPr>
          <p:cNvPr id="52" name=""/>
          <p:cNvSpPr/>
          <p:nvPr/>
        </p:nvSpPr>
        <p:spPr>
          <a:xfrm>
            <a:off x="5223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70080" y="152280"/>
            <a:ext cx="3079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a:rPr>
              <a:t>Programm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79560" y="4605480"/>
            <a:ext cx="7294320" cy="2252520"/>
          </a:xfrm>
          <a:prstGeom prst="rect">
            <a:avLst/>
          </a:prstGeom>
          <a:ln w="0">
            <a:noFill/>
          </a:ln>
        </p:spPr>
      </p:pic>
      <p:pic>
        <p:nvPicPr>
          <p:cNvPr id="55" name="" descr=""/>
          <p:cNvPicPr/>
          <p:nvPr/>
        </p:nvPicPr>
        <p:blipFill>
          <a:blip r:embed="rId2"/>
          <a:stretch/>
        </p:blipFill>
        <p:spPr>
          <a:xfrm>
            <a:off x="1146240" y="252360"/>
            <a:ext cx="6665760" cy="3865680"/>
          </a:xfrm>
          <a:prstGeom prst="rect">
            <a:avLst/>
          </a:prstGeom>
          <a:ln w="0">
            <a:noFill/>
          </a:ln>
        </p:spPr>
      </p:pic>
      <p:sp>
        <p:nvSpPr>
          <p:cNvPr id="56" name=""/>
          <p:cNvSpPr/>
          <p:nvPr/>
        </p:nvSpPr>
        <p:spPr>
          <a:xfrm>
            <a:off x="1174680" y="4083120"/>
            <a:ext cx="5062680" cy="1450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65960" y="4102200"/>
            <a:ext cx="1334880" cy="1425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46040" y="206280"/>
            <a:ext cx="57582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59"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70080" y="152280"/>
            <a:ext cx="3079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a:rPr>
              <a:t>Programm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
        <p:nvSpPr>
          <p:cNvPr id="61" name=""/>
          <p:cNvSpPr/>
          <p:nvPr/>
        </p:nvSpPr>
        <p:spPr>
          <a:xfrm>
            <a:off x="6873480" y="43956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essellation</a:t>
            </a:r>
            <a:endParaRPr b="0" lang="en-US" sz="2400" spc="-1" strike="noStrike">
              <a:solidFill>
                <a:srgbClr val="000000"/>
              </a:solidFill>
              <a:latin typeface="Times New Roman"/>
            </a:endParaRPr>
          </a:p>
        </p:txBody>
      </p:sp>
      <p:pic>
        <p:nvPicPr>
          <p:cNvPr id="62" name="Macintosh HD:Users:Bill:Talks:Movies:Tesselation 2.mov" descr=""/>
          <p:cNvPicPr/>
          <p:nvPr/>
        </p:nvPicPr>
        <p:blipFill>
          <a:blip r:embed="rId1"/>
          <a:stretch/>
        </p:blipFill>
        <p:spPr>
          <a:xfrm>
            <a:off x="355680" y="1206360"/>
            <a:ext cx="839160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63"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0080" y="152280"/>
            <a:ext cx="3079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a:rPr>
              <a:t>Programm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
        <p:nvSpPr>
          <p:cNvPr id="65" name=""/>
          <p:cNvSpPr/>
          <p:nvPr/>
        </p:nvSpPr>
        <p:spPr>
          <a:xfrm>
            <a:off x="6838200" y="42696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rface Bus</a:t>
            </a:r>
            <a:endParaRPr b="0" lang="en-US" sz="2400" spc="-1" strike="noStrike">
              <a:solidFill>
                <a:srgbClr val="000000"/>
              </a:solidFill>
              <a:latin typeface="Times New Roman"/>
            </a:endParaRPr>
          </a:p>
        </p:txBody>
      </p:sp>
      <p:pic>
        <p:nvPicPr>
          <p:cNvPr id="66" name="Macintosh HD:Users:Bill:Talks:Movies:Surface Bus.mov" descr=""/>
          <p:cNvPicPr/>
          <p:nvPr/>
        </p:nvPicPr>
        <p:blipFill>
          <a:blip r:embed="rId1"/>
          <a:stretch/>
        </p:blipFill>
        <p:spPr>
          <a:xfrm>
            <a:off x="866880" y="1143000"/>
            <a:ext cx="7302240" cy="374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67"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0080" y="152280"/>
            <a:ext cx="3079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a:rPr>
              <a:t>Programm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
        <p:nvSpPr>
          <p:cNvPr id="69" name=""/>
          <p:cNvSpPr/>
          <p:nvPr/>
        </p:nvSpPr>
        <p:spPr>
          <a:xfrm>
            <a:off x="6838200" y="42696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rface Bu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100160" y="1314360"/>
            <a:ext cx="6994440" cy="448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5T13:54:40Z</dcterms:created>
  <dc:creator>The Garden</dc:creator>
  <dc:description/>
  <dc:language>en-US</dc:language>
  <cp:lastModifiedBy>William Butera</cp:lastModifiedBy>
  <dcterms:modified xsi:type="dcterms:W3CDTF">2002-01-25T16:34:29Z</dcterms:modified>
  <cp:revision>240</cp:revision>
  <dc:subject/>
  <dc:title>No Slide Title</dc:title>
</cp:coreProperties>
</file>