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475-51B4-42D5-A86B-49286519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4A5-B190-4164-BBAD-D197AA38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5B1-9E1A-4FF7-AD84-0560659A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808-A423-49EA-AAEC-113D52B1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660-825B-4BE8-A376-CA545D09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43C-2869-4EE3-9303-882ACC62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716-F65D-431E-97F7-35532D2A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878-0A08-46A6-A6C8-9B53C186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AA0-F156-4E78-A975-2A780304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7F9-EF64-44F4-BC38-2760E4EA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D50-7980-4FEA-809C-D9559E1D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AA9-CDDE-4AF2-B30B-D51CB9B3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FCB5-C8A5-4518-94CC-AB9E1A218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160" y="380880"/>
            <a:ext cx="2100600" cy="55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efore 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IBM%20cell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1828800" cy="121140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80640" y="2376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254"/>
                </a:solidFill>
                <a:latin typeface="Arial"/>
              </a:rPr>
              <a:t>News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682280" y="68580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254"/>
                </a:solidFill>
                <a:latin typeface="Arial"/>
              </a:rPr>
              <a:t>Things That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30040" y="159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9320" y="2209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T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0760" y="28195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enny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135160" y="2819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rinted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368000" y="380988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enny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51560" y="56372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Silicon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53360" y="617076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ersonal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3720" y="510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I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533520"/>
            <a:ext cx="990720" cy="457200"/>
          </a:xfrm>
          <a:prstGeom prst="line">
            <a:avLst/>
          </a:prstGeom>
          <a:ln w="57240">
            <a:solidFill>
              <a:srgbClr val="005254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685800" y="1295280"/>
            <a:ext cx="1371600" cy="83844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1294920" y="1295280"/>
            <a:ext cx="1143000" cy="152424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895480" y="1295280"/>
            <a:ext cx="152640" cy="160020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95280" y="3276720"/>
            <a:ext cx="685800" cy="60948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285640" y="3276720"/>
            <a:ext cx="762120" cy="60948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914040" y="4343400"/>
            <a:ext cx="685800" cy="83808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447560" y="4343400"/>
            <a:ext cx="609480" cy="129528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14600" y="4343400"/>
            <a:ext cx="380880" cy="190512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foo" descr=""/>
          <p:cNvPicPr/>
          <p:nvPr/>
        </p:nvPicPr>
        <p:blipFill>
          <a:blip r:embed="rId2"/>
          <a:stretch/>
        </p:blipFill>
        <p:spPr>
          <a:xfrm>
            <a:off x="5638680" y="304920"/>
            <a:ext cx="1600200" cy="2133360"/>
          </a:xfrm>
          <a:prstGeom prst="rect">
            <a:avLst/>
          </a:prstGeom>
          <a:ln w="0">
            <a:noFill/>
          </a:ln>
        </p:spPr>
      </p:pic>
      <p:pic>
        <p:nvPicPr>
          <p:cNvPr id="917" name="foo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95840" cy="2327400"/>
          </a:xfrm>
          <a:prstGeom prst="rect">
            <a:avLst/>
          </a:prstGeom>
          <a:ln w="0">
            <a:noFill/>
          </a:ln>
        </p:spPr>
      </p:pic>
      <p:pic>
        <p:nvPicPr>
          <p:cNvPr id="918" name="IBM%20array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1752840" cy="1214280"/>
          </a:xfrm>
          <a:prstGeom prst="rect">
            <a:avLst/>
          </a:prstGeom>
          <a:ln w="0">
            <a:noFill/>
          </a:ln>
        </p:spPr>
      </p:pic>
      <p:pic>
        <p:nvPicPr>
          <p:cNvPr id="919" name="IBM%20cartoon" descr=""/>
          <p:cNvPicPr/>
          <p:nvPr/>
        </p:nvPicPr>
        <p:blipFill>
          <a:blip r:embed="rId5"/>
          <a:stretch/>
        </p:blipFill>
        <p:spPr>
          <a:xfrm>
            <a:off x="7086600" y="2743200"/>
            <a:ext cx="175248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80640" y="2376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254"/>
                </a:solidFill>
                <a:latin typeface="Arial"/>
              </a:rPr>
              <a:t>News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82280" y="68580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254"/>
                </a:solidFill>
                <a:latin typeface="Arial"/>
              </a:rPr>
              <a:t>Things That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30040" y="159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9320" y="2209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T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30760" y="28195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enny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135160" y="2819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rinted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68000" y="380988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enny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51560" y="56372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Silicon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53360" y="617076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ersonal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53720" y="510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I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81480" y="3654360"/>
            <a:ext cx="41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0004"/>
                </a:solidFill>
                <a:latin typeface="Arial"/>
              </a:rPr>
              <a:t>How To Make (Almost) Any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0004"/>
                </a:solidFill>
                <a:latin typeface="Arial"/>
              </a:rPr>
              <a:t>The Nature of Mathematical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0004"/>
                </a:solidFill>
                <a:latin typeface="Arial"/>
              </a:rPr>
              <a:t>The Physics of Information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0004"/>
                </a:solidFill>
                <a:latin typeface="Arial"/>
              </a:rPr>
              <a:t>Silicon Bi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0004"/>
                </a:solidFill>
                <a:latin typeface="Arial"/>
              </a:rPr>
              <a:t>Quantum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740920" y="2514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0004"/>
                </a:solidFill>
                <a:latin typeface="Arial"/>
              </a:rPr>
              <a:t>Nanofab, Biofab, Macrof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978160" y="914400"/>
            <a:ext cx="27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40004"/>
                </a:solidFill>
                <a:latin typeface="Arial"/>
              </a:rPr>
              <a:t>Center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40004"/>
                </a:solidFill>
                <a:latin typeface="Arial"/>
              </a:rPr>
              <a:t>Bits and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85800" y="533520"/>
            <a:ext cx="990720" cy="457200"/>
          </a:xfrm>
          <a:prstGeom prst="line">
            <a:avLst/>
          </a:prstGeom>
          <a:ln w="57240">
            <a:solidFill>
              <a:srgbClr val="005254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952880" y="990720"/>
            <a:ext cx="990720" cy="457200"/>
          </a:xfrm>
          <a:prstGeom prst="line">
            <a:avLst/>
          </a:prstGeom>
          <a:ln w="57240">
            <a:solidFill>
              <a:srgbClr val="a40004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685800" y="1295280"/>
            <a:ext cx="1371600" cy="83844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1294920" y="1295280"/>
            <a:ext cx="1143000" cy="152424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895480" y="1295280"/>
            <a:ext cx="152640" cy="160020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95280" y="3276720"/>
            <a:ext cx="685800" cy="60948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2285640" y="3276720"/>
            <a:ext cx="762120" cy="60948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914040" y="4343400"/>
            <a:ext cx="685800" cy="83808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447560" y="4343400"/>
            <a:ext cx="609480" cy="129528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514600" y="4343400"/>
            <a:ext cx="380880" cy="190512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foo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44" name="foo" descr=""/>
          <p:cNvPicPr/>
          <p:nvPr/>
        </p:nvPicPr>
        <p:blipFill>
          <a:blip r:embed="rId2"/>
          <a:stretch/>
        </p:blipFill>
        <p:spPr>
          <a:xfrm>
            <a:off x="3809880" y="3444840"/>
            <a:ext cx="1409760" cy="17366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6171120" y="1752480"/>
            <a:ext cx="24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0004"/>
                </a:solidFill>
                <a:latin typeface="Arial"/>
              </a:rPr>
              <a:t>from atomic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0004"/>
                </a:solidFill>
                <a:latin typeface="Arial"/>
              </a:rPr>
              <a:t>to glob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60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he Center for Bits and Ato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438280" y="685800"/>
            <a:ext cx="50292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SF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$13.75M / 5 yea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asic research, outrea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~20 studen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infrastructu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nt  </a:t>
            </a:r>
            <a:r>
              <a:rPr b="1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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m </a:t>
            </a:r>
            <a:r>
              <a:rPr b="1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k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48" name="overview" descr=""/>
          <p:cNvPicPr/>
          <p:nvPr/>
        </p:nvPicPr>
        <p:blipFill>
          <a:blip r:embed="rId2"/>
          <a:stretch/>
        </p:blipFill>
        <p:spPr>
          <a:xfrm>
            <a:off x="2057400" y="3755880"/>
            <a:ext cx="5181480" cy="3102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114800" cy="60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BA Partner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14400" y="380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14200" indent="-21420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14200" indent="-21420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14080" indent="-17136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ow To Make (almost) Anything, …</a:t>
            </a:r>
            <a:endParaRPr b="1" lang="en-US" sz="1800" spc="-1" strike="noStrike">
              <a:solidFill>
                <a:srgbClr val="008080"/>
              </a:solidFill>
              <a:latin typeface="Arial"/>
            </a:endParaRPr>
          </a:p>
          <a:p>
            <a:pPr marL="214200" indent="-21420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T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14080" indent="-17136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Motorola, Steelcase, Microsoft, USPS, …</a:t>
            </a:r>
            <a:endParaRPr b="1" lang="en-US" sz="1800" spc="-1" strike="noStrike">
              <a:solidFill>
                <a:srgbClr val="008080"/>
              </a:solidFill>
              <a:latin typeface="Arial"/>
            </a:endParaRPr>
          </a:p>
          <a:p>
            <a:pPr marL="214200" indent="-21420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Gs: PF, SiBio, …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14200" indent="-21420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L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14080" indent="-17136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rural healthcare, governance, micro-entrepreneureship…</a:t>
            </a:r>
            <a:endParaRPr b="1" lang="en-US" sz="1800" spc="-1" strike="noStrike">
              <a:solidFill>
                <a:srgbClr val="008080"/>
              </a:solidFill>
              <a:latin typeface="Arial"/>
            </a:endParaRPr>
          </a:p>
          <a:p>
            <a:pPr marL="214200" indent="-21420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14200" indent="-21420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puter Clubhous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14080" indent="-17136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instrumentation, fabrication</a:t>
            </a:r>
            <a:endParaRPr b="1" lang="en-US" sz="1800" spc="-1" strike="noStrike">
              <a:solidFill>
                <a:srgbClr val="008080"/>
              </a:solidFill>
              <a:latin typeface="Arial"/>
            </a:endParaRPr>
          </a:p>
          <a:p>
            <a:pPr marL="214200" indent="-21420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A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14080" indent="-17136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Koshland Museum</a:t>
            </a:r>
            <a:endParaRPr b="1" lang="en-US" sz="1800" spc="-1" strike="noStrike">
              <a:solidFill>
                <a:srgbClr val="008080"/>
              </a:solidFill>
              <a:latin typeface="Arial"/>
            </a:endParaRPr>
          </a:p>
          <a:p>
            <a:pPr marL="214200" indent="-21420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AB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14080" indent="-17136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harles Bennett, Ruzena Bajcsy, Barrie Gilbert, Alan Huang, …</a:t>
            </a:r>
            <a:endParaRPr b="1" lang="en-US" sz="1800" spc="-1" strike="noStrike">
              <a:solidFill>
                <a:srgbClr val="008080"/>
              </a:solidFill>
              <a:latin typeface="Arial"/>
            </a:endParaRPr>
          </a:p>
          <a:p>
            <a:pPr marL="214200" indent="-21420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SF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14080" indent="-17136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CR-0122419</a:t>
            </a:r>
            <a:endParaRPr b="1" lang="en-US" sz="1800" spc="-1" strike="noStrike">
              <a:solidFill>
                <a:srgbClr val="008080"/>
              </a:solidFill>
              <a:latin typeface="Arial"/>
            </a:endParaRPr>
          </a:p>
          <a:p>
            <a:pPr lvl="1" marL="514080" indent="-17136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annual report, site visit</a:t>
            </a:r>
            <a:endParaRPr b="1" lang="en-US" sz="1800" spc="-1" strike="noStrike">
              <a:solidFill>
                <a:srgbClr val="008080"/>
              </a:solidFill>
              <a:latin typeface="Arial"/>
            </a:endParaRPr>
          </a:p>
          <a:p>
            <a:pPr lvl="1" marL="514080" indent="-17136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nuggets</a:t>
            </a:r>
            <a:endParaRPr b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495680" cy="60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BA Question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80720" y="1066680"/>
            <a:ext cx="54104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o is CB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opes/dreams/desires/wants/needs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will CBA accomplish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personal (de)fabrication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natural intelligence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B/D/B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mergineering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global development, security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w will CBA operate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meetings, events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pital equipment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seminars, courses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isitors, talks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reporting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utreach</a:t>
            </a: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9160" y="149400"/>
            <a:ext cx="2413080" cy="59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1280" y="4921200"/>
            <a:ext cx="170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264"/>
                </a:solidFill>
                <a:latin typeface="Arial"/>
              </a:rPr>
              <a:t>tele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352680" y="2590920"/>
            <a:ext cx="2286000" cy="2286000"/>
            <a:chOff x="3352680" y="2590920"/>
            <a:chExt cx="2286000" cy="2286000"/>
          </a:xfrm>
        </p:grpSpPr>
        <p:sp>
          <p:nvSpPr>
            <p:cNvPr id="96" name=""/>
            <p:cNvSpPr/>
            <p:nvPr/>
          </p:nvSpPr>
          <p:spPr>
            <a:xfrm flipH="1">
              <a:off x="540972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18112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95252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72392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49532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26672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03812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80952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58092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35232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40972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18112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5252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72392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9532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26672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03812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80952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58092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5232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4097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1811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9525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7239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4953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2667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0381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8095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5809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3523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4097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1811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9525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7239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4953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667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0381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8095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5809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3523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40972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18112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95252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72392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49532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26672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03812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80952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58092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35232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6212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4380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7240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100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1520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240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0100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8660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0100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7240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8660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480" y="2590920"/>
            <a:ext cx="2286000" cy="2286000"/>
            <a:chOff x="762480" y="2590920"/>
            <a:chExt cx="2286000" cy="2286000"/>
          </a:xfrm>
        </p:grpSpPr>
        <p:sp>
          <p:nvSpPr>
            <p:cNvPr id="247" name=""/>
            <p:cNvSpPr/>
            <p:nvPr/>
          </p:nvSpPr>
          <p:spPr>
            <a:xfrm>
              <a:off x="281988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128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268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3408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0548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88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4828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1968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9108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248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1988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128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6268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408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0548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7688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4828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1968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108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88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9128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6268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408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48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7688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4828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968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9108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248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1988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9128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268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3408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0548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7688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4828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968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9108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48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988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9128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6268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3408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48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688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828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1968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9108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248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943600" y="2590920"/>
            <a:ext cx="2286000" cy="2286000"/>
            <a:chOff x="5943600" y="2590920"/>
            <a:chExt cx="2286000" cy="2286000"/>
          </a:xfrm>
        </p:grpSpPr>
        <p:sp>
          <p:nvSpPr>
            <p:cNvPr id="298" name=""/>
            <p:cNvSpPr/>
            <p:nvPr/>
          </p:nvSpPr>
          <p:spPr>
            <a:xfrm flipH="1">
              <a:off x="800064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77204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54344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31484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08624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85764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62904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40044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17184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94324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00064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7204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54344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31484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08624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85764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62904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40044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17184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94324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800064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77204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54344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31484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08624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85764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62904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40044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17184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594324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800064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77204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54344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31484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08624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85764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662904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40044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17184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94324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00064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77204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4344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31484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08624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85764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40044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17184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94324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395000" y="4921200"/>
            <a:ext cx="99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264"/>
                </a:solidFill>
                <a:latin typeface="Arial"/>
              </a:rPr>
              <a:t>rad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60600" y="4921200"/>
            <a:ext cx="209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264"/>
                </a:solidFill>
                <a:latin typeface="Arial"/>
              </a:rPr>
              <a:t>newspap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359160" y="149400"/>
            <a:ext cx="2413080" cy="59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84280" y="6292800"/>
            <a:ext cx="248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264"/>
                </a:solidFill>
                <a:latin typeface="Arial"/>
              </a:rPr>
              <a:t>repres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14560" y="838080"/>
            <a:ext cx="137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264"/>
                </a:solidFill>
                <a:latin typeface="Arial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3848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6708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1008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6708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9568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2428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8148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1008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5268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988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148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6708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2428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5288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8128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988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3848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9568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5288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072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1932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6232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9092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9072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512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3372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1952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0512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3372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6232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9092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12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0512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372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1952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1932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4792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0512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372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1952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4360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7220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4380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00100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7220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0080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2940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31520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7240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00100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4360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7220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0080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08660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0100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4360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7220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0080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62940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8660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4380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77240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00100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4360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0080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2940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660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31520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4380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77240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00100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61760" y="3962520"/>
            <a:ext cx="7467480" cy="2286000"/>
            <a:chOff x="761760" y="3962520"/>
            <a:chExt cx="7467480" cy="2286000"/>
          </a:xfrm>
        </p:grpSpPr>
        <p:sp>
          <p:nvSpPr>
            <p:cNvPr id="504" name=""/>
            <p:cNvSpPr/>
            <p:nvPr/>
          </p:nvSpPr>
          <p:spPr>
            <a:xfrm flipH="1">
              <a:off x="54097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51811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9525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7239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44953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2667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40381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8095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5809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33523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40972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18112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95252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472392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449532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426672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403812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380952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358092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35232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40972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518112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495252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72392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49532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26672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03812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380952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358092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335232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40972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518112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495252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472392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49532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26672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403812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380952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358092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335232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54097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51811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9525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47239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44953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42667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40381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8095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5809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33523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800028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777168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4308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1448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708588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85728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62868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40008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17148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94288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800028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777168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754308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31448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708588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85728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62868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40008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17148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94288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800028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77168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54308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731448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08588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685728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62868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640008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17148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594288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800028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777168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754308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31448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708588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685728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662868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40008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17148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594288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800028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777168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754308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31448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08588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85728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62868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40008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17148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594288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81880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259020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36160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13300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90440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167580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144720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121860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99000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76140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281880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59020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60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213300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90440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67580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44720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21860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99000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6140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81880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59020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236160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213300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190440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167580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44720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21860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99000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76140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281880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59020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236160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213300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190440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167580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144720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121860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99000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6140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281880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259020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236160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13300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190440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67580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44720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21860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99000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6140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359160" y="149400"/>
            <a:ext cx="2413080" cy="59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40920" y="6292800"/>
            <a:ext cx="115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264"/>
                </a:solidFill>
                <a:latin typeface="Arial"/>
              </a:rPr>
              <a:t>ato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14440" y="838080"/>
            <a:ext cx="76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264"/>
                </a:solidFill>
                <a:latin typeface="Arial"/>
              </a:rPr>
              <a:t>b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5268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128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0988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03848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26708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9568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72428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5288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81480" y="1371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410080" y="1600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35268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8128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03848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6708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9568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2428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81480" y="1828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10080" y="2057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35268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988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3848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6708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9568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2428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5288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81480" y="2286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10080" y="25146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35268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0988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3848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6708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9568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2428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95288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7432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410080" y="29718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988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3848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6708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2428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5288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81480" y="32004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10080" y="342900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352680" y="3962520"/>
            <a:ext cx="2286000" cy="2286000"/>
            <a:chOff x="3352680" y="3962520"/>
            <a:chExt cx="2286000" cy="2286000"/>
          </a:xfrm>
        </p:grpSpPr>
        <p:sp>
          <p:nvSpPr>
            <p:cNvPr id="708" name=""/>
            <p:cNvSpPr/>
            <p:nvPr/>
          </p:nvSpPr>
          <p:spPr>
            <a:xfrm flipH="1">
              <a:off x="54097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51811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49525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47239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44953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2667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40381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38095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5809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3523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540972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18112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495252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472392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49532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26672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03812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380952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3580920" y="4876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3352320" y="5105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40972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518112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95252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72392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449532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426672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03812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380952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3580920" y="5334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352320" y="5562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40972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18112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95252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72392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449532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426672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403812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80952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3580920" y="5791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3352320" y="6019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54097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51811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9525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7239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4953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42667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40381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38095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35809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33523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359160" y="149400"/>
            <a:ext cx="2413080" cy="59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02600" y="4921200"/>
            <a:ext cx="165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264"/>
                </a:solidFill>
                <a:latin typeface="Arial"/>
              </a:rPr>
              <a:t>the wor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35268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58128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0988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03848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6708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9568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2428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95288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181480" y="2590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10080" y="2819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35268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58128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0988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3848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708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9568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72428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95288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81480" y="3048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10080" y="3276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35268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58128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3848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6708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72428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5288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181480" y="3505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37339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5268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8128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988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3848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26708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9568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2428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81480" y="39625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080" y="41911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5268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58128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988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3848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6708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49568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2428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95288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44197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410080" y="4648320"/>
            <a:ext cx="228600" cy="228600"/>
          </a:xfrm>
          <a:prstGeom prst="rect">
            <a:avLst/>
          </a:prstGeom>
          <a:solidFill>
            <a:srgbClr val="d3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352680" y="2590920"/>
            <a:ext cx="2286000" cy="2286000"/>
            <a:chOff x="3352680" y="2590920"/>
            <a:chExt cx="2286000" cy="2286000"/>
          </a:xfrm>
        </p:grpSpPr>
        <p:sp>
          <p:nvSpPr>
            <p:cNvPr id="811" name=""/>
            <p:cNvSpPr/>
            <p:nvPr/>
          </p:nvSpPr>
          <p:spPr>
            <a:xfrm flipH="1">
              <a:off x="540972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518112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95252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72392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49532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26672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03812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80952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580920" y="3048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352320" y="3276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540972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518112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95252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472392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449532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426672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03812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80952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3580920" y="3505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3352320" y="3733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54097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51811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9525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7239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4953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2667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0381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095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580920" y="3962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352320" y="41911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4097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51811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9525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47239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44953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42667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0381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8095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80920" y="44197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352320" y="46483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40972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18112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495252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72392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449532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26672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03812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80952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580920" y="25909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3352320" y="2819520"/>
              <a:ext cx="228600" cy="228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0" y="1527120"/>
            <a:ext cx="9144000" cy="533088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578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150840" y="228600"/>
            <a:ext cx="1585800" cy="53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4419720"/>
            <a:ext cx="91440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80640" y="2376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254"/>
                </a:solidFill>
                <a:latin typeface="Arial"/>
              </a:rPr>
              <a:t>News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682280" y="68580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254"/>
                </a:solidFill>
                <a:latin typeface="Arial"/>
              </a:rPr>
              <a:t>Things That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533520"/>
            <a:ext cx="990720" cy="457200"/>
          </a:xfrm>
          <a:prstGeom prst="line">
            <a:avLst/>
          </a:prstGeom>
          <a:ln w="57240">
            <a:solidFill>
              <a:srgbClr val="005254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27760" y="1447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Cars?   Toys?   Food?   Tags?   Printing?   Healthc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143680" cy="380988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6400800" y="3086280"/>
            <a:ext cx="2743200" cy="2608200"/>
          </a:xfrm>
          <a:prstGeom prst="rect">
            <a:avLst/>
          </a:prstGeom>
          <a:ln w="0">
            <a:noFill/>
          </a:ln>
        </p:spPr>
      </p:pic>
      <p:pic>
        <p:nvPicPr>
          <p:cNvPr id="871" name="ben" descr=""/>
          <p:cNvPicPr/>
          <p:nvPr/>
        </p:nvPicPr>
        <p:blipFill>
          <a:blip r:embed="rId3"/>
          <a:stretch/>
        </p:blipFill>
        <p:spPr>
          <a:xfrm>
            <a:off x="3200400" y="3051000"/>
            <a:ext cx="3352680" cy="266076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3429000" cy="2685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80640" y="2376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254"/>
                </a:solidFill>
                <a:latin typeface="Arial"/>
              </a:rPr>
              <a:t>News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82280" y="68580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254"/>
                </a:solidFill>
                <a:latin typeface="Arial"/>
              </a:rPr>
              <a:t>Things That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30040" y="159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9320" y="2209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T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30760" y="28195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enny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135160" y="2819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rinted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85800" y="533520"/>
            <a:ext cx="990720" cy="457200"/>
          </a:xfrm>
          <a:prstGeom prst="line">
            <a:avLst/>
          </a:prstGeom>
          <a:ln w="57240">
            <a:solidFill>
              <a:srgbClr val="005254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85800" y="1295280"/>
            <a:ext cx="1371600" cy="83844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294920" y="1295280"/>
            <a:ext cx="1143000" cy="152424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895480" y="1295280"/>
            <a:ext cx="152640" cy="160020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735360" y="1752480"/>
            <a:ext cx="9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4008a"/>
                </a:solidFill>
                <a:latin typeface="Arial"/>
              </a:rPr>
              <a:t>SI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80640" y="2376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254"/>
                </a:solidFill>
                <a:latin typeface="Arial"/>
              </a:rPr>
              <a:t>News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82280" y="68580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254"/>
                </a:solidFill>
                <a:latin typeface="Arial"/>
              </a:rPr>
              <a:t>Things That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30040" y="159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9320" y="2209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T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30760" y="28195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enny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135160" y="2819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08a"/>
                </a:solidFill>
                <a:latin typeface="Arial"/>
              </a:rPr>
              <a:t>Printed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533520"/>
            <a:ext cx="990720" cy="457200"/>
          </a:xfrm>
          <a:prstGeom prst="line">
            <a:avLst/>
          </a:prstGeom>
          <a:ln w="57240">
            <a:solidFill>
              <a:srgbClr val="005254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85800" y="1295280"/>
            <a:ext cx="1371600" cy="83844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294920" y="1295280"/>
            <a:ext cx="1143000" cy="152424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895480" y="1295280"/>
            <a:ext cx="152640" cy="1600200"/>
          </a:xfrm>
          <a:prstGeom prst="line">
            <a:avLst/>
          </a:prstGeom>
          <a:ln w="47520">
            <a:solidFill>
              <a:srgbClr val="14008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foo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1846080" cy="3504960"/>
          </a:xfrm>
          <a:prstGeom prst="rect">
            <a:avLst/>
          </a:prstGeom>
          <a:ln w="0">
            <a:noFill/>
          </a:ln>
        </p:spPr>
      </p:pic>
      <p:pic>
        <p:nvPicPr>
          <p:cNvPr id="895" name="foo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2514600" cy="2012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7:51:02Z</dcterms:created>
  <dc:creator>Physics and Media</dc:creator>
  <dc:description/>
  <dc:language>en-US</dc:language>
  <cp:lastModifiedBy>Physics and Media Group</cp:lastModifiedBy>
  <cp:lastPrinted>1997-02-02T14:23:30Z</cp:lastPrinted>
  <dcterms:modified xsi:type="dcterms:W3CDTF">2002-01-25T10:36:35Z</dcterms:modified>
  <cp:revision>886</cp:revision>
  <dc:subject/>
  <dc:title>Th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mp\tmp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