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5CB-DAAC-46DB-8D4C-2240786D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48C-4DAC-46CC-8316-C1AB5F4A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228-BA78-4DCB-9315-3D65191D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A41-69E5-4D42-B383-92036567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9E6-6192-4DC0-9291-907161E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EC4-3409-49A4-854F-1C479E6F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6C3-0918-4492-8103-A2F1A5F2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7C9-BDA4-48B9-A2D6-7409AD96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018-8B15-4F56-B4AF-625F5597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52F-A9FA-4C49-A1CC-14D64735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C05-080E-43E1-919A-23DA1296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742-11C9-4735-85A8-8BE2EB83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89B1-144E-46CB-8108-5E821BBA7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0" y="816120"/>
            <a:ext cx="5024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01 Major CBA Equipment Purch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xl30tmp_pnew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290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90920" y="3225960"/>
            <a:ext cx="1006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L30-F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rata" descr="Strada DB 235"/>
          <p:cNvPicPr/>
          <p:nvPr/>
        </p:nvPicPr>
        <p:blipFill>
          <a:blip r:embed="rId2"/>
          <a:stretch/>
        </p:blipFill>
        <p:spPr>
          <a:xfrm>
            <a:off x="4724280" y="3429000"/>
            <a:ext cx="3962520" cy="3211560"/>
          </a:xfrm>
          <a:prstGeom prst="rect">
            <a:avLst/>
          </a:prstGeom>
          <a:ln w="0">
            <a:noFill/>
          </a:ln>
        </p:spPr>
      </p:pic>
      <p:pic>
        <p:nvPicPr>
          <p:cNvPr id="45" name="ic14" descr="Click for an enlargement!"/>
          <p:cNvPicPr/>
          <p:nvPr/>
        </p:nvPicPr>
        <p:blipFill>
          <a:blip r:embed="rId3"/>
          <a:stretch/>
        </p:blipFill>
        <p:spPr>
          <a:xfrm>
            <a:off x="0" y="3505320"/>
            <a:ext cx="4419720" cy="3003480"/>
          </a:xfrm>
          <a:prstGeom prst="rect">
            <a:avLst/>
          </a:prstGeom>
          <a:ln w="0">
            <a:noFill/>
          </a:ln>
        </p:spPr>
      </p:pic>
      <p:pic>
        <p:nvPicPr>
          <p:cNvPr id="46" name="acarti30" descr=""/>
          <p:cNvPicPr/>
          <p:nvPr/>
        </p:nvPicPr>
        <p:blipFill>
          <a:blip r:embed="rId4"/>
          <a:stretch/>
        </p:blipFill>
        <p:spPr>
          <a:xfrm>
            <a:off x="4648320" y="457200"/>
            <a:ext cx="3840120" cy="2611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9680" y="294012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27240" y="2971800"/>
            <a:ext cx="598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 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poco.phy.cam.ac.uk/research/ese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27240" y="167652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 Cl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feic.com/esem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522520" y="2720880"/>
            <a:ext cx="4098960" cy="1403280"/>
            <a:chOff x="2522520" y="2720880"/>
            <a:chExt cx="4098960" cy="1403280"/>
          </a:xfrm>
        </p:grpSpPr>
        <p:sp>
          <p:nvSpPr>
            <p:cNvPr id="51" name=""/>
            <p:cNvSpPr/>
            <p:nvPr/>
          </p:nvSpPr>
          <p:spPr>
            <a:xfrm>
              <a:off x="2522520" y="2720880"/>
              <a:ext cx="4098960" cy="14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522520" y="2720880"/>
              <a:ext cx="4098960" cy="1403280"/>
              <a:chOff x="2522520" y="2720880"/>
              <a:chExt cx="4098960" cy="1403280"/>
            </a:xfrm>
          </p:grpSpPr>
          <p:sp>
            <p:nvSpPr>
              <p:cNvPr id="53" name=""/>
              <p:cNvSpPr/>
              <p:nvPr/>
            </p:nvSpPr>
            <p:spPr>
              <a:xfrm>
                <a:off x="2522520" y="2720880"/>
                <a:ext cx="4098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2522520" y="2720880"/>
                <a:ext cx="4054320" cy="1403280"/>
                <a:chOff x="2522520" y="2720880"/>
                <a:chExt cx="4054320" cy="14032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522520" y="2720880"/>
                  <a:ext cx="40543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522520" y="2720880"/>
                  <a:ext cx="4054320" cy="1403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en-US" sz="86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0" lang="en-US" sz="10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                                     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7" name="exhaust" descr=""/>
          <p:cNvPicPr/>
          <p:nvPr/>
        </p:nvPicPr>
        <p:blipFill>
          <a:blip r:embed="rId1"/>
          <a:stretch/>
        </p:blipFill>
        <p:spPr>
          <a:xfrm>
            <a:off x="503280" y="388800"/>
            <a:ext cx="8137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crystls" descr=""/>
          <p:cNvPicPr/>
          <p:nvPr/>
        </p:nvPicPr>
        <p:blipFill>
          <a:blip r:embed="rId1"/>
          <a:stretch/>
        </p:blipFill>
        <p:spPr>
          <a:xfrm>
            <a:off x="503280" y="663480"/>
            <a:ext cx="81374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c" descr=""/>
          <p:cNvPicPr/>
          <p:nvPr/>
        </p:nvPicPr>
        <p:blipFill>
          <a:blip r:embed="rId1"/>
          <a:stretch/>
        </p:blipFill>
        <p:spPr>
          <a:xfrm>
            <a:off x="503280" y="663480"/>
            <a:ext cx="81374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carti30" descr=""/>
          <p:cNvPicPr/>
          <p:nvPr/>
        </p:nvPicPr>
        <p:blipFill>
          <a:blip r:embed="rId1"/>
          <a:stretch/>
        </p:blipFill>
        <p:spPr>
          <a:xfrm>
            <a:off x="503280" y="663480"/>
            <a:ext cx="81374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pider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334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6:20:58Z</dcterms:created>
  <dc:creator>jacobson</dc:creator>
  <dc:description/>
  <dc:language>en-US</dc:language>
  <cp:lastModifiedBy>jacobson</cp:lastModifiedBy>
  <dcterms:modified xsi:type="dcterms:W3CDTF">2002-01-25T19:27:34Z</dcterms:modified>
  <cp:revision>11</cp:revision>
  <dc:subject/>
  <dc:title>PowerPoint Presentation</dc:title>
</cp:coreProperties>
</file>