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155-3847-4CB6-85E6-00CB0B12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B2C-F362-4E8F-8D6A-12E467EF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B97-8A31-44C1-A435-CB448B4C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9FD-0D08-4F59-BB27-34030A3B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14D-CE27-4CAF-A589-8714A23D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241-6BC1-45C3-968A-6BB9783A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A7D-DE23-4475-B279-82609FAB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10A-AF96-4E10-9363-10D50CC5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BAF-61F1-4623-847F-945F2C36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7A2-94C7-42D3-8A04-D1DEB27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977-8D38-4750-8D8C-1AC9474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41A-3301-41A1-8AD8-06E45BC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AF21-CED7-4FCD-9FE3-9B363783E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um comp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as closed loop control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ng quantum errors with unitary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nitary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inear Multiplier Soft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65240" y="164160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914400"/>
            <a:ext cx="6172200" cy="34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Referenced Subthreshold MOSF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1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1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lang="en-US" sz="2400" spc="-1" strike="noStrike" baseline="-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1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– 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400" spc="-1" strike="noStrike" baseline="-1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en-US" sz="2400" spc="-1" strike="noStrike" baseline="-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1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understanding circuit, thin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KV</a:t>
            </a:r>
            <a:r>
              <a:rPr b="0" lang="en-US" sz="2400" spc="-1" strike="noStrike" baseline="-1000">
                <a:solidFill>
                  <a:srgbClr val="000000"/>
                </a:solidFill>
                <a:latin typeface="Times New Roman"/>
              </a:rPr>
              <a:t>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Compu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 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ultiplier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7150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CR A Extended"/>
              </a:rPr>
              <a:t>Shaped Ultrafast Optical Pumping of NM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OCR A Extended"/>
              </a:rPr>
              <a:t>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son Taylor / Neil Gershen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Media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Morris / Phil Bucks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Michi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pulse shaper with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ulseshaper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nuclear pola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y polarization would be nice for quantum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nuclear pola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tting qubits is necessary for quantum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vely polarize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MR &amp;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for accessible NM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-top NMR (whole systems, amplifi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hi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timate go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ical structure via N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mpletetabletop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844720" cy="2133360"/>
          </a:xfrm>
          <a:prstGeom prst="rect">
            <a:avLst/>
          </a:prstGeom>
          <a:ln w="0">
            <a:noFill/>
          </a:ln>
        </p:spPr>
      </p:pic>
      <p:pic>
        <p:nvPicPr>
          <p:cNvPr id="53" name="1btc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27340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animcell" descr=""/>
          <p:cNvPicPr/>
          <p:nvPr/>
        </p:nvPicPr>
        <p:blipFill>
          <a:blip r:embed="rId3"/>
          <a:stretch/>
        </p:blipFill>
        <p:spPr>
          <a:xfrm>
            <a:off x="5791320" y="5176800"/>
            <a:ext cx="23619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o Frequency Graphical Models Implemented in Analog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jamin Vig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Media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pread Spectrum Radio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odem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99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SR Iterative Factor Grap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s phase of 4 bin, 2 tap LF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fsr%20factor%20graph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 Gates for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5840" y="1295280"/>
            <a:ext cx="480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2971800"/>
            <a:ext cx="4648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4800600"/>
            <a:ext cx="5791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inary Symmetric Channel with Har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=1|y = 0) = p(x=0|y=1) = 1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=1|y = 1) = p(x=0|y=0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oft%20equals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174840" cy="1587600"/>
          </a:xfrm>
          <a:prstGeom prst="rect">
            <a:avLst/>
          </a:prstGeom>
          <a:ln w="0">
            <a:noFill/>
          </a:ln>
        </p:spPr>
      </p:pic>
      <p:pic>
        <p:nvPicPr>
          <p:cNvPr id="66" name="soft%20xor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3187800" cy="1536840"/>
          </a:xfrm>
          <a:prstGeom prst="rect">
            <a:avLst/>
          </a:prstGeom>
          <a:ln w="0">
            <a:noFill/>
          </a:ln>
        </p:spPr>
      </p:pic>
      <p:pic>
        <p:nvPicPr>
          <p:cNvPr id="67" name="channel%20inverse%20model" descr=""/>
          <p:cNvPicPr/>
          <p:nvPr/>
        </p:nvPicPr>
        <p:blipFill>
          <a:blip r:embed="rId3"/>
          <a:stretch/>
        </p:blipFill>
        <p:spPr>
          <a:xfrm>
            <a:off x="-228600" y="5029200"/>
            <a:ext cx="32767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3:17:59Z</dcterms:created>
  <dc:creator>Physics and Media Group</dc:creator>
  <dc:description/>
  <dc:language>en-US</dc:language>
  <cp:lastModifiedBy>jasont</cp:lastModifiedBy>
  <dcterms:modified xsi:type="dcterms:W3CDTF">2002-01-25T14:51:07Z</dcterms:modified>
  <cp:revision>6</cp:revision>
  <dc:subject/>
  <dc:title>Quantum Control</dc:title>
</cp:coreProperties>
</file>