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4CE-1B78-4FA2-848B-82D56D7C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Non-vola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Can be co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Precise write requires iterative process (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 1 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High voltage needed for erasing (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 25V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Oxide degradation slows writ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pecial proces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Precision of stored value degrades wit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Much faster storage than F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Stored precision does not degrade with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Digital conversion is wasteful of power/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Parallel conversions require a lot of 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asic operation i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bit’s worth of voltage is Isample multiplied by the clock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the sig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the caps with Isample and Iclk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Vc1 hits Vref1, asynchronously reset Csample to zero volts and hold charging current until next positive clock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charging until Vo2 is high at a positive clock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t all currents off when we have positive clock edge and Vo2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inqui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Times New Roman"/>
              </a:rPr>
              <a:t>Q: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 Why not just use a counter? The scheme is then very similar to a single-slope converter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s novel to be able to implement this idea without a digital counter because it still rounds to discrete attractors inhere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 project that the analog counter will be able to implement what we need – a count of 2^N clock ticks --for much less energy than a digital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Q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w is Vref2 chos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s chosen in conjunction with Iclk and the delay of the comparator on this cap to cause Vo2 to rise between the 2^N-1 and 2^N clock ticks.  The absolute values of Iclk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ref2 can be very small in practical implementations to keep energy consumption in the circuit very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Q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w is Vref1 chos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his is defined to be the voltage that the cap Csample will be at after 2^N+0.5 clock ticks if the cap starts from zero.  The algorithm depends on this being true for i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Point out that the number of bits we can restore the signal to can by dynamically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Also point out that there is no need for matching of components in the circuit, because  a tuning scheme will be use to take out inherent offsets on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4A2-FFB0-4D87-A69A-FBD8E146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EBB-91E7-4ECE-88BA-DE86F4F5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8BF-FB81-46B2-89D0-2CFFBE55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AD4-0519-48B8-A2DE-5AA226C1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128-215C-44F2-ADED-8CD476E0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FC0-1DC9-48B0-A6B3-99043953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EC20-C009-45D4-B0D3-2D9C042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261-2EAC-4A02-A085-2682E8C6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05ED-99AD-444F-B0A3-CDF40CE3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76AC-5848-4224-9EE5-7000C26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C6B-B32B-4B9B-B1CF-1A94EB9D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241-7348-40AD-A590-D5D5914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A00-7459-4424-9A45-F696FEE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00B-7E9C-42B3-AF56-0D558CA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28E-F576-48DF-BC30-B9E58CE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DFF-C152-4A7F-8EE2-4F182DFE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914-5E2A-4619-AE15-3F86B631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219-7755-4088-9952-9CEA5FD1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034-BECB-4986-8C6B-7A6AB57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4E6-BCB6-40A2-86DE-C84524A6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A67-8E4F-4753-9691-C695C2A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487-DF66-4033-B463-627E533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AF5-8AA6-4D8B-89F5-BC39FC4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0E7-82F2-4FFE-8DA6-EFDF9A3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94E-B8C9-488D-9376-297FB0E6D6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8E1-1D3D-4629-AADD-B9FC4A32F8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Arial"/>
              </a:rPr>
              <a:t>The AQuA Converter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n Analog Memory Ce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4495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cah O’Hallo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. Rahul Sarpeshka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alog VLSI &amp; Biological Systems Group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an. 25, 200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circuit was designed as a proof-of-concept of the AQuA idea, and achieved six bits of res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resolution of the implemented AQuA algorithm is very sensitive to the tuning of its paramet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design of a micropower 10-bit AQuA using a new more robust algorithm is currently under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1B3-297F-4CF5-918B-7DD3116826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ses of analog memory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ircuit Offset Compens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lf-Tuning/Adaptive Circu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arning Algorithms (Speech Processing, Robot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eneral Memory El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78C-BC19-4F4E-9547-976A06AAA4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wo exisiting approaches to analog storage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loating-gate transis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/D/A convert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1AF-97B3-4535-B060-EB029D66EE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loating-Gate Transis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6197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true analog voltage is stored on an Si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isolated floating gate using hot-electron injection and tunnel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FloatingGate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22160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F88-7C3F-4424-BDF3-9C90D2C646A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A/D/A – Analog-to-Digital-to-Analog Convers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8" name="AD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8116920" cy="42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BB1-09EA-405A-A43D-CB3697AF6DD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 explicit digital conversion takes pl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s clock as a quantizing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nalog-to-Quantized-Analog (AQuA) Converter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745-7420-437A-8F23-75B1E53BB0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AQuA Operation Overview</a:t>
            </a: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2" name="AQuA1" descr=""/>
          <p:cNvPicPr/>
          <p:nvPr/>
        </p:nvPicPr>
        <p:blipFill>
          <a:blip r:embed="rId1"/>
          <a:srcRect l="0" t="0" r="1760" b="541"/>
          <a:stretch/>
        </p:blipFill>
        <p:spPr>
          <a:xfrm>
            <a:off x="2209680" y="533520"/>
            <a:ext cx="5486400" cy="5562360"/>
          </a:xfrm>
          <a:prstGeom prst="rect">
            <a:avLst/>
          </a:prstGeom>
          <a:ln w="0">
            <a:noFill/>
          </a:ln>
        </p:spPr>
      </p:pic>
      <p:pic>
        <p:nvPicPr>
          <p:cNvPr id="123" name="Aqua2" descr=""/>
          <p:cNvPicPr/>
          <p:nvPr/>
        </p:nvPicPr>
        <p:blipFill>
          <a:blip r:embed="rId2"/>
          <a:srcRect l="2389" t="0" r="0" b="1217"/>
          <a:stretch/>
        </p:blipFill>
        <p:spPr>
          <a:xfrm>
            <a:off x="2228760" y="571680"/>
            <a:ext cx="5451480" cy="5524200"/>
          </a:xfrm>
          <a:prstGeom prst="rect">
            <a:avLst/>
          </a:prstGeom>
          <a:ln w="0">
            <a:noFill/>
          </a:ln>
        </p:spPr>
      </p:pic>
      <p:pic>
        <p:nvPicPr>
          <p:cNvPr id="124" name="Aqua3" descr=""/>
          <p:cNvPicPr/>
          <p:nvPr/>
        </p:nvPicPr>
        <p:blipFill>
          <a:blip r:embed="rId3"/>
          <a:srcRect l="2104" t="0" r="0" b="652"/>
          <a:stretch/>
        </p:blipFill>
        <p:spPr>
          <a:xfrm>
            <a:off x="2219400" y="542880"/>
            <a:ext cx="5467320" cy="5556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6248520"/>
            <a:ext cx="2743200" cy="45972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ep 1 – Sample V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6248520"/>
            <a:ext cx="4419720" cy="45972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ep 2 – Begin charging both ca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1240" y="6248520"/>
            <a:ext cx="5715000" cy="64764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tep 3 – 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sampl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asynchronously resets to zero when the voltage V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c1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reaches V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ref1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 It then holds until the next positive clock edge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AQuA4" descr=""/>
          <p:cNvPicPr/>
          <p:nvPr/>
        </p:nvPicPr>
        <p:blipFill>
          <a:blip r:embed="rId4"/>
          <a:srcRect l="2046" t="0" r="0" b="652"/>
          <a:stretch/>
        </p:blipFill>
        <p:spPr>
          <a:xfrm>
            <a:off x="2209680" y="542880"/>
            <a:ext cx="5470560" cy="5556240"/>
          </a:xfrm>
          <a:prstGeom prst="rect">
            <a:avLst/>
          </a:prstGeom>
          <a:ln w="0">
            <a:noFill/>
          </a:ln>
        </p:spPr>
      </p:pic>
      <p:pic>
        <p:nvPicPr>
          <p:cNvPr id="129" name="AQuA5" descr=""/>
          <p:cNvPicPr/>
          <p:nvPr/>
        </p:nvPicPr>
        <p:blipFill>
          <a:blip r:embed="rId5"/>
          <a:srcRect l="2046" t="0" r="0" b="652"/>
          <a:stretch/>
        </p:blipFill>
        <p:spPr>
          <a:xfrm>
            <a:off x="2209680" y="542880"/>
            <a:ext cx="5470560" cy="5556240"/>
          </a:xfrm>
          <a:prstGeom prst="rect">
            <a:avLst/>
          </a:prstGeom>
          <a:ln w="0">
            <a:noFill/>
          </a:ln>
        </p:spPr>
      </p:pic>
      <p:pic>
        <p:nvPicPr>
          <p:cNvPr id="130" name="Aqua6" descr=""/>
          <p:cNvPicPr/>
          <p:nvPr/>
        </p:nvPicPr>
        <p:blipFill>
          <a:blip r:embed="rId6"/>
          <a:srcRect l="2302" t="0" r="0" b="652"/>
          <a:stretch/>
        </p:blipFill>
        <p:spPr>
          <a:xfrm>
            <a:off x="2209680" y="533520"/>
            <a:ext cx="5456520" cy="5556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6248520"/>
            <a:ext cx="7696440" cy="61416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tep 4 – 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sampl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charges until V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o2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is high on a positive clock edge.  I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clk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is set so that V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o2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rises between the 2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-1 and the 2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clock edge (N is the number of bits we are quantizing to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248520"/>
            <a:ext cx="7620120" cy="70776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tep 5 – The conversion is complete once we reach a positive clock edge and Vo2 is high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779-7CAF-4657-9B2E-0AD9E964252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5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Co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4" name="SampleConversion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7549920" cy="51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DD4-BA06-4464-8133-361823819AA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QuA Test Results – 6 bi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6" name="12_14_01_6bit_capture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921640" cy="469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853-8270-425E-A7E3-BE585594562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nalog VLSI &amp; Biological 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15:07:01Z</dcterms:created>
  <dc:creator>freebird</dc:creator>
  <dc:description/>
  <dc:language>en-US</dc:language>
  <cp:lastModifiedBy>freebird</cp:lastModifiedBy>
  <dcterms:modified xsi:type="dcterms:W3CDTF">2002-01-24T02:48:00Z</dcterms:modified>
  <cp:revision>54</cp:revision>
  <dc:subject/>
  <dc:title>High PSRR Input Buffer</dc:title>
</cp:coreProperties>
</file>