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816B-898B-420B-9DA6-4CDD9B29A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5300-9A47-4B1A-8D09-7A5BB1668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8B49-75E5-4E6A-888A-83AE982A8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9C7F-81F0-4FEF-8BDB-4CDB51EBF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38B8-0147-4DF6-A678-DA63974F5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1EE8-1489-44D9-87EF-EA8B48206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6C0A-C058-4E04-9F71-18256F482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FB7A-AD3A-4B1A-B1B0-BD905CFD8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13A8-7401-4B7F-BE0E-EB4B793F7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3618-62B1-489E-8B22-DDDBAC3D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369A-4CF7-46EC-B574-404E592E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EE43-310A-45FC-B805-DA4F09508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8E549-D038-40B8-AB61-1F805CF5FF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antum Information The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09680" y="23623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58880" y="2313000"/>
            <a:ext cx="7940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, we are going to be even more ridiculous later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bits written on one atom instead of the 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oms.  Such nonsense is very entertaining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ors like me.  I hope you will find it interesting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ertaining as well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Richard Feynman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eynman Lectures on Compu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tanglement Concentration and Di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 biased coin, how can one simulate tosses from an unbiased coi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general, if two parties share secret, correlated random bits, how can they change one probability distribution to anoth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f they receive their bits through a noisy channel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Quantum Love 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65480" y="1219320"/>
            <a:ext cx="60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the classic tale of Pyramus and This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t" descr=""/>
          <p:cNvPicPr/>
          <p:nvPr/>
        </p:nvPicPr>
        <p:blipFill>
          <a:blip r:embed="rId1"/>
          <a:stretch/>
        </p:blipFill>
        <p:spPr>
          <a:xfrm>
            <a:off x="2286000" y="1828800"/>
            <a:ext cx="4378320" cy="45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niltonian Communication Capac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es capacity scale with power and dimens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es the communication capacity compare with the entanglement capacit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forward and backward capacities always equ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free entanglement change the worl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 I win, TH you win, HH or TT we flip ag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ymptotically, many of copies of any distributions can be converted to any other distribution with roughly equal 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eneral problem of noisy secret correlations (mixed-state entanglement) is not solv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4T22:17:30Z</dcterms:created>
  <dc:creator>bitch ill</dc:creator>
  <dc:description/>
  <dc:language>en-US</dc:language>
  <cp:lastModifiedBy>bitch ill</cp:lastModifiedBy>
  <dcterms:modified xsi:type="dcterms:W3CDTF">2002-01-25T15:08:53Z</dcterms:modified>
  <cp:revision>4</cp:revision>
  <dc:subject/>
  <dc:title>A Quantum Love Story</dc:title>
</cp:coreProperties>
</file>