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7A1-8CB9-45E1-96E6-76003CC0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8ED-DC4D-4FE7-BA67-AEAF005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06E-FABC-4AA8-B54B-5A5A37FE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DBC-C0BF-410A-A35D-2826F328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AE0C-6588-4F15-AF76-24970FE5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407-5A17-4CB6-A597-A7C7313A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57A3-18DE-4BAD-99E4-75ADF23B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30B-FA18-464D-9ED1-F8398532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30C6-5974-4A16-89AB-2E2B7B2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4D12-0900-4957-84F2-8E8D810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C442-5982-46A1-B483-A3D3ECF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6A6-8A8F-4018-BF0A-AB3B188E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6231-BFB2-4154-9D89-A0C9398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3B75-0DC5-4D7B-B8B5-42FBD2E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E05C-9C4E-438F-83A7-CCB0EC06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2F85-DF94-447A-88B5-E8CA2391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376D-0C81-4693-A54D-85105AAF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FED-93BC-4435-A2AC-C9D1076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012-57FB-4597-A5FA-3B017357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F96-CA6B-4CB8-94E3-2C0871D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F87-3FED-4CA1-9992-93E7D6A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345-C883-4F79-A7DD-CED7B73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B09-0232-415C-9DD2-CB333190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785-7EBB-475A-AE7A-7F403B8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CB9-6999-47F7-9A9C-595F4898C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37B3-3D67-4B21-A4F5-F1DD78F63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4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w Houck, Dave Ko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 Reynolds, Peter Eckle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 Kong, Ike Chuang, Joe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gative Index of Ref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1371600"/>
            <a:ext cx="6858000" cy="5181120"/>
            <a:chOff x="990720" y="1371600"/>
            <a:chExt cx="6858000" cy="5181120"/>
          </a:xfrm>
        </p:grpSpPr>
        <p:sp>
          <p:nvSpPr>
            <p:cNvPr id="89" name=""/>
            <p:cNvSpPr/>
            <p:nvPr/>
          </p:nvSpPr>
          <p:spPr>
            <a:xfrm>
              <a:off x="990720" y="1456200"/>
              <a:ext cx="6858000" cy="509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60-1-med%5B1%5D" descr=""/>
            <p:cNvPicPr/>
            <p:nvPr/>
          </p:nvPicPr>
          <p:blipFill>
            <a:blip r:embed="rId1"/>
            <a:stretch/>
          </p:blipFill>
          <p:spPr>
            <a:xfrm>
              <a:off x="1828800" y="1371600"/>
              <a:ext cx="5029200" cy="47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62520" y="652140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.C.K. Wiltshire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92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60-61(200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tential Application: Focu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t slab of metamaterial can act as a le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ck of axis allows lens to focus 2D and 3D im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29200" y="5715000"/>
            <a:ext cx="579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. Notomi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hys Rev B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2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696 (2000)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2514600" cy="245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5638680"/>
            <a:ext cx="579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.B. Pendry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hys Rev Lett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966 (2000)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90720" y="3657600"/>
            <a:ext cx="914400" cy="83808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9000" y="3661200"/>
            <a:ext cx="1081800" cy="143604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77200" y="4106880"/>
            <a:ext cx="903600" cy="1001520"/>
          </a:xfrm>
          <a:prstGeom prst="line">
            <a:avLst/>
          </a:prstGeom>
          <a:ln cap="sq"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495680"/>
            <a:ext cx="914400" cy="83844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897560" y="3891960"/>
            <a:ext cx="1081800" cy="143640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977200" y="3881520"/>
            <a:ext cx="903600" cy="1001520"/>
          </a:xfrm>
          <a:prstGeom prst="line">
            <a:avLst/>
          </a:prstGeom>
          <a:ln cap="sq"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ufacturing Negative 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ials have negative permittivity slightly below the plasma frequency, which is typically in the visible spectrum in metal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 lattice of wires has reduced electron density, increased effective mass due to self indu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 10 GH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2666880" cy="197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2133720" cy="103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2480" y="472428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.B. Pendry et al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hys. Rev. Le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6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4773 (199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f47"/>
                </a:solidFill>
                <a:latin typeface="Times New Roman"/>
              </a:rPr>
              <a:t>Manufacturing Negative </a:t>
            </a:r>
            <a:r>
              <a:rPr b="0" lang="en-US" sz="4400" spc="-1" strike="noStrike">
                <a:solidFill>
                  <a:srgbClr val="fbff47"/>
                </a:solidFill>
                <a:latin typeface="Symbol"/>
                <a:ea typeface="Symbol"/>
              </a:rPr>
              <a:t>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magnetic resonance with nonmagnetic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split ring resonator to get capacitive-inductive reson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resonance gives negativ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52480" y="3429000"/>
            <a:ext cx="198144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5334120"/>
            <a:ext cx="579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.B. Pendry et al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IEEE Trans. Microwave Theory Tech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 2075 (1999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nators and wires on opposite sides of printed circuit board (PCB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PCB into strips and assemble into a 2D lattice with 6 mm cell si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724640" cy="315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86200" y="3886200"/>
            <a:ext cx="579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.A. Shelby et al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92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7 (2001).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al Set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267440" cy="2584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 power spectrum as a function of ang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343400"/>
            <a:ext cx="579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.A. Shelby et al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92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7 (2001).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metamat%20setup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metamaterials that operate at different wavel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microwave metamaterial to verify interesting properties experimentally, such as focu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07:38:00Z</dcterms:created>
  <dc:creator>Unknown User</dc:creator>
  <dc:description/>
  <dc:language>en-US</dc:language>
  <cp:lastModifiedBy>Unknown User</cp:lastModifiedBy>
  <dcterms:modified xsi:type="dcterms:W3CDTF">2001-11-05T14:15:13Z</dcterms:modified>
  <cp:revision>16</cp:revision>
  <dc:subject/>
  <dc:title>Left Handed Materials</dc:title>
</cp:coreProperties>
</file>