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155-8ABD-4AB8-BB4E-F0481D02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5CD-DA0E-483D-B95B-503F8430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F65-F8A6-4FAF-92D4-4955D183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733-4B16-4E9B-9302-638E3F59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9EF-B688-4137-8A29-0AB5DAD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5B0-3BEB-4ECD-8678-596E6FE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2CB-A57C-4520-A477-FFB0BEA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9B8-6EF6-4B6C-9401-DD3A718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FAC-BBDB-4C24-A8B0-E592B46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5E6-7DFC-43CB-8330-DF7268D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F18-1611-4B27-B3CC-977335F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04F-3189-4933-A347-989209A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Souvenir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ouvenir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Souvenir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ouvenir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ouvenir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uary 25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er for Bits and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Retr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69D3-CADD-41D4-B500-93947B7BE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Robotic Presence Grou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33526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Cory Kidd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Advisor: Cynthia Breazeal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  <p:pic>
        <p:nvPicPr>
          <p:cNvPr id="43" name="watercreature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4228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We build physical robots to explore interactions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We are implementing theories from psychology, ethology, and traditional AI/computer science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Water creature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Water creature II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ouvenir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Stan Winston collaboration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ouvenir Lt BT"/>
              </a:rPr>
              <a:t>(pictures on the next few pages)</a:t>
            </a:r>
            <a:endParaRPr b="0" lang="en-US" sz="3200" spc="-1" strike="noStrike">
              <a:solidFill>
                <a:srgbClr val="000000"/>
              </a:solidFill>
              <a:latin typeface="Souvenir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Water Creature</a:t>
            </a: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pic>
        <p:nvPicPr>
          <p:cNvPr id="49" name="watercreature_orig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9736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Water Creature II</a:t>
            </a: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pic>
        <p:nvPicPr>
          <p:cNvPr id="51" name="watercreature" descr=""/>
          <p:cNvPicPr/>
          <p:nvPr/>
        </p:nvPicPr>
        <p:blipFill>
          <a:blip r:embed="rId1"/>
          <a:stretch/>
        </p:blipFill>
        <p:spPr>
          <a:xfrm>
            <a:off x="6095880" y="609480"/>
            <a:ext cx="2422800" cy="4937400"/>
          </a:xfrm>
          <a:prstGeom prst="rect">
            <a:avLst/>
          </a:prstGeom>
          <a:ln w="0">
            <a:noFill/>
          </a:ln>
        </p:spPr>
      </p:pic>
      <p:pic>
        <p:nvPicPr>
          <p:cNvPr id="52" name="watercreature_horiz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4937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venir Lt BT"/>
              </a:rPr>
              <a:t>Stan Winston Collaboration</a:t>
            </a:r>
            <a:endParaRPr b="0" lang="en-US" sz="4400" spc="-1" strike="noStrike">
              <a:solidFill>
                <a:srgbClr val="000000"/>
              </a:solidFill>
              <a:latin typeface="Souvenir Lt BT"/>
            </a:endParaRPr>
          </a:p>
        </p:txBody>
      </p:sp>
      <p:pic>
        <p:nvPicPr>
          <p:cNvPr id="54" name="stanwinstoncreature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9370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4:24:31Z</dcterms:created>
  <dc:creator>Robotic Presence</dc:creator>
  <dc:description/>
  <dc:language>en-US</dc:language>
  <cp:lastModifiedBy>Robotic Presence</cp:lastModifiedBy>
  <dcterms:modified xsi:type="dcterms:W3CDTF">2002-01-25T14:47:34Z</dcterms:modified>
  <cp:revision>2</cp:revision>
  <dc:subject/>
  <dc:title>Robotic Presence Group </dc:title>
</cp:coreProperties>
</file>