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C06-0F1E-4531-99BA-6B164D63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644-A833-4CBE-AA33-E056119A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6E5-8AD9-4D10-8D8F-D1E4AD93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0E6-9F30-4820-BE99-F0AC4451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4137-DF4B-4722-B554-51F08995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E7B2-9677-4007-AB93-77F0BCC5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0986-2001-458D-BD34-C87904EB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8A4F-78C0-4A3B-A0FE-4F86A47F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563F-37F4-437C-9367-EF8EFF39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5B01-B71B-40ED-B272-52BB7E86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0DAB-DA94-4122-AF36-18DD7853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16C-D0BE-44EA-B646-6166FE61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2DAB-CEFA-4F31-8ED5-0A6FD43F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1FCC-72E0-47BA-B270-AF00CE6D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4E9B-B6A8-469C-86DC-9E86780B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8972-A4FD-4CAC-8B9A-99E7AA48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6D76-8810-4E63-B57D-A294545D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D5D-728C-43A9-817C-AE220118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0F8-B793-4DD8-87E7-A74BFB80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8F2-487D-45A8-8E26-CBF8BECF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9B8-DDE2-4B5D-BAC4-AD6EEB50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F8C-1484-427D-87DE-2C5E328C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53F-D2E6-4849-9506-8C0F74E5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DEE-AA8C-4F05-8F49-79FF1DD2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9926-A218-4840-B273-1CFE0D33FB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C161-2B09-4B85-945C-33DCEA9AF9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BA Student Presentations</a:t>
            </a:r>
            <a:br>
              <a:rPr sz="4800"/>
            </a:br>
            <a:br>
              <a:rPr sz="4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Josh Lifton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ng Ma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sponsive Environments Group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ng M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66068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6248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SPONSIVE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914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2708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TrackingCube" descr=""/>
          <p:cNvPicPr/>
          <p:nvPr/>
        </p:nvPicPr>
        <p:blipFill>
          <a:blip r:embed="rId1"/>
          <a:stretch/>
        </p:blipFill>
        <p:spPr>
          <a:xfrm>
            <a:off x="5334120" y="228600"/>
            <a:ext cx="3641760" cy="3473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2280" y="1143000"/>
            <a:ext cx="5257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3D Volumetric Sensing Using Resonant RF Tags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2590920"/>
            <a:ext cx="6172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etect passive resonant tags inductively coupled to c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6576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ocate and uniquely identify an ensemble of tags to describe meaningful 3D sha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o this in real-time to allow an interaction between the physical model and virtual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581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Nanogate Molecular Instrument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 Collaboration with James White and Prof. Slocum’s group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New_MEMS_Nanogate_Bent_Setup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647960" cy="4010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952880" y="1447920"/>
            <a:ext cx="41911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Nanogate is a MEMS device that is designed to open and close a nanometer sized g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 gate opening by deflecting the cantilevered plate on the outside of the silicon dis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e hope to control the gate opening and use it to filter and sort biomolecules such as proteins and D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6400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SPONSIVE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880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Nanogate Molecular Instrumen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90960" y="1371240"/>
            <a:ext cx="3352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xperimental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al Dr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b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cement measurement (align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new_nano_stage1" descr=""/>
          <p:cNvPicPr/>
          <p:nvPr/>
        </p:nvPicPr>
        <p:blipFill>
          <a:blip r:embed="rId1"/>
          <a:srcRect l="13637" t="17635" r="14775" b="24778"/>
          <a:stretch/>
        </p:blipFill>
        <p:spPr>
          <a:xfrm>
            <a:off x="152280" y="1828800"/>
            <a:ext cx="5486400" cy="3409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191120" y="6248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SPONSIVE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sults: 10 step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838080" y="1219320"/>
          <a:ext cx="75438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5438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191120" y="6248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SPONSIVE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Results: 1 Step, 2nm Resolution!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2120" y="1143000"/>
          <a:ext cx="7696080" cy="508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69608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4191120" y="6248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SPONSIVE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21:17:34Z</dcterms:created>
  <dc:creator>hongma</dc:creator>
  <dc:description/>
  <dc:language>en-US</dc:language>
  <cp:lastModifiedBy>Ari Benbasat</cp:lastModifiedBy>
  <dcterms:modified xsi:type="dcterms:W3CDTF">2002-01-25T08:22:36Z</dcterms:modified>
  <cp:revision>22</cp:revision>
  <dc:subject/>
  <dc:title>Molecular Sensing and Filtration Using the Nanogate</dc:title>
</cp:coreProperties>
</file>