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BBB-A8E3-47E2-8053-71CD770A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F21-CCEC-4713-83EA-3BC0ED76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A9E-EE5B-4252-90E8-497384BF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0A5-D59A-44E6-9828-9AA40930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956-EF65-4855-B333-D95E48AD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0DBA-8598-4B93-A112-8189FF9E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95D-31AE-47F0-AE98-B4AF26F4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962-5CB2-4E5E-B8E4-9006F36E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6DA-F6FD-44F9-B48D-F999DDF9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93D-ECDC-42FA-A02D-596F3141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FD1-AC30-46FD-89CC-FDB956D2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3D0-589A-4119-BCBA-B552E798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07E1-9FC1-43DB-8C13-DD6B31023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The Human Design Research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: modeling/influencing human behavior and interactions at multiple sc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Single person, 24/7 data (Bri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Pairs of people in conversations (Sumi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Large communities of people (Tanze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he Facilitato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752480"/>
            <a:ext cx="85345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447920" y="2286000"/>
          <a:ext cx="165708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1657080" cy="1285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523880" y="2362320"/>
          <a:ext cx="1657440" cy="12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362320"/>
                    <a:ext cx="1657440" cy="1285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8" name="brian_front" descr=""/>
          <p:cNvPicPr/>
          <p:nvPr/>
        </p:nvPicPr>
        <p:blipFill>
          <a:blip r:embed="rId5"/>
          <a:stretch/>
        </p:blipFill>
        <p:spPr>
          <a:xfrm>
            <a:off x="4267080" y="762120"/>
            <a:ext cx="2081160" cy="2679480"/>
          </a:xfrm>
          <a:prstGeom prst="rect">
            <a:avLst/>
          </a:prstGeom>
          <a:ln w="0">
            <a:noFill/>
          </a:ln>
        </p:spPr>
      </p:pic>
      <p:pic>
        <p:nvPicPr>
          <p:cNvPr id="49" name="brian_back" descr=""/>
          <p:cNvPicPr/>
          <p:nvPr/>
        </p:nvPicPr>
        <p:blipFill>
          <a:blip r:embed="rId6"/>
          <a:stretch/>
        </p:blipFill>
        <p:spPr>
          <a:xfrm>
            <a:off x="6477120" y="762120"/>
            <a:ext cx="1904760" cy="2666880"/>
          </a:xfrm>
          <a:prstGeom prst="rect">
            <a:avLst/>
          </a:prstGeom>
          <a:ln w="0">
            <a:noFill/>
          </a:ln>
        </p:spPr>
      </p:pic>
      <p:pic>
        <p:nvPicPr>
          <p:cNvPr id="50" name="backpack_side" descr=""/>
          <p:cNvPicPr/>
          <p:nvPr/>
        </p:nvPicPr>
        <p:blipFill>
          <a:blip r:embed="rId7"/>
          <a:stretch/>
        </p:blipFill>
        <p:spPr>
          <a:xfrm>
            <a:off x="533520" y="685800"/>
            <a:ext cx="2743200" cy="14749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33520" y="3992400"/>
            <a:ext cx="8378640" cy="2867400"/>
            <a:chOff x="533520" y="3992400"/>
            <a:chExt cx="8378640" cy="2867400"/>
          </a:xfrm>
        </p:grpSpPr>
        <p:pic>
          <p:nvPicPr>
            <p:cNvPr id="52" name="onedayview" descr=""/>
            <p:cNvPicPr/>
            <p:nvPr/>
          </p:nvPicPr>
          <p:blipFill>
            <a:blip r:embed="rId8"/>
            <a:stretch/>
          </p:blipFill>
          <p:spPr>
            <a:xfrm>
              <a:off x="533520" y="3992400"/>
              <a:ext cx="8153280" cy="25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92880" y="65833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0a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4040" y="65833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0p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5" name=""/>
          <p:cNvGraphicFramePr/>
          <p:nvPr/>
        </p:nvGraphicFramePr>
        <p:xfrm>
          <a:off x="1600200" y="2438280"/>
          <a:ext cx="1657440" cy="128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2438280"/>
                    <a:ext cx="1657440" cy="1285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flipH="1">
            <a:off x="533520" y="3124080"/>
            <a:ext cx="1828800" cy="838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124080"/>
            <a:ext cx="6172200" cy="838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5520" y="4038480"/>
            <a:ext cx="1050840" cy="3070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ront Vide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4444920"/>
            <a:ext cx="1067040" cy="3070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ar Vide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4851360"/>
            <a:ext cx="1067040" cy="3070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5257800"/>
            <a:ext cx="1067040" cy="3070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rien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913"/>
                </a:solidFill>
                <a:latin typeface="Times New Roman"/>
              </a:rPr>
              <a:t>The “I Sensed” Data Set: 100 days of a person’s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Conversational Scene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09480" y="1447920"/>
            <a:ext cx="3047760" cy="2158920"/>
            <a:chOff x="609480" y="1447920"/>
            <a:chExt cx="3047760" cy="2158920"/>
          </a:xfrm>
        </p:grpSpPr>
        <p:pic>
          <p:nvPicPr>
            <p:cNvPr id="66" name="music" descr=""/>
            <p:cNvPicPr/>
            <p:nvPr/>
          </p:nvPicPr>
          <p:blipFill>
            <a:blip r:embed="rId1"/>
            <a:stretch/>
          </p:blipFill>
          <p:spPr>
            <a:xfrm>
              <a:off x="609480" y="1447920"/>
              <a:ext cx="304776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914040" y="1523880"/>
              <a:ext cx="2362320" cy="4568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81080" y="1828800"/>
              <a:ext cx="609480" cy="4568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9" name="voicedchunks" descr=""/>
          <p:cNvPicPr/>
          <p:nvPr/>
        </p:nvPicPr>
        <p:blipFill>
          <a:blip r:embed="rId2"/>
          <a:stretch/>
        </p:blipFill>
        <p:spPr>
          <a:xfrm>
            <a:off x="2286000" y="4419720"/>
            <a:ext cx="2209680" cy="99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0" name="pitchdetect" descr=""/>
          <p:cNvPicPr/>
          <p:nvPr/>
        </p:nvPicPr>
        <p:blipFill>
          <a:blip r:embed="rId3"/>
          <a:stretch/>
        </p:blipFill>
        <p:spPr>
          <a:xfrm>
            <a:off x="762120" y="5638680"/>
            <a:ext cx="2209680" cy="998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1" name="quickcam" descr=""/>
          <p:cNvPicPr/>
          <p:nvPr/>
        </p:nvPicPr>
        <p:blipFill>
          <a:blip r:embed="rId4"/>
          <a:stretch/>
        </p:blipFill>
        <p:spPr>
          <a:xfrm>
            <a:off x="228600" y="4267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1752120" y="3809880"/>
            <a:ext cx="304920" cy="1676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914400" y="3733920"/>
            <a:ext cx="83808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733920"/>
            <a:ext cx="106668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1447920"/>
            <a:ext cx="1067040" cy="1066680"/>
          </a:xfrm>
          <a:prstGeom prst="ellipse">
            <a:avLst/>
          </a:prstGeom>
          <a:solidFill>
            <a:srgbClr val="00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lain 1-&gt;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2971800"/>
            <a:ext cx="1067040" cy="1066680"/>
          </a:xfrm>
          <a:prstGeom prst="ellipse">
            <a:avLst/>
          </a:prstGeom>
          <a:solidFill>
            <a:srgbClr val="00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1676520"/>
            <a:ext cx="1066680" cy="1066680"/>
          </a:xfrm>
          <a:prstGeom prst="ellipse">
            <a:avLst/>
          </a:prstGeom>
          <a:solidFill>
            <a:srgbClr val="00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lain 2-&gt;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3505320"/>
            <a:ext cx="1067040" cy="1066680"/>
          </a:xfrm>
          <a:prstGeom prst="ellipse">
            <a:avLst/>
          </a:prstGeom>
          <a:solidFill>
            <a:srgbClr val="00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e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5105520"/>
            <a:ext cx="1066680" cy="1066680"/>
          </a:xfrm>
          <a:prstGeom prst="ellipse">
            <a:avLst/>
          </a:prstGeom>
          <a:solidFill>
            <a:srgbClr val="00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2336760"/>
            <a:ext cx="431640" cy="1092240"/>
          </a:xfrm>
          <a:custGeom>
            <a:avLst/>
            <a:gdLst/>
            <a:ahLst/>
            <a:rect l="l" t="t" r="r" b="b"/>
            <a:pathLst>
              <a:path w="272" h="688">
                <a:moveTo>
                  <a:pt x="80" y="16"/>
                </a:moveTo>
                <a:cubicBezTo>
                  <a:pt x="84" y="8"/>
                  <a:pt x="88" y="0"/>
                  <a:pt x="80" y="64"/>
                </a:cubicBezTo>
                <a:cubicBezTo>
                  <a:pt x="72" y="128"/>
                  <a:pt x="0" y="296"/>
                  <a:pt x="32" y="400"/>
                </a:cubicBezTo>
                <a:cubicBezTo>
                  <a:pt x="64" y="504"/>
                  <a:pt x="168" y="596"/>
                  <a:pt x="272" y="68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879560"/>
            <a:ext cx="914400" cy="177840"/>
          </a:xfrm>
          <a:custGeom>
            <a:avLst/>
            <a:gdLst/>
            <a:ahLst/>
            <a:rect l="l" t="t" r="r" b="b"/>
            <a:pathLst>
              <a:path w="576" h="112">
                <a:moveTo>
                  <a:pt x="0" y="16"/>
                </a:moveTo>
                <a:cubicBezTo>
                  <a:pt x="120" y="8"/>
                  <a:pt x="240" y="0"/>
                  <a:pt x="336" y="16"/>
                </a:cubicBezTo>
                <a:cubicBezTo>
                  <a:pt x="432" y="32"/>
                  <a:pt x="536" y="96"/>
                  <a:pt x="576" y="11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2590920"/>
            <a:ext cx="685800" cy="60948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432" y="0"/>
                </a:moveTo>
                <a:cubicBezTo>
                  <a:pt x="432" y="0"/>
                  <a:pt x="216" y="192"/>
                  <a:pt x="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153280" y="2743200"/>
            <a:ext cx="343080" cy="914400"/>
          </a:xfrm>
          <a:custGeom>
            <a:avLst/>
            <a:gdLst/>
            <a:ahLst/>
            <a:rect l="l" t="t" r="r" b="b"/>
            <a:pathLst>
              <a:path w="216" h="576">
                <a:moveTo>
                  <a:pt x="0" y="0"/>
                </a:moveTo>
                <a:cubicBezTo>
                  <a:pt x="84" y="96"/>
                  <a:pt x="168" y="192"/>
                  <a:pt x="192" y="288"/>
                </a:cubicBezTo>
                <a:cubicBezTo>
                  <a:pt x="216" y="384"/>
                  <a:pt x="180" y="480"/>
                  <a:pt x="144" y="57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4572000"/>
            <a:ext cx="1067040" cy="1219320"/>
          </a:xfrm>
          <a:custGeom>
            <a:avLst/>
            <a:gdLst/>
            <a:ahLst/>
            <a:rect l="l" t="t" r="r" b="b"/>
            <a:pathLst>
              <a:path w="672" h="768">
                <a:moveTo>
                  <a:pt x="672" y="0"/>
                </a:moveTo>
                <a:cubicBezTo>
                  <a:pt x="608" y="176"/>
                  <a:pt x="544" y="352"/>
                  <a:pt x="432" y="480"/>
                </a:cubicBezTo>
                <a:cubicBezTo>
                  <a:pt x="320" y="608"/>
                  <a:pt x="160" y="688"/>
                  <a:pt x="0" y="76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54680" y="3962520"/>
            <a:ext cx="317520" cy="1218960"/>
          </a:xfrm>
          <a:custGeom>
            <a:avLst/>
            <a:gdLst/>
            <a:ahLst/>
            <a:rect l="l" t="t" r="r" b="b"/>
            <a:pathLst>
              <a:path w="200" h="768">
                <a:moveTo>
                  <a:pt x="200" y="768"/>
                </a:moveTo>
                <a:cubicBezTo>
                  <a:pt x="108" y="640"/>
                  <a:pt x="16" y="512"/>
                  <a:pt x="8" y="384"/>
                </a:cubicBezTo>
                <a:cubicBezTo>
                  <a:pt x="0" y="256"/>
                  <a:pt x="76" y="128"/>
                  <a:pt x="152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4191120"/>
            <a:ext cx="761760" cy="990360"/>
          </a:xfrm>
          <a:custGeom>
            <a:avLst/>
            <a:gdLst/>
            <a:ahLst/>
            <a:rect l="l" t="t" r="r" b="b"/>
            <a:pathLst>
              <a:path w="480" h="624">
                <a:moveTo>
                  <a:pt x="0" y="624"/>
                </a:moveTo>
                <a:cubicBezTo>
                  <a:pt x="32" y="484"/>
                  <a:pt x="64" y="344"/>
                  <a:pt x="144" y="240"/>
                </a:cubicBezTo>
                <a:cubicBezTo>
                  <a:pt x="224" y="136"/>
                  <a:pt x="352" y="68"/>
                  <a:pt x="48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3657600"/>
            <a:ext cx="533160" cy="228600"/>
          </a:xfrm>
          <a:custGeom>
            <a:avLst/>
            <a:gdLst/>
            <a:ahLst/>
            <a:rect l="l" t="t" r="r" b="b"/>
            <a:pathLst>
              <a:path w="336" h="144">
                <a:moveTo>
                  <a:pt x="0" y="0"/>
                </a:moveTo>
                <a:cubicBezTo>
                  <a:pt x="0" y="0"/>
                  <a:pt x="168" y="72"/>
                  <a:pt x="336" y="1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3276720"/>
            <a:ext cx="1447920" cy="747720"/>
          </a:xfrm>
          <a:prstGeom prst="rightArrow">
            <a:avLst>
              <a:gd name="adj1" fmla="val 50000"/>
              <a:gd name="adj2" fmla="val 48411"/>
            </a:avLst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990720" y="1676520"/>
            <a:ext cx="7081560" cy="4785840"/>
            <a:chOff x="990720" y="1676520"/>
            <a:chExt cx="7081560" cy="4785840"/>
          </a:xfrm>
        </p:grpSpPr>
        <p:sp>
          <p:nvSpPr>
            <p:cNvPr id="90" name=""/>
            <p:cNvSpPr/>
            <p:nvPr/>
          </p:nvSpPr>
          <p:spPr>
            <a:xfrm>
              <a:off x="6180120" y="2178000"/>
              <a:ext cx="1892160" cy="3987360"/>
            </a:xfrm>
            <a:custGeom>
              <a:avLst/>
              <a:gdLst/>
              <a:ahLst/>
              <a:rect l="l" t="t" r="r" b="b"/>
              <a:pathLst>
                <a:path w="1192" h="2512">
                  <a:moveTo>
                    <a:pt x="428" y="53"/>
                  </a:moveTo>
                  <a:cubicBezTo>
                    <a:pt x="423" y="62"/>
                    <a:pt x="420" y="73"/>
                    <a:pt x="414" y="81"/>
                  </a:cubicBezTo>
                  <a:cubicBezTo>
                    <a:pt x="408" y="89"/>
                    <a:pt x="398" y="94"/>
                    <a:pt x="393" y="102"/>
                  </a:cubicBezTo>
                  <a:cubicBezTo>
                    <a:pt x="362" y="153"/>
                    <a:pt x="346" y="216"/>
                    <a:pt x="322" y="271"/>
                  </a:cubicBezTo>
                  <a:cubicBezTo>
                    <a:pt x="289" y="434"/>
                    <a:pt x="233" y="589"/>
                    <a:pt x="189" y="749"/>
                  </a:cubicBezTo>
                  <a:cubicBezTo>
                    <a:pt x="178" y="791"/>
                    <a:pt x="165" y="833"/>
                    <a:pt x="154" y="875"/>
                  </a:cubicBezTo>
                  <a:cubicBezTo>
                    <a:pt x="126" y="978"/>
                    <a:pt x="156" y="914"/>
                    <a:pt x="126" y="973"/>
                  </a:cubicBezTo>
                  <a:cubicBezTo>
                    <a:pt x="120" y="1012"/>
                    <a:pt x="116" y="1044"/>
                    <a:pt x="98" y="1079"/>
                  </a:cubicBezTo>
                  <a:cubicBezTo>
                    <a:pt x="89" y="1122"/>
                    <a:pt x="74" y="1162"/>
                    <a:pt x="63" y="1205"/>
                  </a:cubicBezTo>
                  <a:cubicBezTo>
                    <a:pt x="57" y="1290"/>
                    <a:pt x="44" y="1373"/>
                    <a:pt x="34" y="1458"/>
                  </a:cubicBezTo>
                  <a:cubicBezTo>
                    <a:pt x="38" y="1649"/>
                    <a:pt x="0" y="1966"/>
                    <a:pt x="126" y="2154"/>
                  </a:cubicBezTo>
                  <a:cubicBezTo>
                    <a:pt x="137" y="2196"/>
                    <a:pt x="161" y="2235"/>
                    <a:pt x="182" y="2273"/>
                  </a:cubicBezTo>
                  <a:cubicBezTo>
                    <a:pt x="245" y="2386"/>
                    <a:pt x="340" y="2472"/>
                    <a:pt x="470" y="2491"/>
                  </a:cubicBezTo>
                  <a:cubicBezTo>
                    <a:pt x="498" y="2500"/>
                    <a:pt x="526" y="2505"/>
                    <a:pt x="554" y="2512"/>
                  </a:cubicBezTo>
                  <a:cubicBezTo>
                    <a:pt x="610" y="2510"/>
                    <a:pt x="667" y="2509"/>
                    <a:pt x="723" y="2505"/>
                  </a:cubicBezTo>
                  <a:cubicBezTo>
                    <a:pt x="781" y="2501"/>
                    <a:pt x="878" y="2403"/>
                    <a:pt x="906" y="2357"/>
                  </a:cubicBezTo>
                  <a:cubicBezTo>
                    <a:pt x="936" y="2308"/>
                    <a:pt x="955" y="2256"/>
                    <a:pt x="976" y="2203"/>
                  </a:cubicBezTo>
                  <a:cubicBezTo>
                    <a:pt x="987" y="2175"/>
                    <a:pt x="1004" y="2118"/>
                    <a:pt x="1004" y="2118"/>
                  </a:cubicBezTo>
                  <a:cubicBezTo>
                    <a:pt x="1013" y="2057"/>
                    <a:pt x="1022" y="1996"/>
                    <a:pt x="1039" y="1936"/>
                  </a:cubicBezTo>
                  <a:cubicBezTo>
                    <a:pt x="1047" y="1908"/>
                    <a:pt x="1058" y="1880"/>
                    <a:pt x="1067" y="1852"/>
                  </a:cubicBezTo>
                  <a:cubicBezTo>
                    <a:pt x="1072" y="1838"/>
                    <a:pt x="1081" y="1809"/>
                    <a:pt x="1081" y="1809"/>
                  </a:cubicBezTo>
                  <a:cubicBezTo>
                    <a:pt x="1089" y="1696"/>
                    <a:pt x="1094" y="1580"/>
                    <a:pt x="1130" y="1472"/>
                  </a:cubicBezTo>
                  <a:cubicBezTo>
                    <a:pt x="1132" y="1444"/>
                    <a:pt x="1134" y="1416"/>
                    <a:pt x="1137" y="1388"/>
                  </a:cubicBezTo>
                  <a:cubicBezTo>
                    <a:pt x="1141" y="1360"/>
                    <a:pt x="1151" y="1304"/>
                    <a:pt x="1151" y="1304"/>
                  </a:cubicBezTo>
                  <a:cubicBezTo>
                    <a:pt x="1161" y="1105"/>
                    <a:pt x="1192" y="889"/>
                    <a:pt x="1116" y="700"/>
                  </a:cubicBezTo>
                  <a:cubicBezTo>
                    <a:pt x="1099" y="610"/>
                    <a:pt x="1071" y="518"/>
                    <a:pt x="1039" y="433"/>
                  </a:cubicBezTo>
                  <a:cubicBezTo>
                    <a:pt x="1027" y="401"/>
                    <a:pt x="1025" y="365"/>
                    <a:pt x="1011" y="334"/>
                  </a:cubicBezTo>
                  <a:cubicBezTo>
                    <a:pt x="1002" y="315"/>
                    <a:pt x="990" y="298"/>
                    <a:pt x="983" y="278"/>
                  </a:cubicBezTo>
                  <a:cubicBezTo>
                    <a:pt x="978" y="262"/>
                    <a:pt x="972" y="243"/>
                    <a:pt x="962" y="229"/>
                  </a:cubicBezTo>
                  <a:cubicBezTo>
                    <a:pt x="932" y="189"/>
                    <a:pt x="891" y="152"/>
                    <a:pt x="856" y="117"/>
                  </a:cubicBezTo>
                  <a:cubicBezTo>
                    <a:pt x="801" y="62"/>
                    <a:pt x="780" y="23"/>
                    <a:pt x="702" y="4"/>
                  </a:cubicBezTo>
                  <a:cubicBezTo>
                    <a:pt x="607" y="8"/>
                    <a:pt x="565" y="0"/>
                    <a:pt x="491" y="25"/>
                  </a:cubicBezTo>
                  <a:cubicBezTo>
                    <a:pt x="458" y="58"/>
                    <a:pt x="478" y="41"/>
                    <a:pt x="428" y="74"/>
                  </a:cubicBezTo>
                  <a:cubicBezTo>
                    <a:pt x="421" y="79"/>
                    <a:pt x="407" y="88"/>
                    <a:pt x="407" y="88"/>
                  </a:cubicBezTo>
                  <a:cubicBezTo>
                    <a:pt x="407" y="88"/>
                    <a:pt x="428" y="53"/>
                    <a:pt x="428" y="53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990720" y="1676520"/>
              <a:ext cx="5333760" cy="4785840"/>
              <a:chOff x="990720" y="1676520"/>
              <a:chExt cx="5333760" cy="4785840"/>
            </a:xfrm>
          </p:grpSpPr>
          <p:sp>
            <p:nvSpPr>
              <p:cNvPr id="92" name=""/>
              <p:cNvSpPr/>
              <p:nvPr/>
            </p:nvSpPr>
            <p:spPr>
              <a:xfrm>
                <a:off x="990720" y="2325600"/>
                <a:ext cx="4917960" cy="4136760"/>
              </a:xfrm>
              <a:custGeom>
                <a:avLst/>
                <a:gdLst/>
                <a:ahLst/>
                <a:rect l="l" t="t" r="r" b="b"/>
                <a:pathLst>
                  <a:path w="3098" h="2606">
                    <a:moveTo>
                      <a:pt x="678" y="1545"/>
                    </a:moveTo>
                    <a:cubicBezTo>
                      <a:pt x="643" y="1599"/>
                      <a:pt x="659" y="1573"/>
                      <a:pt x="629" y="1623"/>
                    </a:cubicBezTo>
                    <a:cubicBezTo>
                      <a:pt x="620" y="1660"/>
                      <a:pt x="602" y="1693"/>
                      <a:pt x="587" y="1728"/>
                    </a:cubicBezTo>
                    <a:cubicBezTo>
                      <a:pt x="544" y="1825"/>
                      <a:pt x="500" y="1912"/>
                      <a:pt x="390" y="1939"/>
                    </a:cubicBezTo>
                    <a:cubicBezTo>
                      <a:pt x="353" y="1934"/>
                      <a:pt x="315" y="1934"/>
                      <a:pt x="278" y="1925"/>
                    </a:cubicBezTo>
                    <a:cubicBezTo>
                      <a:pt x="263" y="1921"/>
                      <a:pt x="209" y="1863"/>
                      <a:pt x="208" y="1862"/>
                    </a:cubicBezTo>
                    <a:cubicBezTo>
                      <a:pt x="157" y="1811"/>
                      <a:pt x="91" y="1785"/>
                      <a:pt x="46" y="1728"/>
                    </a:cubicBezTo>
                    <a:cubicBezTo>
                      <a:pt x="37" y="1700"/>
                      <a:pt x="31" y="1673"/>
                      <a:pt x="25" y="1644"/>
                    </a:cubicBezTo>
                    <a:cubicBezTo>
                      <a:pt x="23" y="1618"/>
                      <a:pt x="21" y="1593"/>
                      <a:pt x="18" y="1567"/>
                    </a:cubicBezTo>
                    <a:cubicBezTo>
                      <a:pt x="14" y="1525"/>
                      <a:pt x="4" y="1440"/>
                      <a:pt x="4" y="1440"/>
                    </a:cubicBezTo>
                    <a:cubicBezTo>
                      <a:pt x="6" y="1343"/>
                      <a:pt x="0" y="1149"/>
                      <a:pt x="25" y="1026"/>
                    </a:cubicBezTo>
                    <a:cubicBezTo>
                      <a:pt x="38" y="962"/>
                      <a:pt x="93" y="877"/>
                      <a:pt x="109" y="815"/>
                    </a:cubicBezTo>
                    <a:cubicBezTo>
                      <a:pt x="120" y="771"/>
                      <a:pt x="146" y="717"/>
                      <a:pt x="172" y="681"/>
                    </a:cubicBezTo>
                    <a:cubicBezTo>
                      <a:pt x="182" y="629"/>
                      <a:pt x="205" y="592"/>
                      <a:pt x="229" y="548"/>
                    </a:cubicBezTo>
                    <a:cubicBezTo>
                      <a:pt x="280" y="456"/>
                      <a:pt x="210" y="568"/>
                      <a:pt x="250" y="478"/>
                    </a:cubicBezTo>
                    <a:cubicBezTo>
                      <a:pt x="257" y="462"/>
                      <a:pt x="280" y="441"/>
                      <a:pt x="292" y="429"/>
                    </a:cubicBezTo>
                    <a:cubicBezTo>
                      <a:pt x="309" y="393"/>
                      <a:pt x="333" y="363"/>
                      <a:pt x="355" y="330"/>
                    </a:cubicBezTo>
                    <a:cubicBezTo>
                      <a:pt x="373" y="304"/>
                      <a:pt x="367" y="293"/>
                      <a:pt x="390" y="267"/>
                    </a:cubicBezTo>
                    <a:cubicBezTo>
                      <a:pt x="400" y="256"/>
                      <a:pt x="414" y="249"/>
                      <a:pt x="425" y="239"/>
                    </a:cubicBezTo>
                    <a:cubicBezTo>
                      <a:pt x="466" y="202"/>
                      <a:pt x="504" y="163"/>
                      <a:pt x="545" y="127"/>
                    </a:cubicBezTo>
                    <a:cubicBezTo>
                      <a:pt x="569" y="106"/>
                      <a:pt x="576" y="81"/>
                      <a:pt x="608" y="70"/>
                    </a:cubicBezTo>
                    <a:cubicBezTo>
                      <a:pt x="617" y="63"/>
                      <a:pt x="626" y="55"/>
                      <a:pt x="636" y="49"/>
                    </a:cubicBezTo>
                    <a:cubicBezTo>
                      <a:pt x="642" y="45"/>
                      <a:pt x="651" y="46"/>
                      <a:pt x="657" y="42"/>
                    </a:cubicBezTo>
                    <a:cubicBezTo>
                      <a:pt x="683" y="27"/>
                      <a:pt x="698" y="10"/>
                      <a:pt x="727" y="0"/>
                    </a:cubicBezTo>
                    <a:cubicBezTo>
                      <a:pt x="819" y="5"/>
                      <a:pt x="904" y="15"/>
                      <a:pt x="994" y="28"/>
                    </a:cubicBezTo>
                    <a:cubicBezTo>
                      <a:pt x="1041" y="51"/>
                      <a:pt x="1095" y="71"/>
                      <a:pt x="1135" y="105"/>
                    </a:cubicBezTo>
                    <a:cubicBezTo>
                      <a:pt x="1147" y="115"/>
                      <a:pt x="1171" y="148"/>
                      <a:pt x="1177" y="155"/>
                    </a:cubicBezTo>
                    <a:cubicBezTo>
                      <a:pt x="1230" y="212"/>
                      <a:pt x="1264" y="255"/>
                      <a:pt x="1310" y="316"/>
                    </a:cubicBezTo>
                    <a:cubicBezTo>
                      <a:pt x="1325" y="360"/>
                      <a:pt x="1408" y="428"/>
                      <a:pt x="1444" y="464"/>
                    </a:cubicBezTo>
                    <a:cubicBezTo>
                      <a:pt x="1576" y="596"/>
                      <a:pt x="1740" y="726"/>
                      <a:pt x="1929" y="752"/>
                    </a:cubicBezTo>
                    <a:cubicBezTo>
                      <a:pt x="2029" y="792"/>
                      <a:pt x="2132" y="800"/>
                      <a:pt x="2238" y="815"/>
                    </a:cubicBezTo>
                    <a:cubicBezTo>
                      <a:pt x="2291" y="833"/>
                      <a:pt x="2266" y="826"/>
                      <a:pt x="2315" y="836"/>
                    </a:cubicBezTo>
                    <a:cubicBezTo>
                      <a:pt x="2368" y="863"/>
                      <a:pt x="2438" y="893"/>
                      <a:pt x="2476" y="941"/>
                    </a:cubicBezTo>
                    <a:cubicBezTo>
                      <a:pt x="2519" y="994"/>
                      <a:pt x="2559" y="1056"/>
                      <a:pt x="2589" y="1117"/>
                    </a:cubicBezTo>
                    <a:cubicBezTo>
                      <a:pt x="2613" y="1164"/>
                      <a:pt x="2642" y="1219"/>
                      <a:pt x="2680" y="1257"/>
                    </a:cubicBezTo>
                    <a:cubicBezTo>
                      <a:pt x="2716" y="1330"/>
                      <a:pt x="2760" y="1388"/>
                      <a:pt x="2807" y="1454"/>
                    </a:cubicBezTo>
                    <a:cubicBezTo>
                      <a:pt x="2817" y="1468"/>
                      <a:pt x="2830" y="1480"/>
                      <a:pt x="2835" y="1496"/>
                    </a:cubicBezTo>
                    <a:cubicBezTo>
                      <a:pt x="2837" y="1503"/>
                      <a:pt x="2838" y="1511"/>
                      <a:pt x="2842" y="1517"/>
                    </a:cubicBezTo>
                    <a:cubicBezTo>
                      <a:pt x="2887" y="1596"/>
                      <a:pt x="2945" y="1668"/>
                      <a:pt x="2989" y="1749"/>
                    </a:cubicBezTo>
                    <a:cubicBezTo>
                      <a:pt x="3018" y="1802"/>
                      <a:pt x="3029" y="1853"/>
                      <a:pt x="3045" y="1911"/>
                    </a:cubicBezTo>
                    <a:cubicBezTo>
                      <a:pt x="3049" y="1925"/>
                      <a:pt x="3054" y="1939"/>
                      <a:pt x="3059" y="1953"/>
                    </a:cubicBezTo>
                    <a:cubicBezTo>
                      <a:pt x="3065" y="1971"/>
                      <a:pt x="3073" y="2009"/>
                      <a:pt x="3073" y="2009"/>
                    </a:cubicBezTo>
                    <a:cubicBezTo>
                      <a:pt x="3068" y="2225"/>
                      <a:pt x="3098" y="2320"/>
                      <a:pt x="2989" y="2473"/>
                    </a:cubicBezTo>
                    <a:cubicBezTo>
                      <a:pt x="2955" y="2520"/>
                      <a:pt x="2879" y="2559"/>
                      <a:pt x="2828" y="2578"/>
                    </a:cubicBezTo>
                    <a:cubicBezTo>
                      <a:pt x="2804" y="2587"/>
                      <a:pt x="2757" y="2606"/>
                      <a:pt x="2757" y="2606"/>
                    </a:cubicBezTo>
                    <a:cubicBezTo>
                      <a:pt x="2679" y="2602"/>
                      <a:pt x="2543" y="2602"/>
                      <a:pt x="2462" y="2571"/>
                    </a:cubicBezTo>
                    <a:cubicBezTo>
                      <a:pt x="2387" y="2543"/>
                      <a:pt x="2286" y="2449"/>
                      <a:pt x="2245" y="2381"/>
                    </a:cubicBezTo>
                    <a:cubicBezTo>
                      <a:pt x="2216" y="2333"/>
                      <a:pt x="2213" y="2270"/>
                      <a:pt x="2188" y="2220"/>
                    </a:cubicBezTo>
                    <a:cubicBezTo>
                      <a:pt x="2164" y="2171"/>
                      <a:pt x="2143" y="2121"/>
                      <a:pt x="2118" y="2072"/>
                    </a:cubicBezTo>
                    <a:cubicBezTo>
                      <a:pt x="2105" y="2046"/>
                      <a:pt x="2086" y="2022"/>
                      <a:pt x="2076" y="1995"/>
                    </a:cubicBezTo>
                    <a:cubicBezTo>
                      <a:pt x="2043" y="1906"/>
                      <a:pt x="2010" y="1824"/>
                      <a:pt x="1950" y="1749"/>
                    </a:cubicBezTo>
                    <a:cubicBezTo>
                      <a:pt x="1940" y="1718"/>
                      <a:pt x="1917" y="1699"/>
                      <a:pt x="1900" y="1672"/>
                    </a:cubicBezTo>
                    <a:cubicBezTo>
                      <a:pt x="1884" y="1646"/>
                      <a:pt x="1861" y="1624"/>
                      <a:pt x="1851" y="1595"/>
                    </a:cubicBezTo>
                    <a:cubicBezTo>
                      <a:pt x="1842" y="1569"/>
                      <a:pt x="1831" y="1547"/>
                      <a:pt x="1816" y="1524"/>
                    </a:cubicBezTo>
                    <a:cubicBezTo>
                      <a:pt x="1804" y="1476"/>
                      <a:pt x="1813" y="1505"/>
                      <a:pt x="1781" y="1440"/>
                    </a:cubicBezTo>
                    <a:cubicBezTo>
                      <a:pt x="1770" y="1418"/>
                      <a:pt x="1763" y="1393"/>
                      <a:pt x="1753" y="1370"/>
                    </a:cubicBezTo>
                    <a:cubicBezTo>
                      <a:pt x="1718" y="1288"/>
                      <a:pt x="1767" y="1413"/>
                      <a:pt x="1711" y="1300"/>
                    </a:cubicBezTo>
                    <a:cubicBezTo>
                      <a:pt x="1676" y="1229"/>
                      <a:pt x="1633" y="1173"/>
                      <a:pt x="1577" y="1117"/>
                    </a:cubicBezTo>
                    <a:cubicBezTo>
                      <a:pt x="1560" y="1100"/>
                      <a:pt x="1530" y="1058"/>
                      <a:pt x="1507" y="1047"/>
                    </a:cubicBezTo>
                    <a:cubicBezTo>
                      <a:pt x="1452" y="1020"/>
                      <a:pt x="1402" y="992"/>
                      <a:pt x="1345" y="969"/>
                    </a:cubicBezTo>
                    <a:cubicBezTo>
                      <a:pt x="1320" y="959"/>
                      <a:pt x="1293" y="956"/>
                      <a:pt x="1268" y="948"/>
                    </a:cubicBezTo>
                    <a:cubicBezTo>
                      <a:pt x="1231" y="950"/>
                      <a:pt x="1193" y="951"/>
                      <a:pt x="1156" y="955"/>
                    </a:cubicBezTo>
                    <a:cubicBezTo>
                      <a:pt x="1107" y="960"/>
                      <a:pt x="1081" y="1010"/>
                      <a:pt x="1050" y="1040"/>
                    </a:cubicBezTo>
                    <a:cubicBezTo>
                      <a:pt x="1008" y="1124"/>
                      <a:pt x="930" y="1195"/>
                      <a:pt x="861" y="1257"/>
                    </a:cubicBezTo>
                    <a:cubicBezTo>
                      <a:pt x="841" y="1275"/>
                      <a:pt x="824" y="1295"/>
                      <a:pt x="805" y="1314"/>
                    </a:cubicBezTo>
                    <a:cubicBezTo>
                      <a:pt x="793" y="1326"/>
                      <a:pt x="769" y="1349"/>
                      <a:pt x="769" y="1349"/>
                    </a:cubicBezTo>
                    <a:cubicBezTo>
                      <a:pt x="757" y="1386"/>
                      <a:pt x="766" y="1364"/>
                      <a:pt x="734" y="1412"/>
                    </a:cubicBezTo>
                    <a:cubicBezTo>
                      <a:pt x="704" y="1457"/>
                      <a:pt x="705" y="1497"/>
                      <a:pt x="664" y="1538"/>
                    </a:cubicBezTo>
                    <a:cubicBezTo>
                      <a:pt x="655" y="1567"/>
                      <a:pt x="657" y="1552"/>
                      <a:pt x="657" y="1581"/>
                    </a:cubicBezTo>
                    <a:cubicBezTo>
                      <a:pt x="657" y="1581"/>
                      <a:pt x="678" y="1545"/>
                      <a:pt x="678" y="1545"/>
                    </a:cubicBez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298600" y="1676520"/>
                <a:ext cx="4025880" cy="4404960"/>
              </a:xfrm>
              <a:custGeom>
                <a:avLst/>
                <a:gdLst/>
                <a:ahLst/>
                <a:rect l="l" t="t" r="r" b="b"/>
                <a:pathLst>
                  <a:path w="2536" h="2775">
                    <a:moveTo>
                      <a:pt x="1076" y="70"/>
                    </a:moveTo>
                    <a:cubicBezTo>
                      <a:pt x="1066" y="100"/>
                      <a:pt x="1049" y="118"/>
                      <a:pt x="1027" y="140"/>
                    </a:cubicBezTo>
                    <a:cubicBezTo>
                      <a:pt x="1022" y="154"/>
                      <a:pt x="1020" y="170"/>
                      <a:pt x="1013" y="183"/>
                    </a:cubicBezTo>
                    <a:cubicBezTo>
                      <a:pt x="1008" y="192"/>
                      <a:pt x="1003" y="201"/>
                      <a:pt x="999" y="211"/>
                    </a:cubicBezTo>
                    <a:cubicBezTo>
                      <a:pt x="987" y="244"/>
                      <a:pt x="985" y="282"/>
                      <a:pt x="978" y="316"/>
                    </a:cubicBezTo>
                    <a:cubicBezTo>
                      <a:pt x="982" y="466"/>
                      <a:pt x="977" y="619"/>
                      <a:pt x="1013" y="766"/>
                    </a:cubicBezTo>
                    <a:cubicBezTo>
                      <a:pt x="1015" y="789"/>
                      <a:pt x="1017" y="813"/>
                      <a:pt x="1020" y="836"/>
                    </a:cubicBezTo>
                    <a:cubicBezTo>
                      <a:pt x="1024" y="873"/>
                      <a:pt x="1034" y="948"/>
                      <a:pt x="1034" y="948"/>
                    </a:cubicBezTo>
                    <a:cubicBezTo>
                      <a:pt x="1031" y="1011"/>
                      <a:pt x="1040" y="1118"/>
                      <a:pt x="999" y="1180"/>
                    </a:cubicBezTo>
                    <a:cubicBezTo>
                      <a:pt x="982" y="1248"/>
                      <a:pt x="938" y="1297"/>
                      <a:pt x="887" y="1342"/>
                    </a:cubicBezTo>
                    <a:cubicBezTo>
                      <a:pt x="860" y="1365"/>
                      <a:pt x="843" y="1396"/>
                      <a:pt x="816" y="1419"/>
                    </a:cubicBezTo>
                    <a:cubicBezTo>
                      <a:pt x="777" y="1452"/>
                      <a:pt x="733" y="1479"/>
                      <a:pt x="690" y="1503"/>
                    </a:cubicBezTo>
                    <a:cubicBezTo>
                      <a:pt x="683" y="1507"/>
                      <a:pt x="625" y="1548"/>
                      <a:pt x="613" y="1552"/>
                    </a:cubicBezTo>
                    <a:cubicBezTo>
                      <a:pt x="525" y="1581"/>
                      <a:pt x="440" y="1613"/>
                      <a:pt x="360" y="1658"/>
                    </a:cubicBezTo>
                    <a:cubicBezTo>
                      <a:pt x="335" y="1672"/>
                      <a:pt x="320" y="1670"/>
                      <a:pt x="297" y="1686"/>
                    </a:cubicBezTo>
                    <a:cubicBezTo>
                      <a:pt x="268" y="1707"/>
                      <a:pt x="233" y="1727"/>
                      <a:pt x="205" y="1749"/>
                    </a:cubicBezTo>
                    <a:cubicBezTo>
                      <a:pt x="150" y="1793"/>
                      <a:pt x="178" y="1779"/>
                      <a:pt x="142" y="1819"/>
                    </a:cubicBezTo>
                    <a:cubicBezTo>
                      <a:pt x="116" y="1848"/>
                      <a:pt x="108" y="1846"/>
                      <a:pt x="93" y="1875"/>
                    </a:cubicBezTo>
                    <a:cubicBezTo>
                      <a:pt x="60" y="1936"/>
                      <a:pt x="49" y="2001"/>
                      <a:pt x="23" y="2065"/>
                    </a:cubicBezTo>
                    <a:cubicBezTo>
                      <a:pt x="8" y="2240"/>
                      <a:pt x="0" y="2252"/>
                      <a:pt x="16" y="2444"/>
                    </a:cubicBezTo>
                    <a:cubicBezTo>
                      <a:pt x="19" y="2483"/>
                      <a:pt x="45" y="2533"/>
                      <a:pt x="58" y="2571"/>
                    </a:cubicBezTo>
                    <a:cubicBezTo>
                      <a:pt x="76" y="2625"/>
                      <a:pt x="129" y="2690"/>
                      <a:pt x="170" y="2725"/>
                    </a:cubicBezTo>
                    <a:cubicBezTo>
                      <a:pt x="180" y="2734"/>
                      <a:pt x="187" y="2746"/>
                      <a:pt x="198" y="2753"/>
                    </a:cubicBezTo>
                    <a:cubicBezTo>
                      <a:pt x="216" y="2763"/>
                      <a:pt x="255" y="2775"/>
                      <a:pt x="255" y="2775"/>
                    </a:cubicBezTo>
                    <a:cubicBezTo>
                      <a:pt x="337" y="2769"/>
                      <a:pt x="445" y="2774"/>
                      <a:pt x="528" y="2739"/>
                    </a:cubicBezTo>
                    <a:cubicBezTo>
                      <a:pt x="592" y="2712"/>
                      <a:pt x="622" y="2670"/>
                      <a:pt x="676" y="2641"/>
                    </a:cubicBezTo>
                    <a:cubicBezTo>
                      <a:pt x="760" y="2595"/>
                      <a:pt x="840" y="2541"/>
                      <a:pt x="908" y="2473"/>
                    </a:cubicBezTo>
                    <a:cubicBezTo>
                      <a:pt x="929" y="2452"/>
                      <a:pt x="957" y="2444"/>
                      <a:pt x="978" y="2423"/>
                    </a:cubicBezTo>
                    <a:cubicBezTo>
                      <a:pt x="996" y="2405"/>
                      <a:pt x="1009" y="2378"/>
                      <a:pt x="1027" y="2360"/>
                    </a:cubicBezTo>
                    <a:cubicBezTo>
                      <a:pt x="1081" y="2306"/>
                      <a:pt x="1142" y="2255"/>
                      <a:pt x="1196" y="2199"/>
                    </a:cubicBezTo>
                    <a:cubicBezTo>
                      <a:pt x="1234" y="2160"/>
                      <a:pt x="1270" y="2116"/>
                      <a:pt x="1315" y="2086"/>
                    </a:cubicBezTo>
                    <a:cubicBezTo>
                      <a:pt x="1333" y="2060"/>
                      <a:pt x="1376" y="2033"/>
                      <a:pt x="1407" y="2023"/>
                    </a:cubicBezTo>
                    <a:cubicBezTo>
                      <a:pt x="1482" y="1973"/>
                      <a:pt x="1551" y="1916"/>
                      <a:pt x="1631" y="1875"/>
                    </a:cubicBezTo>
                    <a:cubicBezTo>
                      <a:pt x="1657" y="1862"/>
                      <a:pt x="1667" y="1842"/>
                      <a:pt x="1695" y="1833"/>
                    </a:cubicBezTo>
                    <a:cubicBezTo>
                      <a:pt x="1788" y="1740"/>
                      <a:pt x="1913" y="1682"/>
                      <a:pt x="2039" y="1651"/>
                    </a:cubicBezTo>
                    <a:cubicBezTo>
                      <a:pt x="2064" y="1634"/>
                      <a:pt x="2086" y="1623"/>
                      <a:pt x="2116" y="1616"/>
                    </a:cubicBezTo>
                    <a:cubicBezTo>
                      <a:pt x="2159" y="1585"/>
                      <a:pt x="2217" y="1572"/>
                      <a:pt x="2264" y="1545"/>
                    </a:cubicBezTo>
                    <a:cubicBezTo>
                      <a:pt x="2299" y="1526"/>
                      <a:pt x="2327" y="1500"/>
                      <a:pt x="2362" y="1482"/>
                    </a:cubicBezTo>
                    <a:cubicBezTo>
                      <a:pt x="2405" y="1418"/>
                      <a:pt x="2461" y="1366"/>
                      <a:pt x="2488" y="1292"/>
                    </a:cubicBezTo>
                    <a:cubicBezTo>
                      <a:pt x="2505" y="1246"/>
                      <a:pt x="2503" y="1246"/>
                      <a:pt x="2516" y="1194"/>
                    </a:cubicBezTo>
                    <a:cubicBezTo>
                      <a:pt x="2518" y="1185"/>
                      <a:pt x="2523" y="1166"/>
                      <a:pt x="2523" y="1166"/>
                    </a:cubicBezTo>
                    <a:cubicBezTo>
                      <a:pt x="2536" y="1049"/>
                      <a:pt x="2534" y="1097"/>
                      <a:pt x="2523" y="913"/>
                    </a:cubicBezTo>
                    <a:cubicBezTo>
                      <a:pt x="2521" y="871"/>
                      <a:pt x="2510" y="845"/>
                      <a:pt x="2495" y="808"/>
                    </a:cubicBezTo>
                    <a:cubicBezTo>
                      <a:pt x="2446" y="685"/>
                      <a:pt x="2402" y="661"/>
                      <a:pt x="2292" y="583"/>
                    </a:cubicBezTo>
                    <a:cubicBezTo>
                      <a:pt x="2254" y="556"/>
                      <a:pt x="2216" y="520"/>
                      <a:pt x="2179" y="492"/>
                    </a:cubicBezTo>
                    <a:cubicBezTo>
                      <a:pt x="2109" y="438"/>
                      <a:pt x="2035" y="392"/>
                      <a:pt x="1961" y="344"/>
                    </a:cubicBezTo>
                    <a:cubicBezTo>
                      <a:pt x="1923" y="319"/>
                      <a:pt x="1957" y="340"/>
                      <a:pt x="1905" y="309"/>
                    </a:cubicBezTo>
                    <a:cubicBezTo>
                      <a:pt x="1893" y="302"/>
                      <a:pt x="1870" y="288"/>
                      <a:pt x="1870" y="288"/>
                    </a:cubicBezTo>
                    <a:cubicBezTo>
                      <a:pt x="1823" y="225"/>
                      <a:pt x="1874" y="282"/>
                      <a:pt x="1828" y="253"/>
                    </a:cubicBezTo>
                    <a:cubicBezTo>
                      <a:pt x="1798" y="234"/>
                      <a:pt x="1775" y="206"/>
                      <a:pt x="1744" y="190"/>
                    </a:cubicBezTo>
                    <a:cubicBezTo>
                      <a:pt x="1716" y="176"/>
                      <a:pt x="1687" y="166"/>
                      <a:pt x="1659" y="154"/>
                    </a:cubicBezTo>
                    <a:cubicBezTo>
                      <a:pt x="1591" y="125"/>
                      <a:pt x="1526" y="86"/>
                      <a:pt x="1456" y="63"/>
                    </a:cubicBezTo>
                    <a:cubicBezTo>
                      <a:pt x="1420" y="51"/>
                      <a:pt x="1367" y="34"/>
                      <a:pt x="1329" y="28"/>
                    </a:cubicBezTo>
                    <a:cubicBezTo>
                      <a:pt x="1292" y="22"/>
                      <a:pt x="1217" y="14"/>
                      <a:pt x="1217" y="14"/>
                    </a:cubicBezTo>
                    <a:cubicBezTo>
                      <a:pt x="1193" y="16"/>
                      <a:pt x="1126" y="0"/>
                      <a:pt x="1104" y="35"/>
                    </a:cubicBezTo>
                    <a:cubicBezTo>
                      <a:pt x="1100" y="41"/>
                      <a:pt x="1102" y="51"/>
                      <a:pt x="1097" y="56"/>
                    </a:cubicBezTo>
                    <a:cubicBezTo>
                      <a:pt x="1074" y="79"/>
                      <a:pt x="1076" y="51"/>
                      <a:pt x="1076" y="70"/>
                    </a:cubicBezTo>
                    <a:close/>
                  </a:path>
                </a:pathLst>
              </a:custGeom>
              <a:solidFill>
                <a:srgbClr val="00cc99">
                  <a:alpha val="50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295280" y="1890720"/>
            <a:ext cx="6019560" cy="4231440"/>
            <a:chOff x="1295280" y="1890720"/>
            <a:chExt cx="6019560" cy="4231440"/>
          </a:xfrm>
        </p:grpSpPr>
        <p:grpSp>
          <p:nvGrpSpPr>
            <p:cNvPr id="95" name=""/>
            <p:cNvGrpSpPr/>
            <p:nvPr/>
          </p:nvGrpSpPr>
          <p:grpSpPr>
            <a:xfrm>
              <a:off x="1295280" y="3795840"/>
              <a:ext cx="533160" cy="1092960"/>
              <a:chOff x="1295280" y="3795840"/>
              <a:chExt cx="533160" cy="1092960"/>
            </a:xfrm>
          </p:grpSpPr>
          <p:sp>
            <p:nvSpPr>
              <p:cNvPr id="96" name=""/>
              <p:cNvSpPr/>
              <p:nvPr/>
            </p:nvSpPr>
            <p:spPr>
              <a:xfrm rot="16200000">
                <a:off x="1272240" y="4382280"/>
                <a:ext cx="612000" cy="401040"/>
              </a:xfrm>
              <a:prstGeom prst="flowChartDelay">
                <a:avLst/>
              </a:prstGeom>
              <a:solidFill>
                <a:srgbClr val="66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295280" y="3795840"/>
                <a:ext cx="533160" cy="530280"/>
              </a:xfrm>
              <a:prstGeom prst="smileyFace">
                <a:avLst>
                  <a:gd name="adj" fmla="val 9282"/>
                </a:avLst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666880" y="4557600"/>
              <a:ext cx="533160" cy="1093320"/>
              <a:chOff x="2666880" y="4557600"/>
              <a:chExt cx="533160" cy="1093320"/>
            </a:xfrm>
          </p:grpSpPr>
          <p:sp>
            <p:nvSpPr>
              <p:cNvPr id="99" name=""/>
              <p:cNvSpPr/>
              <p:nvPr/>
            </p:nvSpPr>
            <p:spPr>
              <a:xfrm rot="16200000">
                <a:off x="2643480" y="5144040"/>
                <a:ext cx="612360" cy="401040"/>
              </a:xfrm>
              <a:prstGeom prst="flowChartDelay">
                <a:avLst/>
              </a:prstGeom>
              <a:solidFill>
                <a:srgbClr val="66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66880" y="4557600"/>
                <a:ext cx="533160" cy="530640"/>
              </a:xfrm>
              <a:prstGeom prst="smileyFace">
                <a:avLst>
                  <a:gd name="adj" fmla="val 9282"/>
                </a:avLst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3962520" y="1890720"/>
              <a:ext cx="532800" cy="1092960"/>
              <a:chOff x="3962520" y="1890720"/>
              <a:chExt cx="532800" cy="1092960"/>
            </a:xfrm>
          </p:grpSpPr>
          <p:sp>
            <p:nvSpPr>
              <p:cNvPr id="102" name=""/>
              <p:cNvSpPr/>
              <p:nvPr/>
            </p:nvSpPr>
            <p:spPr>
              <a:xfrm rot="16200000">
                <a:off x="3939120" y="2477160"/>
                <a:ext cx="612000" cy="400680"/>
              </a:xfrm>
              <a:prstGeom prst="flowChartDelay">
                <a:avLst/>
              </a:prstGeom>
              <a:solidFill>
                <a:srgbClr val="66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962520" y="1890720"/>
                <a:ext cx="532800" cy="530280"/>
              </a:xfrm>
              <a:prstGeom prst="smileyFace">
                <a:avLst>
                  <a:gd name="adj" fmla="val 9282"/>
                </a:avLst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962520" y="3719520"/>
              <a:ext cx="532800" cy="1092960"/>
              <a:chOff x="3962520" y="3719520"/>
              <a:chExt cx="532800" cy="1092960"/>
            </a:xfrm>
          </p:grpSpPr>
          <p:sp>
            <p:nvSpPr>
              <p:cNvPr id="105" name=""/>
              <p:cNvSpPr/>
              <p:nvPr/>
            </p:nvSpPr>
            <p:spPr>
              <a:xfrm rot="16200000">
                <a:off x="3939120" y="4305960"/>
                <a:ext cx="612000" cy="400680"/>
              </a:xfrm>
              <a:prstGeom prst="flowChartDelay">
                <a:avLst/>
              </a:prstGeom>
              <a:solidFill>
                <a:srgbClr val="66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62520" y="3719520"/>
                <a:ext cx="532800" cy="530280"/>
              </a:xfrm>
              <a:prstGeom prst="smileyFace">
                <a:avLst>
                  <a:gd name="adj" fmla="val 9282"/>
                </a:avLst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4120" y="2957400"/>
              <a:ext cx="532800" cy="1093320"/>
              <a:chOff x="5334120" y="2957400"/>
              <a:chExt cx="532800" cy="1093320"/>
            </a:xfrm>
          </p:grpSpPr>
          <p:sp>
            <p:nvSpPr>
              <p:cNvPr id="108" name=""/>
              <p:cNvSpPr/>
              <p:nvPr/>
            </p:nvSpPr>
            <p:spPr>
              <a:xfrm rot="16200000">
                <a:off x="5310720" y="3544200"/>
                <a:ext cx="612360" cy="400680"/>
              </a:xfrm>
              <a:prstGeom prst="flowChartDelay">
                <a:avLst/>
              </a:prstGeom>
              <a:solidFill>
                <a:srgbClr val="66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4120" y="2957400"/>
                <a:ext cx="532800" cy="530640"/>
              </a:xfrm>
              <a:prstGeom prst="smileyFace">
                <a:avLst>
                  <a:gd name="adj" fmla="val 9282"/>
                </a:avLst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52880" y="5029200"/>
              <a:ext cx="533160" cy="1092960"/>
              <a:chOff x="4952880" y="5029200"/>
              <a:chExt cx="533160" cy="1092960"/>
            </a:xfrm>
          </p:grpSpPr>
          <p:sp>
            <p:nvSpPr>
              <p:cNvPr id="111" name=""/>
              <p:cNvSpPr/>
              <p:nvPr/>
            </p:nvSpPr>
            <p:spPr>
              <a:xfrm rot="16200000">
                <a:off x="4929840" y="5615640"/>
                <a:ext cx="612000" cy="401040"/>
              </a:xfrm>
              <a:prstGeom prst="flowChartDelay">
                <a:avLst/>
              </a:prstGeom>
              <a:solidFill>
                <a:srgbClr val="66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52880" y="5029200"/>
                <a:ext cx="533160" cy="530280"/>
              </a:xfrm>
              <a:prstGeom prst="smileyFace">
                <a:avLst>
                  <a:gd name="adj" fmla="val 9282"/>
                </a:avLst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781680" y="2881440"/>
              <a:ext cx="533160" cy="1092960"/>
              <a:chOff x="6781680" y="2881440"/>
              <a:chExt cx="533160" cy="1092960"/>
            </a:xfrm>
          </p:grpSpPr>
          <p:sp>
            <p:nvSpPr>
              <p:cNvPr id="114" name=""/>
              <p:cNvSpPr/>
              <p:nvPr/>
            </p:nvSpPr>
            <p:spPr>
              <a:xfrm rot="16200000">
                <a:off x="6758640" y="3467880"/>
                <a:ext cx="612000" cy="401040"/>
              </a:xfrm>
              <a:prstGeom prst="flowChartDelay">
                <a:avLst/>
              </a:prstGeom>
              <a:solidFill>
                <a:srgbClr val="66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1680" y="2881440"/>
                <a:ext cx="533160" cy="530280"/>
              </a:xfrm>
              <a:prstGeom prst="smileyFace">
                <a:avLst>
                  <a:gd name="adj" fmla="val 9282"/>
                </a:avLst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057400" y="2424240"/>
              <a:ext cx="533160" cy="1092960"/>
              <a:chOff x="2057400" y="2424240"/>
              <a:chExt cx="533160" cy="1092960"/>
            </a:xfrm>
          </p:grpSpPr>
          <p:sp>
            <p:nvSpPr>
              <p:cNvPr id="117" name=""/>
              <p:cNvSpPr/>
              <p:nvPr/>
            </p:nvSpPr>
            <p:spPr>
              <a:xfrm rot="16200000">
                <a:off x="2034360" y="3010680"/>
                <a:ext cx="612000" cy="401040"/>
              </a:xfrm>
              <a:prstGeom prst="flowChartDelay">
                <a:avLst/>
              </a:prstGeom>
              <a:solidFill>
                <a:srgbClr val="66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57400" y="2424240"/>
                <a:ext cx="533160" cy="530280"/>
              </a:xfrm>
              <a:prstGeom prst="smileyFace">
                <a:avLst>
                  <a:gd name="adj" fmla="val 9282"/>
                </a:avLst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781680" y="4710240"/>
              <a:ext cx="533160" cy="1092960"/>
              <a:chOff x="6781680" y="4710240"/>
              <a:chExt cx="533160" cy="1092960"/>
            </a:xfrm>
          </p:grpSpPr>
          <p:sp>
            <p:nvSpPr>
              <p:cNvPr id="120" name=""/>
              <p:cNvSpPr/>
              <p:nvPr/>
            </p:nvSpPr>
            <p:spPr>
              <a:xfrm rot="16200000">
                <a:off x="6758640" y="5296680"/>
                <a:ext cx="612000" cy="401040"/>
              </a:xfrm>
              <a:prstGeom prst="flowChartDelay">
                <a:avLst/>
              </a:prstGeom>
              <a:solidFill>
                <a:srgbClr val="66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781680" y="4710240"/>
                <a:ext cx="533160" cy="530280"/>
              </a:xfrm>
              <a:prstGeom prst="smileyFace">
                <a:avLst>
                  <a:gd name="adj" fmla="val 9282"/>
                </a:avLst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00200" y="2514600"/>
            <a:ext cx="5638680" cy="3276720"/>
            <a:chOff x="1600200" y="2514600"/>
            <a:chExt cx="5638680" cy="3276720"/>
          </a:xfrm>
        </p:grpSpPr>
        <p:sp>
          <p:nvSpPr>
            <p:cNvPr id="123" name=""/>
            <p:cNvSpPr/>
            <p:nvPr/>
          </p:nvSpPr>
          <p:spPr>
            <a:xfrm>
              <a:off x="5257800" y="5638680"/>
              <a:ext cx="152280" cy="15264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600200" y="2514600"/>
              <a:ext cx="5638680" cy="2957400"/>
              <a:chOff x="1600200" y="2514600"/>
              <a:chExt cx="5638680" cy="2957400"/>
            </a:xfrm>
          </p:grpSpPr>
          <p:sp>
            <p:nvSpPr>
              <p:cNvPr id="125" name=""/>
              <p:cNvSpPr/>
              <p:nvPr/>
            </p:nvSpPr>
            <p:spPr>
              <a:xfrm>
                <a:off x="1600200" y="441972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71800" y="5181480"/>
                <a:ext cx="152280" cy="152640"/>
              </a:xfrm>
              <a:prstGeom prst="su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67080" y="25146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267080" y="43434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38680" y="3581280"/>
                <a:ext cx="152640" cy="152640"/>
              </a:xfrm>
              <a:prstGeom prst="su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86600" y="349092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362320" y="304812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086600" y="531972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Identifying Groups in Comm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28600" y="304920"/>
            <a:ext cx="114156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57200" y="1828800"/>
            <a:ext cx="2759040" cy="2895120"/>
            <a:chOff x="457200" y="1828800"/>
            <a:chExt cx="2759040" cy="2895120"/>
          </a:xfrm>
        </p:grpSpPr>
        <p:sp>
          <p:nvSpPr>
            <p:cNvPr id="136" name=""/>
            <p:cNvSpPr/>
            <p:nvPr/>
          </p:nvSpPr>
          <p:spPr>
            <a:xfrm>
              <a:off x="927000" y="2712960"/>
              <a:ext cx="1828800" cy="15415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438840" y="2784960"/>
              <a:ext cx="476280" cy="312840"/>
            </a:xfrm>
            <a:prstGeom prst="flowChartDelay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2328840"/>
              <a:ext cx="414360" cy="41292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446040" y="3706200"/>
              <a:ext cx="476280" cy="311400"/>
            </a:xfrm>
            <a:prstGeom prst="flowChartDelay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5120" y="3251160"/>
              <a:ext cx="412920" cy="41292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1299960" y="2291760"/>
              <a:ext cx="476280" cy="311040"/>
            </a:xfrm>
            <a:prstGeom prst="flowChartDelay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9040" y="1836720"/>
              <a:ext cx="412920" cy="41292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1969200" y="2283120"/>
              <a:ext cx="476280" cy="312840"/>
            </a:xfrm>
            <a:prstGeom prst="flowChartDelay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7560" y="1828800"/>
              <a:ext cx="414360" cy="41292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2783520" y="2805480"/>
              <a:ext cx="476280" cy="312480"/>
            </a:xfrm>
            <a:prstGeom prst="flowChartDelay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01880" y="2351160"/>
              <a:ext cx="414360" cy="41256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2783520" y="3734280"/>
              <a:ext cx="476280" cy="312480"/>
            </a:xfrm>
            <a:prstGeom prst="flowChartDelay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01880" y="3279600"/>
              <a:ext cx="414360" cy="41292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27080" y="2814480"/>
              <a:ext cx="1631880" cy="129564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1287360" y="4323960"/>
              <a:ext cx="476280" cy="311040"/>
            </a:xfrm>
            <a:prstGeom prst="flowChartDelay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06440" y="3868560"/>
              <a:ext cx="412920" cy="41292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2018520" y="4329360"/>
              <a:ext cx="476280" cy="312840"/>
            </a:xfrm>
            <a:prstGeom prst="flowChartDelay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36880" y="3875040"/>
              <a:ext cx="414360" cy="41292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352680" y="3124080"/>
            <a:ext cx="712800" cy="368280"/>
          </a:xfrm>
          <a:prstGeom prst="rightArrow">
            <a:avLst>
              <a:gd name="adj1" fmla="val 50000"/>
              <a:gd name="adj2" fmla="val 483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960" y="6019920"/>
            <a:ext cx="31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ke Sensor Measuremen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individuals as they inter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1520" y="6019920"/>
            <a:ext cx="383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present the Interaction Dynam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th a Dynamic Bayes’ Net (DB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e Facilitator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191120" y="1752480"/>
            <a:ext cx="2295360" cy="3587760"/>
            <a:chOff x="4191120" y="1752480"/>
            <a:chExt cx="2295360" cy="3587760"/>
          </a:xfrm>
        </p:grpSpPr>
        <p:pic>
          <p:nvPicPr>
            <p:cNvPr id="159" name="" descr="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4191120" y="1788840"/>
              <a:ext cx="2260440" cy="35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383160" y="1752480"/>
              <a:ext cx="103320" cy="3587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3733920" y="4114800"/>
          <a:ext cx="3011400" cy="46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4114800"/>
                    <a:ext cx="3011400" cy="4698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7467480" y="2590920"/>
            <a:ext cx="1384200" cy="1466640"/>
            <a:chOff x="7467480" y="2590920"/>
            <a:chExt cx="1384200" cy="1466640"/>
          </a:xfrm>
        </p:grpSpPr>
        <p:grpSp>
          <p:nvGrpSpPr>
            <p:cNvPr id="164" name=""/>
            <p:cNvGrpSpPr/>
            <p:nvPr/>
          </p:nvGrpSpPr>
          <p:grpSpPr>
            <a:xfrm>
              <a:off x="7467480" y="2590920"/>
              <a:ext cx="1384200" cy="1466640"/>
              <a:chOff x="7467480" y="2590920"/>
              <a:chExt cx="1384200" cy="1466640"/>
            </a:xfrm>
          </p:grpSpPr>
          <p:sp>
            <p:nvSpPr>
              <p:cNvPr id="165" name=""/>
              <p:cNvSpPr/>
              <p:nvPr/>
            </p:nvSpPr>
            <p:spPr>
              <a:xfrm>
                <a:off x="7469280" y="3463200"/>
                <a:ext cx="196920" cy="196920"/>
              </a:xfrm>
              <a:prstGeom prst="ellipse">
                <a:avLst/>
              </a:prstGeom>
              <a:solidFill>
                <a:srgbClr val="000066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309880" y="3858480"/>
                <a:ext cx="196920" cy="196920"/>
              </a:xfrm>
              <a:prstGeom prst="ellipse">
                <a:avLst/>
              </a:prstGeom>
              <a:solidFill>
                <a:srgbClr val="000066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878960" y="3860640"/>
                <a:ext cx="196920" cy="196920"/>
              </a:xfrm>
              <a:prstGeom prst="ellipse">
                <a:avLst/>
              </a:prstGeom>
              <a:solidFill>
                <a:srgbClr val="000066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67480" y="2970000"/>
                <a:ext cx="196920" cy="196920"/>
              </a:xfrm>
              <a:prstGeom prst="ellipse">
                <a:avLst/>
              </a:prstGeom>
              <a:solidFill>
                <a:srgbClr val="000066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294040" y="2590920"/>
                <a:ext cx="196920" cy="196920"/>
              </a:xfrm>
              <a:prstGeom prst="ellipse">
                <a:avLst/>
              </a:prstGeom>
              <a:solidFill>
                <a:srgbClr val="000066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816680" y="2600640"/>
                <a:ext cx="196920" cy="196920"/>
              </a:xfrm>
              <a:prstGeom prst="ellipse">
                <a:avLst/>
              </a:prstGeom>
              <a:solidFill>
                <a:srgbClr val="000066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644320" y="2982240"/>
                <a:ext cx="196920" cy="196920"/>
              </a:xfrm>
              <a:prstGeom prst="ellipse">
                <a:avLst/>
              </a:prstGeom>
              <a:solidFill>
                <a:srgbClr val="000066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654760" y="3437640"/>
                <a:ext cx="196920" cy="196920"/>
              </a:xfrm>
              <a:prstGeom prst="ellipse">
                <a:avLst/>
              </a:prstGeom>
              <a:solidFill>
                <a:srgbClr val="000066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7557120" y="3166920"/>
                <a:ext cx="0" cy="283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7619400" y="2785680"/>
                <a:ext cx="253800" cy="688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650720" y="2770200"/>
                <a:ext cx="688320" cy="73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7666560" y="3102120"/>
                <a:ext cx="983160" cy="455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660800" y="3530880"/>
                <a:ext cx="1009440" cy="51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656120" y="3614040"/>
                <a:ext cx="698040" cy="253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598520" y="3655440"/>
                <a:ext cx="300240" cy="248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80200" y="3956040"/>
                <a:ext cx="232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8468280" y="3619440"/>
                <a:ext cx="233280" cy="26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8752680" y="3168720"/>
                <a:ext cx="0" cy="26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8468280" y="2744280"/>
                <a:ext cx="222480" cy="24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8002440" y="2677320"/>
                <a:ext cx="289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7603920" y="2739600"/>
                <a:ext cx="211320" cy="23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920000" y="2796120"/>
                <a:ext cx="61920" cy="107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981920" y="2775600"/>
                <a:ext cx="403200" cy="108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002800" y="2718720"/>
                <a:ext cx="688320" cy="744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017920" y="2703600"/>
                <a:ext cx="641880" cy="33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640280" y="3132720"/>
                <a:ext cx="289800" cy="74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660800" y="3086280"/>
                <a:ext cx="709200" cy="781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60800" y="3050280"/>
                <a:ext cx="1009440" cy="444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656120" y="3029400"/>
                <a:ext cx="998280" cy="3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7635240" y="2743920"/>
                <a:ext cx="672480" cy="253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8065080" y="3588480"/>
                <a:ext cx="605160" cy="330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8028360" y="3169080"/>
                <a:ext cx="673200" cy="69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8007840" y="2770560"/>
                <a:ext cx="362160" cy="109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8416440" y="2785320"/>
                <a:ext cx="5400" cy="107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8442720" y="3173760"/>
                <a:ext cx="279360" cy="68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8447760" y="2764800"/>
                <a:ext cx="264240" cy="677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1" name=""/>
            <p:cNvGraphicFramePr/>
            <p:nvPr/>
          </p:nvGraphicFramePr>
          <p:xfrm>
            <a:off x="8007120" y="3047760"/>
            <a:ext cx="387360" cy="490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007120" y="3047760"/>
                      <a:ext cx="387360" cy="4903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203" name=""/>
          <p:cNvSpPr/>
          <p:nvPr/>
        </p:nvSpPr>
        <p:spPr>
          <a:xfrm>
            <a:off x="6629400" y="3124080"/>
            <a:ext cx="712800" cy="368280"/>
          </a:xfrm>
          <a:prstGeom prst="rightArrow">
            <a:avLst>
              <a:gd name="adj1" fmla="val 50000"/>
              <a:gd name="adj2" fmla="val 483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28600" y="304920"/>
            <a:ext cx="114156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17:31:24Z</dcterms:created>
  <dc:creator>Facilitator Room</dc:creator>
  <dc:description/>
  <dc:language>en-US</dc:language>
  <cp:lastModifiedBy>Sumit Basu</cp:lastModifiedBy>
  <dcterms:modified xsi:type="dcterms:W3CDTF">2002-01-24T18:41:01Z</dcterms:modified>
  <cp:revision>2</cp:revision>
  <dc:subject/>
  <dc:title>The “I Sensed” Data Set: 100 days of a person’s life</dc:title>
</cp:coreProperties>
</file>