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C33-DD02-4CD9-AB24-E02656B4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087-93CA-4941-AFC9-2CFB939B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837-FC10-46AB-89E5-1E3CAC3E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9E9-ED0A-4888-88C1-508A4C04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C3D-F3A6-49B9-9A94-8718E390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B25-807F-49E5-913F-592DC4CA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244-E5C0-4CE7-B11B-28CB04A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BEB-2C73-42EC-B132-8F02012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9AA-346A-4F9F-B69A-433102A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0AA-8F29-4955-94EC-3145A411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B86-6D25-4C88-929F-CCBC8388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624-2760-4FB3-B34A-8E438BE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opper_trajectory" descr=""/>
          <p:cNvPicPr/>
          <p:nvPr/>
        </p:nvPicPr>
        <p:blipFill>
          <a:blip r:embed="rId2"/>
          <a:stretch/>
        </p:blipFill>
        <p:spPr>
          <a:xfrm>
            <a:off x="152280" y="49212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6050-D636-4382-B57D-695BC8EE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ailogo" descr=""/>
          <p:cNvPicPr/>
          <p:nvPr/>
        </p:nvPicPr>
        <p:blipFill>
          <a:blip r:embed="rId3"/>
          <a:stretch/>
        </p:blipFill>
        <p:spPr>
          <a:xfrm>
            <a:off x="76320" y="5867280"/>
            <a:ext cx="576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s Tedr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ung Lab for Theoretical Neuro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5/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87631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Control for Dynamically Stable Legged Rob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429000"/>
            <a:ext cx="617220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17220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sign control algorithms for walking and running 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2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27432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Learn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 hard problem! (many DOF, under-actuated, highly nonlinear, nonholonomic constraints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ed re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learning gives us tools to directly address thes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ired by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desired trajectory or “sket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 controller + plant equations form a closed dynamic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e parameters to minimize the path error between the sketch and the actual traj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hill climbing methods with local brute forc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Results: H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1160" y="1981080"/>
            <a:ext cx="533412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66880" y="4343400"/>
            <a:ext cx="5334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1984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0800" y="489276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191120"/>
            <a:ext cx="6858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Results: Hopp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8800" y="489276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4191120"/>
            <a:ext cx="6858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4876920" cy="19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487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Results: S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876560" cy="19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0800" y="4842000"/>
            <a:ext cx="53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ed for 10 seconds.  Simulated for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Results: Fl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5000" y="489276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4191120"/>
            <a:ext cx="6858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487656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95480" y="4343400"/>
            <a:ext cx="487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9:20:44Z</dcterms:created>
  <dc:creator>Russ Tedrake</dc:creator>
  <dc:description/>
  <dc:language>en-US</dc:language>
  <cp:lastModifiedBy>Russ Tedrake</cp:lastModifiedBy>
  <dcterms:modified xsi:type="dcterms:W3CDTF">2002-01-24T21:28:36Z</dcterms:modified>
  <cp:revision>91</cp:revision>
  <dc:subject/>
  <dc:title>Learning Control of Dynamically Stable Walking Robots</dc:title>
</cp:coreProperties>
</file>