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663-84E3-422C-AA97-D84226DE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F7C-EAE9-4099-90FF-BF5D797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491-4D5A-4A1F-964A-E5C22CE0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9A6-B5D7-472F-A639-62F3F93B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B3E-F4F7-4F3A-BAE4-DB39CA16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8BD1-7B2E-4F3C-96D2-4D4807F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F972-2908-474D-A489-A1B93A6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7D6-5966-4363-906F-EA72C2A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E4FF-2FF6-4884-B860-ADF6A4A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70F-5C9F-4A24-86B4-F4ED8BB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D2A-9612-4E92-BB57-265B9CC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94A-3B4B-4E1E-8922-0E93560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26A-F31F-4B5E-8AA8-847BFD06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0A1-27DF-46B4-B3A0-4ED7C1C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BA38-D7F2-44BB-858C-BF78292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F0C-8337-4937-A6B0-A59A8A16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1A8F-228B-4640-8559-2D335458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75-98EE-4EBE-8239-E642715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8C0-8E67-4170-A6DC-0460FE8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10D-3AE4-4DF5-BA94-A8FA4B82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D9F-3A94-4BFB-B7CC-3D17852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03F-57F4-43CA-BFFE-D7D509E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644-1D02-403E-949D-CD0965E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11D-26F9-4027-ABA0-C6A7C29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433-E002-4C83-8C7D-2EEB38CFA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356-4E0B-4F50-B8D4-21E26B195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371600"/>
          <a:ext cx="830592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83059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earning Revolution: Its Pow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ful forces are already changing practices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intent is to help people understand and amplify the changes that they are already particip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earning Revolution: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ts Limit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 Factors: Computational Tools, Conne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-cultural Factors: Peoples’ mindset about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itutional Factors: Forms of Sch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e aim 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mindsets that hold back the new forms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 examples that go against the paradig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 in discussion about the future of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framework of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ools that fuel the chang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not guarantee that good things will happen when we give every child a computer. But, the computers are required for good things to happen.” –Seymour Pap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are the kinds of tools that could facilitate radical changes in learning environment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akes it a powerful learning too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EGO Rob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oGo Bo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65088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gital Information via Radi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411360" cy="454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37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vironmental Sens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 sensors, GPS, RF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visu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thi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nomou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6:55:34Z</dcterms:created>
  <dc:creator>roger</dc:creator>
  <dc:description/>
  <dc:language>en-US</dc:language>
  <cp:lastModifiedBy>roger</cp:lastModifiedBy>
  <dcterms:modified xsi:type="dcterms:W3CDTF">2002-01-25T15:31:40Z</dcterms:modified>
  <cp:revision>14</cp:revision>
  <dc:subject/>
  <dc:title>PowerPoint Presentation</dc:title>
</cp:coreProperties>
</file>