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3BA77F-FD71-4103-8D3F-8F319E13E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condensing the next slides into this single slide, you know, just with arrows pointing to the different things.  Maybe an an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f0197"/>
              </a:gs>
              <a:gs pos="50000">
                <a:srgbClr val="81a0ed"/>
              </a:gs>
              <a:gs pos="100000">
                <a:srgbClr val="2f019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457200"/>
            <a:ext cx="7924680" cy="1143000"/>
          </a:xfrm>
          <a:prstGeom prst="rect">
            <a:avLst/>
          </a:prstGeom>
          <a:solidFill>
            <a:srgbClr val="f6f8e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914400" y="609480"/>
            <a:ext cx="146520" cy="906840"/>
            <a:chOff x="914400" y="609480"/>
            <a:chExt cx="146520" cy="906840"/>
          </a:xfrm>
        </p:grpSpPr>
        <p:sp>
          <p:nvSpPr>
            <p:cNvPr id="3" name=""/>
            <p:cNvSpPr/>
            <p:nvPr/>
          </p:nvSpPr>
          <p:spPr>
            <a:xfrm>
              <a:off x="914400" y="611280"/>
              <a:ext cx="144360" cy="905040"/>
            </a:xfrm>
            <a:prstGeom prst="rect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81a0ed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14400" y="609480"/>
              <a:ext cx="146520" cy="906840"/>
            </a:xfrm>
            <a:custGeom>
              <a:avLst/>
              <a:gdLst/>
              <a:ahLst/>
              <a:rect l="0" t="0" r="r" b="b"/>
              <a:pathLst>
                <a:path w="407" h="2519">
                  <a:moveTo>
                    <a:pt x="0" y="2519"/>
                  </a:moveTo>
                  <a:lnTo>
                    <a:pt x="407" y="2519"/>
                  </a:lnTo>
                  <a:lnTo>
                    <a:pt x="407" y="0"/>
                  </a:lnTo>
                  <a:lnTo>
                    <a:pt x="0" y="2519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81a0ed"/>
                </a:gs>
              </a:gsLst>
              <a:lin ang="5400000"/>
            </a:gra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14400" y="609480"/>
              <a:ext cx="146520" cy="906840"/>
            </a:xfrm>
            <a:custGeom>
              <a:avLst/>
              <a:gdLst/>
              <a:ahLst/>
              <a:rect l="0" t="0" r="r" b="b"/>
              <a:pathLst>
                <a:path w="407" h="2519">
                  <a:moveTo>
                    <a:pt x="0" y="2519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0" y="2519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81a0ed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f0197"/>
              </a:gs>
              <a:gs pos="50000">
                <a:srgbClr val="81a0ed"/>
              </a:gs>
              <a:gs pos="100000">
                <a:srgbClr val="2f019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000" y="1676520"/>
            <a:ext cx="8371080" cy="2211840"/>
          </a:xfrm>
          <a:custGeom>
            <a:avLst/>
            <a:gdLst/>
            <a:ahLst/>
            <a:rect l="0" t="0" r="r" b="b"/>
            <a:pathLst>
              <a:path fill="none" w="23253" h="6144">
                <a:moveTo>
                  <a:pt x="23253" y="0"/>
                </a:moveTo>
                <a:lnTo>
                  <a:pt x="0" y="0"/>
                </a:lnTo>
                <a:lnTo>
                  <a:pt x="0" y="6144"/>
                </a:lnTo>
              </a:path>
            </a:pathLst>
          </a:custGeom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720" y="1676520"/>
            <a:ext cx="8371080" cy="2211840"/>
          </a:xfrm>
          <a:custGeom>
            <a:avLst/>
            <a:gdLst/>
            <a:ahLst/>
            <a:rect l="0" t="0" r="r" b="b"/>
            <a:pathLst>
              <a:path fill="none" w="23253" h="6144">
                <a:moveTo>
                  <a:pt x="23253" y="0"/>
                </a:moveTo>
                <a:lnTo>
                  <a:pt x="23253" y="6144"/>
                </a:lnTo>
                <a:lnTo>
                  <a:pt x="0" y="614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0880" y="5943600"/>
            <a:ext cx="8384040" cy="154440"/>
            <a:chOff x="380880" y="5943600"/>
            <a:chExt cx="8384040" cy="154440"/>
          </a:xfrm>
        </p:grpSpPr>
        <p:sp>
          <p:nvSpPr>
            <p:cNvPr id="48" name=""/>
            <p:cNvSpPr/>
            <p:nvPr/>
          </p:nvSpPr>
          <p:spPr>
            <a:xfrm>
              <a:off x="380880" y="5943600"/>
              <a:ext cx="8381880" cy="152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5943600"/>
              <a:ext cx="8384040" cy="154440"/>
            </a:xfrm>
            <a:custGeom>
              <a:avLst/>
              <a:gdLst/>
              <a:ahLst/>
              <a:rect l="0" t="0" r="r" b="b"/>
              <a:pathLst>
                <a:path fill="none" w="23289" h="429">
                  <a:moveTo>
                    <a:pt x="23289" y="0"/>
                  </a:moveTo>
                  <a:lnTo>
                    <a:pt x="0" y="0"/>
                  </a:lnTo>
                  <a:lnTo>
                    <a:pt x="0" y="429"/>
                  </a:lnTo>
                </a:path>
              </a:pathLst>
            </a:custGeom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5943600"/>
              <a:ext cx="8384040" cy="154440"/>
            </a:xfrm>
            <a:custGeom>
              <a:avLst/>
              <a:gdLst/>
              <a:ahLst/>
              <a:rect l="0" t="0" r="r" b="b"/>
              <a:pathLst>
                <a:path fill="none" w="23289" h="429">
                  <a:moveTo>
                    <a:pt x="23289" y="0"/>
                  </a:moveTo>
                  <a:lnTo>
                    <a:pt x="23289" y="429"/>
                  </a:lnTo>
                  <a:lnTo>
                    <a:pt x="0" y="4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85920" y="1677960"/>
            <a:ext cx="8369280" cy="22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6400" y="1905120"/>
            <a:ext cx="154440" cy="1752840"/>
            <a:chOff x="536400" y="1905120"/>
            <a:chExt cx="154440" cy="1752840"/>
          </a:xfrm>
        </p:grpSpPr>
        <p:sp>
          <p:nvSpPr>
            <p:cNvPr id="53" name=""/>
            <p:cNvSpPr/>
            <p:nvPr/>
          </p:nvSpPr>
          <p:spPr>
            <a:xfrm>
              <a:off x="536400" y="1906560"/>
              <a:ext cx="152280" cy="17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6400" y="1905120"/>
              <a:ext cx="154440" cy="1752840"/>
            </a:xfrm>
            <a:custGeom>
              <a:avLst/>
              <a:gdLst/>
              <a:ahLst/>
              <a:rect l="0" t="0" r="r" b="b"/>
              <a:pathLst>
                <a:path fill="none" w="429" h="4869">
                  <a:moveTo>
                    <a:pt x="0" y="4869"/>
                  </a:moveTo>
                  <a:lnTo>
                    <a:pt x="429" y="4869"/>
                  </a:lnTo>
                  <a:lnTo>
                    <a:pt x="429" y="0"/>
                  </a:lnTo>
                </a:path>
              </a:pathLst>
            </a:custGeom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6400" y="1905120"/>
              <a:ext cx="154440" cy="1752840"/>
            </a:xfrm>
            <a:custGeom>
              <a:avLst/>
              <a:gdLst/>
              <a:ahLst/>
              <a:rect l="0" t="0" r="r" b="b"/>
              <a:pathLst>
                <a:path fill="none" w="429" h="4869">
                  <a:moveTo>
                    <a:pt x="0" y="4869"/>
                  </a:moveTo>
                  <a:lnTo>
                    <a:pt x="0" y="0"/>
                  </a:lnTo>
                  <a:lnTo>
                    <a:pt x="429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7080120" y="3956040"/>
            <a:ext cx="1380960" cy="695160"/>
            <a:chOff x="7080120" y="3956040"/>
            <a:chExt cx="1380960" cy="695160"/>
          </a:xfrm>
        </p:grpSpPr>
        <p:sp>
          <p:nvSpPr>
            <p:cNvPr id="99" name=""/>
            <p:cNvSpPr/>
            <p:nvPr/>
          </p:nvSpPr>
          <p:spPr>
            <a:xfrm>
              <a:off x="7080120" y="3956040"/>
              <a:ext cx="1380960" cy="69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7270920" y="4038480"/>
              <a:ext cx="117792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z.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080120" y="3956040"/>
            <a:ext cx="1380960" cy="695160"/>
            <a:chOff x="7080120" y="3956040"/>
            <a:chExt cx="1380960" cy="695160"/>
          </a:xfrm>
        </p:grpSpPr>
        <p:sp>
          <p:nvSpPr>
            <p:cNvPr id="102" name=""/>
            <p:cNvSpPr/>
            <p:nvPr/>
          </p:nvSpPr>
          <p:spPr>
            <a:xfrm>
              <a:off x="7080120" y="3956040"/>
              <a:ext cx="1380960" cy="69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7270920" y="4038480"/>
              <a:ext cx="117792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zz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 txBox="1"/>
          <p:nvPr/>
        </p:nvSpPr>
        <p:spPr>
          <a:xfrm>
            <a:off x="685800" y="4952880"/>
            <a:ext cx="7772400" cy="9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5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ed for information is predic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5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 of information unpredic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5200" y="2027160"/>
            <a:ext cx="2585880" cy="102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06720" y="2082960"/>
            <a:ext cx="23828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 me know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vent occu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38320" y="2281320"/>
            <a:ext cx="1685880" cy="1609560"/>
          </a:xfrm>
          <a:prstGeom prst="rect">
            <a:avLst/>
          </a:prstGeom>
          <a:solidFill>
            <a:srgbClr val="fed8c0"/>
          </a:solidFill>
          <a:ln w="12600">
            <a:solidFill>
              <a:srgbClr val="333333"/>
            </a:solidFill>
            <a:round/>
          </a:ln>
          <a:effectLst>
            <a:outerShdw dist="0" dir="0" blurRad="0" rotWithShape="0">
              <a:srgbClr val="736e5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cr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700680" y="2281320"/>
            <a:ext cx="1685880" cy="1609560"/>
          </a:xfrm>
          <a:prstGeom prst="rect">
            <a:avLst/>
          </a:prstGeom>
          <a:solidFill>
            <a:srgbClr val="fed8c0"/>
          </a:solidFill>
          <a:ln w="12600">
            <a:solidFill>
              <a:srgbClr val="333333"/>
            </a:solidFill>
            <a:round/>
          </a:ln>
          <a:effectLst>
            <a:outerShdw dist="0" dir="0" blurRad="0" rotWithShape="0">
              <a:srgbClr val="736e5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24200" y="3124080"/>
            <a:ext cx="388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40480" y="2666880"/>
            <a:ext cx="1065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080120" y="3956040"/>
            <a:ext cx="1380960" cy="695160"/>
            <a:chOff x="7080120" y="3956040"/>
            <a:chExt cx="1380960" cy="695160"/>
          </a:xfrm>
        </p:grpSpPr>
        <p:sp>
          <p:nvSpPr>
            <p:cNvPr id="112" name=""/>
            <p:cNvSpPr/>
            <p:nvPr/>
          </p:nvSpPr>
          <p:spPr>
            <a:xfrm>
              <a:off x="7080120" y="3956040"/>
              <a:ext cx="1380960" cy="69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7162920" y="4038480"/>
              <a:ext cx="117792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nt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957480" y="3652920"/>
            <a:ext cx="28843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059360" y="3708360"/>
            <a:ext cx="2681280" cy="8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vent occurred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0960" y="4114800"/>
            <a:ext cx="10620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080120" y="3956040"/>
            <a:ext cx="1380960" cy="695160"/>
            <a:chOff x="7080120" y="3956040"/>
            <a:chExt cx="1380960" cy="695160"/>
          </a:xfrm>
        </p:grpSpPr>
        <p:sp>
          <p:nvSpPr>
            <p:cNvPr id="118" name=""/>
            <p:cNvSpPr/>
            <p:nvPr/>
          </p:nvSpPr>
          <p:spPr>
            <a:xfrm>
              <a:off x="7080120" y="3956040"/>
              <a:ext cx="1380960" cy="69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7270920" y="4038480"/>
              <a:ext cx="117792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zzz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 txBox="1"/>
          <p:nvPr/>
        </p:nvSpPr>
        <p:spPr>
          <a:xfrm>
            <a:off x="990720" y="533520"/>
            <a:ext cx="746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vent-No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0720" y="533520"/>
            <a:ext cx="746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vent-notification is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5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50000"/>
              <a:buFont typeface="Monotype Sorts"/>
              <a:buChar char=""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It’s not polling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75000"/>
              <a:buFont typeface="CP1252"/>
              <a:buChar char=""/>
            </a:pPr>
            <a:r>
              <a:rPr b="0" lang="en-US" sz="5400" spc="-1" strike="noStrike">
                <a:solidFill>
                  <a:srgbClr val="e5fcd0"/>
                </a:solidFill>
                <a:latin typeface="Arial"/>
                <a:ea typeface="Arial"/>
              </a:rPr>
              <a:t>Limited accurac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75000"/>
              <a:buFont typeface="CP1252"/>
              <a:buChar char=""/>
            </a:pPr>
            <a:r>
              <a:rPr b="0" lang="en-US" sz="5400" spc="-1" strike="noStrike">
                <a:solidFill>
                  <a:srgbClr val="e5fcd0"/>
                </a:solidFill>
                <a:latin typeface="Arial"/>
                <a:ea typeface="Arial"/>
              </a:rPr>
              <a:t>Wastes resou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0720" y="533520"/>
            <a:ext cx="746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ssib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134040" cy="410220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304920" y="1752480"/>
            <a:ext cx="8839080" cy="4816440"/>
            <a:chOff x="304920" y="1752480"/>
            <a:chExt cx="8839080" cy="481644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705720" y="1981080"/>
              <a:ext cx="17906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3733920" y="4191120"/>
              <a:ext cx="1295280" cy="18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7772400" y="3886200"/>
              <a:ext cx="91908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990720" y="4267080"/>
              <a:ext cx="1562040" cy="13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>
              <a:off x="5410080" y="4191120"/>
              <a:ext cx="148608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7"/>
            <a:stretch/>
          </p:blipFill>
          <p:spPr>
            <a:xfrm>
              <a:off x="3962520" y="1752480"/>
              <a:ext cx="156204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 txBox="1"/>
            <p:nvPr/>
          </p:nvSpPr>
          <p:spPr>
            <a:xfrm>
              <a:off x="304920" y="3505320"/>
              <a:ext cx="2933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ck marke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3505320" y="3505320"/>
              <a:ext cx="2341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mon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5969160" y="3124080"/>
              <a:ext cx="31748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e/bus/train schedu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533520" y="5638680"/>
              <a:ext cx="22590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e lo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c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3124080" y="6172200"/>
              <a:ext cx="2341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ruder det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5410080" y="5638680"/>
              <a:ext cx="1593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s aler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7124760" y="5486400"/>
              <a:ext cx="20192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sen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8"/>
            <a:stretch/>
          </p:blipFill>
          <p:spPr>
            <a:xfrm>
              <a:off x="990720" y="1828800"/>
              <a:ext cx="1550880" cy="163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 txBox="1"/>
          <p:nvPr/>
        </p:nvSpPr>
        <p:spPr>
          <a:xfrm>
            <a:off x="-3809880" y="1251000"/>
            <a:ext cx="4729320" cy="2536920"/>
          </a:xfrm>
          <a:prstGeom prst="rect">
            <a:avLst/>
          </a:prstGeom>
          <a:solidFill>
            <a:srgbClr val="fcfdc6"/>
          </a:soli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TE Internetworkin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rst list the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n say, “vastly different needs”. 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ve some examples.  Remember to 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 sca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iability and Ordering, Message size, Priv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equency,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08160" y="3492360"/>
            <a:ext cx="5289480" cy="666720"/>
          </a:xfrm>
          <a:prstGeom prst="rect">
            <a:avLst/>
          </a:prstGeom>
          <a:solidFill>
            <a:srgbClr val="fed8c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12920" y="3551400"/>
            <a:ext cx="50799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Possibly a Big Thing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90720" y="533520"/>
            <a:ext cx="746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tent-based Event-no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5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5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e5fcd0"/>
                </a:solidFill>
                <a:latin typeface="Arial"/>
                <a:ea typeface="Arial"/>
              </a:rPr>
              <a:t>Scales with number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e5fcd0"/>
                </a:solidFill>
                <a:latin typeface="Arial"/>
                <a:ea typeface="Arial"/>
              </a:rPr>
              <a:t>Scales with number of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5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e5fcd0"/>
                </a:solidFill>
                <a:latin typeface="Arial"/>
                <a:ea typeface="Arial"/>
              </a:rPr>
              <a:t>Routers have to weed through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e5fcd0"/>
                </a:solidFill>
                <a:latin typeface="Arial"/>
                <a:ea typeface="Arial"/>
              </a:rPr>
              <a:t>searching f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e5fcd0"/>
                </a:solidFill>
                <a:latin typeface="Arial"/>
                <a:ea typeface="Arial"/>
              </a:rPr>
              <a:t>Too complicated, wrong level of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533520"/>
            <a:ext cx="7467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212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5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send so much information to rou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5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a simple, encoding format for matching subscriptions and notif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5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uters route information based on encoding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27c5e"/>
              </a:buClr>
              <a:buSzPct val="5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allenge: Create smallest possible encoding for broadest range of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645240" y="4921200"/>
            <a:ext cx="2498760" cy="1681200"/>
          </a:xfrm>
          <a:prstGeom prst="rect">
            <a:avLst/>
          </a:prstGeom>
          <a:solidFill>
            <a:srgbClr val="fcfdc6"/>
          </a:soli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TE Internetworkin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is where you want to refer back to your earlier compilation example, talk about Turing test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</dc:creator>
  <dc:description/>
  <dc:language>en-US</dc:language>
  <cp:lastModifiedBy>GTE Internetworking.</cp:lastModifiedBy>
  <cp:revision>0</cp:revision>
  <dc:subject/>
  <dc:title>No Slide Title</dc:title>
</cp:coreProperties>
</file>