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C77-974F-4D63-B69C-5892FEFA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D95-EA4E-4F74-BA8A-7150BAF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0D4-5DB3-4065-AA60-E7EDC025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601-1686-45E3-B666-A592D45A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8B1-DA8A-49F2-900E-CF03062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599-B282-40BE-B251-C6B969F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B1E-7808-4B9F-88E3-8F0B376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A94-FAD2-4928-A8A8-2381432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8DE-555D-4931-8A00-494CB7D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D25-464F-46DA-A8FE-F1AE1B0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82C-032B-48AA-BAC6-904599D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B26-E03A-40C2-AE4B-AC1C1C2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8C7-C99B-46BA-8906-8F951538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MS Programmable Photonic Crys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ander D. Spr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ander H. Slocum, Advi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nic Crystal Possi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hotonic-crystal-slab-bend-exp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3175200" cy="2527560"/>
          </a:xfrm>
          <a:prstGeom prst="rect">
            <a:avLst/>
          </a:prstGeom>
          <a:ln w="0">
            <a:noFill/>
          </a:ln>
        </p:spPr>
      </p:pic>
      <p:pic>
        <p:nvPicPr>
          <p:cNvPr id="45" name="switch-concept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63920" cy="246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1109520"/>
            <a:ext cx="4927680" cy="100872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 can be guided around sharp (les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ners by defects in photonic crystals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 practi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.5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harp-bend-waveguide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1611360" cy="161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1337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809880"/>
            <a:ext cx="3524400" cy="161856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 few periods of the cryst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necessary for isolation, so 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possible to create 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witch with sma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able 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867280" y="274320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133720"/>
            <a:ext cx="45720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680" y="5867280"/>
            <a:ext cx="839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J.D. Joannopoulos, R.D. Meade, J.N. Win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ic Crysta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Princeton University Press, New York, 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Lin S-Y, Chow E, Johnson SG, Joannopoulos JD, “Demonstration of highly efficient waveguiding in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ic crystal slab at the 1.5-µm wavelength,”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cs Lett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ol. 25, no. 17, (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 &amp; Conce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ems-concept-3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365760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indiv-in-zero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189320" cy="2990880"/>
          </a:xfrm>
          <a:prstGeom prst="rect">
            <a:avLst/>
          </a:prstGeom>
          <a:ln w="0">
            <a:noFill/>
          </a:ln>
        </p:spPr>
      </p:pic>
      <p:pic>
        <p:nvPicPr>
          <p:cNvPr id="56" name="e.k06.b09.z.tm" descr=""/>
          <p:cNvPicPr/>
          <p:nvPr/>
        </p:nvPicPr>
        <p:blipFill>
          <a:blip r:embed="rId3"/>
          <a:stretch/>
        </p:blipFill>
        <p:spPr>
          <a:xfrm>
            <a:off x="6477120" y="2666880"/>
            <a:ext cx="1834920" cy="10224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5410080" y="1523880"/>
            <a:ext cx="838440" cy="838440"/>
            <a:chOff x="5410080" y="1523880"/>
            <a:chExt cx="838440" cy="838440"/>
          </a:xfrm>
        </p:grpSpPr>
        <p:sp>
          <p:nvSpPr>
            <p:cNvPr id="58" name=""/>
            <p:cNvSpPr/>
            <p:nvPr/>
          </p:nvSpPr>
          <p:spPr>
            <a:xfrm>
              <a:off x="5410080" y="1523880"/>
              <a:ext cx="79812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square-brillouin" descr=""/>
            <p:cNvPicPr/>
            <p:nvPr/>
          </p:nvPicPr>
          <p:blipFill>
            <a:blip r:embed="rId4"/>
            <a:stretch/>
          </p:blipFill>
          <p:spPr>
            <a:xfrm>
              <a:off x="5410080" y="1523880"/>
              <a:ext cx="838440" cy="8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47680" y="1905120"/>
            <a:ext cx="4056120" cy="131364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ppropriate defect, i.e. one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ulls” a band into the bandgap o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crystal, is created by shifting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of cylinders horizont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562720"/>
            <a:ext cx="4419720" cy="100872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witch is actuated through a bi-stable mechanism, so power is only consumed at state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5760" y="474804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is confined to the defec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10280" y="3733560"/>
            <a:ext cx="457200" cy="9903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19720" y="2057400"/>
            <a:ext cx="342900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2057400"/>
            <a:ext cx="75960" cy="30492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Results and Conce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343400" y="1752480"/>
            <a:ext cx="4037040" cy="2873520"/>
            <a:chOff x="4343400" y="1752480"/>
            <a:chExt cx="4037040" cy="2873520"/>
          </a:xfrm>
        </p:grpSpPr>
        <p:pic>
          <p:nvPicPr>
            <p:cNvPr id="68" name="network-out-plus" descr=""/>
            <p:cNvPicPr/>
            <p:nvPr/>
          </p:nvPicPr>
          <p:blipFill>
            <a:blip r:embed="rId1"/>
            <a:stretch/>
          </p:blipFill>
          <p:spPr>
            <a:xfrm>
              <a:off x="4343400" y="1752480"/>
              <a:ext cx="403704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network-out-plus" descr=""/>
            <p:cNvPicPr/>
            <p:nvPr/>
          </p:nvPicPr>
          <p:blipFill>
            <a:blip r:embed="rId2"/>
            <a:stretch/>
          </p:blipFill>
          <p:spPr>
            <a:xfrm>
              <a:off x="5029200" y="1752480"/>
              <a:ext cx="1390680" cy="11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162920" y="3429000"/>
              <a:ext cx="7621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tri-brillouin" descr=""/>
            <p:cNvPicPr/>
            <p:nvPr/>
          </p:nvPicPr>
          <p:blipFill>
            <a:blip r:embed="rId3"/>
            <a:stretch/>
          </p:blipFill>
          <p:spPr>
            <a:xfrm>
              <a:off x="7162920" y="3429000"/>
              <a:ext cx="76500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MEMS-concept-2" descr=""/>
          <p:cNvPicPr/>
          <p:nvPr/>
        </p:nvPicPr>
        <p:blipFill>
          <a:blip r:embed="rId4"/>
          <a:stretch/>
        </p:blipFill>
        <p:spPr>
          <a:xfrm>
            <a:off x="4648320" y="5334120"/>
            <a:ext cx="3429000" cy="1149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2200" y="3124080"/>
            <a:ext cx="3978360" cy="7038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defects can also be cre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dding material from out-of-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920" y="5486400"/>
            <a:ext cx="2676960" cy="7038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may lead to l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gant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5640" y="152388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gs” added fr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the cry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7524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 &amp;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ysicists perspective on the switch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experimental work has been done on “MEMS compatible” crystals and defects,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01:34:40Z</dcterms:created>
  <dc:creator>Alexander D. Sprunt</dc:creator>
  <dc:description/>
  <dc:language>en-US</dc:language>
  <cp:lastModifiedBy>asprunt</cp:lastModifiedBy>
  <dcterms:modified xsi:type="dcterms:W3CDTF">2002-01-25T01:27:38Z</dcterms:modified>
  <cp:revision>6</cp:revision>
  <dc:subject/>
  <dc:title>Possibilities</dc:title>
</cp:coreProperties>
</file>