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D0D-42DD-4882-8727-FB55F341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8D6-49EB-4639-84DF-97E84CB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A93-8582-43F8-BE72-926BA91A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ED1-6BFB-4FB0-8D64-CF0010FF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41B-B9F0-4F9E-8D23-6E5673F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3FD-B4FA-4C4C-AFAB-1F85612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51E-B34A-4028-B7D2-10544832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970-D7C9-4959-B4EE-935A5BA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4F6-5FDE-4573-A62C-6FCCE44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2B2-ED6B-4A76-A8D6-A7336D0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B05-69D8-4880-AE6F-9D917A4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545-BBDA-4D0F-8305-CE89FCE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E9D2-6E6D-4F2C-9176-FCC48D10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851120"/>
            <a:ext cx="43624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9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New Sensory Metho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Signal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fication From Recep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 in Seri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Conducting Metallopolymer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ew Sensors and Cataly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Self-Organizing System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quid Crystal and Molecular Recognition Directed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Times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New Molecular Architecture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Polymers Designed to Couple Volume                      or shape Changes and Chemical       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19720" y="2016000"/>
            <a:ext cx="3828960" cy="110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95720" y="3133800"/>
            <a:ext cx="2853000" cy="8287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730400" y="4341960"/>
            <a:ext cx="3804120" cy="1221120"/>
            <a:chOff x="4730400" y="4341960"/>
            <a:chExt cx="3804120" cy="122112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800600" y="4373640"/>
              <a:ext cx="253800" cy="10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984560" y="4510080"/>
              <a:ext cx="1449360" cy="144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18080" y="4616280"/>
              <a:ext cx="241200" cy="522000"/>
            </a:xfrm>
            <a:prstGeom prst="ellipse">
              <a:avLst/>
            </a:prstGeom>
            <a:solidFill>
              <a:srgbClr val="00cc99"/>
            </a:solidFill>
            <a:ln w="101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72240" y="4597200"/>
              <a:ext cx="241200" cy="5238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17920" y="4827600"/>
              <a:ext cx="112680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0" y="0"/>
                  </a:moveTo>
                  <a:arcTo wR="10800" hR="10800" stAng="-5409600" swAng="53498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0" y="0"/>
                  </a:moveTo>
                  <a:arcTo wR="10800" hR="10800" stAng="-5409600" swAng="5349820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0520" y="5091120"/>
              <a:ext cx="247680" cy="90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9360" y="4829760"/>
              <a:ext cx="1127160" cy="16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612"/>
                  </a:moveTo>
                  <a:arcTo wR="10800" hR="10800" stAng="-59780" swAng="5459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612"/>
                  </a:moveTo>
                  <a:arcTo wR="10800" hR="10800" stAng="-59780" swAng="5459780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5960" y="4799160"/>
              <a:ext cx="90108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524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52481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2720" y="4811760"/>
              <a:ext cx="89820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35"/>
                  </a:moveTo>
                  <a:arcTo wR="10800" hR="10800" stAng="-10747519" swAng="5335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35"/>
                  </a:moveTo>
                  <a:arcTo wR="10800" hR="10800" stAng="-10747519" swAng="5335464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73680" y="4511520"/>
              <a:ext cx="1447920" cy="1458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7200" y="4629240"/>
              <a:ext cx="243000" cy="523440"/>
            </a:xfrm>
            <a:prstGeom prst="ellipse">
              <a:avLst/>
            </a:prstGeom>
            <a:solidFill>
              <a:srgbClr val="00cc99"/>
            </a:solidFill>
            <a:ln w="101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1360" y="4611600"/>
              <a:ext cx="242640" cy="522000"/>
            </a:xfrm>
            <a:prstGeom prst="ellipse">
              <a:avLst/>
            </a:prstGeom>
            <a:solidFill>
              <a:srgbClr val="000000"/>
            </a:solidFill>
            <a:ln w="1015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94440" y="4827600"/>
              <a:ext cx="112680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0" y="0"/>
                  </a:moveTo>
                  <a:arcTo wR="10800" hR="10800" stAng="-5409600" swAng="53498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0" y="0"/>
                  </a:moveTo>
                  <a:arcTo wR="10800" hR="10800" stAng="-5409600" swAng="5349820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91440" y="5103720"/>
              <a:ext cx="245880" cy="90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6240" y="4829760"/>
              <a:ext cx="1126440" cy="16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612"/>
                  </a:moveTo>
                  <a:arcTo wR="10800" hR="10800" stAng="-59780" swAng="5459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612"/>
                  </a:moveTo>
                  <a:arcTo wR="10800" hR="10800" stAng="-59780" swAng="5459780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16520" y="4808520"/>
              <a:ext cx="89532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524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52481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1840" y="4824360"/>
              <a:ext cx="901800" cy="1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35"/>
                  </a:moveTo>
                  <a:arcTo wR="10800" hR="10800" stAng="-10747519" swAng="5335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35"/>
                  </a:moveTo>
                  <a:arcTo wR="10800" hR="10800" stAng="-10747519" swAng="5335464"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30400" y="4581360"/>
              <a:ext cx="266760" cy="144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6413400" y="4582800"/>
              <a:ext cx="295200" cy="10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8070480" y="4583160"/>
              <a:ext cx="268200" cy="10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771800" y="4900680"/>
              <a:ext cx="268560" cy="1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8114760" y="4917960"/>
              <a:ext cx="266760" cy="1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438600" y="4911840"/>
              <a:ext cx="277560" cy="1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32280" y="4341960"/>
              <a:ext cx="0" cy="10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32280" y="4341960"/>
              <a:ext cx="101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9680" y="535140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254440" y="4341960"/>
              <a:ext cx="1800" cy="9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129160" y="4343400"/>
              <a:ext cx="1270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128080" y="5327640"/>
              <a:ext cx="1267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4040" y="5232240"/>
              <a:ext cx="33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3560" bIns="43560" anchor="t">
              <a:spAutoFit/>
            </a:bodyPr>
            <a:p>
              <a:pPr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84560" y="5119560"/>
              <a:ext cx="1449360" cy="1458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3680" y="5132160"/>
              <a:ext cx="1447920" cy="1458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730400" y="5194080"/>
              <a:ext cx="266760" cy="28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419520" y="5205240"/>
              <a:ext cx="268200" cy="144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070480" y="5216400"/>
              <a:ext cx="268200" cy="144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81280" y="5791320"/>
            <a:ext cx="5257800" cy="563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ugated Polymers as Conductors, Senso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lifiers, Actuators, and Catalysts</a:t>
            </a:r>
            <a:br>
              <a:rPr sz="28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ager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Strand Conducting Molecular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520" y="1951200"/>
            <a:ext cx="7937280" cy="2697120"/>
            <a:chOff x="533520" y="1951200"/>
            <a:chExt cx="7937280" cy="2697120"/>
          </a:xfrm>
        </p:grpSpPr>
        <p:sp>
          <p:nvSpPr>
            <p:cNvPr id="84" name=""/>
            <p:cNvSpPr/>
            <p:nvPr/>
          </p:nvSpPr>
          <p:spPr>
            <a:xfrm>
              <a:off x="533520" y="3170520"/>
              <a:ext cx="7937280" cy="404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60480" y="3144960"/>
              <a:ext cx="0" cy="10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77760" y="4241880"/>
              <a:ext cx="70358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3880080"/>
              <a:ext cx="1370160" cy="76824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36840" y="4051440"/>
              <a:ext cx="432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56400" y="1951200"/>
              <a:ext cx="914400" cy="121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08920" y="3159360"/>
              <a:ext cx="0" cy="10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520" y="1951200"/>
              <a:ext cx="914400" cy="121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7920" y="2514960"/>
              <a:ext cx="6095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33520" y="4876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ility of Functional Groups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 and Length 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 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ula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r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witch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36440" y="2238840"/>
            <a:ext cx="1920240" cy="486720"/>
            <a:chOff x="3736440" y="2238840"/>
            <a:chExt cx="1920240" cy="486720"/>
          </a:xfrm>
        </p:grpSpPr>
        <p:sp>
          <p:nvSpPr>
            <p:cNvPr id="96" name=""/>
            <p:cNvSpPr/>
            <p:nvPr/>
          </p:nvSpPr>
          <p:spPr>
            <a:xfrm rot="5254200">
              <a:off x="4493160" y="1529640"/>
              <a:ext cx="40644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53000" y="2454480"/>
              <a:ext cx="173160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084800">
            <a:off x="3776400" y="2165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4800">
            <a:off x="4185720" y="21384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084800">
            <a:off x="4595400" y="211284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084800">
            <a:off x="5005080" y="208584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4800">
            <a:off x="3997080" y="271764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4800">
            <a:off x="4404960" y="26924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4800">
            <a:off x="4887720" y="26892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4800">
            <a:off x="5297040" y="26622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1981080"/>
            <a:ext cx="914400" cy="304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27600" y="3905280"/>
            <a:ext cx="1919520" cy="481680"/>
            <a:chOff x="3027600" y="3905280"/>
            <a:chExt cx="1919520" cy="481680"/>
          </a:xfrm>
        </p:grpSpPr>
        <p:sp>
          <p:nvSpPr>
            <p:cNvPr id="108" name=""/>
            <p:cNvSpPr/>
            <p:nvPr/>
          </p:nvSpPr>
          <p:spPr>
            <a:xfrm rot="16336800">
              <a:off x="3783960" y="3193560"/>
              <a:ext cx="40644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199320" y="4109040"/>
              <a:ext cx="1732320" cy="66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12167400">
            <a:off x="4730400" y="43761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2167400">
            <a:off x="4321080" y="437004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2167400">
            <a:off x="3909600" y="43617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2167400">
            <a:off x="3499920" y="435600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2167400">
            <a:off x="4557600" y="380808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2167400">
            <a:off x="4146480" y="380016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167400">
            <a:off x="3666600" y="376380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2167400">
            <a:off x="3255840" y="37573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49960" y="1486800"/>
            <a:ext cx="561960" cy="1931760"/>
            <a:chOff x="5349960" y="1486800"/>
            <a:chExt cx="561960" cy="1931760"/>
          </a:xfrm>
        </p:grpSpPr>
        <p:sp>
          <p:nvSpPr>
            <p:cNvPr id="119" name=""/>
            <p:cNvSpPr/>
            <p:nvPr/>
          </p:nvSpPr>
          <p:spPr>
            <a:xfrm rot="11084400">
              <a:off x="5427720" y="1500120"/>
              <a:ext cx="40608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560560" y="1510560"/>
              <a:ext cx="140760" cy="172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6915000">
            <a:off x="5896800" y="15681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915000">
            <a:off x="5871600" y="19778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915000">
            <a:off x="5847840" y="238752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915000">
            <a:off x="5822280" y="27968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6915000">
            <a:off x="5320800" y="171756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6915000">
            <a:off x="5297400" y="2126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6915000">
            <a:off x="5240160" y="26064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6915000">
            <a:off x="5214240" y="301608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32680" y="3067200"/>
            <a:ext cx="1807920" cy="1398240"/>
            <a:chOff x="1732680" y="3067200"/>
            <a:chExt cx="1807920" cy="1398240"/>
          </a:xfrm>
        </p:grpSpPr>
        <p:sp>
          <p:nvSpPr>
            <p:cNvPr id="130" name=""/>
            <p:cNvSpPr/>
            <p:nvPr/>
          </p:nvSpPr>
          <p:spPr>
            <a:xfrm rot="14169000">
              <a:off x="2433240" y="2813760"/>
              <a:ext cx="40608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78560" y="3233880"/>
              <a:ext cx="1438200" cy="967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9999600">
            <a:off x="3404520" y="34542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9999600">
            <a:off x="3067920" y="36907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999600">
            <a:off x="2733120" y="39272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9999600">
            <a:off x="2396520" y="416232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9999600">
            <a:off x="2928240" y="3097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9999600">
            <a:off x="2591640" y="33336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9999600">
            <a:off x="2182320" y="358704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9999600">
            <a:off x="1847160" y="38239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7254000">
            <a:off x="3670200" y="1920600"/>
            <a:ext cx="406440" cy="1905120"/>
          </a:xfrm>
          <a:prstGeom prst="can">
            <a:avLst>
              <a:gd name="adj" fmla="val 1458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58920" y="2394360"/>
            <a:ext cx="1489320" cy="889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084000">
            <a:off x="3223800" y="21333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3084000">
            <a:off x="3581280" y="23364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084000">
            <a:off x="3938400" y="25380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3084000">
            <a:off x="4294080" y="27414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3084000">
            <a:off x="3105000" y="271584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3084000">
            <a:off x="3461760" y="29196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3084000">
            <a:off x="3865320" y="31809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3084000">
            <a:off x="4222440" y="33843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00600" y="2299680"/>
            <a:ext cx="1937520" cy="971280"/>
            <a:chOff x="5700600" y="2299680"/>
            <a:chExt cx="1937520" cy="971280"/>
          </a:xfrm>
        </p:grpSpPr>
        <p:sp>
          <p:nvSpPr>
            <p:cNvPr id="151" name=""/>
            <p:cNvSpPr/>
            <p:nvPr/>
          </p:nvSpPr>
          <p:spPr>
            <a:xfrm rot="4327200">
              <a:off x="6465960" y="1832760"/>
              <a:ext cx="406080" cy="190512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72240" y="2548440"/>
              <a:ext cx="1649160" cy="53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157800">
            <a:off x="5638680" y="270144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57800">
            <a:off x="6026040" y="25668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57800">
            <a:off x="6413400" y="24318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57800">
            <a:off x="6802560" y="22986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57800">
            <a:off x="5999040" y="317628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57800">
            <a:off x="6386400" y="304128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57800">
            <a:off x="6850080" y="290988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57800">
            <a:off x="7237440" y="2774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08680" y="3984840"/>
            <a:ext cx="1942200" cy="923040"/>
            <a:chOff x="1408680" y="3984840"/>
            <a:chExt cx="1942200" cy="923040"/>
          </a:xfrm>
        </p:grpSpPr>
        <p:sp>
          <p:nvSpPr>
            <p:cNvPr id="162" name=""/>
            <p:cNvSpPr/>
            <p:nvPr/>
          </p:nvSpPr>
          <p:spPr>
            <a:xfrm rot="17175600">
              <a:off x="2176560" y="3493800"/>
              <a:ext cx="40608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624320" y="4220280"/>
              <a:ext cx="1664640" cy="48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13006800">
            <a:off x="3025080" y="486684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3006800">
            <a:off x="2628720" y="476028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3006800">
            <a:off x="2231280" y="465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3006800">
            <a:off x="1836000" y="454932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3006800">
            <a:off x="2993760" y="42728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3006800">
            <a:off x="2597040" y="41670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3006800">
            <a:off x="2139840" y="401472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3006800">
            <a:off x="1742760" y="39078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813560" y="3161160"/>
            <a:ext cx="1604160" cy="1662480"/>
            <a:chOff x="4813560" y="3161160"/>
            <a:chExt cx="1604160" cy="1662480"/>
          </a:xfrm>
        </p:grpSpPr>
        <p:sp>
          <p:nvSpPr>
            <p:cNvPr id="173" name=""/>
            <p:cNvSpPr/>
            <p:nvPr/>
          </p:nvSpPr>
          <p:spPr>
            <a:xfrm rot="13405800">
              <a:off x="5412240" y="3039840"/>
              <a:ext cx="406080" cy="190476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069520" y="3300840"/>
              <a:ext cx="1189440" cy="126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rot="9235800">
            <a:off x="6310080" y="3500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9235800">
            <a:off x="6035040" y="38048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9235800">
            <a:off x="5760720" y="410832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9235800">
            <a:off x="5484240" y="441288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9235800">
            <a:off x="5766840" y="325728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9235800">
            <a:off x="5492160" y="3560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9235800">
            <a:off x="5148000" y="389880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9235800">
            <a:off x="4872960" y="42033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677560" y="4016520"/>
            <a:ext cx="1945800" cy="712080"/>
            <a:chOff x="5677560" y="4016520"/>
            <a:chExt cx="1945800" cy="712080"/>
          </a:xfrm>
        </p:grpSpPr>
        <p:sp>
          <p:nvSpPr>
            <p:cNvPr id="184" name=""/>
            <p:cNvSpPr/>
            <p:nvPr/>
          </p:nvSpPr>
          <p:spPr>
            <a:xfrm rot="16764000">
              <a:off x="6447240" y="3420000"/>
              <a:ext cx="406440" cy="190512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5873760" y="4238280"/>
              <a:ext cx="1710720" cy="280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12594600">
            <a:off x="7349760" y="47030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2594600">
            <a:off x="6943320" y="46443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2594600">
            <a:off x="6537240" y="458748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2594600">
            <a:off x="6130800" y="45288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2594600">
            <a:off x="7248240" y="41173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2594600">
            <a:off x="6841800" y="40586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2594600">
            <a:off x="6368760" y="39632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2594600">
            <a:off x="5962320" y="390456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886200" y="5715000"/>
            <a:ext cx="1295280" cy="692280"/>
            <a:chOff x="3886200" y="5715000"/>
            <a:chExt cx="1295280" cy="692280"/>
          </a:xfrm>
        </p:grpSpPr>
        <p:sp>
          <p:nvSpPr>
            <p:cNvPr id="195" name=""/>
            <p:cNvSpPr/>
            <p:nvPr/>
          </p:nvSpPr>
          <p:spPr>
            <a:xfrm>
              <a:off x="3886200" y="5715000"/>
              <a:ext cx="1295280" cy="69228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89040" y="5869440"/>
              <a:ext cx="432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90720" y="4952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6019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6019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981080"/>
            <a:ext cx="914400" cy="304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60800" y="2032920"/>
            <a:ext cx="1926720" cy="1047960"/>
            <a:chOff x="1360800" y="2032920"/>
            <a:chExt cx="1926720" cy="1047960"/>
          </a:xfrm>
        </p:grpSpPr>
        <p:sp>
          <p:nvSpPr>
            <p:cNvPr id="203" name=""/>
            <p:cNvSpPr/>
            <p:nvPr/>
          </p:nvSpPr>
          <p:spPr>
            <a:xfrm rot="4169400">
              <a:off x="2121120" y="1604160"/>
              <a:ext cx="406080" cy="1905120"/>
            </a:xfrm>
            <a:prstGeom prst="can">
              <a:avLst>
                <a:gd name="adj" fmla="val 14583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41800" y="2285640"/>
              <a:ext cx="162288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3623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2057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8195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2666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2514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998960"/>
            <a:ext cx="7937280" cy="405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443640" cy="2737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28800" y="4191120"/>
            <a:ext cx="6781680" cy="2284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7880" y="5181480"/>
            <a:ext cx="160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entral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s Iso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ree-Strand Conducting Polymetallorotax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Generation Polymetallorotax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881680" cy="3146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rot="19458600">
            <a:off x="3811680" y="4038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8184600">
            <a:off x="5029560" y="2969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2920" y="312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876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rger Stopper means Better In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gid Structure, no De-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667240" cy="1417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514600" cy="161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8331480" cy="4559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sis of Conductive Polymers within an Iptycene Scaf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360" y="583236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id iptycene framework will serve to insulate the poly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7:18:33Z</dcterms:created>
  <dc:creator>phoebe kwan</dc:creator>
  <dc:description/>
  <dc:language>en-US</dc:language>
  <cp:lastModifiedBy>John Paul Amara</cp:lastModifiedBy>
  <dcterms:modified xsi:type="dcterms:W3CDTF">2002-01-25T14:12:56Z</dcterms:modified>
  <cp:revision>27</cp:revision>
  <dc:subject/>
  <dc:title>PowerPoint Presentation</dc:title>
</cp:coreProperties>
</file>