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7037388" cy="872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A711-18EA-4D3B-B38E-C79C0F0D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0600" y="6858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0960" y="1447920"/>
            <a:ext cx="807696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0960" y="2164680"/>
            <a:ext cx="807696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1E9-B3CA-4C16-B36A-8D7759B6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0600" y="6858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0960" y="1447920"/>
            <a:ext cx="394128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9520" y="1447920"/>
            <a:ext cx="394128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0960" y="2164680"/>
            <a:ext cx="394128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9520" y="2164680"/>
            <a:ext cx="394128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069-C9ED-411C-A866-9767DB25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0600" y="6858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0960" y="1447920"/>
            <a:ext cx="260064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1920" y="1447920"/>
            <a:ext cx="260064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240" y="1447920"/>
            <a:ext cx="260064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0960" y="2164680"/>
            <a:ext cx="260064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1920" y="2164680"/>
            <a:ext cx="260064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240" y="2164680"/>
            <a:ext cx="260064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B91-8967-452C-A26D-0FFE2888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0600" y="6858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0960" y="14479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635-2D1A-4C84-BCEA-752BC84B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0600" y="6858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0960" y="14479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E22D-FC95-46D7-8B3A-8CABE541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0600" y="6858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0960" y="1447920"/>
            <a:ext cx="3941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9520" y="1447920"/>
            <a:ext cx="3941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9DA0-FCB6-40A1-AD9F-6E89EEE5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0600" y="6858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F66-706F-4A29-AD71-E8392F43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0600" y="68580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836-6C06-4001-A4DA-C033817A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0600" y="6858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0960" y="1447920"/>
            <a:ext cx="394128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9520" y="1447920"/>
            <a:ext cx="3941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0960" y="2164680"/>
            <a:ext cx="394128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885-9903-4363-81F2-983030F9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0600" y="6858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0960" y="1447920"/>
            <a:ext cx="3941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9520" y="1447920"/>
            <a:ext cx="394128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9520" y="2164680"/>
            <a:ext cx="394128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B69-F764-4DC0-AEFB-7F1319F4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0600" y="6858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0960" y="1447920"/>
            <a:ext cx="394128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9520" y="1447920"/>
            <a:ext cx="394128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0960" y="2164680"/>
            <a:ext cx="807696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20C-060B-468F-9633-F7BBB5E6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D273-5F69-4B20-A5AD-109A124931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50600" y="6858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Click to edit the title text format</a:t>
            </a: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50960" y="14479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indent="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390600" indent="-129960" algn="just">
              <a:lnSpc>
                <a:spcPct val="90000"/>
              </a:lnSpc>
              <a:spcBef>
                <a:spcPts val="675"/>
              </a:spcBef>
              <a:buClr>
                <a:srgbClr val="ff00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651240" indent="-12996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3" marL="911880" indent="-12996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172520" indent="-12996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5" marL="1172520" indent="-12996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6" marL="1172520" indent="-12996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http://www.nsf.gov/start.ht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00520" y="784080"/>
            <a:ext cx="372888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quanta</a:t>
            </a:r>
            <a:endParaRPr b="0" lang="en-US" sz="8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15680" y="3714480"/>
            <a:ext cx="4496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0">
              <a:lnSpc>
                <a:spcPct val="70000"/>
              </a:lnSpc>
              <a:spcBef>
                <a:spcPts val="1650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saac Chuang</a:t>
            </a:r>
            <a:endParaRPr b="1" lang="en-US" sz="4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440" y="533520"/>
            <a:ext cx="9588600" cy="5784840"/>
          </a:xfrm>
          <a:prstGeom prst="roundRect">
            <a:avLst>
              <a:gd name="adj" fmla="val 1234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360" y="4676760"/>
            <a:ext cx="878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ram Harrow, Andrew Houck, Steve Huang, Murali Kota, Geva Patz, Matthias Steffen, Andrew Childs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*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, Jeff Brock, Terri Y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165480" y="2089080"/>
            <a:ext cx="3197160" cy="1262160"/>
            <a:chOff x="3165480" y="2089080"/>
            <a:chExt cx="3197160" cy="1262160"/>
          </a:xfrm>
        </p:grpSpPr>
        <p:graphicFrame>
          <p:nvGraphicFramePr>
            <p:cNvPr id="46" name=""/>
            <p:cNvGraphicFramePr/>
            <p:nvPr/>
          </p:nvGraphicFramePr>
          <p:xfrm>
            <a:off x="3165480" y="2089080"/>
            <a:ext cx="3197160" cy="1262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65480" y="2089080"/>
                      <a:ext cx="3197160" cy="12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8" name=""/>
            <p:cNvGrpSpPr/>
            <p:nvPr/>
          </p:nvGrpSpPr>
          <p:grpSpPr>
            <a:xfrm>
              <a:off x="3499920" y="2242800"/>
              <a:ext cx="403560" cy="740880"/>
              <a:chOff x="3499920" y="2242800"/>
              <a:chExt cx="403560" cy="740880"/>
            </a:xfrm>
          </p:grpSpPr>
          <p:sp>
            <p:nvSpPr>
              <p:cNvPr id="49" name=""/>
              <p:cNvSpPr/>
              <p:nvPr/>
            </p:nvSpPr>
            <p:spPr>
              <a:xfrm>
                <a:off x="3652200" y="2511360"/>
                <a:ext cx="113760" cy="47232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586680" y="2242800"/>
                <a:ext cx="244800" cy="545040"/>
              </a:xfrm>
              <a:prstGeom prst="upArrow">
                <a:avLst>
                  <a:gd name="adj1" fmla="val 50000"/>
                  <a:gd name="adj2" fmla="val 111313"/>
                </a:avLst>
              </a:prstGeom>
              <a:solidFill>
                <a:srgbClr val="ff00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499920" y="2602440"/>
                <a:ext cx="403560" cy="307440"/>
              </a:xfrm>
              <a:prstGeom prst="ellipse">
                <a:avLst/>
              </a:prstGeom>
              <a:gradFill rotWithShape="0">
                <a:gsLst>
                  <a:gs pos="0">
                    <a:srgbClr val="00b1b1"/>
                  </a:gs>
                  <a:gs pos="100000">
                    <a:srgbClr val="00ffff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399280" y="2529720"/>
              <a:ext cx="401040" cy="739800"/>
              <a:chOff x="5399280" y="2529720"/>
              <a:chExt cx="401040" cy="739800"/>
            </a:xfrm>
          </p:grpSpPr>
          <p:sp>
            <p:nvSpPr>
              <p:cNvPr id="53" name=""/>
              <p:cNvSpPr/>
              <p:nvPr/>
            </p:nvSpPr>
            <p:spPr>
              <a:xfrm>
                <a:off x="5550120" y="2529720"/>
                <a:ext cx="114120" cy="47016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486040" y="2726640"/>
                <a:ext cx="243360" cy="542880"/>
              </a:xfrm>
              <a:prstGeom prst="downArrow">
                <a:avLst>
                  <a:gd name="adj1" fmla="val 50000"/>
                  <a:gd name="adj2" fmla="val 111548"/>
                </a:avLst>
              </a:prstGeom>
              <a:solidFill>
                <a:srgbClr val="ff00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399280" y="2602440"/>
                <a:ext cx="401040" cy="307440"/>
              </a:xfrm>
              <a:prstGeom prst="ellipse">
                <a:avLst/>
              </a:prstGeom>
              <a:gradFill rotWithShape="0">
                <a:gsLst>
                  <a:gs pos="0">
                    <a:srgbClr val="00b1b1"/>
                  </a:gs>
                  <a:gs pos="100000">
                    <a:srgbClr val="00ffff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"/>
          <p:cNvSpPr/>
          <p:nvPr/>
        </p:nvSpPr>
        <p:spPr>
          <a:xfrm>
            <a:off x="3026520" y="6103800"/>
            <a:ext cx="3475440" cy="366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IT Center for Bits and At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nsf" descr="NSF Home P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50760" y="5821200"/>
            <a:ext cx="986040" cy="986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601040" y="6062760"/>
            <a:ext cx="138888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8600" y="763560"/>
            <a:ext cx="94330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Fundamental Principles</a:t>
            </a:r>
            <a:endParaRPr b="0" lang="en-US" sz="6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93680" y="2340000"/>
            <a:ext cx="7902720" cy="3657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99"/>
              </a:gs>
              <a:gs pos="100000">
                <a:srgbClr val="000d2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0040" y="2689200"/>
            <a:ext cx="675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1.  Information has a physica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repres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0040" y="4417920"/>
            <a:ext cx="690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2.  The laws of physics gover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behavior of 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4840" y="219240"/>
            <a:ext cx="9410760" cy="99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Quantum Supercomputers?</a:t>
            </a:r>
            <a:endParaRPr b="0" lang="en-US" sz="5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505560" cy="4057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4320" t="2446" r="8641" b="5335"/>
          <a:stretch/>
        </p:blipFill>
        <p:spPr>
          <a:xfrm>
            <a:off x="7015320" y="1368360"/>
            <a:ext cx="2239920" cy="5132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79520" y="5742000"/>
            <a:ext cx="6348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EEE Computer: Jan 2002, p 7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7T07:40:38Z</dcterms:created>
  <dc:creator>.</dc:creator>
  <dc:description/>
  <dc:language>en-US</dc:language>
  <cp:lastModifiedBy>Isaac Chuang</cp:lastModifiedBy>
  <cp:lastPrinted>1999-11-22T09:49:28Z</cp:lastPrinted>
  <dcterms:modified xsi:type="dcterms:W3CDTF">2002-06-28T14:26:56Z</dcterms:modified>
  <cp:revision>121</cp:revision>
  <dc:subject/>
  <dc:title>Quantum Computation Theory, Practice, and Future Prospec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feynman.almaden.ibm.com/</vt:lpwstr>
  </property>
  <property fmtid="{D5CDD505-2E9C-101B-9397-08002B2CF9AE}" pid="9" name="LinkColor">
    <vt:r8>16711782</vt:r8>
  </property>
  <property fmtid="{D5CDD505-2E9C-101B-9397-08002B2CF9AE}" pid="10" name="MailAddress">
    <vt:lpwstr>ichuang@almaden.ibm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IBM-science-media-11nov98-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