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11.png" ContentType="image/png"/>
  <Override PartName="/ppt/media/image12.jpeg" ContentType="image/jpeg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4F2-5918-4F59-A922-0370A60D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5E5-D26D-4ECB-9D45-72DC21C4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441-7526-4ADC-ADB4-F242B2C7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BC5-F279-49CC-95FF-B25EF32D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E88-FBE4-41C7-ACFC-AE1412A1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52B-E41E-4A33-BCBC-E8975C40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E6C-DD09-43BE-9040-9A2B7F02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070-B659-45F3-9F38-4ADDBC06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A15-99E6-47C7-ACD1-856525A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069-8F03-4F1F-A6F6-75AE31D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84C-961E-427D-9634-96DA739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F48-D654-4DA2-B681-11AFE7B1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D2A4-A19A-4AA9-81D9-2C8FC4074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ucting Polyrotaxane: Synthesis and Potential Application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ebe K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ger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 Department of Chem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152880" y="3052800"/>
            <a:ext cx="2711160" cy="1518840"/>
            <a:chOff x="3152880" y="3052800"/>
            <a:chExt cx="2711160" cy="1518840"/>
          </a:xfrm>
        </p:grpSpPr>
        <p:sp>
          <p:nvSpPr>
            <p:cNvPr id="44" name=""/>
            <p:cNvSpPr/>
            <p:nvPr/>
          </p:nvSpPr>
          <p:spPr>
            <a:xfrm>
              <a:off x="3484440" y="3052800"/>
              <a:ext cx="2127240" cy="8506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82760" y="3303360"/>
              <a:ext cx="268128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4543560" y="3677760"/>
              <a:ext cx="210240" cy="627840"/>
              <a:chOff x="4543560" y="3677760"/>
              <a:chExt cx="210240" cy="6278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4584960" y="3712680"/>
                <a:ext cx="128520" cy="574920"/>
                <a:chOff x="4584960" y="3712680"/>
                <a:chExt cx="128520" cy="5749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84960" y="3712680"/>
                  <a:ext cx="1800" cy="57492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4618440" y="3712680"/>
                  <a:ext cx="1440" cy="57492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78560" y="3712680"/>
                  <a:ext cx="1800" cy="57492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4712040" y="3712680"/>
                  <a:ext cx="1440" cy="57492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4584960" y="3696120"/>
                <a:ext cx="1274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84960" y="4287960"/>
                <a:ext cx="12744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559760" y="4287960"/>
                <a:ext cx="194040" cy="17640"/>
                <a:chOff x="4559760" y="4287960"/>
                <a:chExt cx="194040" cy="176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560120" y="4304160"/>
                  <a:ext cx="193680" cy="144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>
                  <a:off x="4559760" y="4287960"/>
                  <a:ext cx="24840" cy="1620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712400" y="4287960"/>
                  <a:ext cx="41400" cy="1620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4543560" y="3677760"/>
                <a:ext cx="210240" cy="17640"/>
                <a:chOff x="4543560" y="3677760"/>
                <a:chExt cx="210240" cy="176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543560" y="3678120"/>
                  <a:ext cx="210240" cy="144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 flipV="1">
                  <a:off x="4559760" y="3677760"/>
                  <a:ext cx="24840" cy="1764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V="1">
                  <a:off x="4712400" y="3677760"/>
                  <a:ext cx="41400" cy="1764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" name=""/>
            <p:cNvGrpSpPr/>
            <p:nvPr/>
          </p:nvGrpSpPr>
          <p:grpSpPr>
            <a:xfrm>
              <a:off x="3637080" y="3713040"/>
              <a:ext cx="134280" cy="573840"/>
              <a:chOff x="3637080" y="3713040"/>
              <a:chExt cx="134280" cy="573840"/>
            </a:xfrm>
          </p:grpSpPr>
          <p:sp>
            <p:nvSpPr>
              <p:cNvPr id="63" name=""/>
              <p:cNvSpPr/>
              <p:nvPr/>
            </p:nvSpPr>
            <p:spPr>
              <a:xfrm>
                <a:off x="3637080" y="3713040"/>
                <a:ext cx="1440" cy="5738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78480" y="3713040"/>
                <a:ext cx="1440" cy="5738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736440" y="3713040"/>
                <a:ext cx="1800" cy="5738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69560" y="3713040"/>
                <a:ext cx="1800" cy="5738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637080" y="3695400"/>
              <a:ext cx="13320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37080" y="4287600"/>
              <a:ext cx="13320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603240" y="4287600"/>
              <a:ext cx="208080" cy="18360"/>
              <a:chOff x="3603240" y="4287600"/>
              <a:chExt cx="208080" cy="18360"/>
            </a:xfrm>
          </p:grpSpPr>
          <p:sp>
            <p:nvSpPr>
              <p:cNvPr id="70" name=""/>
              <p:cNvSpPr/>
              <p:nvPr/>
            </p:nvSpPr>
            <p:spPr>
              <a:xfrm>
                <a:off x="3603600" y="4304520"/>
                <a:ext cx="20772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3603240" y="4287600"/>
                <a:ext cx="33480" cy="16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769560" y="4287600"/>
                <a:ext cx="41760" cy="16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603600" y="3678120"/>
              <a:ext cx="18432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3603240" y="3677760"/>
              <a:ext cx="33480" cy="169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3787920" y="3677760"/>
              <a:ext cx="150480" cy="534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116240" y="3713040"/>
              <a:ext cx="152280" cy="573840"/>
              <a:chOff x="4116240" y="3713040"/>
              <a:chExt cx="152280" cy="573840"/>
            </a:xfrm>
          </p:grpSpPr>
          <p:sp>
            <p:nvSpPr>
              <p:cNvPr id="77" name=""/>
              <p:cNvSpPr/>
              <p:nvPr/>
            </p:nvSpPr>
            <p:spPr>
              <a:xfrm>
                <a:off x="4116240" y="3713040"/>
                <a:ext cx="1800" cy="5738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66640" y="3713040"/>
                <a:ext cx="1440" cy="5738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208400" y="3713040"/>
                <a:ext cx="1440" cy="5738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266720" y="3713040"/>
                <a:ext cx="1800" cy="5738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4116240" y="3695400"/>
              <a:ext cx="1508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16240" y="4287600"/>
              <a:ext cx="1508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088880" y="4287600"/>
              <a:ext cx="193680" cy="18360"/>
              <a:chOff x="4088880" y="4287600"/>
              <a:chExt cx="193680" cy="18360"/>
            </a:xfrm>
          </p:grpSpPr>
          <p:sp>
            <p:nvSpPr>
              <p:cNvPr id="84" name=""/>
              <p:cNvSpPr/>
              <p:nvPr/>
            </p:nvSpPr>
            <p:spPr>
              <a:xfrm>
                <a:off x="4089240" y="4304520"/>
                <a:ext cx="19332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4088880" y="4287600"/>
                <a:ext cx="26280" cy="16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66000" y="4287600"/>
                <a:ext cx="16560" cy="16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089240" y="3678120"/>
              <a:ext cx="19368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938400" y="3677760"/>
              <a:ext cx="150840" cy="534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67080" y="3677760"/>
              <a:ext cx="15840" cy="169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70280" y="3695400"/>
              <a:ext cx="152280" cy="550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963600" y="3695400"/>
              <a:ext cx="152280" cy="550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965840" y="3678120"/>
              <a:ext cx="680400" cy="627480"/>
              <a:chOff x="4965840" y="3678120"/>
              <a:chExt cx="680400" cy="6274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5225760" y="3712680"/>
                <a:ext cx="151560" cy="574920"/>
                <a:chOff x="5225760" y="3712680"/>
                <a:chExt cx="151560" cy="5749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225760" y="3712680"/>
                  <a:ext cx="1800" cy="57492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84080" y="3712680"/>
                  <a:ext cx="1440" cy="57492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317560" y="3712680"/>
                  <a:ext cx="1440" cy="57492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375520" y="3712680"/>
                  <a:ext cx="1800" cy="57492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4999320" y="3696120"/>
                <a:ext cx="61992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25760" y="4287960"/>
                <a:ext cx="15012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5209200" y="4287960"/>
                <a:ext cx="182880" cy="17640"/>
                <a:chOff x="5209200" y="4287960"/>
                <a:chExt cx="182880" cy="17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209200" y="4304160"/>
                  <a:ext cx="182880" cy="144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5209200" y="4287960"/>
                  <a:ext cx="16560" cy="1620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375520" y="4287960"/>
                  <a:ext cx="16560" cy="16200"/>
                </a:xfrm>
                <a:prstGeom prst="line">
                  <a:avLst/>
                </a:prstGeom>
                <a:ln w="7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4965840" y="3678120"/>
                <a:ext cx="678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5619240" y="3695760"/>
                <a:ext cx="24840" cy="327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4965840" y="3695760"/>
                <a:ext cx="33480" cy="327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65840" y="3678120"/>
                <a:ext cx="1800" cy="511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44440" y="3678120"/>
                <a:ext cx="1800" cy="511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433680" y="3385800"/>
              <a:ext cx="2211480" cy="274320"/>
            </a:xfrm>
            <a:custGeom>
              <a:avLst/>
              <a:gdLst/>
              <a:ahLst/>
              <a:rect l="l" t="t" r="r" b="b"/>
              <a:pathLst>
                <a:path w="1323" h="166">
                  <a:moveTo>
                    <a:pt x="1323" y="166"/>
                  </a:move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33680" y="3385800"/>
              <a:ext cx="2211480" cy="274320"/>
            </a:xfrm>
            <a:custGeom>
              <a:avLst/>
              <a:gdLst/>
              <a:ahLst/>
              <a:rect l="l" t="t" r="r" b="b"/>
              <a:pathLst>
                <a:path w="1323" h="166">
                  <a:moveTo>
                    <a:pt x="1323" y="166"/>
                  </a:moveTo>
                  <a:lnTo>
                    <a:pt x="1323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525840" y="3303360"/>
              <a:ext cx="1440" cy="64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5840" y="3303360"/>
              <a:ext cx="2044800" cy="64800"/>
            </a:xfrm>
            <a:custGeom>
              <a:avLst/>
              <a:gdLst/>
              <a:ahLst/>
              <a:rect l="l" t="t" r="r" b="b"/>
              <a:pathLst>
                <a:path w="1223" h="40">
                  <a:moveTo>
                    <a:pt x="1223" y="40"/>
                  </a:moveTo>
                  <a:lnTo>
                    <a:pt x="1223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51320" y="4321080"/>
              <a:ext cx="22111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433680" y="4403520"/>
              <a:ext cx="2244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92640" y="4471920"/>
              <a:ext cx="2303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376440" y="4554360"/>
              <a:ext cx="2360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62440" y="4321080"/>
              <a:ext cx="74880" cy="23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52880" y="38908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69880" y="3890880"/>
              <a:ext cx="14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97320" y="38908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08240" y="3890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49760" y="38908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64240" y="38908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376440" y="4321080"/>
              <a:ext cx="74880" cy="23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2560" y="4246560"/>
              <a:ext cx="4140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38400" y="4213080"/>
              <a:ext cx="1800" cy="1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cu_rotaxane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7619760" cy="47628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680" y="6583320"/>
            <a:ext cx="26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M3 Geometry Optimization by Spar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0" y="1047600"/>
          <a:ext cx="9144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76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64440" y="65833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ar 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cu_rotaxane_8mer_color" descr=""/>
          <p:cNvPicPr/>
          <p:nvPr/>
        </p:nvPicPr>
        <p:blipFill>
          <a:blip r:embed="rId1"/>
          <a:stretch/>
        </p:blipFill>
        <p:spPr>
          <a:xfrm>
            <a:off x="-304920" y="376200"/>
            <a:ext cx="9753840" cy="610560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-92160" y="6513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4440" y="65786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ar Mod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robust polymer thin films for electrochemical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electrical, chemical and magnetic properties of various metallorotax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polymers as sensory materials for a variety of analytes, such as nitric oxide and fluoride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nfigurable memory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17520"/>
            <a:ext cx="3581280" cy="5640480"/>
          </a:xfrm>
          <a:prstGeom prst="rect">
            <a:avLst/>
          </a:prstGeom>
          <a:solidFill>
            <a:srgbClr val="fffb0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1216080"/>
            <a:ext cx="5562720" cy="5641920"/>
          </a:xfrm>
          <a:prstGeom prst="rect">
            <a:avLst/>
          </a:prstGeom>
          <a:solidFill>
            <a:srgbClr val="02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084360"/>
            <a:ext cx="3581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Quade, Pullen, Swager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hem. Rev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00, 2537-25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ic Polymers a Gain Medium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21560" y="271944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2160" y="32558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17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Non-Linearity Responses(Amplification) From Transport Prope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71520" y="3651120"/>
            <a:ext cx="2296800" cy="2364120"/>
            <a:chOff x="371520" y="3651120"/>
            <a:chExt cx="2296800" cy="23641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708840" y="3651120"/>
              <a:ext cx="1959480" cy="22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6213800">
              <a:off x="184680" y="43470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g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91160" y="5646960"/>
              <a:ext cx="11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% Dop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94240" y="3112920"/>
            <a:ext cx="5549760" cy="1636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1306440"/>
            <a:ext cx="8839080" cy="1876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83160" y="585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3080" y="4865760"/>
            <a:ext cx="5401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nitial Repo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Zhou, Swager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Am. Chem. So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1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25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on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im, McQuade, McHugh, Swager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ngew. Chem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39, 386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wford, Goldfinger, Swager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Am. Chem. So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20, 51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N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Yang,  Swager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Am. Chem. So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20, 53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FRE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evitsky,  Kim, Swager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Am. Chem. So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2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Quade, Hegedus, Swager,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Am. Chem So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22, 123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6351480"/>
            <a:ext cx="531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ecent Works by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Heeger, Schanze, Whitten, McBranch, Baz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sielewski, Kimura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jayaghosh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i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32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ucting Transition Metal Hybrid Poly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84360"/>
            <a:ext cx="89726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1400" bIns="4140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 Use Transition Metal Hybrid Mater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ls Bind to Anions, Lewis Bases, and Ga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trocatalysis, Magnet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uxional Properties-Allosterism, Ac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0080" y="3641760"/>
            <a:ext cx="62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1800" y="2098800"/>
            <a:ext cx="705636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68120" y="2230560"/>
            <a:ext cx="8579160" cy="3484440"/>
            <a:chOff x="168120" y="2230560"/>
            <a:chExt cx="8579160" cy="3484440"/>
          </a:xfrm>
        </p:grpSpPr>
        <p:sp>
          <p:nvSpPr>
            <p:cNvPr id="148" name=""/>
            <p:cNvSpPr/>
            <p:nvPr/>
          </p:nvSpPr>
          <p:spPr>
            <a:xfrm flipH="1">
              <a:off x="1406160" y="4989600"/>
              <a:ext cx="4179960" cy="1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03280" y="4956120"/>
              <a:ext cx="4186440" cy="66600"/>
            </a:xfrm>
            <a:custGeom>
              <a:avLst/>
              <a:gdLst/>
              <a:ahLst/>
              <a:rect l="l" t="t" r="r" b="b"/>
              <a:pathLst>
                <a:path w="2637" h="42">
                  <a:moveTo>
                    <a:pt x="2637" y="0"/>
                  </a:moveTo>
                  <a:lnTo>
                    <a:pt x="2637" y="21"/>
                  </a:lnTo>
                  <a:lnTo>
                    <a:pt x="2637" y="4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26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594400" y="4989600"/>
              <a:ext cx="1704960" cy="1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9720" y="4956120"/>
              <a:ext cx="1712880" cy="66600"/>
            </a:xfrm>
            <a:custGeom>
              <a:avLst/>
              <a:gdLst/>
              <a:ahLst/>
              <a:rect l="l" t="t" r="r" b="b"/>
              <a:pathLst>
                <a:path w="1079" h="42">
                  <a:moveTo>
                    <a:pt x="1079" y="0"/>
                  </a:moveTo>
                  <a:lnTo>
                    <a:pt x="1079" y="42"/>
                  </a:lnTo>
                  <a:lnTo>
                    <a:pt x="0" y="42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7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657440" y="4583160"/>
              <a:ext cx="1022400" cy="406440"/>
              <a:chOff x="1657440" y="4583160"/>
              <a:chExt cx="1022400" cy="406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657440" y="4583160"/>
                <a:ext cx="1022400" cy="40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63560" y="4586400"/>
                <a:ext cx="997200" cy="39996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73280" y="4587840"/>
                <a:ext cx="965160" cy="3891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76520" y="4591080"/>
                <a:ext cx="941400" cy="37800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85880" y="4594320"/>
                <a:ext cx="909720" cy="3650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89120" y="4597560"/>
                <a:ext cx="885960" cy="35244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95600" y="4597560"/>
                <a:ext cx="853920" cy="34596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00280" y="4600440"/>
                <a:ext cx="831960" cy="33336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06400" y="4603680"/>
                <a:ext cx="800280" cy="32220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2880" y="4606920"/>
                <a:ext cx="77616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19360" y="4610160"/>
                <a:ext cx="744480" cy="2970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22600" y="4610160"/>
                <a:ext cx="720720" cy="2905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31960" y="4613400"/>
                <a:ext cx="689040" cy="2775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38440" y="4613400"/>
                <a:ext cx="65880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43120" y="4616640"/>
                <a:ext cx="635040" cy="2538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49600" y="4619520"/>
                <a:ext cx="604800" cy="24156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52480" y="4622760"/>
                <a:ext cx="579600" cy="2286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62200" y="4622760"/>
                <a:ext cx="549360" cy="2239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65440" y="4626000"/>
                <a:ext cx="523800" cy="21096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74800" y="4629240"/>
                <a:ext cx="493560" cy="1983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78040" y="4630680"/>
                <a:ext cx="468360" cy="1875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84520" y="4633920"/>
                <a:ext cx="43812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89200" y="4633920"/>
                <a:ext cx="414360" cy="16992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95320" y="4637160"/>
                <a:ext cx="384480" cy="15696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01800" y="4640400"/>
                <a:ext cx="358920" cy="14436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08280" y="4643640"/>
                <a:ext cx="32832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14400" y="4646520"/>
                <a:ext cx="297000" cy="11916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20880" y="4646520"/>
                <a:ext cx="272880" cy="11448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27360" y="4649760"/>
                <a:ext cx="241200" cy="10152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32040" y="4653000"/>
                <a:ext cx="218880" cy="889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38160" y="4656240"/>
                <a:ext cx="187560" cy="759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41400" y="4659480"/>
                <a:ext cx="16344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73280" y="4599000"/>
                <a:ext cx="990720" cy="3747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960640" y="4989600"/>
              <a:ext cx="1020960" cy="404640"/>
              <a:chOff x="2960640" y="4989600"/>
              <a:chExt cx="1020960" cy="404640"/>
            </a:xfrm>
          </p:grpSpPr>
          <p:sp>
            <p:nvSpPr>
              <p:cNvPr id="187" name=""/>
              <p:cNvSpPr/>
              <p:nvPr/>
            </p:nvSpPr>
            <p:spPr>
              <a:xfrm>
                <a:off x="2960640" y="4989600"/>
                <a:ext cx="1020960" cy="404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67120" y="4992840"/>
                <a:ext cx="996840" cy="39816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76480" y="4995720"/>
                <a:ext cx="965160" cy="38592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79720" y="4998960"/>
                <a:ext cx="941400" cy="37332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89440" y="5002200"/>
                <a:ext cx="909360" cy="36216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92320" y="5005440"/>
                <a:ext cx="885960" cy="34920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97360" y="5005440"/>
                <a:ext cx="855360" cy="34272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03480" y="5008680"/>
                <a:ext cx="831960" cy="33012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09960" y="5011920"/>
                <a:ext cx="799920" cy="31752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16080" y="5014800"/>
                <a:ext cx="776520" cy="30636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22560" y="5018040"/>
                <a:ext cx="744480" cy="29376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25800" y="5018040"/>
                <a:ext cx="720720" cy="2872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35160" y="5019840"/>
                <a:ext cx="689040" cy="27612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40200" y="5019840"/>
                <a:ext cx="660240" cy="26352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46320" y="5022720"/>
                <a:ext cx="635040" cy="25272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52800" y="5025960"/>
                <a:ext cx="604800" cy="23976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56040" y="5029200"/>
                <a:ext cx="579240" cy="2271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65400" y="5029200"/>
                <a:ext cx="549360" cy="22068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68640" y="5032440"/>
                <a:ext cx="523800" cy="20808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78000" y="5035680"/>
                <a:ext cx="493920" cy="19692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81240" y="5038920"/>
                <a:ext cx="468360" cy="1839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86280" y="5041800"/>
                <a:ext cx="439560" cy="17172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92400" y="5041800"/>
                <a:ext cx="414360" cy="16524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98880" y="5045040"/>
                <a:ext cx="384120" cy="15264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05000" y="5048280"/>
                <a:ext cx="358920" cy="14112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111480" y="5051520"/>
                <a:ext cx="328680" cy="12852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17960" y="5054760"/>
                <a:ext cx="296640" cy="11592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5054760"/>
                <a:ext cx="273240" cy="10944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30560" y="5057640"/>
                <a:ext cx="241200" cy="968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35240" y="5060880"/>
                <a:ext cx="219240" cy="8568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41720" y="5064120"/>
                <a:ext cx="187200" cy="763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144960" y="5065560"/>
                <a:ext cx="16344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76480" y="5005440"/>
                <a:ext cx="988920" cy="3729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135320" y="4554720"/>
              <a:ext cx="1020960" cy="411120"/>
              <a:chOff x="4135320" y="4554720"/>
              <a:chExt cx="1020960" cy="411120"/>
            </a:xfrm>
          </p:grpSpPr>
          <p:sp>
            <p:nvSpPr>
              <p:cNvPr id="221" name=""/>
              <p:cNvSpPr/>
              <p:nvPr/>
            </p:nvSpPr>
            <p:spPr>
              <a:xfrm>
                <a:off x="4135320" y="4554720"/>
                <a:ext cx="1020960" cy="41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41800" y="4554720"/>
                <a:ext cx="996840" cy="40464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48280" y="4557600"/>
                <a:ext cx="965160" cy="39240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54400" y="4560840"/>
                <a:ext cx="941400" cy="37944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59080" y="4564080"/>
                <a:ext cx="911520" cy="36828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62320" y="4567320"/>
                <a:ext cx="887400" cy="35568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72040" y="4567320"/>
                <a:ext cx="855720" cy="34920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75280" y="4570560"/>
                <a:ext cx="831600" cy="33660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84640" y="4573440"/>
                <a:ext cx="800280" cy="32400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91120" y="4576680"/>
                <a:ext cx="769680" cy="31284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94000" y="4579920"/>
                <a:ext cx="744840" cy="30024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03720" y="4583160"/>
                <a:ext cx="714240" cy="2872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05160" y="4583160"/>
                <a:ext cx="690840" cy="28080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14880" y="4586400"/>
                <a:ext cx="660240" cy="26820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18120" y="4587840"/>
                <a:ext cx="635040" cy="25884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24240" y="4591080"/>
                <a:ext cx="604800" cy="24588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33960" y="4594320"/>
                <a:ext cx="573120" cy="23328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37200" y="4597560"/>
                <a:ext cx="549000" cy="22068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46560" y="4597560"/>
                <a:ext cx="517680" cy="21420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49800" y="4600440"/>
                <a:ext cx="492120" cy="20340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54480" y="4603680"/>
                <a:ext cx="463680" cy="19044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260960" y="4606920"/>
                <a:ext cx="438120" cy="17784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67080" y="4606920"/>
                <a:ext cx="408240" cy="16524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3560" y="4610160"/>
                <a:ext cx="377640" cy="15228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280040" y="4610160"/>
                <a:ext cx="352440" cy="14760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86160" y="4613400"/>
                <a:ext cx="322200" cy="13500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92640" y="4616640"/>
                <a:ext cx="297000" cy="12204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97320" y="4619520"/>
                <a:ext cx="266760" cy="10980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00560" y="4622760"/>
                <a:ext cx="243000" cy="968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09920" y="4626000"/>
                <a:ext cx="211320" cy="8568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13160" y="4626000"/>
                <a:ext cx="187560" cy="7920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22880" y="4629240"/>
                <a:ext cx="158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51160" y="4570560"/>
                <a:ext cx="989280" cy="37944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281560" y="5014800"/>
              <a:ext cx="1025640" cy="406440"/>
              <a:chOff x="5281560" y="5014800"/>
              <a:chExt cx="1025640" cy="406440"/>
            </a:xfrm>
          </p:grpSpPr>
          <p:sp>
            <p:nvSpPr>
              <p:cNvPr id="255" name=""/>
              <p:cNvSpPr/>
              <p:nvPr/>
            </p:nvSpPr>
            <p:spPr>
              <a:xfrm>
                <a:off x="5281560" y="5014800"/>
                <a:ext cx="1025640" cy="40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88040" y="5014800"/>
                <a:ext cx="1000080" cy="40032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94160" y="5018040"/>
                <a:ext cx="970200" cy="3891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00640" y="5019840"/>
                <a:ext cx="944640" cy="37764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07120" y="5022720"/>
                <a:ext cx="912600" cy="36540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10360" y="5025960"/>
                <a:ext cx="888840" cy="35244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19720" y="5025960"/>
                <a:ext cx="857160" cy="34632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22960" y="5029200"/>
                <a:ext cx="833400" cy="33516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30880" y="5032440"/>
                <a:ext cx="803160" cy="32220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337000" y="5035680"/>
                <a:ext cx="77328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40240" y="5038920"/>
                <a:ext cx="747720" cy="29664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49960" y="5041800"/>
                <a:ext cx="717480" cy="28440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53200" y="5041800"/>
                <a:ext cx="691920" cy="2793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62560" y="5045040"/>
                <a:ext cx="66204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65800" y="5048280"/>
                <a:ext cx="636480" cy="25416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70480" y="5051520"/>
                <a:ext cx="608040" cy="24120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380200" y="5054760"/>
                <a:ext cx="576000" cy="2286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83080" y="5057640"/>
                <a:ext cx="552600" cy="21780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92800" y="5057640"/>
                <a:ext cx="520560" cy="21132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96040" y="5060880"/>
                <a:ext cx="496800" cy="1983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402160" y="5064120"/>
                <a:ext cx="465120" cy="1857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08640" y="5065560"/>
                <a:ext cx="441360" cy="17496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13320" y="5065560"/>
                <a:ext cx="411120" cy="16380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19800" y="5068800"/>
                <a:ext cx="380880" cy="15084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425920" y="5068800"/>
                <a:ext cx="355680" cy="14472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432400" y="5072040"/>
                <a:ext cx="32544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38880" y="5075280"/>
                <a:ext cx="299880" cy="11916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45000" y="5078520"/>
                <a:ext cx="270000" cy="10800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48240" y="5081760"/>
                <a:ext cx="244440" cy="950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57960" y="5084640"/>
                <a:ext cx="214200" cy="8280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59400" y="5084640"/>
                <a:ext cx="190440" cy="763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68760" y="5087880"/>
                <a:ext cx="16056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97400" y="5030640"/>
                <a:ext cx="993960" cy="3747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254640" y="4583160"/>
              <a:ext cx="1020960" cy="406440"/>
              <a:chOff x="6254640" y="4583160"/>
              <a:chExt cx="1020960" cy="406440"/>
            </a:xfrm>
          </p:grpSpPr>
          <p:sp>
            <p:nvSpPr>
              <p:cNvPr id="289" name=""/>
              <p:cNvSpPr/>
              <p:nvPr/>
            </p:nvSpPr>
            <p:spPr>
              <a:xfrm>
                <a:off x="6254640" y="4583160"/>
                <a:ext cx="1020960" cy="40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61120" y="4586400"/>
                <a:ext cx="995400" cy="39996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69040" y="4587840"/>
                <a:ext cx="966960" cy="3891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272280" y="4591080"/>
                <a:ext cx="941400" cy="37800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81640" y="4594320"/>
                <a:ext cx="911160" cy="3650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84880" y="4597560"/>
                <a:ext cx="885960" cy="35244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91360" y="4597560"/>
                <a:ext cx="855720" cy="34596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97480" y="4600440"/>
                <a:ext cx="830520" cy="33336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03960" y="4603680"/>
                <a:ext cx="800280" cy="32220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08640" y="4606920"/>
                <a:ext cx="77652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15120" y="4610160"/>
                <a:ext cx="745920" cy="2970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318360" y="4610160"/>
                <a:ext cx="720720" cy="2905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27720" y="4613400"/>
                <a:ext cx="690480" cy="2775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34200" y="4613400"/>
                <a:ext cx="65880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40320" y="4616640"/>
                <a:ext cx="635040" cy="2538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46800" y="4619520"/>
                <a:ext cx="603360" cy="24156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50040" y="4622760"/>
                <a:ext cx="579240" cy="2286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57960" y="4622760"/>
                <a:ext cx="549360" cy="2239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61200" y="4626000"/>
                <a:ext cx="525240" cy="21096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70560" y="4629240"/>
                <a:ext cx="493920" cy="1983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73800" y="4630680"/>
                <a:ext cx="469800" cy="1875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80280" y="4633920"/>
                <a:ext cx="43812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86400" y="4633920"/>
                <a:ext cx="414360" cy="16992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92880" y="4637160"/>
                <a:ext cx="382680" cy="15696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399360" y="4640400"/>
                <a:ext cx="357120" cy="14436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04040" y="4643640"/>
                <a:ext cx="32868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10160" y="4646520"/>
                <a:ext cx="298440" cy="11916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16640" y="4646520"/>
                <a:ext cx="273240" cy="11448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23120" y="4649760"/>
                <a:ext cx="242640" cy="10152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29240" y="4653000"/>
                <a:ext cx="217800" cy="889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35720" y="4656240"/>
                <a:ext cx="187200" cy="759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438960" y="4659480"/>
                <a:ext cx="16200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70480" y="4599000"/>
                <a:ext cx="989280" cy="3747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 flipH="1">
              <a:off x="1433520" y="4224240"/>
              <a:ext cx="4176720" cy="18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28840" y="4191120"/>
              <a:ext cx="4187880" cy="66600"/>
            </a:xfrm>
            <a:custGeom>
              <a:avLst/>
              <a:gdLst/>
              <a:ahLst/>
              <a:rect l="l" t="t" r="r" b="b"/>
              <a:pathLst>
                <a:path w="2638" h="42">
                  <a:moveTo>
                    <a:pt x="2638" y="0"/>
                  </a:moveTo>
                  <a:lnTo>
                    <a:pt x="2638" y="21"/>
                  </a:lnTo>
                  <a:lnTo>
                    <a:pt x="2638" y="4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2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619600" y="4224240"/>
              <a:ext cx="1704960" cy="18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16720" y="4191120"/>
              <a:ext cx="1714320" cy="66600"/>
            </a:xfrm>
            <a:custGeom>
              <a:avLst/>
              <a:gdLst/>
              <a:ahLst/>
              <a:rect l="l" t="t" r="r" b="b"/>
              <a:pathLst>
                <a:path w="1080" h="42">
                  <a:moveTo>
                    <a:pt x="1080" y="0"/>
                  </a:moveTo>
                  <a:lnTo>
                    <a:pt x="1080" y="42"/>
                  </a:lnTo>
                  <a:lnTo>
                    <a:pt x="0" y="42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1682640" y="3819600"/>
              <a:ext cx="1024200" cy="404640"/>
              <a:chOff x="1682640" y="3819600"/>
              <a:chExt cx="1024200" cy="404640"/>
            </a:xfrm>
          </p:grpSpPr>
          <p:sp>
            <p:nvSpPr>
              <p:cNvPr id="327" name=""/>
              <p:cNvSpPr/>
              <p:nvPr/>
            </p:nvSpPr>
            <p:spPr>
              <a:xfrm>
                <a:off x="1682640" y="3819600"/>
                <a:ext cx="1024200" cy="404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89120" y="3822840"/>
                <a:ext cx="998640" cy="39852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95600" y="3826080"/>
                <a:ext cx="968400" cy="3855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00280" y="3828960"/>
                <a:ext cx="944640" cy="37332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06400" y="3832200"/>
                <a:ext cx="914400" cy="36216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09640" y="3835440"/>
                <a:ext cx="889200" cy="34920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19360" y="3835440"/>
                <a:ext cx="858600" cy="34272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22600" y="3838680"/>
                <a:ext cx="833400" cy="33012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31960" y="3841920"/>
                <a:ext cx="803160" cy="31752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38440" y="3844800"/>
                <a:ext cx="771480" cy="30636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41320" y="3848040"/>
                <a:ext cx="747720" cy="29376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49600" y="3851280"/>
                <a:ext cx="717480" cy="28116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52480" y="3851280"/>
                <a:ext cx="693720" cy="27468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62200" y="3851280"/>
                <a:ext cx="662040" cy="26208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65440" y="3852720"/>
                <a:ext cx="637920" cy="25272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71560" y="3855960"/>
                <a:ext cx="606600" cy="23976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81280" y="3859200"/>
                <a:ext cx="576000" cy="2271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84520" y="3859200"/>
                <a:ext cx="550800" cy="22068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2440" y="3862440"/>
                <a:ext cx="522000" cy="20808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95320" y="3865680"/>
                <a:ext cx="497160" cy="19692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01800" y="3868920"/>
                <a:ext cx="466560" cy="1839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08280" y="3871800"/>
                <a:ext cx="441360" cy="17172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14400" y="3875040"/>
                <a:ext cx="411120" cy="15876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20880" y="3875040"/>
                <a:ext cx="379440" cy="15264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27360" y="3878280"/>
                <a:ext cx="355320" cy="14112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32040" y="3881520"/>
                <a:ext cx="325440" cy="12852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38160" y="3884760"/>
                <a:ext cx="301680" cy="11592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44640" y="3887640"/>
                <a:ext cx="270000" cy="10332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47880" y="3887640"/>
                <a:ext cx="245880" cy="968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57240" y="3890880"/>
                <a:ext cx="214560" cy="8568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60480" y="3894120"/>
                <a:ext cx="190440" cy="7308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70200" y="3895920"/>
                <a:ext cx="1587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698480" y="3835440"/>
                <a:ext cx="992160" cy="3729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986200" y="4224240"/>
              <a:ext cx="1023840" cy="406440"/>
              <a:chOff x="2986200" y="4224240"/>
              <a:chExt cx="1023840" cy="406440"/>
            </a:xfrm>
          </p:grpSpPr>
          <p:sp>
            <p:nvSpPr>
              <p:cNvPr id="361" name=""/>
              <p:cNvSpPr/>
              <p:nvPr/>
            </p:nvSpPr>
            <p:spPr>
              <a:xfrm>
                <a:off x="2986200" y="4224240"/>
                <a:ext cx="1023840" cy="40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92320" y="4227480"/>
                <a:ext cx="998640" cy="40176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97360" y="4230720"/>
                <a:ext cx="969840" cy="38880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03480" y="4233960"/>
                <a:ext cx="944640" cy="37620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09960" y="4237200"/>
                <a:ext cx="914400" cy="3632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13200" y="4240080"/>
                <a:ext cx="888840" cy="35100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22560" y="4240080"/>
                <a:ext cx="858960" cy="34632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25800" y="4241880"/>
                <a:ext cx="833400" cy="33480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035160" y="4245120"/>
                <a:ext cx="803520" cy="32220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0200" y="4248000"/>
                <a:ext cx="77292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3080" y="4251240"/>
                <a:ext cx="749520" cy="2970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52800" y="4254480"/>
                <a:ext cx="717480" cy="285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56040" y="4254480"/>
                <a:ext cx="693720" cy="2793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65400" y="4254480"/>
                <a:ext cx="66204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68640" y="4257720"/>
                <a:ext cx="638280" cy="25416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75120" y="4260960"/>
                <a:ext cx="606240" cy="24120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84480" y="4264200"/>
                <a:ext cx="576360" cy="23004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6280" y="4264200"/>
                <a:ext cx="552240" cy="22356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95640" y="4267080"/>
                <a:ext cx="522360" cy="21132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98880" y="4270320"/>
                <a:ext cx="496800" cy="1983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05000" y="4273560"/>
                <a:ext cx="466920" cy="1857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1480" y="4276800"/>
                <a:ext cx="44136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7960" y="4280040"/>
                <a:ext cx="411120" cy="16164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24080" y="4280040"/>
                <a:ext cx="379440" cy="15552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30560" y="4283280"/>
                <a:ext cx="355680" cy="14256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35240" y="4284720"/>
                <a:ext cx="32544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41720" y="4287960"/>
                <a:ext cx="301680" cy="12060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47840" y="4291200"/>
                <a:ext cx="270000" cy="10764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51080" y="4291200"/>
                <a:ext cx="246240" cy="10152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60800" y="4294080"/>
                <a:ext cx="214200" cy="889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64040" y="4297320"/>
                <a:ext cx="190440" cy="763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73400" y="4300560"/>
                <a:ext cx="1587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02040" y="4240080"/>
                <a:ext cx="992160" cy="3747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162320" y="3792600"/>
              <a:ext cx="1019160" cy="406440"/>
              <a:chOff x="4162320" y="3792600"/>
              <a:chExt cx="1019160" cy="406440"/>
            </a:xfrm>
          </p:grpSpPr>
          <p:sp>
            <p:nvSpPr>
              <p:cNvPr id="395" name=""/>
              <p:cNvSpPr/>
              <p:nvPr/>
            </p:nvSpPr>
            <p:spPr>
              <a:xfrm>
                <a:off x="4162320" y="3792600"/>
                <a:ext cx="1019160" cy="40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68800" y="3792600"/>
                <a:ext cx="993600" cy="40176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178160" y="3795840"/>
                <a:ext cx="963720" cy="38880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81400" y="3799080"/>
                <a:ext cx="938160" cy="37620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91120" y="3801960"/>
                <a:ext cx="907920" cy="36360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94000" y="3805200"/>
                <a:ext cx="882720" cy="35100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200480" y="3805200"/>
                <a:ext cx="852480" cy="34596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205160" y="3808440"/>
                <a:ext cx="828720" cy="33336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211640" y="3809880"/>
                <a:ext cx="798480" cy="32256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218120" y="3813120"/>
                <a:ext cx="77292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24240" y="3816360"/>
                <a:ext cx="741600" cy="2970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7480" y="3819600"/>
                <a:ext cx="717480" cy="285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7200" y="3819600"/>
                <a:ext cx="685800" cy="2793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43320" y="3822840"/>
                <a:ext cx="65556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49800" y="3826080"/>
                <a:ext cx="630000" cy="2538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54480" y="3828960"/>
                <a:ext cx="601560" cy="24156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57720" y="3832200"/>
                <a:ext cx="576360" cy="2304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67080" y="3835440"/>
                <a:ext cx="546120" cy="21744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270320" y="3835440"/>
                <a:ext cx="520920" cy="21096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80040" y="3838680"/>
                <a:ext cx="490320" cy="1983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82920" y="3841920"/>
                <a:ext cx="465120" cy="1857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89400" y="3844800"/>
                <a:ext cx="43488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294080" y="3844800"/>
                <a:ext cx="411120" cy="16200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00560" y="3848040"/>
                <a:ext cx="380880" cy="14940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07040" y="3848040"/>
                <a:ext cx="355320" cy="14292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13160" y="3851280"/>
                <a:ext cx="32544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319640" y="3852720"/>
                <a:ext cx="293760" cy="12096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25760" y="3855960"/>
                <a:ext cx="270000" cy="10800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32240" y="3859200"/>
                <a:ext cx="238320" cy="986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338720" y="3859200"/>
                <a:ext cx="214200" cy="9216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343400" y="3862440"/>
                <a:ext cx="184320" cy="7920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46640" y="3865680"/>
                <a:ext cx="160200" cy="68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178160" y="3808440"/>
                <a:ext cx="987480" cy="3747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310360" y="4248000"/>
              <a:ext cx="1020600" cy="411480"/>
              <a:chOff x="5310360" y="4248000"/>
              <a:chExt cx="1020600" cy="41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5310360" y="4248000"/>
                <a:ext cx="1020600" cy="411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316480" y="4248000"/>
                <a:ext cx="995400" cy="40500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324400" y="4251240"/>
                <a:ext cx="966960" cy="39240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327640" y="4254480"/>
                <a:ext cx="941400" cy="37944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37000" y="4257720"/>
                <a:ext cx="911520" cy="36828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40240" y="4260960"/>
                <a:ext cx="885960" cy="35568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46720" y="4260960"/>
                <a:ext cx="855720" cy="34920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53200" y="4264200"/>
                <a:ext cx="830160" cy="33624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9320" y="4267080"/>
                <a:ext cx="800280" cy="32400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365800" y="4270320"/>
                <a:ext cx="774720" cy="31284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370480" y="4273560"/>
                <a:ext cx="746280" cy="29988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373720" y="4276800"/>
                <a:ext cx="720720" cy="2872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383080" y="4276800"/>
                <a:ext cx="690840" cy="28080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389560" y="4280040"/>
                <a:ext cx="658800" cy="26820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96040" y="4283280"/>
                <a:ext cx="635040" cy="25704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402160" y="4284720"/>
                <a:ext cx="603360" cy="24588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05400" y="4287960"/>
                <a:ext cx="579600" cy="23328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13320" y="4291200"/>
                <a:ext cx="549360" cy="22068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16560" y="4291200"/>
                <a:ext cx="525600" cy="21420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25920" y="4294080"/>
                <a:ext cx="493920" cy="20340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29160" y="4297320"/>
                <a:ext cx="470160" cy="19044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35640" y="4300560"/>
                <a:ext cx="438120" cy="17784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42120" y="4300560"/>
                <a:ext cx="414000" cy="16524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448240" y="4303800"/>
                <a:ext cx="382680" cy="15408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54720" y="4303800"/>
                <a:ext cx="358560" cy="14760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459400" y="4307040"/>
                <a:ext cx="328680" cy="13464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65880" y="4309920"/>
                <a:ext cx="298440" cy="12240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72000" y="4313160"/>
                <a:ext cx="273240" cy="10980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478480" y="4316400"/>
                <a:ext cx="243000" cy="986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84960" y="4316400"/>
                <a:ext cx="217440" cy="9216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91080" y="4319640"/>
                <a:ext cx="187560" cy="7920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94320" y="4322880"/>
                <a:ext cx="16200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326200" y="4264200"/>
                <a:ext cx="988920" cy="37944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278400" y="3819600"/>
              <a:ext cx="1024200" cy="404640"/>
              <a:chOff x="6278400" y="3819600"/>
              <a:chExt cx="1024200" cy="404640"/>
            </a:xfrm>
          </p:grpSpPr>
          <p:sp>
            <p:nvSpPr>
              <p:cNvPr id="463" name=""/>
              <p:cNvSpPr/>
              <p:nvPr/>
            </p:nvSpPr>
            <p:spPr>
              <a:xfrm>
                <a:off x="6278400" y="3819600"/>
                <a:ext cx="1024200" cy="404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84880" y="3822840"/>
                <a:ext cx="1000080" cy="39852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291360" y="3826080"/>
                <a:ext cx="968400" cy="3855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97480" y="3828960"/>
                <a:ext cx="944640" cy="37332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303960" y="3832200"/>
                <a:ext cx="912960" cy="36216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07200" y="3835440"/>
                <a:ext cx="888840" cy="34920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15120" y="3835440"/>
                <a:ext cx="858960" cy="34272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18360" y="3838680"/>
                <a:ext cx="834840" cy="33012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27720" y="3841920"/>
                <a:ext cx="803160" cy="31752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34200" y="3844800"/>
                <a:ext cx="772920" cy="30636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337440" y="3848040"/>
                <a:ext cx="747720" cy="29376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46800" y="3851280"/>
                <a:ext cx="717480" cy="28116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50040" y="3851280"/>
                <a:ext cx="692280" cy="27468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57960" y="3851280"/>
                <a:ext cx="663480" cy="26208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61200" y="3852720"/>
                <a:ext cx="637920" cy="25272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67320" y="3855960"/>
                <a:ext cx="608040" cy="23976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77040" y="3859200"/>
                <a:ext cx="576360" cy="2271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80280" y="3859200"/>
                <a:ext cx="552240" cy="22068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89640" y="3862440"/>
                <a:ext cx="520920" cy="20808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92880" y="3865680"/>
                <a:ext cx="496800" cy="19692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99360" y="3868920"/>
                <a:ext cx="465120" cy="1839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404040" y="3871800"/>
                <a:ext cx="442800" cy="17172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410160" y="3875040"/>
                <a:ext cx="411480" cy="15876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416640" y="3875040"/>
                <a:ext cx="380880" cy="15264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23120" y="3878280"/>
                <a:ext cx="355680" cy="14112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29240" y="3881520"/>
                <a:ext cx="325440" cy="12852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435720" y="3884760"/>
                <a:ext cx="299880" cy="11592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42200" y="3887640"/>
                <a:ext cx="269640" cy="10332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443640" y="3887640"/>
                <a:ext cx="246240" cy="968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453360" y="3890880"/>
                <a:ext cx="214200" cy="8568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56240" y="3894120"/>
                <a:ext cx="190800" cy="7308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5960" y="3895920"/>
                <a:ext cx="1587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94600" y="3835440"/>
                <a:ext cx="992160" cy="3729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flipH="1">
              <a:off x="1459080" y="3486240"/>
              <a:ext cx="4178160" cy="1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52600" y="3452760"/>
              <a:ext cx="4187880" cy="69840"/>
            </a:xfrm>
            <a:custGeom>
              <a:avLst/>
              <a:gdLst/>
              <a:ahLst/>
              <a:rect l="l" t="t" r="r" b="b"/>
              <a:pathLst>
                <a:path w="2638" h="44">
                  <a:moveTo>
                    <a:pt x="2638" y="0"/>
                  </a:moveTo>
                  <a:lnTo>
                    <a:pt x="2638" y="21"/>
                  </a:lnTo>
                  <a:lnTo>
                    <a:pt x="2638" y="44"/>
                  </a:lnTo>
                  <a:lnTo>
                    <a:pt x="0" y="44"/>
                  </a:lnTo>
                  <a:lnTo>
                    <a:pt x="0" y="0"/>
                  </a:lnTo>
                  <a:lnTo>
                    <a:pt x="2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646600" y="3486240"/>
              <a:ext cx="1702080" cy="1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40480" y="3452760"/>
              <a:ext cx="1714320" cy="69840"/>
            </a:xfrm>
            <a:custGeom>
              <a:avLst/>
              <a:gdLst/>
              <a:ahLst/>
              <a:rect l="l" t="t" r="r" b="b"/>
              <a:pathLst>
                <a:path w="1080" h="44">
                  <a:moveTo>
                    <a:pt x="1080" y="0"/>
                  </a:moveTo>
                  <a:lnTo>
                    <a:pt x="1080" y="44"/>
                  </a:lnTo>
                  <a:lnTo>
                    <a:pt x="0" y="4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709640" y="3078360"/>
              <a:ext cx="1020960" cy="407880"/>
              <a:chOff x="1709640" y="3078360"/>
              <a:chExt cx="1020960" cy="407880"/>
            </a:xfrm>
          </p:grpSpPr>
          <p:sp>
            <p:nvSpPr>
              <p:cNvPr id="501" name=""/>
              <p:cNvSpPr/>
              <p:nvPr/>
            </p:nvSpPr>
            <p:spPr>
              <a:xfrm>
                <a:off x="1709640" y="3078360"/>
                <a:ext cx="1020960" cy="40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716120" y="3081240"/>
                <a:ext cx="996840" cy="40176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725480" y="3084480"/>
                <a:ext cx="965160" cy="3891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728720" y="3087720"/>
                <a:ext cx="941400" cy="37620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738440" y="3090960"/>
                <a:ext cx="909360" cy="3650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741320" y="3094200"/>
                <a:ext cx="885960" cy="35244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46360" y="3094200"/>
                <a:ext cx="855720" cy="34596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752480" y="3097080"/>
                <a:ext cx="831960" cy="33336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758960" y="3100320"/>
                <a:ext cx="799920" cy="32076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765440" y="3103560"/>
                <a:ext cx="77616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771560" y="3106800"/>
                <a:ext cx="744480" cy="2970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74800" y="3106800"/>
                <a:ext cx="720720" cy="2905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84520" y="3110040"/>
                <a:ext cx="688680" cy="2775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789200" y="3110040"/>
                <a:ext cx="66024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95320" y="3113280"/>
                <a:ext cx="635040" cy="2538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801800" y="3116160"/>
                <a:ext cx="604800" cy="24156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805040" y="3117960"/>
                <a:ext cx="579240" cy="23004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14400" y="3117960"/>
                <a:ext cx="549360" cy="2239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17640" y="3121200"/>
                <a:ext cx="523800" cy="21240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27360" y="3124080"/>
                <a:ext cx="493560" cy="2001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0240" y="3127320"/>
                <a:ext cx="468360" cy="1875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35280" y="3130560"/>
                <a:ext cx="43956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41400" y="3130560"/>
                <a:ext cx="414360" cy="16812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47880" y="3133800"/>
                <a:ext cx="384120" cy="15696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54360" y="3137040"/>
                <a:ext cx="358560" cy="14436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60480" y="3140280"/>
                <a:ext cx="32868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66960" y="3143160"/>
                <a:ext cx="296640" cy="11916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873080" y="3143160"/>
                <a:ext cx="271800" cy="11268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78120" y="3146400"/>
                <a:ext cx="242640" cy="10008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884240" y="3149640"/>
                <a:ext cx="217440" cy="889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890720" y="3152880"/>
                <a:ext cx="187200" cy="759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893960" y="3156120"/>
                <a:ext cx="16200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725480" y="3094200"/>
                <a:ext cx="989280" cy="37620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3013200" y="3486240"/>
              <a:ext cx="1020600" cy="409680"/>
              <a:chOff x="3013200" y="3486240"/>
              <a:chExt cx="1020600" cy="409680"/>
            </a:xfrm>
          </p:grpSpPr>
          <p:sp>
            <p:nvSpPr>
              <p:cNvPr id="535" name=""/>
              <p:cNvSpPr/>
              <p:nvPr/>
            </p:nvSpPr>
            <p:spPr>
              <a:xfrm>
                <a:off x="3013200" y="3486240"/>
                <a:ext cx="1020600" cy="409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019320" y="3486240"/>
                <a:ext cx="997200" cy="40464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029040" y="3489480"/>
                <a:ext cx="965160" cy="39204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032280" y="3492360"/>
                <a:ext cx="941400" cy="37944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040200" y="3495600"/>
                <a:ext cx="911160" cy="3668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43080" y="3498840"/>
                <a:ext cx="887400" cy="35388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49560" y="3498840"/>
                <a:ext cx="855720" cy="34920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56040" y="3502080"/>
                <a:ext cx="831600" cy="33660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062160" y="3505320"/>
                <a:ext cx="800280" cy="32364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068640" y="3506760"/>
                <a:ext cx="776160" cy="31284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075120" y="3510000"/>
                <a:ext cx="744480" cy="29988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78000" y="3513240"/>
                <a:ext cx="720720" cy="2887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086280" y="3513240"/>
                <a:ext cx="690480" cy="28260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092400" y="3516480"/>
                <a:ext cx="660600" cy="26964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098880" y="3519360"/>
                <a:ext cx="635040" cy="2574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05000" y="3522600"/>
                <a:ext cx="605160" cy="24444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08240" y="3525840"/>
                <a:ext cx="579600" cy="23328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7960" y="3529080"/>
                <a:ext cx="549000" cy="22068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21200" y="3529080"/>
                <a:ext cx="523800" cy="21420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30560" y="3532320"/>
                <a:ext cx="492120" cy="20160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32000" y="3535560"/>
                <a:ext cx="470160" cy="18864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38480" y="3538440"/>
                <a:ext cx="439920" cy="17784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44960" y="3538440"/>
                <a:ext cx="414360" cy="16524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151080" y="3541680"/>
                <a:ext cx="382680" cy="15228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57560" y="3541680"/>
                <a:ext cx="358920" cy="14616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64040" y="3544920"/>
                <a:ext cx="326880" cy="13500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70160" y="3548160"/>
                <a:ext cx="297000" cy="12204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74840" y="3549600"/>
                <a:ext cx="273240" cy="11124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81320" y="3552840"/>
                <a:ext cx="243000" cy="9828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87800" y="3552840"/>
                <a:ext cx="217440" cy="9216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193920" y="3556080"/>
                <a:ext cx="187560" cy="8100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97160" y="3559320"/>
                <a:ext cx="162000" cy="68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029040" y="3502080"/>
                <a:ext cx="988920" cy="37764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4187880" y="3054240"/>
              <a:ext cx="1017360" cy="408240"/>
              <a:chOff x="4187880" y="3054240"/>
              <a:chExt cx="1017360" cy="408240"/>
            </a:xfrm>
          </p:grpSpPr>
          <p:sp>
            <p:nvSpPr>
              <p:cNvPr id="569" name=""/>
              <p:cNvSpPr/>
              <p:nvPr/>
            </p:nvSpPr>
            <p:spPr>
              <a:xfrm>
                <a:off x="4187880" y="3054240"/>
                <a:ext cx="1017360" cy="408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94000" y="3057480"/>
                <a:ext cx="993960" cy="40176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203720" y="3060720"/>
                <a:ext cx="961920" cy="38880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05160" y="3063960"/>
                <a:ext cx="939960" cy="37620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214880" y="3067200"/>
                <a:ext cx="907920" cy="3632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18120" y="3070080"/>
                <a:ext cx="882360" cy="35100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24240" y="3070080"/>
                <a:ext cx="852480" cy="34632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30720" y="3073320"/>
                <a:ext cx="826920" cy="33336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37200" y="3075120"/>
                <a:ext cx="796680" cy="32220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43320" y="3078360"/>
                <a:ext cx="771480" cy="30924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49800" y="3081240"/>
                <a:ext cx="741240" cy="2970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251240" y="3081240"/>
                <a:ext cx="717480" cy="2923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260960" y="3084480"/>
                <a:ext cx="687240" cy="2793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267080" y="3084480"/>
                <a:ext cx="65592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273560" y="3087720"/>
                <a:ext cx="631800" cy="25416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280040" y="3090960"/>
                <a:ext cx="599760" cy="24264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82920" y="3094200"/>
                <a:ext cx="576360" cy="23004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92640" y="3094200"/>
                <a:ext cx="544320" cy="22356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94080" y="3097080"/>
                <a:ext cx="522360" cy="21132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303800" y="3100320"/>
                <a:ext cx="490320" cy="1983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307040" y="3103560"/>
                <a:ext cx="466560" cy="18720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13160" y="3106800"/>
                <a:ext cx="43488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19640" y="3106800"/>
                <a:ext cx="411120" cy="16812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325760" y="3110040"/>
                <a:ext cx="379440" cy="15552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32240" y="3113280"/>
                <a:ext cx="355680" cy="14256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38720" y="3116160"/>
                <a:ext cx="323640" cy="13032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43400" y="3117960"/>
                <a:ext cx="295200" cy="12060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49880" y="3117960"/>
                <a:ext cx="269640" cy="11412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356000" y="3121200"/>
                <a:ext cx="239760" cy="10152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124080"/>
                <a:ext cx="214200" cy="889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368960" y="3127320"/>
                <a:ext cx="183960" cy="763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371840" y="3130560"/>
                <a:ext cx="1587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03720" y="3070080"/>
                <a:ext cx="985680" cy="3765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334120" y="3513240"/>
              <a:ext cx="1020600" cy="407880"/>
              <a:chOff x="5334120" y="3513240"/>
              <a:chExt cx="1020600" cy="407880"/>
            </a:xfrm>
          </p:grpSpPr>
          <p:sp>
            <p:nvSpPr>
              <p:cNvPr id="603" name=""/>
              <p:cNvSpPr/>
              <p:nvPr/>
            </p:nvSpPr>
            <p:spPr>
              <a:xfrm>
                <a:off x="5334120" y="3513240"/>
                <a:ext cx="1020600" cy="40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340240" y="3516480"/>
                <a:ext cx="997200" cy="40140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349960" y="3519360"/>
                <a:ext cx="965160" cy="3891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53200" y="3522600"/>
                <a:ext cx="941400" cy="37620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62560" y="3525840"/>
                <a:ext cx="909720" cy="3650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5800" y="3529080"/>
                <a:ext cx="885600" cy="35244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370480" y="3529080"/>
                <a:ext cx="855720" cy="34596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376960" y="3532320"/>
                <a:ext cx="831600" cy="33336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383080" y="3535560"/>
                <a:ext cx="800280" cy="32040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89560" y="3538440"/>
                <a:ext cx="77616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96040" y="3541680"/>
                <a:ext cx="744480" cy="2970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398920" y="3541680"/>
                <a:ext cx="720720" cy="2905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08640" y="3544920"/>
                <a:ext cx="689040" cy="27792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13320" y="3544920"/>
                <a:ext cx="660600" cy="2649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19800" y="3548160"/>
                <a:ext cx="635040" cy="2538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25920" y="3549600"/>
                <a:ext cx="605160" cy="24300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29160" y="3552840"/>
                <a:ext cx="579600" cy="23004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38880" y="3552840"/>
                <a:ext cx="549000" cy="2239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42120" y="3556080"/>
                <a:ext cx="523800" cy="21096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51480" y="3559320"/>
                <a:ext cx="493560" cy="19980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54720" y="3562200"/>
                <a:ext cx="468360" cy="1875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459400" y="3565440"/>
                <a:ext cx="43992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465880" y="3565440"/>
                <a:ext cx="414360" cy="16848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72000" y="3568680"/>
                <a:ext cx="384120" cy="15552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78480" y="3571920"/>
                <a:ext cx="358920" cy="14436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84960" y="3575160"/>
                <a:ext cx="32832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91080" y="3578400"/>
                <a:ext cx="297000" cy="11880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497560" y="3578400"/>
                <a:ext cx="272880" cy="11268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04040" y="3581280"/>
                <a:ext cx="241200" cy="10008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08720" y="3584520"/>
                <a:ext cx="218880" cy="889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14840" y="3587760"/>
                <a:ext cx="187560" cy="763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18080" y="3591000"/>
                <a:ext cx="16344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349960" y="3529080"/>
                <a:ext cx="988920" cy="37620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307200" y="3078360"/>
              <a:ext cx="1020600" cy="407880"/>
              <a:chOff x="6307200" y="3078360"/>
              <a:chExt cx="1020600" cy="407880"/>
            </a:xfrm>
          </p:grpSpPr>
          <p:sp>
            <p:nvSpPr>
              <p:cNvPr id="637" name=""/>
              <p:cNvSpPr/>
              <p:nvPr/>
            </p:nvSpPr>
            <p:spPr>
              <a:xfrm>
                <a:off x="6307200" y="3078360"/>
                <a:ext cx="1020600" cy="407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311880" y="3081240"/>
                <a:ext cx="996840" cy="40176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21600" y="3084480"/>
                <a:ext cx="966600" cy="3891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324480" y="3087720"/>
                <a:ext cx="941400" cy="37620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334200" y="3090960"/>
                <a:ext cx="911160" cy="3650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37440" y="3094200"/>
                <a:ext cx="885600" cy="35244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343560" y="3094200"/>
                <a:ext cx="855720" cy="34596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50040" y="3097080"/>
                <a:ext cx="830160" cy="33336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54720" y="3100320"/>
                <a:ext cx="801720" cy="32076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61200" y="3103560"/>
                <a:ext cx="77616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67320" y="3106800"/>
                <a:ext cx="746280" cy="2970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370560" y="3106800"/>
                <a:ext cx="720720" cy="2905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80280" y="3110040"/>
                <a:ext cx="690480" cy="2775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86400" y="3110040"/>
                <a:ext cx="65880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92880" y="3113280"/>
                <a:ext cx="633240" cy="2538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99360" y="3116160"/>
                <a:ext cx="603000" cy="24156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00800" y="3117960"/>
                <a:ext cx="579600" cy="23004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410160" y="3117960"/>
                <a:ext cx="549360" cy="2239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413400" y="3121200"/>
                <a:ext cx="523800" cy="21240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423120" y="3124080"/>
                <a:ext cx="493560" cy="2001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26360" y="3127320"/>
                <a:ext cx="468000" cy="1875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32480" y="3130560"/>
                <a:ext cx="43812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38960" y="3130560"/>
                <a:ext cx="412560" cy="16812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43640" y="3133800"/>
                <a:ext cx="384120" cy="15696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50120" y="3137040"/>
                <a:ext cx="358560" cy="14436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56240" y="3140280"/>
                <a:ext cx="32868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62720" y="3143160"/>
                <a:ext cx="297000" cy="11916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469200" y="3143160"/>
                <a:ext cx="272880" cy="11268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75320" y="3146400"/>
                <a:ext cx="241560" cy="10008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481800" y="3149640"/>
                <a:ext cx="217440" cy="889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488280" y="3152880"/>
                <a:ext cx="185400" cy="759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89720" y="3156120"/>
                <a:ext cx="16344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323040" y="3094200"/>
                <a:ext cx="988920" cy="37620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H="1">
              <a:off x="1433520" y="2849760"/>
              <a:ext cx="4176720" cy="1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28840" y="2814840"/>
              <a:ext cx="4187880" cy="68040"/>
            </a:xfrm>
            <a:custGeom>
              <a:avLst/>
              <a:gdLst/>
              <a:ahLst/>
              <a:rect l="l" t="t" r="r" b="b"/>
              <a:pathLst>
                <a:path w="2638" h="43">
                  <a:moveTo>
                    <a:pt x="2638" y="0"/>
                  </a:moveTo>
                  <a:lnTo>
                    <a:pt x="2638" y="22"/>
                  </a:lnTo>
                  <a:lnTo>
                    <a:pt x="2638" y="43"/>
                  </a:lnTo>
                  <a:lnTo>
                    <a:pt x="0" y="43"/>
                  </a:lnTo>
                  <a:lnTo>
                    <a:pt x="0" y="0"/>
                  </a:lnTo>
                  <a:lnTo>
                    <a:pt x="2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5619600" y="2849760"/>
              <a:ext cx="1704960" cy="1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16720" y="2814840"/>
              <a:ext cx="1714320" cy="68040"/>
            </a:xfrm>
            <a:custGeom>
              <a:avLst/>
              <a:gdLst/>
              <a:ahLst/>
              <a:rect l="l" t="t" r="r" b="b"/>
              <a:pathLst>
                <a:path w="1080" h="43">
                  <a:moveTo>
                    <a:pt x="1080" y="0"/>
                  </a:moveTo>
                  <a:lnTo>
                    <a:pt x="1080" y="43"/>
                  </a:lnTo>
                  <a:lnTo>
                    <a:pt x="0" y="43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1682640" y="2444760"/>
              <a:ext cx="1024200" cy="405000"/>
              <a:chOff x="1682640" y="2444760"/>
              <a:chExt cx="1024200" cy="405000"/>
            </a:xfrm>
          </p:grpSpPr>
          <p:sp>
            <p:nvSpPr>
              <p:cNvPr id="675" name=""/>
              <p:cNvSpPr/>
              <p:nvPr/>
            </p:nvSpPr>
            <p:spPr>
              <a:xfrm>
                <a:off x="1682640" y="2444760"/>
                <a:ext cx="1024200" cy="40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89120" y="2448000"/>
                <a:ext cx="998640" cy="39852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695600" y="2451240"/>
                <a:ext cx="968400" cy="3855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700280" y="2454480"/>
                <a:ext cx="944640" cy="37296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706400" y="2457360"/>
                <a:ext cx="914400" cy="36036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709640" y="2460600"/>
                <a:ext cx="889200" cy="34920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719360" y="2460600"/>
                <a:ext cx="858600" cy="34308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722600" y="2463840"/>
                <a:ext cx="833400" cy="33012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31960" y="2467080"/>
                <a:ext cx="803160" cy="31752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38440" y="2468520"/>
                <a:ext cx="77148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41320" y="2471760"/>
                <a:ext cx="747720" cy="29844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749600" y="2475000"/>
                <a:ext cx="717480" cy="285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752480" y="2475000"/>
                <a:ext cx="693720" cy="2793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762200" y="2475000"/>
                <a:ext cx="66204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765440" y="2478240"/>
                <a:ext cx="637920" cy="2538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771560" y="2481120"/>
                <a:ext cx="606600" cy="24300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81280" y="2484360"/>
                <a:ext cx="576000" cy="2304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84520" y="2484360"/>
                <a:ext cx="550800" cy="2239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92440" y="2487600"/>
                <a:ext cx="522000" cy="21132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795320" y="2490840"/>
                <a:ext cx="497160" cy="1983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01800" y="2494080"/>
                <a:ext cx="466560" cy="18720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08280" y="2497320"/>
                <a:ext cx="44136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814400" y="2500200"/>
                <a:ext cx="411120" cy="16200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820880" y="2500200"/>
                <a:ext cx="379440" cy="15588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27360" y="2503440"/>
                <a:ext cx="355320" cy="14292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832040" y="2506680"/>
                <a:ext cx="32544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838160" y="2509920"/>
                <a:ext cx="301680" cy="11916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844640" y="2511360"/>
                <a:ext cx="270000" cy="10800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847880" y="2511360"/>
                <a:ext cx="245880" cy="10152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57240" y="2514600"/>
                <a:ext cx="214560" cy="889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60480" y="2517840"/>
                <a:ext cx="190440" cy="777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70200" y="2521080"/>
                <a:ext cx="1587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98480" y="2460600"/>
                <a:ext cx="992160" cy="3729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986200" y="2849760"/>
              <a:ext cx="1023840" cy="406080"/>
              <a:chOff x="2986200" y="2849760"/>
              <a:chExt cx="1023840" cy="406080"/>
            </a:xfrm>
          </p:grpSpPr>
          <p:sp>
            <p:nvSpPr>
              <p:cNvPr id="709" name=""/>
              <p:cNvSpPr/>
              <p:nvPr/>
            </p:nvSpPr>
            <p:spPr>
              <a:xfrm>
                <a:off x="2986200" y="2849760"/>
                <a:ext cx="1023840" cy="406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992320" y="2852640"/>
                <a:ext cx="998640" cy="40032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997360" y="2855880"/>
                <a:ext cx="969840" cy="3891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03480" y="2857680"/>
                <a:ext cx="944640" cy="37764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09960" y="2860560"/>
                <a:ext cx="914400" cy="36540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13200" y="2863800"/>
                <a:ext cx="888840" cy="35244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022560" y="2863800"/>
                <a:ext cx="858960" cy="34632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025800" y="2867040"/>
                <a:ext cx="833400" cy="33480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035160" y="2870280"/>
                <a:ext cx="803520" cy="32220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040200" y="2873520"/>
                <a:ext cx="77292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043080" y="2876400"/>
                <a:ext cx="749520" cy="2970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052800" y="2879640"/>
                <a:ext cx="717480" cy="28440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056040" y="2879640"/>
                <a:ext cx="693720" cy="2793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065400" y="2879640"/>
                <a:ext cx="66204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068640" y="2882880"/>
                <a:ext cx="638280" cy="25416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075120" y="2886120"/>
                <a:ext cx="606240" cy="24120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084480" y="2889360"/>
                <a:ext cx="576360" cy="2286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86280" y="2889360"/>
                <a:ext cx="552240" cy="2239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095640" y="2892600"/>
                <a:ext cx="522360" cy="21096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098880" y="2895480"/>
                <a:ext cx="496800" cy="19872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105000" y="2898720"/>
                <a:ext cx="466920" cy="18576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111480" y="2901960"/>
                <a:ext cx="441360" cy="17316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117960" y="2903400"/>
                <a:ext cx="411120" cy="16380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124080" y="2903400"/>
                <a:ext cx="379440" cy="15732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130560" y="2906640"/>
                <a:ext cx="355680" cy="14472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135240" y="2909880"/>
                <a:ext cx="32544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141720" y="2913120"/>
                <a:ext cx="301680" cy="11916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147840" y="2916360"/>
                <a:ext cx="270000" cy="10800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151080" y="2916360"/>
                <a:ext cx="246240" cy="10152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160800" y="2919600"/>
                <a:ext cx="214200" cy="8856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164040" y="2922480"/>
                <a:ext cx="190440" cy="763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173400" y="2925720"/>
                <a:ext cx="15876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02040" y="2865600"/>
                <a:ext cx="992160" cy="37440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4162320" y="2417760"/>
              <a:ext cx="1019160" cy="406440"/>
              <a:chOff x="4162320" y="2417760"/>
              <a:chExt cx="1019160" cy="406440"/>
            </a:xfrm>
          </p:grpSpPr>
          <p:sp>
            <p:nvSpPr>
              <p:cNvPr id="743" name=""/>
              <p:cNvSpPr/>
              <p:nvPr/>
            </p:nvSpPr>
            <p:spPr>
              <a:xfrm>
                <a:off x="4162320" y="2417760"/>
                <a:ext cx="1019160" cy="40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168800" y="2417760"/>
                <a:ext cx="993600" cy="39996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178160" y="2421000"/>
                <a:ext cx="963720" cy="38880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181400" y="2424240"/>
                <a:ext cx="938160" cy="37620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191120" y="2425680"/>
                <a:ext cx="907920" cy="3650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194000" y="2428920"/>
                <a:ext cx="882720" cy="35244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200480" y="2428920"/>
                <a:ext cx="852480" cy="34920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205160" y="2432160"/>
                <a:ext cx="828720" cy="33804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211640" y="2435400"/>
                <a:ext cx="798480" cy="32544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218120" y="2438280"/>
                <a:ext cx="772920" cy="31284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224240" y="2441520"/>
                <a:ext cx="741600" cy="30024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227480" y="2444760"/>
                <a:ext cx="717480" cy="2872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237200" y="2444760"/>
                <a:ext cx="685800" cy="28260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243320" y="2448000"/>
                <a:ext cx="655560" cy="27000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249800" y="2451240"/>
                <a:ext cx="630000" cy="25704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480" y="2454480"/>
                <a:ext cx="601560" cy="24444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257720" y="2457360"/>
                <a:ext cx="576360" cy="23184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267080" y="2460600"/>
                <a:ext cx="546120" cy="22068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270320" y="2460600"/>
                <a:ext cx="520920" cy="21420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280040" y="2463840"/>
                <a:ext cx="490320" cy="20160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282920" y="2467080"/>
                <a:ext cx="465120" cy="18900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289400" y="2468520"/>
                <a:ext cx="434880" cy="17784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94080" y="2468520"/>
                <a:ext cx="411120" cy="16668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00560" y="2471760"/>
                <a:ext cx="380880" cy="15408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07040" y="2471760"/>
                <a:ext cx="355320" cy="14760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313160" y="2475000"/>
                <a:ext cx="325440" cy="13500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19640" y="2478240"/>
                <a:ext cx="293760" cy="12204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25760" y="2481120"/>
                <a:ext cx="270000" cy="11124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332240" y="2484360"/>
                <a:ext cx="238320" cy="986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338720" y="2484360"/>
                <a:ext cx="214200" cy="9216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343400" y="2487600"/>
                <a:ext cx="184320" cy="795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46640" y="2490840"/>
                <a:ext cx="16020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178160" y="2433600"/>
                <a:ext cx="987480" cy="3747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5310360" y="2873520"/>
              <a:ext cx="1020600" cy="411120"/>
              <a:chOff x="5310360" y="2873520"/>
              <a:chExt cx="1020600" cy="411120"/>
            </a:xfrm>
          </p:grpSpPr>
          <p:sp>
            <p:nvSpPr>
              <p:cNvPr id="777" name=""/>
              <p:cNvSpPr/>
              <p:nvPr/>
            </p:nvSpPr>
            <p:spPr>
              <a:xfrm>
                <a:off x="5310360" y="2873520"/>
                <a:ext cx="1020600" cy="41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316480" y="2873520"/>
                <a:ext cx="995400" cy="40464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24400" y="2876400"/>
                <a:ext cx="966960" cy="39240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327640" y="2879640"/>
                <a:ext cx="941400" cy="37944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337000" y="2882880"/>
                <a:ext cx="911520" cy="36684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340240" y="2886120"/>
                <a:ext cx="885960" cy="35568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6720" y="2886120"/>
                <a:ext cx="855720" cy="34920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353200" y="2889360"/>
                <a:ext cx="830160" cy="33660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359320" y="2892600"/>
                <a:ext cx="800280" cy="32364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365800" y="2895480"/>
                <a:ext cx="774720" cy="3114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370480" y="2898720"/>
                <a:ext cx="746280" cy="30024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373720" y="2901960"/>
                <a:ext cx="720720" cy="2872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83080" y="2901960"/>
                <a:ext cx="690840" cy="2811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389560" y="2903400"/>
                <a:ext cx="658800" cy="27000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396040" y="2906640"/>
                <a:ext cx="635040" cy="2574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402160" y="2909880"/>
                <a:ext cx="603360" cy="24624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405400" y="2913120"/>
                <a:ext cx="579600" cy="23328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413320" y="2916360"/>
                <a:ext cx="549360" cy="22068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416560" y="2916360"/>
                <a:ext cx="525600" cy="21420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425920" y="2919600"/>
                <a:ext cx="493920" cy="20160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429160" y="2922480"/>
                <a:ext cx="470160" cy="19080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35640" y="2925720"/>
                <a:ext cx="438120" cy="17784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42120" y="2925720"/>
                <a:ext cx="414000" cy="16524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48240" y="2928960"/>
                <a:ext cx="382680" cy="15228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454720" y="2928960"/>
                <a:ext cx="358560" cy="14616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459400" y="2932200"/>
                <a:ext cx="328680" cy="13500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465880" y="2935440"/>
                <a:ext cx="298440" cy="12204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72000" y="2938320"/>
                <a:ext cx="273240" cy="10980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78480" y="2941560"/>
                <a:ext cx="243000" cy="968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84960" y="2941560"/>
                <a:ext cx="217440" cy="907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491080" y="2944800"/>
                <a:ext cx="187560" cy="795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494320" y="2946600"/>
                <a:ext cx="162000" cy="68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326200" y="2889360"/>
                <a:ext cx="988920" cy="37944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6278400" y="2444760"/>
              <a:ext cx="1024200" cy="405000"/>
              <a:chOff x="6278400" y="2444760"/>
              <a:chExt cx="1024200" cy="405000"/>
            </a:xfrm>
          </p:grpSpPr>
          <p:sp>
            <p:nvSpPr>
              <p:cNvPr id="811" name=""/>
              <p:cNvSpPr/>
              <p:nvPr/>
            </p:nvSpPr>
            <p:spPr>
              <a:xfrm>
                <a:off x="6278400" y="2444760"/>
                <a:ext cx="1024200" cy="40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284880" y="2448000"/>
                <a:ext cx="1000080" cy="398520"/>
              </a:xfrm>
              <a:prstGeom prst="ellipse">
                <a:avLst/>
              </a:pr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291360" y="2451240"/>
                <a:ext cx="968400" cy="385560"/>
              </a:xfrm>
              <a:prstGeom prst="ellipse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297480" y="2454480"/>
                <a:ext cx="944640" cy="372960"/>
              </a:xfrm>
              <a:prstGeom prst="ellipse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303960" y="2457360"/>
                <a:ext cx="912960" cy="360360"/>
              </a:xfrm>
              <a:prstGeom prst="ellips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307200" y="2460600"/>
                <a:ext cx="888840" cy="349200"/>
              </a:xfrm>
              <a:prstGeom prst="ellipse">
                <a:avLst/>
              </a:pr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315120" y="2460600"/>
                <a:ext cx="858960" cy="343080"/>
              </a:xfrm>
              <a:prstGeom prst="ellipse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18360" y="2463840"/>
                <a:ext cx="834840" cy="330120"/>
              </a:xfrm>
              <a:prstGeom prst="ellipse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27720" y="2467080"/>
                <a:ext cx="803160" cy="317520"/>
              </a:xfrm>
              <a:prstGeom prst="ellipse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334200" y="2468520"/>
                <a:ext cx="772920" cy="309600"/>
              </a:xfrm>
              <a:prstGeom prst="ellipse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37440" y="2471760"/>
                <a:ext cx="747720" cy="29844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346800" y="2475000"/>
                <a:ext cx="717480" cy="285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350040" y="2475000"/>
                <a:ext cx="692280" cy="2793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57960" y="2475000"/>
                <a:ext cx="663480" cy="266760"/>
              </a:xfrm>
              <a:prstGeom prst="ellips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61200" y="2478240"/>
                <a:ext cx="637920" cy="25380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67320" y="2481120"/>
                <a:ext cx="608040" cy="24300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377040" y="2484360"/>
                <a:ext cx="576360" cy="2304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380280" y="2484360"/>
                <a:ext cx="552240" cy="2239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389640" y="2487600"/>
                <a:ext cx="520920" cy="21132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392880" y="2490840"/>
                <a:ext cx="496800" cy="19836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399360" y="2494080"/>
                <a:ext cx="465120" cy="18720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404040" y="2497320"/>
                <a:ext cx="442800" cy="174600"/>
              </a:xfrm>
              <a:prstGeom prst="ellipse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10160" y="2500200"/>
                <a:ext cx="411480" cy="16200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6640" y="2500200"/>
                <a:ext cx="380880" cy="155880"/>
              </a:xfrm>
              <a:prstGeom prst="ellipse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3120" y="2503440"/>
                <a:ext cx="355680" cy="142920"/>
              </a:xfrm>
              <a:prstGeom prst="ellips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29240" y="2506680"/>
                <a:ext cx="325440" cy="1317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35720" y="2509920"/>
                <a:ext cx="299880" cy="11916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442200" y="2511360"/>
                <a:ext cx="269640" cy="10800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443640" y="2511360"/>
                <a:ext cx="246240" cy="10152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53360" y="2514600"/>
                <a:ext cx="214200" cy="8892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456240" y="2517840"/>
                <a:ext cx="190800" cy="777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65960" y="2521080"/>
                <a:ext cx="1587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94600" y="2460600"/>
                <a:ext cx="992160" cy="3729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5717520" y="35924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396600" y="43038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176040" y="2246040"/>
              <a:ext cx="1800" cy="887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68120" y="2230560"/>
              <a:ext cx="14400" cy="915840"/>
            </a:xfrm>
            <a:custGeom>
              <a:avLst/>
              <a:gdLst/>
              <a:ahLst/>
              <a:rect l="l" t="t" r="r" b="b"/>
              <a:pathLst>
                <a:path w="9" h="577">
                  <a:moveTo>
                    <a:pt x="9" y="567"/>
                  </a:moveTo>
                  <a:lnTo>
                    <a:pt x="5" y="571"/>
                  </a:lnTo>
                  <a:lnTo>
                    <a:pt x="0" y="577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2"/>
                  </a:lnTo>
                  <a:lnTo>
                    <a:pt x="9" y="5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78920" y="3137040"/>
              <a:ext cx="1073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68120" y="3130560"/>
              <a:ext cx="1097280" cy="15840"/>
            </a:xfrm>
            <a:custGeom>
              <a:avLst/>
              <a:gdLst/>
              <a:ahLst/>
              <a:rect l="l" t="t" r="r" b="b"/>
              <a:pathLst>
                <a:path w="691" h="10">
                  <a:moveTo>
                    <a:pt x="681" y="0"/>
                  </a:moveTo>
                  <a:lnTo>
                    <a:pt x="685" y="4"/>
                  </a:lnTo>
                  <a:lnTo>
                    <a:pt x="691" y="10"/>
                  </a:lnTo>
                  <a:lnTo>
                    <a:pt x="0" y="10"/>
                  </a:lnTo>
                  <a:lnTo>
                    <a:pt x="5" y="4"/>
                  </a:lnTo>
                  <a:lnTo>
                    <a:pt x="9" y="0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55680" y="2246400"/>
              <a:ext cx="1800" cy="887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49200" y="2230560"/>
              <a:ext cx="16200" cy="915840"/>
            </a:xfrm>
            <a:custGeom>
              <a:avLst/>
              <a:gdLst/>
              <a:ahLst/>
              <a:rect l="l" t="t" r="r" b="b"/>
              <a:pathLst>
                <a:path w="10" h="577">
                  <a:moveTo>
                    <a:pt x="0" y="12"/>
                  </a:moveTo>
                  <a:lnTo>
                    <a:pt x="4" y="6"/>
                  </a:lnTo>
                  <a:lnTo>
                    <a:pt x="10" y="0"/>
                  </a:lnTo>
                  <a:lnTo>
                    <a:pt x="10" y="577"/>
                  </a:lnTo>
                  <a:lnTo>
                    <a:pt x="4" y="571"/>
                  </a:lnTo>
                  <a:lnTo>
                    <a:pt x="0" y="56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9280" y="2239920"/>
              <a:ext cx="1073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8120" y="2230560"/>
              <a:ext cx="1097280" cy="19080"/>
            </a:xfrm>
            <a:custGeom>
              <a:avLst/>
              <a:gdLst/>
              <a:ahLst/>
              <a:rect l="l" t="t" r="r" b="b"/>
              <a:pathLst>
                <a:path w="691" h="12">
                  <a:moveTo>
                    <a:pt x="9" y="12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691" y="0"/>
                  </a:lnTo>
                  <a:lnTo>
                    <a:pt x="685" y="6"/>
                  </a:lnTo>
                  <a:lnTo>
                    <a:pt x="681" y="1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1157040" y="2568600"/>
              <a:ext cx="631800" cy="627840"/>
              <a:chOff x="1157040" y="2568600"/>
              <a:chExt cx="631800" cy="627840"/>
            </a:xfrm>
          </p:grpSpPr>
          <p:sp>
            <p:nvSpPr>
              <p:cNvPr id="855" name=""/>
              <p:cNvSpPr/>
              <p:nvPr/>
            </p:nvSpPr>
            <p:spPr>
              <a:xfrm>
                <a:off x="1620720" y="2616120"/>
                <a:ext cx="166680" cy="263520"/>
              </a:xfrm>
              <a:custGeom>
                <a:avLst/>
                <a:gdLst/>
                <a:ahLst/>
                <a:rect l="l" t="t" r="r" b="b"/>
                <a:pathLst>
                  <a:path w="105" h="166">
                    <a:moveTo>
                      <a:pt x="105" y="166"/>
                    </a:moveTo>
                    <a:lnTo>
                      <a:pt x="0" y="37"/>
                    </a:lnTo>
                    <a:lnTo>
                      <a:pt x="54" y="37"/>
                    </a:lnTo>
                    <a:lnTo>
                      <a:pt x="95" y="0"/>
                    </a:lnTo>
                    <a:lnTo>
                      <a:pt x="105" y="1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157040" y="2568600"/>
                <a:ext cx="631800" cy="62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82" y="1457"/>
                    </a:moveTo>
                    <a:arcTo wR="10800" hR="10800" stAng="-7206507" swAng="5360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82" y="1457"/>
                    </a:moveTo>
                    <a:arcTo wR="10800" hR="10800" stAng="-7206507" swAng="5360369"/>
                  </a:path>
                </a:pathLst>
              </a:custGeom>
              <a:noFill/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277560" y="2293920"/>
              <a:ext cx="934560" cy="597600"/>
              <a:chOff x="277560" y="2293920"/>
              <a:chExt cx="934560" cy="597600"/>
            </a:xfrm>
          </p:grpSpPr>
          <p:sp>
            <p:nvSpPr>
              <p:cNvPr id="858" name=""/>
              <p:cNvSpPr/>
              <p:nvPr/>
            </p:nvSpPr>
            <p:spPr>
              <a:xfrm>
                <a:off x="277920" y="2293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46040" y="2293920"/>
                <a:ext cx="57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04360" y="22939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45480" y="22939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74360" y="2293920"/>
                <a:ext cx="70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45280" y="2293920"/>
                <a:ext cx="86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928080" y="22939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069560" y="22939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77560" y="2586240"/>
                <a:ext cx="70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48840" y="25862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 flipV="1">
              <a:off x="7658280" y="4814640"/>
              <a:ext cx="1440" cy="8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653240" y="4803840"/>
              <a:ext cx="14400" cy="911160"/>
            </a:xfrm>
            <a:custGeom>
              <a:avLst/>
              <a:gdLst/>
              <a:ahLst/>
              <a:rect l="l" t="t" r="r" b="b"/>
              <a:pathLst>
                <a:path w="9" h="574">
                  <a:moveTo>
                    <a:pt x="9" y="565"/>
                  </a:moveTo>
                  <a:lnTo>
                    <a:pt x="3" y="571"/>
                  </a:lnTo>
                  <a:lnTo>
                    <a:pt x="0" y="574"/>
                  </a:lnTo>
                  <a:lnTo>
                    <a:pt x="0" y="0"/>
                  </a:lnTo>
                  <a:lnTo>
                    <a:pt x="3" y="5"/>
                  </a:lnTo>
                  <a:lnTo>
                    <a:pt x="9" y="9"/>
                  </a:lnTo>
                  <a:lnTo>
                    <a:pt x="9" y="5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664400" y="5710320"/>
              <a:ext cx="1069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53240" y="5700600"/>
              <a:ext cx="1094040" cy="14400"/>
            </a:xfrm>
            <a:custGeom>
              <a:avLst/>
              <a:gdLst/>
              <a:ahLst/>
              <a:rect l="l" t="t" r="r" b="b"/>
              <a:pathLst>
                <a:path w="689" h="9">
                  <a:moveTo>
                    <a:pt x="679" y="0"/>
                  </a:moveTo>
                  <a:lnTo>
                    <a:pt x="685" y="6"/>
                  </a:lnTo>
                  <a:lnTo>
                    <a:pt x="689" y="9"/>
                  </a:lnTo>
                  <a:lnTo>
                    <a:pt x="0" y="9"/>
                  </a:lnTo>
                  <a:lnTo>
                    <a:pt x="3" y="6"/>
                  </a:lnTo>
                  <a:lnTo>
                    <a:pt x="9" y="0"/>
                  </a:lnTo>
                  <a:lnTo>
                    <a:pt x="6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740800" y="4815000"/>
              <a:ext cx="1440" cy="8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731080" y="4803840"/>
              <a:ext cx="16200" cy="911160"/>
            </a:xfrm>
            <a:custGeom>
              <a:avLst/>
              <a:gdLst/>
              <a:ahLst/>
              <a:rect l="l" t="t" r="r" b="b"/>
              <a:pathLst>
                <a:path w="10" h="574">
                  <a:moveTo>
                    <a:pt x="0" y="9"/>
                  </a:moveTo>
                  <a:lnTo>
                    <a:pt x="6" y="5"/>
                  </a:lnTo>
                  <a:lnTo>
                    <a:pt x="10" y="0"/>
                  </a:lnTo>
                  <a:lnTo>
                    <a:pt x="10" y="574"/>
                  </a:lnTo>
                  <a:lnTo>
                    <a:pt x="6" y="571"/>
                  </a:lnTo>
                  <a:lnTo>
                    <a:pt x="0" y="56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64400" y="4811760"/>
              <a:ext cx="1069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653240" y="4803840"/>
              <a:ext cx="1094040" cy="14400"/>
            </a:xfrm>
            <a:custGeom>
              <a:avLst/>
              <a:gdLst/>
              <a:ahLst/>
              <a:rect l="l" t="t" r="r" b="b"/>
              <a:pathLst>
                <a:path w="689" h="9">
                  <a:moveTo>
                    <a:pt x="9" y="9"/>
                  </a:moveTo>
                  <a:lnTo>
                    <a:pt x="3" y="5"/>
                  </a:lnTo>
                  <a:lnTo>
                    <a:pt x="0" y="0"/>
                  </a:lnTo>
                  <a:lnTo>
                    <a:pt x="689" y="0"/>
                  </a:lnTo>
                  <a:lnTo>
                    <a:pt x="685" y="5"/>
                  </a:lnTo>
                  <a:lnTo>
                    <a:pt x="679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7761960" y="4863960"/>
              <a:ext cx="933480" cy="595800"/>
              <a:chOff x="7761960" y="4863960"/>
              <a:chExt cx="933480" cy="595800"/>
            </a:xfrm>
          </p:grpSpPr>
          <p:sp>
            <p:nvSpPr>
              <p:cNvPr id="877" name=""/>
              <p:cNvSpPr/>
              <p:nvPr/>
            </p:nvSpPr>
            <p:spPr>
              <a:xfrm>
                <a:off x="7763040" y="48639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931160" y="4863960"/>
                <a:ext cx="57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86240" y="4863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130240" y="4863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256240" y="4863960"/>
                <a:ext cx="70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325720" y="4863960"/>
                <a:ext cx="86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413200" y="4863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552880" y="4863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61960" y="5154480"/>
                <a:ext cx="198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59240" y="51544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02160" y="5154480"/>
                <a:ext cx="70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8" name=""/>
          <p:cNvSpPr/>
          <p:nvPr/>
        </p:nvSpPr>
        <p:spPr>
          <a:xfrm>
            <a:off x="24145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Metal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738520" y="2644920"/>
            <a:ext cx="4895280" cy="2765160"/>
            <a:chOff x="2738520" y="2644920"/>
            <a:chExt cx="4895280" cy="2765160"/>
          </a:xfrm>
        </p:grpSpPr>
        <p:grpSp>
          <p:nvGrpSpPr>
            <p:cNvPr id="891" name=""/>
            <p:cNvGrpSpPr/>
            <p:nvPr/>
          </p:nvGrpSpPr>
          <p:grpSpPr>
            <a:xfrm>
              <a:off x="3507840" y="3102120"/>
              <a:ext cx="670320" cy="624600"/>
              <a:chOff x="3507840" y="3102120"/>
              <a:chExt cx="670320" cy="624600"/>
            </a:xfrm>
          </p:grpSpPr>
          <p:sp>
            <p:nvSpPr>
              <p:cNvPr id="892" name=""/>
              <p:cNvSpPr/>
              <p:nvPr/>
            </p:nvSpPr>
            <p:spPr>
              <a:xfrm>
                <a:off x="4014720" y="3228840"/>
                <a:ext cx="163440" cy="26316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68" y="166"/>
                    </a:moveTo>
                    <a:lnTo>
                      <a:pt x="0" y="12"/>
                    </a:lnTo>
                    <a:lnTo>
                      <a:pt x="54" y="27"/>
                    </a:lnTo>
                    <a:lnTo>
                      <a:pt x="103" y="0"/>
                    </a:lnTo>
                    <a:lnTo>
                      <a:pt x="68" y="1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507840" y="3102120"/>
                <a:ext cx="626400" cy="62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98" y="426"/>
                    </a:moveTo>
                    <a:arcTo wR="10800" hR="10800" stAng="-6368249" swAng="54232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98" y="426"/>
                    </a:moveTo>
                    <a:arcTo wR="10800" hR="10800" stAng="-6368249" swAng="5423213"/>
                  </a:path>
                </a:pathLst>
              </a:custGeom>
              <a:noFill/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2738520" y="2644920"/>
              <a:ext cx="633240" cy="627840"/>
              <a:chOff x="2738520" y="2644920"/>
              <a:chExt cx="633240" cy="627840"/>
            </a:xfrm>
          </p:grpSpPr>
          <p:sp>
            <p:nvSpPr>
              <p:cNvPr id="895" name=""/>
              <p:cNvSpPr/>
              <p:nvPr/>
            </p:nvSpPr>
            <p:spPr>
              <a:xfrm>
                <a:off x="3201840" y="2692440"/>
                <a:ext cx="165240" cy="266760"/>
              </a:xfrm>
              <a:custGeom>
                <a:avLst/>
                <a:gdLst/>
                <a:ahLst/>
                <a:rect l="l" t="t" r="r" b="b"/>
                <a:pathLst>
                  <a:path w="104" h="168">
                    <a:moveTo>
                      <a:pt x="104" y="168"/>
                    </a:moveTo>
                    <a:lnTo>
                      <a:pt x="0" y="37"/>
                    </a:lnTo>
                    <a:lnTo>
                      <a:pt x="54" y="37"/>
                    </a:lnTo>
                    <a:lnTo>
                      <a:pt x="94" y="0"/>
                    </a:lnTo>
                    <a:lnTo>
                      <a:pt x="104" y="16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738520" y="2644920"/>
                <a:ext cx="633240" cy="62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59" y="1470"/>
                    </a:moveTo>
                    <a:arcTo wR="10800" hR="10800" stAng="-7214923" swAng="53687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59" y="1470"/>
                    </a:moveTo>
                    <a:arcTo wR="10800" hR="10800" stAng="-7214923" swAng="5368785"/>
                  </a:path>
                </a:pathLst>
              </a:custGeom>
              <a:noFill/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3722040" y="4168800"/>
              <a:ext cx="639720" cy="656640"/>
              <a:chOff x="3722040" y="4168800"/>
              <a:chExt cx="639720" cy="656640"/>
            </a:xfrm>
          </p:grpSpPr>
          <p:sp>
            <p:nvSpPr>
              <p:cNvPr id="898" name=""/>
              <p:cNvSpPr/>
              <p:nvPr/>
            </p:nvSpPr>
            <p:spPr>
              <a:xfrm>
                <a:off x="3733920" y="4168800"/>
                <a:ext cx="214200" cy="25416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160"/>
                    </a:moveTo>
                    <a:lnTo>
                      <a:pt x="52" y="0"/>
                    </a:lnTo>
                    <a:lnTo>
                      <a:pt x="81" y="46"/>
                    </a:lnTo>
                    <a:lnTo>
                      <a:pt x="135" y="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22040" y="4187880"/>
                <a:ext cx="639720" cy="63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08" y="2926"/>
                    </a:moveTo>
                    <a:arcTo wR="10800" hR="10800" stAng="-7991595" swAng="53222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08" y="2926"/>
                    </a:moveTo>
                    <a:arcTo wR="10800" hR="10800" stAng="-7991595" swAng="5322285"/>
                  </a:path>
                </a:pathLst>
              </a:custGeom>
              <a:noFill/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3416400" y="4519800"/>
              <a:ext cx="566640" cy="482760"/>
              <a:chOff x="3416400" y="4519800"/>
              <a:chExt cx="566640" cy="482760"/>
            </a:xfrm>
          </p:grpSpPr>
          <p:sp>
            <p:nvSpPr>
              <p:cNvPr id="901" name=""/>
              <p:cNvSpPr/>
              <p:nvPr/>
            </p:nvSpPr>
            <p:spPr>
              <a:xfrm>
                <a:off x="3779640" y="4711320"/>
                <a:ext cx="203400" cy="257400"/>
              </a:xfrm>
              <a:custGeom>
                <a:avLst/>
                <a:gdLst/>
                <a:ahLst/>
                <a:rect l="l" t="t" r="r" b="b"/>
                <a:pathLst>
                  <a:path w="128" h="162">
                    <a:moveTo>
                      <a:pt x="0" y="162"/>
                    </a:moveTo>
                    <a:lnTo>
                      <a:pt x="43" y="0"/>
                    </a:lnTo>
                    <a:lnTo>
                      <a:pt x="76" y="43"/>
                    </a:lnTo>
                    <a:lnTo>
                      <a:pt x="128" y="54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416400" y="4519800"/>
                <a:ext cx="482040" cy="48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1" y="1351"/>
                    </a:moveTo>
                    <a:arcTo wR="10800" hR="10800" stAng="-3661940" swAng="47116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1" y="1351"/>
                    </a:moveTo>
                    <a:arcTo wR="10800" hR="10800" stAng="-3661940" swAng="4711685"/>
                  </a:path>
                </a:pathLst>
              </a:custGeom>
              <a:noFill/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5625720" y="3757320"/>
              <a:ext cx="567000" cy="483840"/>
              <a:chOff x="5625720" y="3757320"/>
              <a:chExt cx="567000" cy="483840"/>
            </a:xfrm>
          </p:grpSpPr>
          <p:sp>
            <p:nvSpPr>
              <p:cNvPr id="904" name=""/>
              <p:cNvSpPr/>
              <p:nvPr/>
            </p:nvSpPr>
            <p:spPr>
              <a:xfrm>
                <a:off x="5986440" y="3949560"/>
                <a:ext cx="206280" cy="258480"/>
              </a:xfrm>
              <a:custGeom>
                <a:avLst/>
                <a:gdLst/>
                <a:ahLst/>
                <a:rect l="l" t="t" r="r" b="b"/>
                <a:pathLst>
                  <a:path w="130" h="163">
                    <a:moveTo>
                      <a:pt x="0" y="163"/>
                    </a:moveTo>
                    <a:lnTo>
                      <a:pt x="45" y="0"/>
                    </a:lnTo>
                    <a:lnTo>
                      <a:pt x="75" y="44"/>
                    </a:lnTo>
                    <a:lnTo>
                      <a:pt x="130" y="55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25720" y="3757320"/>
                <a:ext cx="482760" cy="48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81" y="1379"/>
                    </a:moveTo>
                    <a:arcTo wR="10800" hR="10800" stAng="-3643631" swAng="4685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81" y="1379"/>
                    </a:moveTo>
                    <a:arcTo wR="10800" hR="10800" stAng="-3643631" swAng="4685997"/>
                  </a:path>
                </a:pathLst>
              </a:custGeom>
              <a:noFill/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4946760" y="3397320"/>
              <a:ext cx="632880" cy="627840"/>
              <a:chOff x="4946760" y="3397320"/>
              <a:chExt cx="632880" cy="627840"/>
            </a:xfrm>
          </p:grpSpPr>
          <p:sp>
            <p:nvSpPr>
              <p:cNvPr id="907" name=""/>
              <p:cNvSpPr/>
              <p:nvPr/>
            </p:nvSpPr>
            <p:spPr>
              <a:xfrm>
                <a:off x="5410080" y="3443400"/>
                <a:ext cx="166320" cy="26640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105" y="168"/>
                    </a:moveTo>
                    <a:lnTo>
                      <a:pt x="0" y="36"/>
                    </a:lnTo>
                    <a:lnTo>
                      <a:pt x="54" y="38"/>
                    </a:lnTo>
                    <a:lnTo>
                      <a:pt x="95" y="0"/>
                    </a:lnTo>
                    <a:lnTo>
                      <a:pt x="105" y="16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46760" y="3397320"/>
                <a:ext cx="632880" cy="62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15" y="1438"/>
                    </a:moveTo>
                    <a:arcTo wR="10800" hR="10800" stAng="-7194402" swAng="53154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15" y="1438"/>
                    </a:moveTo>
                    <a:arcTo wR="10800" hR="10800" stAng="-7194402" swAng="5315493"/>
                  </a:path>
                </a:pathLst>
              </a:custGeom>
              <a:noFill/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7004520" y="4778280"/>
              <a:ext cx="629280" cy="631800"/>
              <a:chOff x="7004520" y="4778280"/>
              <a:chExt cx="629280" cy="631800"/>
            </a:xfrm>
          </p:grpSpPr>
          <p:sp>
            <p:nvSpPr>
              <p:cNvPr id="910" name=""/>
              <p:cNvSpPr/>
              <p:nvPr/>
            </p:nvSpPr>
            <p:spPr>
              <a:xfrm>
                <a:off x="7468920" y="4827600"/>
                <a:ext cx="164880" cy="263520"/>
              </a:xfrm>
              <a:custGeom>
                <a:avLst/>
                <a:gdLst/>
                <a:ahLst/>
                <a:rect l="l" t="t" r="r" b="b"/>
                <a:pathLst>
                  <a:path w="104" h="166">
                    <a:moveTo>
                      <a:pt x="104" y="166"/>
                    </a:moveTo>
                    <a:lnTo>
                      <a:pt x="0" y="37"/>
                    </a:lnTo>
                    <a:lnTo>
                      <a:pt x="54" y="37"/>
                    </a:lnTo>
                    <a:lnTo>
                      <a:pt x="93" y="0"/>
                    </a:lnTo>
                    <a:lnTo>
                      <a:pt x="104" y="1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004520" y="4778280"/>
                <a:ext cx="629280" cy="63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36" y="1426"/>
                    </a:moveTo>
                    <a:arcTo wR="10800" hR="10800" stAng="-7186749" swAng="53317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36" y="1426"/>
                    </a:moveTo>
                    <a:arcTo wR="10800" hR="10800" stAng="-7186749" swAng="5331781"/>
                  </a:path>
                </a:pathLst>
              </a:custGeom>
              <a:noFill/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2" name=""/>
          <p:cNvSpPr/>
          <p:nvPr/>
        </p:nvSpPr>
        <p:spPr>
          <a:xfrm>
            <a:off x="3369600" y="287352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2939760" y="2486160"/>
            <a:ext cx="642240" cy="692280"/>
            <a:chOff x="2939760" y="2486160"/>
            <a:chExt cx="642240" cy="692280"/>
          </a:xfrm>
        </p:grpSpPr>
        <p:sp>
          <p:nvSpPr>
            <p:cNvPr id="914" name=""/>
            <p:cNvSpPr/>
            <p:nvPr/>
          </p:nvSpPr>
          <p:spPr>
            <a:xfrm>
              <a:off x="3369600" y="28731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2939760" y="2486160"/>
              <a:ext cx="479880" cy="393120"/>
              <a:chOff x="2939760" y="2486160"/>
              <a:chExt cx="479880" cy="393120"/>
            </a:xfrm>
          </p:grpSpPr>
          <p:sp>
            <p:nvSpPr>
              <p:cNvPr id="916" name=""/>
              <p:cNvSpPr/>
              <p:nvPr/>
            </p:nvSpPr>
            <p:spPr>
              <a:xfrm rot="19273200">
                <a:off x="2912760" y="2644560"/>
                <a:ext cx="533160" cy="75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106600">
                <a:off x="2912760" y="2644920"/>
                <a:ext cx="533160" cy="75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19320" y="5562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y conducting Conjugated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97180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095880" y="56386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lky stopper pr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cking (aggreg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conducting w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6553080" y="4191120"/>
            <a:ext cx="4572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1828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trahedral cavity allows binding of metal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24080" y="22860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638680" y="2362320"/>
            <a:ext cx="0" cy="266688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268960" y="25448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</a:rPr>
              <a:t>14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1644480" y="2311560"/>
            <a:ext cx="5855040" cy="340344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305240" y="3048120"/>
            <a:ext cx="49536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si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synthesis%201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866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si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synthesis%202" descr=""/>
          <p:cNvPicPr/>
          <p:nvPr/>
        </p:nvPicPr>
        <p:blipFill>
          <a:blip r:embed="rId1"/>
          <a:stretch/>
        </p:blipFill>
        <p:spPr>
          <a:xfrm>
            <a:off x="685800" y="1947960"/>
            <a:ext cx="78487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sis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synthesis%20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072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680" y="6583320"/>
            <a:ext cx="26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M3 Geometry Optimization by Spar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cu_rotax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3:10:26Z</dcterms:created>
  <dc:creator>sunghi lee</dc:creator>
  <dc:description/>
  <dc:language>en-US</dc:language>
  <cp:lastModifiedBy>Timothy M. Swager</cp:lastModifiedBy>
  <dcterms:modified xsi:type="dcterms:W3CDTF">2002-06-28T13:58:07Z</dcterms:modified>
  <cp:revision>26</cp:revision>
  <dc:subject/>
  <dc:title>Conducting Polyrotaxane: </dc:title>
</cp:coreProperties>
</file>