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44F-30D7-41CC-83BE-7D036BD4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FB5-9C59-42EF-B46E-825BB4F4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A1D-5DD8-44D3-BC4B-848DBF52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E7E-2641-4EB2-B932-D26F87CF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D2A-DB9C-483E-8EF4-99A37418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457-E555-4F90-BC47-B17605D9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BA2-4676-4AE3-B8F8-AA186A75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6F2-948E-421A-A65E-D6662937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CE8-C729-4127-92E5-866C5514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101-8599-4990-A2C6-296405FF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F68-7692-4D30-B0BC-D035435E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F70-B922-4FA9-B554-760CADA9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34CB-DC12-44FC-9904-4A603DE0D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ETI@home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inkcycle.org/photo-album/base-photo?photo_id=35220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thinkcycle.org/photo-album/base-photo?photo_id=33220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in Sawhney, Yael Maguire, Saul Griffith, Ben Vigoda, Tim Prestero, Leo Burd, Neil Can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6232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3124080" cy="188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28191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 desig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mazing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make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large scale problems solv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uter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TI@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,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133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hol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atment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ree pat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ding (TLO), product 8-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s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ye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st p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cial Enterprise Track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BS Business Plan Contest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5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at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ll ro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ub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T Lemelson International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ward, 2002 ($5000 pr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Water: Innovativ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eramic </a:t>
            </a: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d Bio-sand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T IDEAS Aw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2 ($5000 pr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72200" y="457200"/>
            <a:ext cx="2057400" cy="155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2438280"/>
            <a:ext cx="2057400" cy="191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72200" y="4952880"/>
            <a:ext cx="20574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509" t="10127" r="3273" b="4521"/>
          <a:stretch/>
        </p:blipFill>
        <p:spPr>
          <a:xfrm>
            <a:off x="609480" y="1219320"/>
            <a:ext cx="4953240" cy="463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9160" y="45720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Cycle.org: Open Collaborativ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4200" y="1371600"/>
            <a:ext cx="225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llenges Pos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profits &amp; 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1168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11680" y="2744640"/>
            <a:ext cx="1520640" cy="461880"/>
            <a:chOff x="3811680" y="2744640"/>
            <a:chExt cx="1520640" cy="461880"/>
          </a:xfrm>
        </p:grpSpPr>
        <p:sp>
          <p:nvSpPr>
            <p:cNvPr id="59" name=""/>
            <p:cNvSpPr/>
            <p:nvPr/>
          </p:nvSpPr>
          <p:spPr>
            <a:xfrm>
              <a:off x="3814560" y="2747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811680" y="2744640"/>
              <a:ext cx="1520640" cy="461880"/>
              <a:chOff x="3811680" y="2744640"/>
              <a:chExt cx="1520640" cy="46188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3814560" y="2747880"/>
                <a:ext cx="1514160" cy="455760"/>
                <a:chOff x="3814560" y="2747880"/>
                <a:chExt cx="1514160" cy="455760"/>
              </a:xfrm>
            </p:grpSpPr>
            <p:grpSp>
              <p:nvGrpSpPr>
                <p:cNvPr id="62" name=""/>
                <p:cNvGrpSpPr/>
                <p:nvPr/>
              </p:nvGrpSpPr>
              <p:grpSpPr>
                <a:xfrm>
                  <a:off x="3814560" y="2747880"/>
                  <a:ext cx="1514160" cy="455400"/>
                  <a:chOff x="3814560" y="2747880"/>
                  <a:chExt cx="1514160" cy="4554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3814560" y="2747880"/>
                    <a:ext cx="1514160" cy="455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3814560" y="2747880"/>
                    <a:ext cx="1514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3814560" y="2747880"/>
                  <a:ext cx="1514160" cy="45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11680" y="2744640"/>
                <a:ext cx="1520640" cy="461880"/>
              </a:xfrm>
              <a:prstGeom prst="rect">
                <a:avLst/>
              </a:prstGeom>
              <a:noFill/>
              <a:ln w="64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2146320" y="16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440" y="11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69280" y="2362320"/>
            <a:ext cx="159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proto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0" y="3505320"/>
            <a:ext cx="142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er-review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exp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0240" y="4495680"/>
            <a:ext cx="128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Tes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Re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57150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al: Supporting Design Innovations in Critical Problem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3886200"/>
            <a:ext cx="457200" cy="83808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983600">
            <a:off x="8077320" y="3885840"/>
            <a:ext cx="457200" cy="83808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1905120"/>
            <a:ext cx="457200" cy="83808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983600">
            <a:off x="8153280" y="1904760"/>
            <a:ext cx="457200" cy="83808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2819520"/>
            <a:ext cx="457200" cy="83808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0983600">
            <a:off x="8077320" y="2819160"/>
            <a:ext cx="457200" cy="83808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3522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762120"/>
            <a:ext cx="281952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3322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4419720"/>
            <a:ext cx="1578240" cy="2133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4160" y="30492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for Distribute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rcRect l="1509" t="10127" r="3273" b="4521"/>
          <a:stretch/>
        </p:blipFill>
        <p:spPr>
          <a:xfrm>
            <a:off x="609480" y="1143000"/>
            <a:ext cx="2667240" cy="2496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781680" y="30481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 Labs @ Computer Club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962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 Labs @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5334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 Labs @ Rural Innov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7432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nkCycl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en Design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3:21:43Z</dcterms:created>
  <dc:creator>Physics  and Media Group</dc:creator>
  <dc:description/>
  <dc:language>en-US</dc:language>
  <cp:lastModifiedBy>yael</cp:lastModifiedBy>
  <dcterms:modified xsi:type="dcterms:W3CDTF">2002-06-28T15:05:20Z</dcterms:modified>
  <cp:revision>6</cp:revision>
  <dc:subject/>
  <dc:title>Thinkcycle</dc:title>
</cp:coreProperties>
</file>