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B60-8053-4FA9-BD20-365A86FB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F94-6076-4D49-BECF-3F3ADF8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1CC-A010-43ED-B2D5-608CFE4E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3D8-92E7-4A0A-BFBC-531824BA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E3B8-FF84-4420-811F-AF96536E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E42-655A-4C5B-9190-76358685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1B60-2A79-4869-9722-671BB0D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1913-DDCE-4B05-A7F1-B5CB990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3EA-3356-43B3-982B-ACBC64B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2924-2726-4071-911F-4FDA2A91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AACD-B332-4EDE-87D1-6CF64CC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98C-02E6-4AAB-AFCF-7A773B4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646-2D93-4266-846D-363698E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D869-F933-474F-AFBB-79F7286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6BE-26D1-4975-9880-F2240A19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8FC-2912-43A7-940B-8F680DF7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745-6304-4226-8192-3EB486D1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0B2-2A2D-493E-BD8E-E49A39F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49E-08E8-4908-A83F-2D48BEDF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D8E-4F09-48E9-9E5E-27885A3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9CD-1C46-45CE-A71A-C14D4FFA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9B6-6FC1-4647-B5E1-A8AAEAB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C1C-4D33-44E9-8BC8-AB2E8D0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108-D5FB-43D0-B7CC-83F1006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617-9AAD-49CD-A1F7-A0CB04DC83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590920"/>
            <a:ext cx="9009000" cy="1052280"/>
            <a:chOff x="135000" y="25909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2698560"/>
              <a:ext cx="711360" cy="474480"/>
              <a:chOff x="425520" y="26985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2698560"/>
                <a:ext cx="437400" cy="47448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2698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3120840"/>
              <a:ext cx="737640" cy="474480"/>
              <a:chOff x="549360" y="31208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3120840"/>
                <a:ext cx="421560" cy="47448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3120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3047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2590920"/>
              <a:ext cx="31680" cy="1052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3412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6B4-3D82-4113-A317-8F9E6D2A708F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429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osing The Instrumentation Div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4076"/>
                </a:solidFill>
                <a:latin typeface="Tahoma"/>
              </a:rPr>
              <a:t>Introducing Instrumentation into Developing Communities: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2880" y="5410080"/>
            <a:ext cx="91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oline McEnnis, Jason Taylor, Esa Masood, Rich Fletcher, Neil Gershen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794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26080" y="219708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 electronics mak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to develop chea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3400" y="5016600"/>
            <a:ext cx="506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ing existing instr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lower costs and in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 without low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Performance at Lower Costs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89548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64240" y="4038480"/>
            <a:ext cx="3022560" cy="238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441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Two examples: UV-Vis Spectrometer and RF Analyzer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V-Vis Spectro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 of $1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 Analy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3501" r="0" b="3501"/>
          <a:stretch/>
        </p:blipFill>
        <p:spPr>
          <a:xfrm>
            <a:off x="1371600" y="3429000"/>
            <a:ext cx="2457360" cy="276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2590920" cy="266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The UV-Vis Spectrometer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743200" cy="187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09720" y="2895480"/>
            <a:ext cx="109800" cy="22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8120" y="2743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1371600" cy="1111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4120" y="2743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248520" y="2286000"/>
            <a:ext cx="137160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81280" y="31240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4600" y="624852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V-Vis with consumer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70360" y="624852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rcially Available UV-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2560" y="220968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od Qua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7200" y="22096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 Qua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6120" y="41259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i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12800" y="40384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iculture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Applications in Developing Communities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39800" y="2819520"/>
            <a:ext cx="14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2170080" cy="1408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2170080" cy="148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170080" cy="148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4076"/>
                </a:solidFill>
                <a:latin typeface="Tahoma"/>
              </a:rPr>
              <a:t>Multiple Uses for Technology</a:t>
            </a:r>
            <a:endParaRPr b="0" lang="en-US" sz="32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230200" cy="1609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316400">
            <a:off x="2133360" y="274284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274600">
            <a:off x="2209320" y="457164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9095400">
            <a:off x="5706720" y="2693520"/>
            <a:ext cx="768240" cy="509760"/>
          </a:xfrm>
          <a:prstGeom prst="leftArrow">
            <a:avLst>
              <a:gd name="adj1" fmla="val 50000"/>
              <a:gd name="adj2" fmla="val 37677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1189080" cy="15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5200" y="35812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1492200" cy="152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1040" y="563868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629400" y="190512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80400" y="342900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7:59:06Z</dcterms:created>
  <dc:creator>Caroline McEnnis</dc:creator>
  <dc:description/>
  <dc:language>en-US</dc:language>
  <cp:lastModifiedBy>Caroline McEnnis</cp:lastModifiedBy>
  <dcterms:modified xsi:type="dcterms:W3CDTF">2002-06-28T15:17:57Z</dcterms:modified>
  <cp:revision>26</cp:revision>
  <dc:subject/>
  <dc:title>Slide 1</dc:title>
</cp:coreProperties>
</file>