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A1E37-6D31-4B87-BFDB-6D34C286C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2561-E84A-4554-82C0-46FA87A3E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D4388-0A06-41A8-B514-22D52A809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4819-B80A-425E-B466-E2490A8A7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63B6F-0C52-4DDC-B8D2-EC7CD4D51D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C9F2E-747A-4984-AA88-432CDFF03E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03A69-F451-4800-8B2A-FE8A85F9DA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522B3-57FD-4D73-92B1-3BB1DB2416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4A92E-9B28-4A73-885A-8C4AD5BFC7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65CDA-FADF-46E4-8DB0-E34E995775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49313-8486-4760-A7D8-3EEC453003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CC6B1-602D-402F-893C-472B79B5F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2E7C3-A16A-428D-A481-34D28D07B0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F7C76-AC42-440C-B74C-14599EFDC8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A5616-401C-431C-A8EE-22438346E3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9FCF1-5AA3-4411-9E7C-8A3A5BA3B8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4AFE9-EFB3-41E8-BB43-D4507F31FE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C787A-7E70-4A2B-89BA-0BD499BF3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92C92-B21B-4FDE-938F-FEA292054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2FF57-BE61-46FD-BB35-0DEB4E9DF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BAAF3-69A6-4682-835A-DD52E8DDB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30EEA-8775-4C39-89B3-7A13D7013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89A41-51E6-42E7-8C3A-1A56F0D34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BFAF7-168D-449D-9A26-916603756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581280" y="6343560"/>
            <a:ext cx="542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1ED6-AEF5-4DDE-BF4E-9D0DC7E6BC7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756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3580920" y="634356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9D02-E560-4A57-BED9-9AD1806A164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10666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BA Outreach Efforts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685600" y="4495320"/>
            <a:ext cx="6102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khtiar Mikha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Learning Webs Grou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114800" y="5973840"/>
            <a:ext cx="5029200" cy="274680"/>
            <a:chOff x="4114800" y="5973840"/>
            <a:chExt cx="5029200" cy="274680"/>
          </a:xfrm>
        </p:grpSpPr>
        <p:sp>
          <p:nvSpPr>
            <p:cNvPr id="84" name=""/>
            <p:cNvSpPr/>
            <p:nvPr/>
          </p:nvSpPr>
          <p:spPr>
            <a:xfrm>
              <a:off x="4114800" y="5973840"/>
              <a:ext cx="314280" cy="2746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29080" y="5973840"/>
              <a:ext cx="31428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43360" y="5973840"/>
              <a:ext cx="31428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57640" y="5973840"/>
              <a:ext cx="31428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71920" y="5973840"/>
              <a:ext cx="31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86200" y="5973840"/>
              <a:ext cx="31428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00480" y="5973840"/>
              <a:ext cx="31428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15120" y="5973840"/>
              <a:ext cx="31428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29400" y="5973840"/>
              <a:ext cx="31428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43680" y="5973840"/>
              <a:ext cx="31428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57960" y="5973840"/>
              <a:ext cx="314280" cy="2746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72240" y="5973840"/>
              <a:ext cx="314280" cy="2746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886520" y="5973840"/>
              <a:ext cx="314280" cy="2746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01160" y="5973840"/>
              <a:ext cx="3142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515440" y="5973840"/>
              <a:ext cx="3142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29720" y="5973840"/>
              <a:ext cx="314280" cy="2746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A Brief History of ML Outreach Effort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Pioneering outreach efforts by professors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Papert and Resnick and their students to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ake sophisticated ideas and tools more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ccessible to marginalized audiences in a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variety of different contex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eachers and kids in traditional school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eachers and kids in vocational school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children and adults in after school cent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youth in correctional faciliti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Museums and other informal learning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environ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ome recent examp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Intel Computer Clubhouse Networ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PIE (Playful Invention and Exploration)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Network of Museum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rning Webs Group, MIT Media Laborato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A Brief History of ML Outreach Effort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International Effor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Laying the foundation for our current efforts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in the </a:t>
            </a: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Digital Nations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research consortiu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ddressing major social challeng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Such as health care, education, economic develop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ontinuing our long-term work 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Central and South Americ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urrently expanding to new contexts lik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Asia (India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Afric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rning Webs Group, MIT Media Laborato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Our Current Outreach Effort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any domestic si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 local Computer Clubhouse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he Museum of Science in Minnesot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Impacting positively two other NSF funded projec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PIE Museum Network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The CYBORG Exhibit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nternational Si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osta Rica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rural Technical and Scientific High School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rural agricultural communiti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Indi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eneg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rning Webs Group, MIT Media Laborato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Verdana"/>
              </a:rPr>
              <a:t>A CBA FAB LAB</a:t>
            </a:r>
            <a:r>
              <a:rPr b="1" lang="en-US" sz="4800" spc="-1" strike="noStrike">
                <a:solidFill>
                  <a:srgbClr val="bccd1f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86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 standard toolkit will make the sharing of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ideas, techniques, and solutions easi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he toolkit includ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one IBM desktop compu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one Roland MDX-20 mini NC mill and scann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one Roland CX-24 sign/circuit cut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wo full Tower electronics development syste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est equipment: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oscilloscope, signal generator, multi-me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one Intel Play computer microscop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a suite of commercial and research design tools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one tabletop chemistry uni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one low-cost RF analyz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rning Webs Group, MIT Media Laborato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Verdana"/>
              </a:rPr>
              <a:t>Outreach Sites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86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wo Sites at the Media Lab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one in 01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one in 344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ongoing software and hardware research and development effor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user studies and activity develop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his afternoon we will be visiting the very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irst Computer Clubhouse that was started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as a collaboration between the Media Lab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and the Boston Computer Museum (now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part of the Boston Museum of Science)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rning Webs Group, MIT Media Laborato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Verdana"/>
              </a:rPr>
              <a:t>Outreach Sites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1" name="ship" descr=""/>
          <p:cNvPicPr/>
          <p:nvPr/>
        </p:nvPicPr>
        <p:blipFill>
          <a:blip r:embed="rId2"/>
          <a:stretch/>
        </p:blipFill>
        <p:spPr>
          <a:xfrm>
            <a:off x="4648320" y="1525680"/>
            <a:ext cx="3446280" cy="1827000"/>
          </a:xfrm>
          <a:prstGeom prst="rect">
            <a:avLst/>
          </a:prstGeom>
          <a:ln w="0">
            <a:noFill/>
          </a:ln>
        </p:spPr>
      </p:pic>
      <p:pic>
        <p:nvPicPr>
          <p:cNvPr id="112" name="sean" descr=""/>
          <p:cNvPicPr/>
          <p:nvPr/>
        </p:nvPicPr>
        <p:blipFill>
          <a:blip r:embed="rId3"/>
          <a:stretch/>
        </p:blipFill>
        <p:spPr>
          <a:xfrm>
            <a:off x="528480" y="1219320"/>
            <a:ext cx="3043440" cy="2282760"/>
          </a:xfrm>
          <a:prstGeom prst="rect">
            <a:avLst/>
          </a:prstGeom>
          <a:ln w="0">
            <a:noFill/>
          </a:ln>
        </p:spPr>
      </p:pic>
      <p:pic>
        <p:nvPicPr>
          <p:cNvPr id="113" name="scope" descr=""/>
          <p:cNvPicPr/>
          <p:nvPr/>
        </p:nvPicPr>
        <p:blipFill>
          <a:blip r:embed="rId4"/>
          <a:stretch/>
        </p:blipFill>
        <p:spPr>
          <a:xfrm>
            <a:off x="1752480" y="3736800"/>
            <a:ext cx="3043440" cy="2283120"/>
          </a:xfrm>
          <a:prstGeom prst="rect">
            <a:avLst/>
          </a:prstGeom>
          <a:ln w="0">
            <a:noFill/>
          </a:ln>
        </p:spPr>
      </p:pic>
      <p:pic>
        <p:nvPicPr>
          <p:cNvPr id="114" name="greentable" descr=""/>
          <p:cNvPicPr/>
          <p:nvPr/>
        </p:nvPicPr>
        <p:blipFill>
          <a:blip r:embed="rId5"/>
          <a:stretch/>
        </p:blipFill>
        <p:spPr>
          <a:xfrm>
            <a:off x="5033880" y="3962520"/>
            <a:ext cx="3043440" cy="228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rning Webs Group, MIT Media Laborato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Verdana"/>
              </a:rPr>
              <a:t>Stories from one Site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86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 multidisciplinary class (including professors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nd students from electronics engineering, computer science, and industrial design) on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engineering and developmental rationale (both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at the level of the individuals and communitie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as well as the technical approach to system design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for the Tower system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will be offered at the Institute of Technology in Costa Rica for the third time in August 2002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f2121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Example projects include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Educational activities and tool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Health and Environmental Sensing Applic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rning Webs Group, MIT Media Laborato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elling Time with your whole body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89120" y="1941480"/>
          <a:ext cx="5486400" cy="41148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9120" y="1941480"/>
                    <a:ext cx="5486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rning Webs Group, MIT Media Laborato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3:29:58Z</dcterms:created>
  <dc:creator>bruce blumberg</dc:creator>
  <dc:description/>
  <dc:language>en-US</dc:language>
  <cp:lastModifiedBy>BAKHTIAR MIKHAK</cp:lastModifiedBy>
  <dcterms:modified xsi:type="dcterms:W3CDTF">2002-06-28T16:09:51Z</dcterms:modified>
  <cp:revision>205</cp:revision>
  <dc:subject/>
  <dc:title>PowerPoint Presentation</dc:title>
</cp:coreProperties>
</file>