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4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8242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20" y="3690000"/>
            <a:ext cx="8242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920" y="369000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369000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5040" y="160812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1800" y="160812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920" y="369000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5040" y="369000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1800" y="369000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35080" y="2138760"/>
            <a:ext cx="1066680" cy="137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920" y="369000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369000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920" y="3690000"/>
            <a:ext cx="8242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35080" y="2473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5400" y="95400"/>
            <a:ext cx="8966160" cy="668016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1520" y="844560"/>
            <a:ext cx="895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68560" y="6546960"/>
            <a:ext cx="1233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FBE0-942D-41F7-9A57-9D259A2283E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62400" y="44280"/>
            <a:ext cx="40788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2480" y="31680"/>
            <a:ext cx="4262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740040" y="57240"/>
            <a:ext cx="1346400" cy="75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DL-CI%20Spring%2002/Media/PushpinLDR.mov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DL-CI%20Spring%2002/Media/PushpinLDR.mov" TargetMode="External"/><Relationship Id="rId2" Type="http://schemas.openxmlformats.org/officeDocument/2006/relationships/image" Target="../media/image10.jpeg"/><Relationship Id="rId3" Type="http://schemas.openxmlformats.org/officeDocument/2006/relationships/hyperlink" Target="file:///DL-CI%20Spring%2002/Media/PushpinLDR.mov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file:///../Talks/MPEGs/kidsMovie1Small.mov" TargetMode="External"/><Relationship Id="rId4" Type="http://schemas.openxmlformats.org/officeDocument/2006/relationships/image" Target="../media/image18.jpeg"/><Relationship Id="rId5" Type="http://schemas.openxmlformats.org/officeDocument/2006/relationships/hyperlink" Target="file:///MPEGs/MiaMIT-Carpet.mov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6280" y="75960"/>
            <a:ext cx="6006960" cy="414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ecent Research in Sensate Media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5790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oe Paradiso – Responsive Environments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T Media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ensateLogo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12160" y="6451560"/>
            <a:ext cx="18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NSF/CBA 6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28600" y="1100160"/>
          <a:ext cx="8381880" cy="38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0160"/>
                    <a:ext cx="838188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1080"/>
            <a:ext cx="7619760" cy="414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Z-Tiles (collaboration with U. Limerick, MLE)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4800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pired by High Energy Physics e-calori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stive silicon rubber “prexels” (1 cm x 1 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a 16 prexels per 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iles interlock, form peer-peer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les locally communicate to identif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s routed to edg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ZTile-in-action" descr=""/>
          <p:cNvPicPr/>
          <p:nvPr/>
        </p:nvPicPr>
        <p:blipFill>
          <a:blip r:embed="rId3"/>
          <a:stretch/>
        </p:blipFill>
        <p:spPr>
          <a:xfrm>
            <a:off x="6172200" y="914400"/>
            <a:ext cx="2749680" cy="1976400"/>
          </a:xfrm>
          <a:prstGeom prst="rect">
            <a:avLst/>
          </a:prstGeom>
          <a:ln w="0">
            <a:noFill/>
          </a:ln>
        </p:spPr>
      </p:pic>
      <p:pic>
        <p:nvPicPr>
          <p:cNvPr id="88" name="InterLock" descr=""/>
          <p:cNvPicPr/>
          <p:nvPr/>
        </p:nvPicPr>
        <p:blipFill>
          <a:blip r:embed="rId4"/>
          <a:stretch/>
        </p:blipFill>
        <p:spPr>
          <a:xfrm>
            <a:off x="152280" y="914400"/>
            <a:ext cx="26290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50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7840" y="75960"/>
            <a:ext cx="858528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necting to Your (Digital) Neighbor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2344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Realization of “Paintable Computing” model (But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mall computing nodes (25 MIPs) resembling thumb-tacks with two p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ubstrate provides power and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Talk to neighborhood via capacitive or IR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tacked architecture; header to provide each node with local sensor or act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rst, coarse approach to a “skin” or sensate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ushPinBlowUp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724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200" y="4457880"/>
            <a:ext cx="8897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Testbed for very dense, dynamic sensor cluster and processo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20600" y="53352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Pushpin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46520" y="635148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Josh Lif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joshhead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8862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4480" y="247320"/>
            <a:ext cx="65278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Flexible Stacked Architectur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56" name="PushPinHardware" descr=""/>
          <p:cNvPicPr/>
          <p:nvPr/>
        </p:nvPicPr>
        <p:blipFill>
          <a:blip r:embed="rId1"/>
          <a:stretch/>
        </p:blipFill>
        <p:spPr>
          <a:xfrm>
            <a:off x="2395440" y="914400"/>
            <a:ext cx="392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7520" y="347400"/>
            <a:ext cx="8355240" cy="414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perating System Based on Paintable Princi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58" name="PushPinMemory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4771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5840"/>
            <a:ext cx="812772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Pushpin Status – Full system May 02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60" name="PushpinSteelcaseSmal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5440" y="609480"/>
            <a:ext cx="2806560" cy="4724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486400"/>
            <a:ext cx="3886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pin on large conductive bulletin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rtesy of Steel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SC00011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4114800" cy="3936960"/>
          </a:xfrm>
          <a:prstGeom prst="rect">
            <a:avLst/>
          </a:prstGeom>
          <a:ln w="0">
            <a:noFill/>
          </a:ln>
        </p:spPr>
      </p:pic>
      <p:pic>
        <p:nvPicPr>
          <p:cNvPr id="63" name="DSC00002" descr=""/>
          <p:cNvPicPr/>
          <p:nvPr/>
        </p:nvPicPr>
        <p:blipFill>
          <a:blip r:embed="rId4"/>
          <a:stretch/>
        </p:blipFill>
        <p:spPr>
          <a:xfrm>
            <a:off x="4191120" y="612720"/>
            <a:ext cx="4305240" cy="2511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4160" y="632448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pin w. IR comm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71880" y="247320"/>
            <a:ext cx="439416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Pushpins – June 02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100 constru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I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ver 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groups at Media Lab, AI Lab, Physics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 layer (photo sensor with LED outpu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ushpns-wall-LR" descr="">
            <a:hlinkClick r:id="rId1"/>
          </p:cNvPr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04920" y="914400"/>
            <a:ext cx="4419360" cy="3083040"/>
          </a:xfrm>
          <a:prstGeom prst="rect">
            <a:avLst/>
          </a:prstGeom>
          <a:ln w="0">
            <a:noFill/>
          </a:ln>
        </p:spPr>
      </p:pic>
      <p:pic>
        <p:nvPicPr>
          <p:cNvPr id="68" name="PushpinsLR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914400"/>
            <a:ext cx="39625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01360" y="247320"/>
            <a:ext cx="533412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tatus and Application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and hardware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 coupling is directional and anisotrop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o capacitive coupling with carrier (near-field R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rules for distributed pattern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simple object (circle, square, triangle) on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le interface for group dynamics (Steel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0001111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2392200" cy="3587760"/>
          </a:xfrm>
          <a:prstGeom prst="rect">
            <a:avLst/>
          </a:prstGeom>
          <a:ln w="0">
            <a:noFill/>
          </a:ln>
        </p:spPr>
      </p:pic>
      <p:pic>
        <p:nvPicPr>
          <p:cNvPr id="72" name="P0001082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371600" y="10666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305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600" y="76320"/>
            <a:ext cx="8556480" cy="879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timate Digital Connection - Sensate Medi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igh-density local network of processors and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ocal computation finds features between adjacent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mmunicates to outside world (edge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ensors simple – could be capacitive, pressure, optica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ushes materials, interconnections, power distribution, network protoco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Realization as smart surfaces, multisensory digital ski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Revolutionary apps in medicine, wearables, robotics, HC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572000" cy="229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10080" y="685800"/>
            <a:ext cx="2514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66520" y="247320"/>
            <a:ext cx="340380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ensate Floor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54860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 of piezoelectric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ive multiplexe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exhibit at the MIT Museum (from 4/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5520" y="1098720"/>
            <a:ext cx="3841560" cy="1971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343400" y="1143000"/>
            <a:ext cx="4495680" cy="1693800"/>
          </a:xfrm>
          <a:prstGeom prst="rect">
            <a:avLst/>
          </a:prstGeom>
          <a:ln w="0">
            <a:noFill/>
          </a:ln>
        </p:spPr>
      </p:pic>
      <p:pic>
        <p:nvPicPr>
          <p:cNvPr id="81" name="kidsOnCarpet5Small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327672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82" name="MIT-Carpet-LR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1480" y="3201840"/>
            <a:ext cx="259092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6:07:19Z</dcterms:created>
  <dc:creator>Joe Paradiso</dc:creator>
  <dc:description/>
  <dc:language>en-US</dc:language>
  <cp:lastModifiedBy>Joe Paradiso</cp:lastModifiedBy>
  <dcterms:modified xsi:type="dcterms:W3CDTF">2002-06-28T18:15:11Z</dcterms:modified>
  <cp:revision>154</cp:revision>
  <dc:subject>Modern Sensor Technologies for Interactive Environments</dc:subject>
  <dc:title>Make IT Easy talk</dc:title>
</cp:coreProperties>
</file>