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3A02-84E7-4B03-AB05-E72735E3B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60C2-286A-434A-B2E2-5F6516B1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0CE4-C492-4D02-81B2-35FC7D349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99EA-1CDE-43CC-A2C8-8F45578AE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6D04-CE80-4833-A57D-0D64B2AD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9AC1-58D5-42ED-843C-4AF10ABF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B027-34A7-41BE-A5BF-F17534A2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E1ED-FE72-4FC2-BD3A-E3F1CA46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63A0-20A0-409C-AE49-DD104749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EF27-7B51-495D-AF51-8FAAD908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3F17-F5C8-436F-879B-E549AC32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FACC-B128-4EAD-BA7F-72260D32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A4A2-AAB8-400A-A058-231382326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160020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Quantum Control in the Presence of Relax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57320" y="3352680"/>
            <a:ext cx="38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Benjamin Re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MIT Media Lab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352200" y="4800600"/>
            <a:ext cx="2786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llaborator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Yael Magu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eth Lloy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saac Chu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eil Gershenf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858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Decoherence and Relax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31800" y="45720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45360" y="4572000"/>
            <a:ext cx="15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is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9880" y="48006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30760" y="4038480"/>
            <a:ext cx="163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Quan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59760" y="4038480"/>
            <a:ext cx="15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las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9880" y="42670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decoherence_glow" descr=""/>
          <p:cNvPicPr/>
          <p:nvPr/>
        </p:nvPicPr>
        <p:blipFill>
          <a:blip r:embed="rId1"/>
          <a:stretch/>
        </p:blipFill>
        <p:spPr>
          <a:xfrm>
            <a:off x="708120" y="2057400"/>
            <a:ext cx="84358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00200" y="3808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Correcting relaxation in NM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94240" y="150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1447920"/>
            <a:ext cx="374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d:  90 pu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Green:  Spins Rel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range:  Control Pu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Garamond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ush the spins back into the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4952880"/>
            <a:ext cx="321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nduced signal with and without correction pul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magnetization%20FAT" descr=""/>
          <p:cNvPicPr/>
          <p:nvPr/>
        </p:nvPicPr>
        <p:blipFill>
          <a:blip r:embed="rId1"/>
          <a:stretch/>
        </p:blipFill>
        <p:spPr>
          <a:xfrm>
            <a:off x="4952880" y="3581280"/>
            <a:ext cx="3684600" cy="2992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correction" descr=""/>
          <p:cNvPicPr/>
          <p:nvPr/>
        </p:nvPicPr>
        <p:blipFill>
          <a:blip r:embed="rId2"/>
          <a:stretch/>
        </p:blipFill>
        <p:spPr>
          <a:xfrm>
            <a:off x="839880" y="1370160"/>
            <a:ext cx="358272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14400" y="6858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Recht Angle vs Ernst Ang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2960" y="186048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 new interpretation of an old result on steady-state N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ernst_vs_ben_zoom" descr=""/>
          <p:cNvPicPr/>
          <p:nvPr/>
        </p:nvPicPr>
        <p:blipFill>
          <a:blip r:embed="rId1"/>
          <a:stretch/>
        </p:blipFill>
        <p:spPr>
          <a:xfrm>
            <a:off x="5257800" y="2590920"/>
            <a:ext cx="3382920" cy="2754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12960" y="3809880"/>
            <a:ext cx="335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n the limit where T1=T2 our schemes produce larger NMR signals and use smaller RF pul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724280" y="152280"/>
            <a:ext cx="3733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Wavefo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ha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5181480"/>
            <a:ext cx="304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We can write arbitrary envelopes on the spins using control pul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76920" y="5181480"/>
            <a:ext cx="320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Zooming in, the spins process at their natural rate and we push them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334120" y="3962160"/>
            <a:ext cx="0" cy="609480"/>
          </a:xfrm>
          <a:prstGeom prst="line">
            <a:avLst/>
          </a:prstGeom>
          <a:ln w="507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24480" y="3962520"/>
            <a:ext cx="0" cy="380880"/>
          </a:xfrm>
          <a:prstGeom prst="line">
            <a:avLst/>
          </a:prstGeom>
          <a:ln w="507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7086600" y="3962160"/>
            <a:ext cx="0" cy="533160"/>
          </a:xfrm>
          <a:prstGeom prst="line">
            <a:avLst/>
          </a:prstGeom>
          <a:ln w="507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96080" y="2438280"/>
            <a:ext cx="12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Spins Rin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96080" y="4038480"/>
            <a:ext cx="12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Garamond"/>
              </a:rPr>
              <a:t>Control Pul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spinning%20hi%20res%20b" descr=""/>
          <p:cNvPicPr/>
          <p:nvPr/>
        </p:nvPicPr>
        <p:blipFill>
          <a:blip r:embed="rId1"/>
          <a:stretch/>
        </p:blipFill>
        <p:spPr>
          <a:xfrm>
            <a:off x="4952880" y="2438280"/>
            <a:ext cx="2587680" cy="1643040"/>
          </a:xfrm>
          <a:prstGeom prst="rect">
            <a:avLst/>
          </a:prstGeom>
          <a:ln w="0">
            <a:noFill/>
          </a:ln>
        </p:spPr>
      </p:pic>
      <p:pic>
        <p:nvPicPr>
          <p:cNvPr id="75" name="ML%20Plot%20b%20FAT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52800" cy="2663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nmr500" descr=""/>
          <p:cNvPicPr/>
          <p:nvPr/>
        </p:nvPicPr>
        <p:blipFill>
          <a:blip r:embed="rId3"/>
          <a:stretch/>
        </p:blipFill>
        <p:spPr>
          <a:xfrm>
            <a:off x="1981080" y="152280"/>
            <a:ext cx="156384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828800" y="6858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reserving Entangled 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19051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We have numerically demonstrated the preservation of quantum information using only unitary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3657600"/>
            <a:ext cx="373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ven under restrictive assumptions, we can store one third of an “ebi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ent" descr=""/>
          <p:cNvPicPr/>
          <p:nvPr/>
        </p:nvPicPr>
        <p:blipFill>
          <a:blip r:embed="rId1"/>
          <a:stretch/>
        </p:blipFill>
        <p:spPr>
          <a:xfrm>
            <a:off x="4876920" y="2895480"/>
            <a:ext cx="3757320" cy="27194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216080" y="5251320"/>
            <a:ext cx="274140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8T02:22:06Z</dcterms:created>
  <dc:creator>Physics and Media Group</dc:creator>
  <dc:description/>
  <dc:language>en-US</dc:language>
  <cp:lastModifiedBy>Ben Recht</cp:lastModifiedBy>
  <dcterms:modified xsi:type="dcterms:W3CDTF">2002-06-28T13:27:17Z</dcterms:modified>
  <cp:revision>57</cp:revision>
  <dc:subject/>
  <dc:title>PowerPoint Presentation</dc:title>
</cp:coreProperties>
</file>