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AB3-CDFF-40C1-BBA9-05755BFE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83F-0536-4E9F-8CB3-BB0AFB8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3F7-FFD8-4E6D-83C2-3E27FB8F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2EA-ACF1-4897-B11B-BADEBB46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0B6-BF9D-4132-9610-0E4670D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B27-BB1A-4B46-9055-CE6C436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198-3D42-4CB8-BD28-A50A999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C9D-A8F3-4B48-ADAF-67AAF52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413-CF28-4DC4-9910-79690FD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8FF-6191-4380-B386-B7BCACE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B52-170A-4615-A868-2336F7F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4F9-88A3-4B68-8252-AA02BB2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1B8-65B6-4564-834F-182914A8B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electronic Fabrication 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: quanta.media.mit.edu/microfa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capable of carrying out various steps in microelectronic device fabr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eam De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resist Spin Co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resist Ov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xl30tmp_pnew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324840" cy="454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5257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3000" y="4572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carti30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xhaust" descr=""/>
          <p:cNvPicPr/>
          <p:nvPr/>
        </p:nvPicPr>
        <p:blipFill>
          <a:blip r:embed="rId1"/>
          <a:stretch/>
        </p:blipFill>
        <p:spPr>
          <a:xfrm>
            <a:off x="503280" y="388800"/>
            <a:ext cx="81374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crystls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pider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utterfly0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c" descr=""/>
          <p:cNvPicPr/>
          <p:nvPr/>
        </p:nvPicPr>
        <p:blipFill>
          <a:blip r:embed="rId1"/>
          <a:stretch/>
        </p:blipFill>
        <p:spPr>
          <a:xfrm>
            <a:off x="503280" y="663480"/>
            <a:ext cx="81374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trata" descr="Strada DB 235"/>
          <p:cNvPicPr/>
          <p:nvPr/>
        </p:nvPicPr>
        <p:blipFill>
          <a:blip r:embed="rId1"/>
          <a:stretch/>
        </p:blipFill>
        <p:spPr>
          <a:xfrm>
            <a:off x="1600200" y="1066680"/>
            <a:ext cx="5867280" cy="475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98040" y="3808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beam 235 (Focused Ion Beam and S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0:43:28Z</dcterms:created>
  <dc:creator>Rosanne Kariadakis</dc:creator>
  <dc:description/>
  <dc:language>en-US</dc:language>
  <cp:lastModifiedBy>Rosanne Kariadakis</cp:lastModifiedBy>
  <dcterms:modified xsi:type="dcterms:W3CDTF">2002-07-16T02:17:13Z</dcterms:modified>
  <cp:revision>6</cp:revision>
  <dc:subject/>
  <dc:title>Microelectronic Fabrication Lab</dc:title>
</cp:coreProperties>
</file>