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CE3-9E57-4278-B2C1-7309A965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4A7-C0BC-4E81-9622-E4BA8A5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F04-BD85-4F57-B4E3-3383E541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17C-C5E7-45F6-B7D8-C7F27BAE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FF8-0473-40A1-BB11-3347C8AD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0CA-505E-43BA-B155-D7455F6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E88-23B8-4F41-91F4-BA6A239A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E9E-74F2-4827-BA58-0D45C925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EE5-0B36-435D-A2B7-9D99052D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541-0ECB-4CE9-BEE9-65ED21F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E51-B3D5-4FAA-8E20-885BDD1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9C3-F72B-46B3-AA1C-7E64BE2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208-8BBD-4CC9-8C0D-694D965FA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IME-BASED HYBRID ANALOG-DIGITAL COMPUTA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400" y="304776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hul Sarpeshk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t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ical Engineering and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5600" y="6019920"/>
            <a:ext cx="84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edia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6/28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873240" cy="31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375080" cy="414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7960" y="137160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FINITE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8720" y="137160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HYBRID STATE MACHINE (H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200" y="457200"/>
            <a:ext cx="76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HE HYBRID STATE MACHINE (HS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8680" y="633888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Spike” = Pulse or Digital Even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4600" y="1219320"/>
            <a:ext cx="83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An HSM for Successive Approximation A/D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240" y="5029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39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rot="16200000">
            <a:off x="-867240" y="3152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Voltage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5029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Voltage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94120" cy="29779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572000" y="1371600"/>
            <a:ext cx="4378320" cy="3516120"/>
            <a:chOff x="4572000" y="1371600"/>
            <a:chExt cx="4378320" cy="35161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5029200" y="1828800"/>
              <a:ext cx="3921120" cy="30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76880" y="1962000"/>
              <a:ext cx="35654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64280" y="2070000"/>
              <a:ext cx="35654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086600" y="1752480"/>
              <a:ext cx="0" cy="533160"/>
              <a:chOff x="7086600" y="1752480"/>
              <a:chExt cx="0" cy="533160"/>
            </a:xfrm>
          </p:grpSpPr>
          <p:sp>
            <p:nvSpPr>
              <p:cNvPr id="68" name=""/>
              <p:cNvSpPr/>
              <p:nvPr/>
            </p:nvSpPr>
            <p:spPr>
              <a:xfrm>
                <a:off x="7086600" y="1752480"/>
                <a:ext cx="0" cy="2030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086600" y="2057040"/>
                <a:ext cx="0" cy="228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77120" y="23619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3mV dri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39040" y="1371600"/>
              <a:ext cx="2819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552120" y="322884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ed Voltage (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55308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62120" y="15238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bit-precise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6960" y="16002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bit-precise write 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38880" y="68580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Analog Memor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74600" y="5392800"/>
            <a:ext cx="780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a clock to do signal restoration without explicit quantization o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that has been first converted to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ime is a signal variable, a clock is a powerful tool for quan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ce you round up or round down to the nearest clock ed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22:39:15Z</dcterms:created>
  <dc:creator>rahuls</dc:creator>
  <dc:description/>
  <dc:language>en-US</dc:language>
  <cp:lastModifiedBy>Rahuls Sarpeshkar</cp:lastModifiedBy>
  <dcterms:modified xsi:type="dcterms:W3CDTF">2002-06-28T13:50:38Z</dcterms:modified>
  <cp:revision>185</cp:revision>
  <dc:subject/>
  <dc:title>PowerPoint Presentation</dc:title>
</cp:coreProperties>
</file>