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A3C-C9D2-46B7-A7C4-F4269571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B7D-76E2-4C09-BAF8-16B82FC5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320-91DC-41E9-A2A0-D252897C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C2B-0BEA-4F5F-AFDA-1956EB68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606-B0E5-412B-9FDE-E9CAE01F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7E0-8E72-461A-B0D2-2633A514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07E-D77D-422E-AF0C-9C225A6C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531-ADED-4F11-9608-703F7F7B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A67-5773-409C-898E-3725DD33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DD5-A675-4026-BEBE-0D802477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EF4-8D1B-474B-B3C5-F1CEB4C5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575-56FA-4E80-9B52-93BC9331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99E8-3C66-47EB-8F63-52B36504A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 VLSI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ignal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57909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jamin Vigoda, MIT Media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DSP-signal-chain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925960" cy="1695240"/>
          </a:xfrm>
          <a:prstGeom prst="rect">
            <a:avLst/>
          </a:prstGeom>
          <a:ln w="0">
            <a:noFill/>
          </a:ln>
        </p:spPr>
      </p:pic>
      <p:pic>
        <p:nvPicPr>
          <p:cNvPr id="44" name="AVLSI-bayes-net-signal-chain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39369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 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oft%20xor" descr=""/>
          <p:cNvPicPr/>
          <p:nvPr/>
        </p:nvPicPr>
        <p:blipFill>
          <a:blip r:embed="rId1"/>
          <a:stretch/>
        </p:blipFill>
        <p:spPr>
          <a:xfrm>
            <a:off x="4572000" y="984240"/>
            <a:ext cx="1752480" cy="84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3560" y="9907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od2%20sum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219320" cy="78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80036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+ 0 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+ 1 =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0 =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838080"/>
            <a:ext cx="2362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XO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03760" y="2133720"/>
            <a:ext cx="3754440" cy="618840"/>
          </a:xfrm>
          <a:prstGeom prst="rect">
            <a:avLst/>
          </a:prstGeom>
          <a:ln w="0">
            <a:noFill/>
          </a:ln>
        </p:spPr>
      </p:pic>
      <p:pic>
        <p:nvPicPr>
          <p:cNvPr id="52" name="softxor-circuit" descr=""/>
          <p:cNvPicPr/>
          <p:nvPr/>
        </p:nvPicPr>
        <p:blipFill>
          <a:blip r:embed="rId4"/>
          <a:stretch/>
        </p:blipFill>
        <p:spPr>
          <a:xfrm>
            <a:off x="3733920" y="3287880"/>
            <a:ext cx="5257800" cy="2884320"/>
          </a:xfrm>
          <a:prstGeom prst="rect">
            <a:avLst/>
          </a:prstGeom>
          <a:ln w="0">
            <a:noFill/>
          </a:ln>
        </p:spPr>
      </p:pic>
      <p:pic>
        <p:nvPicPr>
          <p:cNvPr id="53" name="xor-gate" descr=""/>
          <p:cNvPicPr/>
          <p:nvPr/>
        </p:nvPicPr>
        <p:blipFill>
          <a:blip r:embed="rId5"/>
          <a:stretch/>
        </p:blipFill>
        <p:spPr>
          <a:xfrm>
            <a:off x="1905120" y="182880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19720" y="1522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xor-schematic" descr=""/>
          <p:cNvPicPr/>
          <p:nvPr/>
        </p:nvPicPr>
        <p:blipFill>
          <a:blip r:embed="rId6"/>
          <a:stretch/>
        </p:blipFill>
        <p:spPr>
          <a:xfrm>
            <a:off x="380880" y="3809880"/>
            <a:ext cx="23623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Lock Loop (NL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emo-setup" descr=""/>
          <p:cNvPicPr/>
          <p:nvPr/>
        </p:nvPicPr>
        <p:blipFill>
          <a:blip r:embed="rId1"/>
          <a:stretch/>
        </p:blipFill>
        <p:spPr>
          <a:xfrm>
            <a:off x="152280" y="2246400"/>
            <a:ext cx="403884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lfsr" descr=""/>
          <p:cNvPicPr/>
          <p:nvPr/>
        </p:nvPicPr>
        <p:blipFill>
          <a:blip r:embed="rId2"/>
          <a:stretch/>
        </p:blipFill>
        <p:spPr>
          <a:xfrm flipH="1" rot="10800000">
            <a:off x="4344840" y="1961280"/>
            <a:ext cx="4648320" cy="768600"/>
          </a:xfrm>
          <a:prstGeom prst="rect">
            <a:avLst/>
          </a:prstGeom>
          <a:ln w="0">
            <a:noFill/>
          </a:ln>
        </p:spPr>
      </p:pic>
      <p:pic>
        <p:nvPicPr>
          <p:cNvPr id="59" name="lfsr%20w%20noise" descr=""/>
          <p:cNvPicPr/>
          <p:nvPr/>
        </p:nvPicPr>
        <p:blipFill>
          <a:blip r:embed="rId3"/>
          <a:stretch/>
        </p:blipFill>
        <p:spPr>
          <a:xfrm flipH="1" rot="10800000">
            <a:off x="4343400" y="2799720"/>
            <a:ext cx="4649760" cy="780840"/>
          </a:xfrm>
          <a:prstGeom prst="rect">
            <a:avLst/>
          </a:prstGeom>
          <a:ln w="0">
            <a:noFill/>
          </a:ln>
        </p:spPr>
      </p:pic>
      <p:pic>
        <p:nvPicPr>
          <p:cNvPr id="60" name="decoder" descr=""/>
          <p:cNvPicPr/>
          <p:nvPr/>
        </p:nvPicPr>
        <p:blipFill>
          <a:blip r:embed="rId4"/>
          <a:stretch/>
        </p:blipFill>
        <p:spPr>
          <a:xfrm flipH="1" rot="10800000">
            <a:off x="4344840" y="3638160"/>
            <a:ext cx="46483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2Gates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6360" y="5181480"/>
            <a:ext cx="39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Bayes Net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6200" y="571500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ce Ne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encoder-example1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99556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19720" y="990720"/>
            <a:ext cx="4572000" cy="459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Waveform probing comma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pr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options probefilename="D:+ probesdbfile="D:+ probetopmodule="3 softxors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SUBCKT softxor p_x0 p_x1 p_y0 p_y1 p_z0 p_z1 GND Vd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4 N5 p_y1 N7 GND NMOS_49 W='48*l' L='4*l' AS='40*l*l' AD='40*l*l' PS='24*l' PD='24*l' M=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8 N1 p_y0 N7 GND NMOS_49 W='48*l' L='4*l' AS='40*l*l' AD='40*l*l' PS='24*l' PD='24*l' M=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7 N8 p_y1 N1 GND NMOS_49 W='48*l' L='4*l' AS='40*l*l' AD='40*l*l' PS='24*l' PD='24*l' M=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3 N8 p_y0 N5 GND NMOS_49 W='48*l' L='4*l' AS='40*l*l' AD='40*l*l' PS='24*l' PD='24*l' M=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9 GND p_x1 N1 GND NMOS_49 W='48*l' L='4*l' AS='40*l*l' AD='40*l*l' PS='24*l' PD='24*l' M=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6 N5 p_x0 GND GND NMOS_49 W='48*l' L='4*l' AS='40*l*l' AD='40*l*l' PS='24*l' PD='24*l' M=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12 p_z1 N7 Vdd N6 PMOS_49 W='48*l' L='10*l' AS='66*l*l' AD='66*l*l' PS='60*l' PD='60*l' M=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11 Vdd N7 N7 N2 PMOS_49 W='48*l' L='10*l' AS='66*l*l' AD='66*l*l' PS='60*l' PD='60*l' M=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Main circuit: 3 softx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tran 1n 1600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include Mami_15.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options abstol=1e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param l=0.8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1 N1 GND 50 TC=0.0, 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2 N7 GND 50 TC=0.0, 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4800600"/>
            <a:ext cx="44197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softxor_1 N5 N3 N4 N19 N11 N10 GND Vdd softx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softxor_2 N11 N10 N9 N8 N7 N1 GND Vdd softx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softxor_3 N2 N16 N15 N14 N9 N8 GND Vdd softx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085760"/>
            <a:ext cx="44197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PICE netlist written by Bayes2Gates (c) 2002 Ben Vigoda, MIT Media La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Written on 28-Jun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0:24:36Z</dcterms:created>
  <dc:creator>Benjamin Vigoda</dc:creator>
  <dc:description/>
  <dc:language>en-US</dc:language>
  <cp:lastModifiedBy>Benjamin Vigoda</cp:lastModifiedBy>
  <dcterms:modified xsi:type="dcterms:W3CDTF">2002-06-28T12:54:35Z</dcterms:modified>
  <cp:revision>13</cp:revision>
  <dc:subject/>
  <dc:title>Analog VLSI Bayesian Networks for Signal Processing</dc:title>
</cp:coreProperties>
</file>