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CCE3-ACC1-4CFD-B0B0-AAA432852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40D4-C445-462A-8452-0FE72257E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611E-CC7F-4748-AC28-08905EBE6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C5E2-BB05-4934-AD7E-23BE254ED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1358-4227-4BA6-9433-810042181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636F-874D-425D-A971-B3E4FBA6C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E9F2-0D80-4480-9ABA-A7C8FE8AA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4E11-CF89-439F-AEF2-7AD5F795D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91A7-A9C4-4A58-B19F-BF0C24725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31B2-39B4-4819-BE47-236510B7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8681-2781-42A1-BC99-3367654C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AF27-B2C3-4882-86A6-53A07F9F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6e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13B41-E90F-46C9-A014-45D035B841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6e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69160" cy="5791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54840" y="4724280"/>
            <a:ext cx="630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Building Embedded 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97440" y="5408640"/>
            <a:ext cx="3252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affi Krikori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hysics and Me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6e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hive-screenshot" descr=""/>
          <p:cNvPicPr/>
          <p:nvPr/>
        </p:nvPicPr>
        <p:blipFill>
          <a:blip r:embed="rId1"/>
          <a:stretch/>
        </p:blipFill>
        <p:spPr>
          <a:xfrm>
            <a:off x="1727280" y="457200"/>
            <a:ext cx="7111800" cy="58546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012680" y="1211400"/>
            <a:ext cx="515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Building higher level syst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3276720"/>
            <a:ext cx="6027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ake it easy to cause complex behavior to occ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“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Google-like”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H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JX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ake it simple for complex behavior to em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6e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e14" descr=""/>
          <p:cNvPicPr/>
          <p:nvPr/>
        </p:nvPicPr>
        <p:blipFill>
          <a:blip r:embed="rId1"/>
          <a:stretch/>
        </p:blipFill>
        <p:spPr>
          <a:xfrm>
            <a:off x="457200" y="1405080"/>
            <a:ext cx="8305920" cy="40478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012680" y="1211400"/>
            <a:ext cx="515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How do you test all of thi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3880" y="3276720"/>
            <a:ext cx="6027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irst test installation was in Barcelona, moving towards se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BA’s new home is first permanent testb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6e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track-full" descr=""/>
          <p:cNvPicPr/>
          <p:nvPr/>
        </p:nvPicPr>
        <p:blipFill>
          <a:blip r:embed="rId1"/>
          <a:stretch/>
        </p:blipFill>
        <p:spPr>
          <a:xfrm>
            <a:off x="762120" y="585720"/>
            <a:ext cx="7591320" cy="5686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012680" y="1211400"/>
            <a:ext cx="515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Building Internet</a:t>
            </a:r>
            <a:r>
              <a:rPr b="1" i="1" lang="en-US" sz="3600" spc="-1" strike="noStrike">
                <a:solidFill>
                  <a:srgbClr val="ffffff"/>
                </a:solidFill>
                <a:latin typeface="Verdan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3880" y="3276720"/>
            <a:ext cx="602784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raditional networking hardware research focuses on bigger and faster pipes (Internet</a:t>
            </a: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e focus on bit-dribbling hard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6e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track-filament" descr=""/>
          <p:cNvPicPr/>
          <p:nvPr/>
        </p:nvPicPr>
        <p:blipFill>
          <a:blip r:embed="rId1"/>
          <a:stretch/>
        </p:blipFill>
        <p:spPr>
          <a:xfrm>
            <a:off x="4191120" y="390600"/>
            <a:ext cx="4552920" cy="60768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012680" y="1211400"/>
            <a:ext cx="515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Bridging the bandwidth div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3880" y="3276720"/>
            <a:ext cx="602784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ringing IP to the leaf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evisiting hardware transports and redesigning logical trans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heap, low bandwidth IP (a level below Ethern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6e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track-filamnet-side" descr=""/>
          <p:cNvPicPr/>
          <p:nvPr/>
        </p:nvPicPr>
        <p:blipFill>
          <a:blip r:embed="rId1"/>
          <a:stretch/>
        </p:blipFill>
        <p:spPr>
          <a:xfrm>
            <a:off x="476280" y="390600"/>
            <a:ext cx="4552920" cy="60768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012680" y="1211400"/>
            <a:ext cx="515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Going really sm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3880" y="3276720"/>
            <a:ext cx="602784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istributed scalable system – no central point of control/servers are “ba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evices own their data and own their thre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elf organ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Gro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6e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filament" descr=""/>
          <p:cNvPicPr/>
          <p:nvPr/>
        </p:nvPicPr>
        <p:blipFill>
          <a:blip r:embed="rId1"/>
          <a:stretch/>
        </p:blipFill>
        <p:spPr>
          <a:xfrm>
            <a:off x="838080" y="214200"/>
            <a:ext cx="7344000" cy="64152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012680" y="1049400"/>
            <a:ext cx="5159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Building the first embodiment of small th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3114720"/>
            <a:ext cx="602784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S-485 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ature industrial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o active j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edia access costs penn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IC microcontroll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uilt in U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lenty of space for networking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just a few doll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6e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012680" y="1093680"/>
            <a:ext cx="515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Building more small th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3159000"/>
            <a:ext cx="602784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ifferent physical trans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SSS over power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ireless R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ltraso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evisiting old transports – slowing them down makes them a lot more acce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6e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si-layers" descr=""/>
          <p:cNvPicPr/>
          <p:nvPr/>
        </p:nvPicPr>
        <p:blipFill>
          <a:blip r:embed="rId1"/>
          <a:stretch/>
        </p:blipFill>
        <p:spPr>
          <a:xfrm>
            <a:off x="5334120" y="539640"/>
            <a:ext cx="3276360" cy="5778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012680" y="1258920"/>
            <a:ext cx="424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ramming bits is nothing n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3324240"/>
            <a:ext cx="6027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 “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elayered” software sta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RP, IP, ICMP, UDP, TCP – IPv4 compliant in 2K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HTTPd 0.9 server – 1K co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6e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012680" y="1211400"/>
            <a:ext cx="515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Naming, Classifying, Commun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3880" y="3276720"/>
            <a:ext cx="6027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Ds for each device – unified or multi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or today, use Zeroconf – sub-DH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or tomorrow, possibly use IPv6 as the unique address through mini-rout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chema for identifying de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mmunication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6e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code" descr=""/>
          <p:cNvPicPr/>
          <p:nvPr/>
        </p:nvPicPr>
        <p:blipFill>
          <a:blip r:embed="rId1"/>
          <a:stretch/>
        </p:blipFill>
        <p:spPr>
          <a:xfrm>
            <a:off x="1019160" y="533520"/>
            <a:ext cx="7105680" cy="57909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012680" y="1211400"/>
            <a:ext cx="5159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Programming and Coordinating a mass of devi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23880" y="3276720"/>
            <a:ext cx="6027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rogramming arbitrary massively parallel distributed systems is hard, building simple ones is eas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hese systems exhi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cale complex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teraction complex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inimal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patial re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8T02:41:02Z</dcterms:created>
  <dc:creator>Raffi Krikorian</dc:creator>
  <dc:description/>
  <dc:language>en-US</dc:language>
  <cp:lastModifiedBy>Raffi Krikorian</cp:lastModifiedBy>
  <dcterms:modified xsi:type="dcterms:W3CDTF">2002-07-17T12:10:22Z</dcterms:modified>
  <cp:revision>28</cp:revision>
  <dc:subject/>
  <dc:title>PowerPoint Presentation</dc:title>
</cp:coreProperties>
</file>