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AC1-E896-46CC-B924-54ED42E0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DCA-F20C-4268-9E83-AA256F6B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99A-2EA6-42FE-9FCD-CE67BA03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131-322C-467A-9D33-2C8E23F8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F79-A184-4BB2-BD81-62D2D5DB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F0FF-BDEC-4928-82E5-592DCC8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9C17-E5DD-44F8-B541-BD2159FE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736-D381-49DF-A7FC-760769D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DAB7-90E7-433B-A3BC-2B90378F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ED0-6034-4A4C-9726-C663BC8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D4E-7048-4A65-99FD-578B325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33A-1659-42BC-AB4C-481A916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9E9-F773-4558-A5B1-37A7A9B4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0E3C-69B4-40DE-A433-4715F11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A99-73D1-4F32-918A-D247EAE0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B11-58E0-4116-A66F-93A1AE2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3F8F-825D-433F-8FF6-F5A6E22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4A1-8419-41AA-B6D3-2005D96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B04-7490-42DE-B886-C055202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577-E208-44A0-86AB-3D2A19A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DCB-2ACF-4801-BB68-4086F133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808-231B-4AA6-B42A-4B57B509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701-7DD3-4B00-9A01-CAFFFDE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864-9C90-4981-B9CC-167DB0E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232-C872-441A-AD53-971BC9BD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154720" y="228600"/>
            <a:ext cx="73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b399"/>
                </a:solidFill>
                <a:latin typeface="Times New Roman"/>
              </a:rPr>
              <a:t>Terab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264-5E72-4BD1-A08C-5F8D577CCEDA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bedded Switc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-minn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bi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rabitcor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ssues in Adapting Galois for Embedded Switc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-free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Detection and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ity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ity of Interconnec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Up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abit Corpo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 in high performance networking optimized through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 Grade Router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e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chronous Traffic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ffl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lite (Batcher-Bany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N Butter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/OSPF/B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assical MI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Parallel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Fault Tolerance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rl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4113000" cy="436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62040" y="5718240"/>
            <a:ext cx="30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rlite: A Wideband Digital Switch”, S. Knauer &amp; A Huang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LOBECOMM ‘8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tlanta, GA, 19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andson of Starl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3048120" cy="317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96520" y="5562720"/>
            <a:ext cx="344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calable Switching Networks,” U.S. patent 5,841,775, Nov. 24, 199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ecks in Switching Networ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63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alois Networ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ath Fault Toleranc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Handling of Isochronous Traffic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outing Algorithms Exis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Efficien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l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owth Patter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Macintosh HD:Users:hlu:Documents:growth.qt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05:20:26Z</dcterms:created>
  <dc:creator>None None</dc:creator>
  <dc:description/>
  <dc:language>en-US</dc:language>
  <cp:lastModifiedBy>None None</cp:lastModifiedBy>
  <dcterms:modified xsi:type="dcterms:W3CDTF">2002-07-17T15:26:22Z</dcterms:modified>
  <cp:revision>14</cp:revision>
  <dc:subject/>
  <dc:title>History</dc:title>
</cp:coreProperties>
</file>