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9234-024B-4794-A71B-3C8D00291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D9BE-D5C1-4CE9-AE93-720FB945D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7642-D51A-448E-B360-0E183B2EE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3D99-32F0-46AE-A271-C554EBD49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2FC5-3CD1-485F-A551-76D48D9B1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C1B0-A23D-45FF-B0FA-3A7CEBCD44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0DFC2-35F5-4D27-8184-BD3A2A571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8DFED-EFE0-45D9-B6F1-24B0B0137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08E9-6DC0-4A00-A666-A5B7468CC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C325-4DDC-433F-ADBB-4211A0FC62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27FA-FE4C-47DA-9E82-D26068377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3EE8-D7CB-451B-BEAB-3AB197D57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D408-8D6D-484E-93CA-77552E5C59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D293C-5893-422A-B5BD-F571473AA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EBAE-79BF-4E84-8332-44D6DF2FE7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2F45F-01C9-47DB-85D4-BF6CF40E7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E99B3-24BA-46A5-AEF7-74667E149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2AE5-5899-4AB5-83D9-851EA15C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BD95-9848-4453-B5A1-F1696D5A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1AE5-AF56-4E16-B2F3-78831ED9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3C03-E858-4B55-BCA2-A15A9650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A93C-29CD-43DD-8B5B-172809272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2A5E-2B3A-44AE-8956-A891EC8E6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E03F-EB42-4D8E-A3D9-020466F9E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133360" y="634356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cc"/>
                </a:solidFill>
                <a:latin typeface="Arial"/>
              </a:rPr>
              <a:t>Learning Webs Group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     MIT Media Laboratory &amp; Center for Bits and Ato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6E9-2747-4F9B-90FA-9C2DCA592CE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756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580920" y="634356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411-4858-41B5-A0DF-608B96C47FA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P EVERYWHERE &amp; BY EVERYON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685600" y="2819520"/>
            <a:ext cx="6102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khtiar Mikha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ris Ly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m Gort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Learning Webs Grou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14800" y="5973840"/>
            <a:ext cx="5029200" cy="274680"/>
            <a:chOff x="4114800" y="5973840"/>
            <a:chExt cx="5029200" cy="274680"/>
          </a:xfrm>
        </p:grpSpPr>
        <p:sp>
          <p:nvSpPr>
            <p:cNvPr id="84" name=""/>
            <p:cNvSpPr/>
            <p:nvPr/>
          </p:nvSpPr>
          <p:spPr>
            <a:xfrm>
              <a:off x="4114800" y="5973840"/>
              <a:ext cx="314280" cy="274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2908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4336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764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1920" y="5973840"/>
              <a:ext cx="31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8620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048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1512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43680" y="5973840"/>
              <a:ext cx="31428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5796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7224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8652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01160" y="5973840"/>
              <a:ext cx="3142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15440" y="5973840"/>
              <a:ext cx="3142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9720" y="5973840"/>
              <a:ext cx="314280" cy="274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overview</a:t>
            </a:r>
            <a:r>
              <a:rPr b="1" lang="en-US" sz="4800" spc="-1" strike="noStrike">
                <a:solidFill>
                  <a:srgbClr val="bccd1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851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goa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aking it easy for everyone to design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nd make their own network app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oolki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odular electronics development environ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llaborative modeling environ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wer: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 modular electronic development environmen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tower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towers" descr=""/>
          <p:cNvPicPr/>
          <p:nvPr/>
        </p:nvPicPr>
        <p:blipFill>
          <a:blip r:embed="rId3"/>
          <a:stretch/>
        </p:blipFill>
        <p:spPr>
          <a:xfrm>
            <a:off x="4572000" y="3016080"/>
            <a:ext cx="3809880" cy="26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wer: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 modular electronic development environmen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0600" y="1904760"/>
            <a:ext cx="8358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lexible, extensible rapid prototyping too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ustomizable, modular virtual machi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abling a wide range of app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rchitecture – building IP / IP everyw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cess model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orkplace research: USPS collabor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ystem dynamic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onal fabric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wer: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 modular electronic development environmen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0960" y="1676160"/>
            <a:ext cx="8129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ndation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ultiple processor suppor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icrochip PIC16F877 microcontroll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expens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de user-bas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asy to us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abbit Semiconductor 2300 processor modul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ore RAM and Flash stor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Ethernet port and TCP/IP sta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wer and programming circuit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ll pin breakout to every lay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wer: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 modular electronic development environmen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0960" y="1676160"/>
            <a:ext cx="8129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yer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n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S-232 and RS-485 serial communica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thernet conne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rared and RF communic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o/visual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chanical actu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EPROM and CompactFlash stor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pid prototyping of new lay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abletop process modeling toolki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540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usps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5639040" cy="3741480"/>
          </a:xfrm>
          <a:prstGeom prst="rect">
            <a:avLst/>
          </a:prstGeom>
          <a:ln w="0">
            <a:noFill/>
          </a:ln>
        </p:spPr>
      </p:pic>
      <p:pic>
        <p:nvPicPr>
          <p:cNvPr id="116" name="towers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2819160" cy="19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905120"/>
            <a:ext cx="2590920" cy="429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Verdana"/>
              </a:rPr>
              <a:t>Mailflow Mod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805280"/>
            <a:ext cx="129564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cancel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468324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DBC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97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2743200" cy="609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73392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DBC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89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828800"/>
            <a:ext cx="838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04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38280" y="304776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00400" y="304776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048120"/>
            <a:ext cx="2133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743200"/>
            <a:ext cx="6858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IS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8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048120"/>
            <a:ext cx="2514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2133720"/>
            <a:ext cx="8380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638680" y="21337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13372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038480"/>
            <a:ext cx="7621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5029200"/>
            <a:ext cx="39621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029200"/>
            <a:ext cx="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86728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52132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other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o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1600200"/>
            <a:ext cx="838080" cy="4495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45560" y="1866960"/>
            <a:ext cx="491760" cy="399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0384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PS collabo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1905120"/>
            <a:ext cx="2590920" cy="429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Verdana"/>
              </a:rPr>
              <a:t>Mailflow Mod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805280"/>
            <a:ext cx="129528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cancel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68324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DBC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97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828800"/>
            <a:ext cx="2743200" cy="609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73392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DBC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89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828800"/>
            <a:ext cx="838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04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029200"/>
            <a:ext cx="10670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7400" y="304776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00400" y="304776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3048120"/>
            <a:ext cx="2514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743200"/>
            <a:ext cx="6858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IS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8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048120"/>
            <a:ext cx="2514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133720"/>
            <a:ext cx="8380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21337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13372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038480"/>
            <a:ext cx="19051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5029200"/>
            <a:ext cx="39621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5029200"/>
            <a:ext cx="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867280"/>
            <a:ext cx="31240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521320"/>
            <a:ext cx="91440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other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o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1600200"/>
            <a:ext cx="838080" cy="4495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45560" y="1866960"/>
            <a:ext cx="491760" cy="399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038480"/>
            <a:ext cx="17524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machine%20-%20blue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685800" cy="6559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5" name="machine%20-%20green" descr=""/>
          <p:cNvPicPr/>
          <p:nvPr/>
        </p:nvPicPr>
        <p:blipFill>
          <a:blip r:embed="rId3"/>
          <a:stretch/>
        </p:blipFill>
        <p:spPr>
          <a:xfrm>
            <a:off x="685800" y="4149720"/>
            <a:ext cx="762120" cy="727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6" name="machine%20-%20blue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685800" cy="6537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7" name="machine%20-%20red" descr=""/>
          <p:cNvPicPr/>
          <p:nvPr/>
        </p:nvPicPr>
        <p:blipFill>
          <a:blip r:embed="rId5"/>
          <a:stretch/>
        </p:blipFill>
        <p:spPr>
          <a:xfrm>
            <a:off x="5867280" y="4191120"/>
            <a:ext cx="685800" cy="655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8" name="machine%20-%20amber" descr=""/>
          <p:cNvPicPr/>
          <p:nvPr/>
        </p:nvPicPr>
        <p:blipFill>
          <a:blip r:embed="rId6"/>
          <a:stretch/>
        </p:blipFill>
        <p:spPr>
          <a:xfrm>
            <a:off x="3581280" y="5181480"/>
            <a:ext cx="685800" cy="665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9" name="link%20-%20145" descr=""/>
          <p:cNvPicPr/>
          <p:nvPr/>
        </p:nvPicPr>
        <p:blipFill>
          <a:blip r:embed="rId7"/>
          <a:stretch/>
        </p:blipFill>
        <p:spPr>
          <a:xfrm>
            <a:off x="1752480" y="3352680"/>
            <a:ext cx="609840" cy="507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0" name="link%20-%2072" descr=""/>
          <p:cNvPicPr/>
          <p:nvPr/>
        </p:nvPicPr>
        <p:blipFill>
          <a:blip r:embed="rId8"/>
          <a:stretch/>
        </p:blipFill>
        <p:spPr>
          <a:xfrm>
            <a:off x="2895480" y="3352680"/>
            <a:ext cx="609840" cy="507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1" name="link%20-%2031" descr=""/>
          <p:cNvPicPr/>
          <p:nvPr/>
        </p:nvPicPr>
        <p:blipFill>
          <a:blip r:embed="rId9"/>
          <a:stretch/>
        </p:blipFill>
        <p:spPr>
          <a:xfrm>
            <a:off x="5334120" y="2362320"/>
            <a:ext cx="609480" cy="507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2" name="link%20-%20450" descr=""/>
          <p:cNvPicPr/>
          <p:nvPr/>
        </p:nvPicPr>
        <p:blipFill>
          <a:blip r:embed="rId10"/>
          <a:stretch/>
        </p:blipFill>
        <p:spPr>
          <a:xfrm>
            <a:off x="1981080" y="4749840"/>
            <a:ext cx="609840" cy="507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3" name="link%20-%200" descr=""/>
          <p:cNvPicPr/>
          <p:nvPr/>
        </p:nvPicPr>
        <p:blipFill>
          <a:blip r:embed="rId11"/>
          <a:stretch/>
        </p:blipFill>
        <p:spPr>
          <a:xfrm>
            <a:off x="3886200" y="3809880"/>
            <a:ext cx="609480" cy="507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PS collabo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3:29:58Z</dcterms:created>
  <dc:creator>bruce blumberg</dc:creator>
  <dc:description/>
  <dc:language>en-US</dc:language>
  <cp:lastModifiedBy>Physics and Media Group</cp:lastModifiedBy>
  <dcterms:modified xsi:type="dcterms:W3CDTF">2002-07-17T02:15:05Z</dcterms:modified>
  <cp:revision>242</cp:revision>
  <dc:subject/>
  <dc:title>PowerPoint Presentation</dc:title>
</cp:coreProperties>
</file>