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844-2E0B-4E8F-BF50-52CBDAFC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7C7-1286-4CE8-BC42-11DCFCB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1EC-666D-45AC-A054-528BD6E3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3F8-0A6C-449D-97F1-9C974A7D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F59-3960-4F05-AC9E-77AD927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240-6F14-4237-B1A5-BC24456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38AF-05CC-4779-9E44-FED658E8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A57A-6B39-44EF-B4F1-0F80D457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216-ACBB-4951-8202-0D90BD9F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D36-1B10-4A3B-8625-F1BC911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A345-3BDB-4718-8A9B-891E064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0C0-6A70-4555-9908-2AEF45B9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8083-33F7-4122-A6CB-602215E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7E52-EC55-4603-83CB-D2F030D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384C-53BE-4929-BD4B-5A3D999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94A1-331A-4506-922D-22F8A04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D207-B563-44E7-8A93-ED9B1731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A48-CA0F-43DE-9AA6-CC270E3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4F7-A8D4-4415-83D5-8C3748E3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473-8E59-4137-8A31-49C05C9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430-C2B3-4CD1-BA81-D6DBCC9C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0A8-7B02-4C1D-A4E1-2AE9D46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C07-1DEA-45B9-9A11-B9916CC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C51-0833-4F7F-BDA7-FEE32B3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B547-02CC-4B0D-8A12-C49CE7274F4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533520" y="1523880"/>
            <a:ext cx="807696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F59-89C1-43DA-A024-050C757513C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Issues of Security and Privacy</a:t>
            </a:r>
            <a:br>
              <a:rPr sz="4000"/>
            </a:b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in Networking in the CB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Karen Sollin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boratory for Computer Scienc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July 17, 200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biquitous networking within facility - universal acces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nnectivity to the Internet - MIT doesn’t run firewalls - how to set limits on acces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urious students - want to see inside everythin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esearch - both networking research and support for wide variety of other research- adaptabilit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nfrastructure of facility - utilities of building, computing services, others?? - stability, trustworthiness, privac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ds of things we know how to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etwork encryption at the link level, network (IP level), even transport (TCP, etc.)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uthentication (e.g. using key exchange or other mechanisms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Key or certification management (PGP, etc.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rewalls: blocking traffic based on filtering at the transport lay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 notice about the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end to be rather stati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end to take offline setup with human interven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t human friendl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lements that may provide similar high level functionality may do it very differently, without concern to substitute-abilit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different way to think about these issues?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yering: protocols designed to provide some model of connectivity among different “end-points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odularity: separation of realization of functions, often used to design, implement, improve or replace independentl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bstraction: hiding details of implementation behind a more formal definition of functionality and interfac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olve parts of problem at different layers - allow them to complement each oth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ample: providing privac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ink level encryption: allows for co-design with link level coding, might be more effici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etwork level: can assume link level encryption, but needs to build privacy across composed link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ransport level needs to guarantee privacy from network level end-point through operating system to transport end-poi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pplication level may need to allow for human friendly access, interpretation, management, etc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ovides separation of units of functionalit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llows for improvement. Upgrade, substitution of elements without impact on othe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ample: encryption algorithms.  If found to have flaws or compromised, could be replaced without replacing whole layer implement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92520" y="53420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fining model at some point that masks models from which it is creat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llows for new bases of assumptions about behavior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ample: in privacy example, allows for assumption by transport layer that network layer provides IP address to IP address privacy, rather than elements strung togeth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Abstraction is what is really necessar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or human policy and decision-making, without necessarily intervention in low level detail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or authentication, authorization, confidentiality, extensibility and stabilit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20:35:26Z</dcterms:created>
  <dc:creator>Karen Sollins</dc:creator>
  <dc:description/>
  <dc:language>en-US</dc:language>
  <cp:lastModifiedBy>Karen Sollins</cp:lastModifiedBy>
  <dcterms:modified xsi:type="dcterms:W3CDTF">2002-07-14T21:26:55Z</dcterms:modified>
  <cp:revision>1</cp:revision>
  <dc:subject/>
  <dc:title>Issues of Security and Privacy in Networking in the CBA</dc:title>
</cp:coreProperties>
</file>