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736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18600"/>
            <a:ext cx="8736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8520" y="137124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8520" y="391860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28126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5720" y="1371240"/>
            <a:ext cx="28126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371240"/>
            <a:ext cx="28126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18600"/>
            <a:ext cx="28126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5720" y="3918600"/>
            <a:ext cx="28126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918600"/>
            <a:ext cx="28126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263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8520" y="1371240"/>
            <a:ext cx="4263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680" y="330120"/>
            <a:ext cx="6794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8520" y="1371240"/>
            <a:ext cx="4263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263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8520" y="137124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8520" y="391860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8520" y="1371240"/>
            <a:ext cx="4263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8736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371240"/>
            <a:ext cx="87361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1049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1049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1049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85960" indent="-399960">
              <a:lnSpc>
                <a:spcPct val="90000"/>
              </a:lnSpc>
              <a:spcBef>
                <a:spcPts val="1049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85960" indent="-3999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85960" indent="-3999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bar" descr=""/>
          <p:cNvPicPr/>
          <p:nvPr/>
        </p:nvPicPr>
        <p:blipFill>
          <a:blip r:embed="rId2"/>
          <a:stretch/>
        </p:blipFill>
        <p:spPr>
          <a:xfrm>
            <a:off x="2209680" y="152280"/>
            <a:ext cx="6782040" cy="138240"/>
          </a:xfrm>
          <a:prstGeom prst="rect">
            <a:avLst/>
          </a:prstGeom>
          <a:ln w="0">
            <a:noFill/>
          </a:ln>
        </p:spPr>
      </p:pic>
      <p:pic>
        <p:nvPicPr>
          <p:cNvPr id="3" name="bar" descr=""/>
          <p:cNvPicPr/>
          <p:nvPr/>
        </p:nvPicPr>
        <p:blipFill>
          <a:blip r:embed="rId3"/>
          <a:stretch/>
        </p:blipFill>
        <p:spPr>
          <a:xfrm>
            <a:off x="228600" y="6477120"/>
            <a:ext cx="8686800" cy="1252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773480" y="6553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613560"/>
            <a:ext cx="861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949560"/>
                <a:tab algn="l" pos="509256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Microchip Technology Incorporated. All Rights Reserved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icrochip TCP/IP Stack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ED1D3F8F-0C93-4683-82BF-588EDB7243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828800" cy="106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5568120" y="4685040"/>
            <a:ext cx="293760" cy="80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intenetconnect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47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840" y="4724280"/>
            <a:ext cx="445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4747"/>
                </a:solidFill>
                <a:latin typeface="Arial"/>
              </a:rPr>
              <a:t>Rob S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Field Applications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rob.stein@microchip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 Benef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320" y="1676520"/>
            <a:ext cx="873576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is moving to Ubiquitous Internet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time to market: remote upgrad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Money:  Service and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ience: the ability to control devices remote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ce of mind: knowing the status of value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hip recognizes the importance of being an Internet Connectivity solution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099200" cy="812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bedded Internet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 repor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fire, burglar,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weather, seismic,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gno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car, appliances, med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cameras, sensors,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te 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rmostat, VCR, fa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grade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features, fixes, reca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 Deliv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print, radio, music, mo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phones, gateways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tai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oys,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401760"/>
            <a:ext cx="7099200" cy="847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onnectivity solutions does Microchip off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7520" y="1676520"/>
            <a:ext cx="87361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hip has partnered with several companies to provide connectivity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7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soft L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7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Devices (Realog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7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X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7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p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7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hip provides connectivity related appn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hip provides an Internet/Ethernet evaluation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2480" y="380880"/>
            <a:ext cx="65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chip Solution &amp; 3rd Party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280" y="1387440"/>
            <a:ext cx="86104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1081080"/>
            <a:ext cx="1440" cy="525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081080"/>
            <a:ext cx="1440" cy="525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1081080"/>
            <a:ext cx="1440" cy="525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563920"/>
            <a:ext cx="8610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081080"/>
            <a:ext cx="6781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15400" y="1081080"/>
            <a:ext cx="1440" cy="3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9400" y="10825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mic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5320" y="108252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de Footpr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3960" y="106668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IOSOFTY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236760"/>
            <a:ext cx="8610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Livedevices1" descr=""/>
          <p:cNvPicPr/>
          <p:nvPr/>
        </p:nvPicPr>
        <p:blipFill>
          <a:blip r:embed="rId2"/>
          <a:stretch/>
        </p:blipFill>
        <p:spPr>
          <a:xfrm>
            <a:off x="390600" y="3292560"/>
            <a:ext cx="1676160" cy="596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978360"/>
            <a:ext cx="8610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0600" y="4054320"/>
          <a:ext cx="16761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600" y="4054320"/>
                    <a:ext cx="1676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4740120"/>
            <a:ext cx="8610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0600" y="4816440"/>
          <a:ext cx="1676160" cy="609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600" y="4816440"/>
                    <a:ext cx="1676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04920" y="6340320"/>
            <a:ext cx="8610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15400" y="5502240"/>
            <a:ext cx="144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90600" y="5578560"/>
            <a:ext cx="1676160" cy="685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36240" y="184464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18XXX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23680" y="1539720"/>
            <a:ext cx="216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thernet, SLIP, ARP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, ICMP, TCP, 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97480" y="1719360"/>
            <a:ext cx="10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9.7K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70160" y="2743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5880" y="2682720"/>
            <a:ext cx="234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16F877a, PIC16F8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18XXX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2530440"/>
            <a:ext cx="21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hernet, SLIP, ARP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, ICMP, TCP, HTTP, U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97480" y="275904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6.3K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3840" y="3276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44484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18XXX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216240"/>
            <a:ext cx="234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thernet, Modem, P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P,  ARP, IP,  UDP,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, HTTP, F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9720" y="3292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9.8K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td. Stac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13064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18XXX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2600" y="3978360"/>
            <a:ext cx="203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m, USAR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PP, SLIP, IP, TCP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DP, SMTP, 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8280" y="4054320"/>
            <a:ext cx="18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9.0K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+RTOS=8K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4080" y="49687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16CXX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8840" y="5578560"/>
            <a:ext cx="24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12C67X, PIC16F87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16C6X/7X, PIC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02800" y="475128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hernet, PPP, DHCP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P,IP, ICMP, TCP, U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TP, SNMP, HTTP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2400" y="4876920"/>
            <a:ext cx="99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11K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4680" y="5578560"/>
            <a:ext cx="203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l Internet Protocol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orted through 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atew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57520" y="5681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2.5K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4280" y="5502240"/>
            <a:ext cx="180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57200" y="1523880"/>
            <a:ext cx="144792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crochip’s PICDEM.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762120" y="1143000"/>
            <a:ext cx="9900000" cy="5061960"/>
            <a:chOff x="-762120" y="1143000"/>
            <a:chExt cx="9900000" cy="5061960"/>
          </a:xfrm>
        </p:grpSpPr>
        <p:grpSp>
          <p:nvGrpSpPr>
            <p:cNvPr id="99" name=""/>
            <p:cNvGrpSpPr/>
            <p:nvPr/>
          </p:nvGrpSpPr>
          <p:grpSpPr>
            <a:xfrm>
              <a:off x="5257800" y="1143000"/>
              <a:ext cx="3733920" cy="3126600"/>
              <a:chOff x="5257800" y="1143000"/>
              <a:chExt cx="3733920" cy="3126600"/>
            </a:xfrm>
          </p:grpSpPr>
          <p:pic>
            <p:nvPicPr>
              <p:cNvPr id="100" name="PICDEM-Board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1143000"/>
                <a:ext cx="3733920" cy="312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250320" y="3809880"/>
                <a:ext cx="190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CDEM.ne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-762120" y="2895480"/>
              <a:ext cx="7391520" cy="32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eatur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crochip PIC16F877A  (IOSOF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uture kits will inclu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C18F45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MCHP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4LC256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Serial EEPROM, stores web pag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hernet interface using Realtek RTL8019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ushbutton switch, potentiometers and LE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n be used with MPLAB-IC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S-232 inter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CD Displ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buClr>
                  <a:srgbClr val="feef00"/>
                </a:buClr>
                <a:buFont typeface="Monotype Sort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ing are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762120" y="1523880"/>
              <a:ext cx="665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Quick Start” for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nternet Connectiv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06680" y="5257800"/>
              <a:ext cx="3931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ost Popular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monstration Board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3f"/>
            </a:gs>
            <a:gs pos="50000">
              <a:srgbClr val="00218a"/>
            </a:gs>
            <a:gs pos="100000">
              <a:srgbClr val="000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680" y="330120"/>
            <a:ext cx="6794640" cy="812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7361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hip has partnered with several Key companies to provide TCP/IP connectivity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hip can offer several TCP/IP solutions that run on all PICmicro M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DEM.net is available as a tool for connectivity development and experi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re changing and can quickly be addressed with soft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the 3rd party company directly for specific pri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8:09:14Z</dcterms:created>
  <dc:creator>MarnewecK</dc:creator>
  <dc:description/>
  <dc:language>en-US</dc:language>
  <cp:lastModifiedBy>SteinR</cp:lastModifiedBy>
  <cp:lastPrinted>2002-03-01T22:34:45Z</cp:lastPrinted>
  <dcterms:modified xsi:type="dcterms:W3CDTF">2002-07-17T15:32:57Z</dcterms:modified>
  <cp:revision>40</cp:revision>
  <dc:subject/>
  <dc:title>Microchip Connectivity Solutions</dc:title>
</cp:coreProperties>
</file>