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4028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28020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orola Confidential Propri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TOROLA and the Stylized M Logo are registered in the US Patent &amp; Trademark Office. All other product or service names are the property of their respective owners.  © Motorola, Inc. 2001.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086600" y="6354720"/>
          <a:ext cx="1600200" cy="28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6354720"/>
                    <a:ext cx="1600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mothblack" descr=""/>
          <p:cNvPicPr/>
          <p:nvPr/>
        </p:nvPicPr>
        <p:blipFill>
          <a:blip r:embed="rId4"/>
          <a:stretch/>
        </p:blipFill>
        <p:spPr>
          <a:xfrm>
            <a:off x="380880" y="6353280"/>
            <a:ext cx="15447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mePlug Overview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Motorola Status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omePlug Overvie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0 Spec Finaliz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Program In P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Products from 8 Vendors certifi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d informally that Radio Shack sold out of first shipment from Links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Plug Organization focused on Marke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otorola Statu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on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a Cable Modem Prototype with Intellon based on the SB41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ference Design based on the SBG1000 in p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otorola Pla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iting for MSOs to place an order for a HomePlug Cable Mod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experience says retail success leads MSO inter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iting for HomePlug to decide what HomePlug 2.0 will be. Motorola believes it needs to address broadcast vide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9:53:41Z</dcterms:created>
  <dc:creator>ccsp11</dc:creator>
  <dc:description/>
  <dc:language>en-US</dc:language>
  <cp:lastModifiedBy>LMT001</cp:lastModifiedBy>
  <cp:lastPrinted>2001-09-25T19:42:31Z</cp:lastPrinted>
  <dcterms:modified xsi:type="dcterms:W3CDTF">2002-07-17T11:45:15Z</dcterms:modified>
  <cp:revision>95</cp:revision>
  <dc:subject/>
  <dc:title>Presentation Title</dc:title>
</cp:coreProperties>
</file>