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2909-2706-4F2E-B420-8A482A77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9EE1-98AA-4315-B89B-783450F2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C2CA-3D3C-42AD-A64A-8FECFB03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04BF-AFD5-4BD2-A172-2794FE7C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01FB-4A16-4704-9D6F-4EC1C8F9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B0FE-B041-4D21-BFB2-8FCBB1C6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C4D1-CA80-4347-A45F-376178ED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E0C3-D50B-41F6-A63E-8672AAAF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0CF1-79D0-4A26-A5E2-865658E0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D78E-D8C8-46C8-8E5C-7BCA1711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35F0-A0B1-40DD-B2D1-37195DAC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AFCD-AB52-466F-80BC-5B5636A0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BDD5-7218-4CED-9E87-E4FE9EB9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B11D-3418-46F1-A202-1BCF3E7A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74C2-9A89-4DBA-9D98-ED18D31E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8060-28D9-45E6-B5A6-B8426257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06DF-081B-46AB-BF20-F245BCF7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7EB4-3AD6-4932-A6A6-AB319670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0A01-43B2-443B-B5AB-E89C3CE5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D758-75F9-41BA-B0A8-9846C3CB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3A4A-3554-48AD-8F07-005BFBC6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992E-0D6B-420B-B69A-CC43E9E1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E89A-A164-4B31-9E7E-08B51209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93ED-AE2A-4AD2-A57C-FD1A6B8F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e1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1bf9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b8ad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8ad4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b3ce82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9609-DF16-4CBD-BB2E-AF9ADED9C6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35000" y="2590920"/>
            <a:ext cx="9009000" cy="1052280"/>
            <a:chOff x="135000" y="25909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425520" y="2698560"/>
              <a:ext cx="711360" cy="474480"/>
              <a:chOff x="425520" y="26985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25520" y="2698560"/>
                <a:ext cx="437400" cy="474480"/>
              </a:xfrm>
              <a:prstGeom prst="rect">
                <a:avLst/>
              </a:prstGeom>
              <a:solidFill>
                <a:srgbClr val="b8a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08560" y="26985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8ad4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549360" y="3120840"/>
              <a:ext cx="737640" cy="474480"/>
              <a:chOff x="549360" y="31208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549360" y="3120840"/>
                <a:ext cx="421560" cy="474480"/>
              </a:xfrm>
              <a:prstGeom prst="rect">
                <a:avLst/>
              </a:prstGeom>
              <a:solidFill>
                <a:srgbClr val="e1b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18000" y="31208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1bf9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35000" y="30477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b3ce82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0040" y="2590920"/>
              <a:ext cx="31680" cy="1052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51080" y="34120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8F54-B076-4D5B-B6A9-961E91EADBE1}" type="slidenum">
              <a:rPr b="0" lang="en-US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3429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osing The Instrumentation Div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4076"/>
                </a:solidFill>
                <a:latin typeface="Tahoma"/>
              </a:rPr>
              <a:t>Introducing Instrumentation into Developing Communities:</a:t>
            </a:r>
            <a:endParaRPr b="0" lang="en-US" sz="40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-2880" y="5410080"/>
            <a:ext cx="91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roline McEnnis, Jason Taylor, Esa Masood, Rich Fletcher, Neil Gershenf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Acknowledgements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5029200" cy="4114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36080" y="2286000"/>
            <a:ext cx="2507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khtiar Mikh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ris Ly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 Gor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N Le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pend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The Instrumentation Divide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70800" y="2133720"/>
            <a:ext cx="553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Scientific Instrument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expensive and highly speci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3080" y="335268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ties that would benefit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instrumentation are unabl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3560" y="5029200"/>
            <a:ext cx="60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b-Labs can be used to design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 equipment and instru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se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324480" y="1828800"/>
            <a:ext cx="2475000" cy="1855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248520" y="3886200"/>
            <a:ext cx="2743200" cy="2343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79440" y="217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26080" y="2197080"/>
            <a:ext cx="45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r electronics make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to develop cheap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3400" y="5016600"/>
            <a:ext cx="506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esigning existing instru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lower costs and increa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 without lowe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4076"/>
                </a:solidFill>
                <a:latin typeface="Tahoma"/>
              </a:rPr>
              <a:t>Performance at Lower Costs</a:t>
            </a:r>
            <a:endParaRPr b="0" lang="en-US" sz="3200" spc="-1" strike="noStrike">
              <a:solidFill>
                <a:srgbClr val="6a4076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2895480" cy="2590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664240" y="4038480"/>
            <a:ext cx="3022560" cy="2389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95280" y="4419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4076"/>
                </a:solidFill>
                <a:latin typeface="Tahoma"/>
              </a:rPr>
              <a:t>Two examples: UV-Vis Spectrometer and RF Analyzer</a:t>
            </a:r>
            <a:endParaRPr b="0" lang="en-US" sz="32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V-Vis Spectrome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imated Cost of $10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 Analyz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imated Cost 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410080" y="3581280"/>
            <a:ext cx="2590920" cy="2667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914400" y="358128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4076"/>
                </a:solidFill>
                <a:latin typeface="Tahoma"/>
              </a:rPr>
              <a:t>The UV-Vis Spectrometer</a:t>
            </a:r>
            <a:endParaRPr b="0" lang="en-US" sz="3200" spc="-1" strike="noStrike">
              <a:solidFill>
                <a:srgbClr val="6a4076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2743200" cy="1873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709720" y="2895480"/>
            <a:ext cx="109800" cy="228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048120" y="27432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886200" y="2286000"/>
            <a:ext cx="1371600" cy="1111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4120" y="27432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6248520" y="2286000"/>
            <a:ext cx="1371600" cy="836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281280" y="312408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4600" y="6248520"/>
            <a:ext cx="41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V-Vis with consumer electr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70360" y="6248520"/>
            <a:ext cx="377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rcially Available UV-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33520" y="3886200"/>
            <a:ext cx="3581280" cy="2209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4800600" y="3962520"/>
            <a:ext cx="3657600" cy="208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RF Analyzer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495680" y="3581280"/>
            <a:ext cx="3936960" cy="2952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90720" y="31240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lk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15120" y="3048120"/>
            <a:ext cx="19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al 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295280" y="1828800"/>
            <a:ext cx="1676520" cy="1227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638680" y="1828800"/>
            <a:ext cx="1600200" cy="1200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92560" y="2209680"/>
            <a:ext cx="32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od Qualit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27200" y="2209680"/>
            <a:ext cx="33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ter Qualit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6120" y="4125960"/>
            <a:ext cx="19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i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12800" y="403848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riculture Analy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4076"/>
                </a:solidFill>
                <a:latin typeface="Tahoma"/>
              </a:rPr>
              <a:t>Applications in Developing Communities</a:t>
            </a:r>
            <a:endParaRPr b="0" lang="en-US" sz="3200" spc="-1" strike="noStrike">
              <a:solidFill>
                <a:srgbClr val="6a4076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39800" y="2819520"/>
            <a:ext cx="1408320" cy="1255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562720" y="2666880"/>
            <a:ext cx="2170080" cy="1408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295280" y="4572000"/>
            <a:ext cx="2170080" cy="1484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638680" y="4572000"/>
            <a:ext cx="2170080" cy="148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On Site in Costa Rica*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2703600" cy="2027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791320" y="4191120"/>
            <a:ext cx="2703240" cy="20271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165640" y="224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9480" y="4800600"/>
            <a:ext cx="578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current instru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existing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84080" y="2362320"/>
            <a:ext cx="497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ing new instru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s to fit lo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4600" y="6324480"/>
            <a:ext cx="55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 Digital Nations Learning Independenc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4076"/>
                </a:solidFill>
                <a:latin typeface="Tahoma"/>
              </a:rPr>
              <a:t>Multiple Uses for Technology</a:t>
            </a:r>
            <a:endParaRPr b="0" lang="en-US" sz="3200" spc="-1" strike="noStrike">
              <a:solidFill>
                <a:srgbClr val="6a4076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76720" y="3200400"/>
            <a:ext cx="2230200" cy="1609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rot="1316400">
            <a:off x="2133360" y="274284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0274600">
            <a:off x="2209320" y="457164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095400">
            <a:off x="5706720" y="2693520"/>
            <a:ext cx="768240" cy="509760"/>
          </a:xfrm>
          <a:prstGeom prst="leftArrow">
            <a:avLst>
              <a:gd name="adj1" fmla="val 50000"/>
              <a:gd name="adj2" fmla="val 37677"/>
            </a:avLst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6600" y="358128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tr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85800" y="4267080"/>
            <a:ext cx="1492200" cy="15242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21040" y="5638680"/>
            <a:ext cx="24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Med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629400" y="1905120"/>
            <a:ext cx="1676520" cy="15238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080400" y="342900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anc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304920" y="2209680"/>
            <a:ext cx="1738080" cy="1303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17:59:06Z</dcterms:created>
  <dc:creator>Caroline McEnnis</dc:creator>
  <dc:description/>
  <dc:language>en-US</dc:language>
  <cp:lastModifiedBy>Caroline McEnnis</cp:lastModifiedBy>
  <dcterms:modified xsi:type="dcterms:W3CDTF">2002-08-02T12:57:19Z</dcterms:modified>
  <cp:revision>40</cp:revision>
  <dc:subject/>
  <dc:title>Slide 1</dc:title>
</cp:coreProperties>
</file>