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947-0909-48F7-99BB-3C9C5B6F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FCF-F0B3-4E5C-9774-828F61A1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ED7-8D88-4605-B0AB-BFD05001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24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0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24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0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F0B-AD83-45D8-9A00-F105A71E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3AA0-C056-41A6-9794-0474C919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F5DF-C302-4A55-BE98-12043E4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0457-B020-4094-BD03-9870BBC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B19-2634-43A7-B1A7-AFEFAFF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E7DB-F7DC-4CEB-876C-B20C70B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E46E-93E7-46F0-B834-C1652C8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B867-EA09-4F91-BE6F-166F025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699-E634-4A3C-AD97-6A9A504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40E-84CD-4B55-B3FB-C95F443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D50-381A-434D-B7F5-F463BCF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49E-C9DA-4532-B745-C11EE40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2CB-B4C6-42D6-8516-5CC862B6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24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0804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24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0804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CD4-7E4F-40A4-927F-84F52285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A5F-90E6-4498-8E11-25EDC638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355-B08B-4D02-9041-680BECD6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71F-24F9-4D70-BA1B-B717F6F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828-7518-42FC-8C26-9170D94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5CF-2C01-4095-B3B6-616CC1D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085-D10B-4F00-A8A9-2F8A137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20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5F3-D71E-47F6-A6F7-D79180F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2794-A5C8-40CC-B5CA-B0260EE6A97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metal_bar" descr=""/>
          <p:cNvPicPr/>
          <p:nvPr/>
        </p:nvPicPr>
        <p:blipFill>
          <a:blip r:embed="rId3"/>
          <a:stretch/>
        </p:blipFill>
        <p:spPr>
          <a:xfrm>
            <a:off x="0" y="990720"/>
            <a:ext cx="5943600" cy="112680"/>
          </a:xfrm>
          <a:prstGeom prst="rect">
            <a:avLst/>
          </a:prstGeom>
          <a:ln w="0">
            <a:noFill/>
          </a:ln>
        </p:spPr>
      </p:pic>
      <p:pic>
        <p:nvPicPr>
          <p:cNvPr id="6" name="metal_bar" descr=""/>
          <p:cNvPicPr/>
          <p:nvPr/>
        </p:nvPicPr>
        <p:blipFill>
          <a:blip r:embed="rId4"/>
          <a:stretch/>
        </p:blipFill>
        <p:spPr>
          <a:xfrm>
            <a:off x="5181480" y="6172200"/>
            <a:ext cx="3962520" cy="74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77120" y="6343560"/>
            <a:ext cx="2666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 Narrow"/>
              </a:rPr>
              <a:t>Breaze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 Narrow"/>
              </a:rPr>
              <a:t>Robotic Life Grou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43560"/>
            <a:ext cx="266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 Narrow"/>
              </a:rPr>
              <a:t>CBA Fall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botic-life-logo" descr=""/>
          <p:cNvPicPr/>
          <p:nvPr/>
        </p:nvPicPr>
        <p:blipFill>
          <a:blip r:embed="rId2"/>
          <a:srcRect l="1288" t="4088" r="1288" b="4088"/>
          <a:stretch/>
        </p:blipFill>
        <p:spPr>
          <a:xfrm>
            <a:off x="1523880" y="0"/>
            <a:ext cx="5940720" cy="1765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0C2E-68E1-4340-81CD-48D628C97C2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metal_bar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4724280" cy="88920"/>
          </a:xfrm>
          <a:prstGeom prst="rect">
            <a:avLst/>
          </a:prstGeom>
          <a:ln w="0">
            <a:noFill/>
          </a:ln>
        </p:spPr>
      </p:pic>
      <p:pic>
        <p:nvPicPr>
          <p:cNvPr id="51" name="robotic-life-text" descr=""/>
          <p:cNvPicPr/>
          <p:nvPr/>
        </p:nvPicPr>
        <p:blipFill>
          <a:blip r:embed="rId4"/>
          <a:stretch/>
        </p:blipFill>
        <p:spPr>
          <a:xfrm>
            <a:off x="3886200" y="1828800"/>
            <a:ext cx="3821040" cy="547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038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ically Inspired Design for (more) Scalable Robots 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BA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ll 200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5562360"/>
            <a:ext cx="61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ynthia Breaze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MIT Media Lab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Robotic Life Group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79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ffect &amp; decision mak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romotes better decision making and learning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otion theorists – people make poor decisions concerning their welfare </a:t>
            </a:r>
            <a:r>
              <a:rPr b="0" i="1" lang="en-US" sz="1400" spc="-1" strike="noStrike">
                <a:solidFill>
                  <a:srgbClr val="ffffcc"/>
                </a:solidFill>
                <a:latin typeface="Arial"/>
              </a:rPr>
              <a:t>without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emotion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Marvin Minsky’s </a:t>
            </a:r>
            <a:r>
              <a:rPr b="0" i="1" lang="en-US" sz="1400" spc="-1" strike="noStrike">
                <a:solidFill>
                  <a:srgbClr val="ffffcc"/>
                </a:solidFill>
                <a:latin typeface="Arial"/>
              </a:rPr>
              <a:t>The Emotion Machin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oz Picard’s </a:t>
            </a:r>
            <a:r>
              <a:rPr b="0" i="1" lang="en-US" sz="1400" spc="-1" strike="noStrike">
                <a:solidFill>
                  <a:srgbClr val="ffffcc"/>
                </a:solidFill>
                <a:latin typeface="Arial"/>
              </a:rPr>
              <a:t>Affective Computa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complementary systems for systems that must perform tasks in dynamic, unpredictable, and sometimes hostile world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gnition interprets and makes sense of the worl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ffect evaluates and judg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Modulates operating parameters of cogni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egative leads to “depth first” (tunnel vision, increased vigilance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ositive leads to “breadth first” (creativity, increased curiosity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Provides warning of possible danger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eeply intertwined!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Handle the unexpected problem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ffect introduces another kind of assessment syste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 value system with respect to the creatu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ssess whether something i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Good or bad for m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Hospitable or harmful to m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sirable or undesirable for me, etc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ts expectations as to whether something is potentially problematic to guide behavi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79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otion &amp; decision mak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motion introduces another kind of self-regulation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rves of orchestrate other systems to alter goals and their prior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ttention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Memory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rousal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ehavior &amp; decision making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earning, etc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sic emotions honed for surviv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en to explo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en to persevere or give u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en to escape from a dangerous situ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When to confront, etc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ut, provides another motivation system not strictly tied to surviv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he more social the species, the more intelligent, emotional, and expressiv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Humans being the m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otion &amp; Communication with Oth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motion and its expression serves as a fundamental communication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akes your behavior more predictable and explainable by oth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ply their Theory of Mind/folk psych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mpathy and “feeling felt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gulatory system of self in the context of other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s the ante’ of complexity of intera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w, others ‘act’ on you as wel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nnot directly manipulate others, must socially influe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utually regulatory --- a dan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donna-cynthiaNkismet" descr=""/>
          <p:cNvPicPr/>
          <p:nvPr/>
        </p:nvPicPr>
        <p:blipFill>
          <a:blip r:embed="rId2"/>
          <a:srcRect l="1614" t="2466" r="1614" b="2466"/>
          <a:stretch/>
        </p:blipFill>
        <p:spPr>
          <a:xfrm>
            <a:off x="5638680" y="3809880"/>
            <a:ext cx="3276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883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tive Affective Int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52080" y="4975200"/>
            <a:ext cx="514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through sha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fective s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-32112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ssues in Learning Something New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219320"/>
            <a:ext cx="6858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sues for learning system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nowing what matt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nowing what action to t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valuating a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rrecting err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 succ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ructuring learn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 robots, these are addressed in design of learning architecture, algorithm for known ta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at if want to learn something that the system has not been designed to lear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ural Learn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67080" y="129528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imals are sensible learn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arn what they ought to lear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en they ought to learn i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arning occurs within an environmental, behavioral, and motivational context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imals address the issues o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o to learn from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to learn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ere to learn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en to learn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ow to learn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y learn and for what purpose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flective element to learning process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chimp4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0212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-198720"/>
            <a:ext cx="7924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Learners, Better Teacher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219320"/>
            <a:ext cx="5181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arn on its ow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straint from innate endowme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arn in partnership with pers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umans are natural &amp; motivated teach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uide exploration to accelerate learn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warding to te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nsible attempts given feedbac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nsparent behavio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arns sufficiently quick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ow eager &amp; interes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ew learning and teaching as a coupled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sorayama-boyNdog" descr=""/>
          <p:cNvPicPr/>
          <p:nvPr/>
        </p:nvPicPr>
        <p:blipFill>
          <a:blip r:embed="rId2"/>
          <a:stretch/>
        </p:blipFill>
        <p:spPr>
          <a:xfrm>
            <a:off x="5791320" y="3384720"/>
            <a:ext cx="3124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-32112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urious machin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219320"/>
            <a:ext cx="5867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urious machines ground learning in behavioral and motivational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flect upon its own learning proc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ro-active, self motivated learn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ransparent behavior and feedb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verage from teaching to guide explor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istent Personal Assi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bot as partner, not too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38880" y="152280"/>
            <a:ext cx="1752840" cy="1676160"/>
            <a:chOff x="7238880" y="152280"/>
            <a:chExt cx="1752840" cy="1676160"/>
          </a:xfrm>
        </p:grpSpPr>
        <p:sp>
          <p:nvSpPr>
            <p:cNvPr id="183" name=""/>
            <p:cNvSpPr/>
            <p:nvPr/>
          </p:nvSpPr>
          <p:spPr>
            <a:xfrm>
              <a:off x="7238880" y="152280"/>
              <a:ext cx="1752840" cy="543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eflectiv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8880" y="695880"/>
              <a:ext cx="1752840" cy="58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eliberativ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1284840"/>
              <a:ext cx="1752840" cy="543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eactiv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6" name="Leo1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3343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8872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nciples of biologically inspired desig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295280"/>
            <a:ext cx="533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rom insectoids to humanoids, biology inspi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ssons in scal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naging physical complex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naging behavioral complex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dularity of simpler interacting sys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nternal assess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lf regulation mechanis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rom reactive to deliberative to reflective syst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fferent mechanisms &amp; systems at each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mes hold at multiple levels of descri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1981080"/>
            <a:ext cx="266688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le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2895480"/>
            <a:ext cx="26668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libera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3886200"/>
            <a:ext cx="26668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03120"/>
            <a:ext cx="792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obots Inspired by Nat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33920"/>
            <a:ext cx="8305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bots as interesting complex 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milarity to anima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sequences of having a real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al tasks in the real world --- cannot predict all intera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ons learned from biological creatur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crease physical complex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crease behavioral complex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praying-mantis-head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895480" cy="2314800"/>
          </a:xfrm>
          <a:prstGeom prst="rect">
            <a:avLst/>
          </a:prstGeom>
          <a:ln w="0">
            <a:noFill/>
          </a:ln>
        </p:spPr>
      </p:pic>
      <p:pic>
        <p:nvPicPr>
          <p:cNvPr id="94" name="sigFace-small" descr=""/>
          <p:cNvPicPr/>
          <p:nvPr/>
        </p:nvPicPr>
        <p:blipFill>
          <a:blip r:embed="rId3"/>
          <a:srcRect l="2500" t="3711" r="2500" b="3711"/>
          <a:stretch/>
        </p:blipFill>
        <p:spPr>
          <a:xfrm>
            <a:off x="914400" y="1295280"/>
            <a:ext cx="34732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-32112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spiration from Insect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143000"/>
            <a:ext cx="617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xploit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modular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mplex robot made of simpler robo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ctu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mput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nnib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configurable robots (Daniela Ru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sign by Evolu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hannibal-frish" descr=""/>
          <p:cNvPicPr/>
          <p:nvPr/>
        </p:nvPicPr>
        <p:blipFill>
          <a:blip r:embed="rId2"/>
          <a:srcRect l="3333" t="0" r="0" b="0"/>
          <a:stretch/>
        </p:blipFill>
        <p:spPr>
          <a:xfrm>
            <a:off x="4800600" y="4343400"/>
            <a:ext cx="3886200" cy="2330280"/>
          </a:xfrm>
          <a:prstGeom prst="rect">
            <a:avLst/>
          </a:prstGeom>
          <a:ln w="0">
            <a:noFill/>
          </a:ln>
        </p:spPr>
      </p:pic>
      <p:pic>
        <p:nvPicPr>
          <p:cNvPr id="98" name="spider2comdex" descr=""/>
          <p:cNvPicPr/>
          <p:nvPr/>
        </p:nvPicPr>
        <p:blipFill>
          <a:blip r:embed="rId3"/>
          <a:stretch/>
        </p:blipFill>
        <p:spPr>
          <a:xfrm>
            <a:off x="152280" y="4343400"/>
            <a:ext cx="4572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169200"/>
            <a:ext cx="7925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aptive, Distributed Contro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8288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 “homunculu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compose complex robot control proble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o coordination of several simpler control probl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ulti-joint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rdination arises from intera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rough physical interactions from world and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mmunication between simpler robot syst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lerant to external perturbations from tight coupling to real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0120" y="152280"/>
            <a:ext cx="1371240" cy="1600200"/>
            <a:chOff x="7620120" y="152280"/>
            <a:chExt cx="1371240" cy="1600200"/>
          </a:xfrm>
        </p:grpSpPr>
        <p:sp>
          <p:nvSpPr>
            <p:cNvPr id="102" name=""/>
            <p:cNvSpPr/>
            <p:nvPr/>
          </p:nvSpPr>
          <p:spPr>
            <a:xfrm>
              <a:off x="7620120" y="1233360"/>
              <a:ext cx="1371240" cy="519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reactiv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0120" y="152280"/>
              <a:ext cx="1371240" cy="5191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reflectiv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0120" y="671400"/>
              <a:ext cx="1371240" cy="5619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deliberativ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26440"/>
            <a:ext cx="861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ruse’s Model for Insect Locomo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Cruse-global-inverse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486400" cy="2106720"/>
          </a:xfrm>
          <a:prstGeom prst="rect">
            <a:avLst/>
          </a:prstGeom>
          <a:ln w="0">
            <a:noFill/>
          </a:ln>
        </p:spPr>
      </p:pic>
      <p:pic>
        <p:nvPicPr>
          <p:cNvPr id="107" name="cc-mech-inverse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465800" cy="2463840"/>
          </a:xfrm>
          <a:prstGeom prst="rect">
            <a:avLst/>
          </a:prstGeom>
          <a:ln w="0">
            <a:noFill/>
          </a:ln>
        </p:spPr>
      </p:pic>
      <p:pic>
        <p:nvPicPr>
          <p:cNvPr id="108" name="walking-stick" descr=""/>
          <p:cNvPicPr/>
          <p:nvPr/>
        </p:nvPicPr>
        <p:blipFill>
          <a:blip r:embed="rId4"/>
          <a:stretch/>
        </p:blipFill>
        <p:spPr>
          <a:xfrm>
            <a:off x="6477120" y="1143000"/>
            <a:ext cx="169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49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bust, Flexible Contr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36572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mooth transitions for a family of wave gai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ergy consump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tended to rough terr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657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bust &amp; adaptive arm coordin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pled neural oscillat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xploit physical coupl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tends to multiple ta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tt Williamson, MIT AI La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-32112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lerant to physical failure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2952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ault tolerant to sensor and actuator fail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d internal assessment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t perceptual 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ow-level sense of “all is well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lf monitoring within virtual senso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xploit complementary sensory sui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dentify and use all working sensors in perceptual resul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dress sensor failure at this level before effect of failure propaga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verage from distributed control to readapt behav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apt gait if catastrophic fail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819520"/>
            <a:ext cx="2971800" cy="0"/>
          </a:xfrm>
          <a:prstGeom prst="line">
            <a:avLst/>
          </a:prstGeom>
          <a:ln w="5724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352680"/>
            <a:ext cx="17524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50532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conta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0000" y="4495680"/>
            <a:ext cx="761760" cy="762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4648320"/>
            <a:ext cx="685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J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4572000"/>
            <a:ext cx="99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mp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73920" y="4495680"/>
            <a:ext cx="762120" cy="762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9440" y="4495680"/>
            <a:ext cx="762120" cy="762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4648320"/>
            <a:ext cx="762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4114800"/>
            <a:ext cx="30492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56600" y="41148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4114800"/>
            <a:ext cx="38124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15200" y="2361960"/>
            <a:ext cx="0" cy="990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1600200"/>
            <a:ext cx="1600200" cy="685800"/>
          </a:xfrm>
          <a:prstGeom prst="flowChartAlternateProcess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9280" y="17524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ower strok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spiration from Etholog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447920"/>
            <a:ext cx="5257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ssons from insec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odularity, self regulation, and internal assessment at reactiv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ngle goal: rough terrain locomo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ssons from Eth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piration from behavior of birds, fish, mamm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liberative behav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urvival in complex, sometimes hostile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rbitrate behavior to serve multiple go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lorenz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3009960" cy="23590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543800" y="152280"/>
            <a:ext cx="1371600" cy="1828440"/>
            <a:chOff x="7543800" y="152280"/>
            <a:chExt cx="1371600" cy="1828440"/>
          </a:xfrm>
        </p:grpSpPr>
        <p:sp>
          <p:nvSpPr>
            <p:cNvPr id="135" name=""/>
            <p:cNvSpPr/>
            <p:nvPr/>
          </p:nvSpPr>
          <p:spPr>
            <a:xfrm>
              <a:off x="7543800" y="152280"/>
              <a:ext cx="1371600" cy="5929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reflectiv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745200"/>
              <a:ext cx="1371600" cy="64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deliberativ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3800" y="1387800"/>
              <a:ext cx="1371600" cy="592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reactiv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49880" y="1603440"/>
            <a:ext cx="2514600" cy="304560"/>
          </a:xfrm>
          <a:prstGeom prst="leftRightArrow">
            <a:avLst>
              <a:gd name="adj1" fmla="val 50000"/>
              <a:gd name="adj2" fmla="val 164366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321120"/>
            <a:ext cx="7924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tivation and Autopoesi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295280"/>
            <a:ext cx="5029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 internal assessment of “well-being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ritical parameters essential to survival stay within bounded ran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emperatu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nergy lev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lf-regulatory system tied to survi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Flexibility arbitrate the satisfaction of multiple goa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ynamic prioritization of “needs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elps to orchestrate other systems (resources) to address these “needs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ias attention (saliency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ias behavior selection (valu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ias form of motor expression (intensity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638680" y="2895120"/>
            <a:ext cx="0" cy="2667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5562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124080"/>
            <a:ext cx="2362320" cy="1828800"/>
          </a:xfrm>
          <a:custGeom>
            <a:avLst/>
            <a:gdLst/>
            <a:ahLst/>
            <a:rect l="l" t="t" r="r" b="b"/>
            <a:pathLst>
              <a:path w="1488" h="1152">
                <a:moveTo>
                  <a:pt x="0" y="0"/>
                </a:moveTo>
                <a:cubicBezTo>
                  <a:pt x="24" y="224"/>
                  <a:pt x="48" y="448"/>
                  <a:pt x="144" y="624"/>
                </a:cubicBezTo>
                <a:cubicBezTo>
                  <a:pt x="240" y="800"/>
                  <a:pt x="352" y="968"/>
                  <a:pt x="576" y="1056"/>
                </a:cubicBezTo>
                <a:cubicBezTo>
                  <a:pt x="800" y="1144"/>
                  <a:pt x="1144" y="1148"/>
                  <a:pt x="1488" y="1152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94280" y="366696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48690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30320" y="4724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47640" y="3505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Old pizza at 4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4419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Awesome Cake after big m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9600" y="2514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Hung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7920" y="5562720"/>
            <a:ext cx="10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Quality o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foo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22960" y="1384200"/>
            <a:ext cx="761760" cy="762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58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Hung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2480" y="60948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gree of Hung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34240" y="10843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907400" y="186516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1080" y="22939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aveno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0000" y="228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tuffe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934320" y="184644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88080" y="1685880"/>
            <a:ext cx="1425600" cy="131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15280" y="1690560"/>
            <a:ext cx="320760" cy="1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8520" y="18288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00:15:58Z</dcterms:created>
  <dc:creator>Valued Sony Customer</dc:creator>
  <dc:description/>
  <dc:language>en-US</dc:language>
  <cp:lastModifiedBy>Cynthia Breazeal</cp:lastModifiedBy>
  <dcterms:modified xsi:type="dcterms:W3CDTF">2002-10-16T20:11:03Z</dcterms:modified>
  <cp:revision>426</cp:revision>
  <dc:subject/>
  <dc:title>Natural Machines</dc:title>
</cp:coreProperties>
</file>