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D62-F86F-4FEA-93AE-40BEC693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DD1-865F-4AF7-BDEC-A90E561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36E-70AF-4CBC-936C-FB3D7E9D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93C-0735-4BBC-A46B-F0754798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64DF-3464-40DC-B876-BE1F983D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C6BC-4FC3-4F8D-9E9B-EB23940F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DEB7-555B-4E55-B0FE-596E0E11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B00A-0854-48DA-8A24-283CE683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25F2-7902-4FF3-B4A8-F0C953A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8325-E0A5-4512-83E3-B574F712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73CB-B657-491B-9305-1D0FD16E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302-0EFE-49A0-AE71-20EC781D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A93A-93B3-450E-836D-2425137A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1413-D76B-414B-99AD-75463B5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21C3-C30B-4447-9063-90D0BECC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1285-349B-4F30-96F6-7D2EC0E9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B5E9-3D27-4347-98DD-09AA0558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33B-C941-4954-9256-533C6E9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111-8A81-4CCA-A6B5-1E70E8B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71E-5C50-444C-B1E8-7E922F9D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68F-CF63-4DDF-9DF0-A2BB6FCA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468-EF53-4718-A38F-4036105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CD1-FEA9-4798-BF90-09DA8BB3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018-24BD-4BE5-9514-9D1AA4C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d37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288c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D59B-462C-4C74-9F4D-08F7117239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1C6-6B50-4F94-9FD6-52FA5FE5C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288c0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sf.gov/start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sf" descr="NSF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29600" y="5573880"/>
            <a:ext cx="985680" cy="98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9840" y="858600"/>
            <a:ext cx="84438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Threshold for Life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879480" y="439272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IT Media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79840" y="3071880"/>
            <a:ext cx="38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. Isaac Chu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02.09.18.CBAlogo" descr=""/>
          <p:cNvPicPr/>
          <p:nvPr/>
        </p:nvPicPr>
        <p:blipFill>
          <a:blip r:embed="rId3"/>
          <a:stretch/>
        </p:blipFill>
        <p:spPr>
          <a:xfrm>
            <a:off x="952560" y="3902040"/>
            <a:ext cx="4952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684600" y="1646280"/>
            <a:ext cx="6554880" cy="5830560"/>
            <a:chOff x="3684600" y="1646280"/>
            <a:chExt cx="6554880" cy="5830560"/>
          </a:xfrm>
        </p:grpSpPr>
        <p:pic>
          <p:nvPicPr>
            <p:cNvPr id="168" name="BIO-langton-ca-self-reproduction-graphic-animation" descr=""/>
            <p:cNvPicPr/>
            <p:nvPr/>
          </p:nvPicPr>
          <p:blipFill>
            <a:blip r:embed="rId1"/>
            <a:stretch/>
          </p:blipFill>
          <p:spPr>
            <a:xfrm>
              <a:off x="4161240" y="1694160"/>
              <a:ext cx="5150880" cy="57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055400" y="5450760"/>
              <a:ext cx="5499000" cy="19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57440" y="1661040"/>
              <a:ext cx="586440" cy="44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84600" y="1646280"/>
              <a:ext cx="655488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35800" y="1780920"/>
              <a:ext cx="717840" cy="44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on Neumann’s Automat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01760" y="2685960"/>
            <a:ext cx="3554280" cy="2840040"/>
            <a:chOff x="401760" y="2685960"/>
            <a:chExt cx="3554280" cy="2840040"/>
          </a:xfrm>
        </p:grpSpPr>
        <p:pic>
          <p:nvPicPr>
            <p:cNvPr id="175" name="NOTES-von-neumann-automata-29-states-symbols" descr=""/>
            <p:cNvPicPr/>
            <p:nvPr/>
          </p:nvPicPr>
          <p:blipFill>
            <a:blip r:embed="rId2"/>
            <a:srcRect l="1668" t="746" r="2356" b="18670"/>
            <a:stretch/>
          </p:blipFill>
          <p:spPr>
            <a:xfrm>
              <a:off x="401760" y="2685960"/>
              <a:ext cx="355428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508200" y="4937040"/>
              <a:ext cx="42516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07800" y="1611360"/>
            <a:ext cx="8163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based on 29 state Cellular Automa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2640" y="559440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simulation from H-H Cho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3160" y="2610000"/>
            <a:ext cx="39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Langton’s 8-state replicator (not univers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7800" y="5695920"/>
            <a:ext cx="8163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 Turing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8200" y="2543040"/>
            <a:ext cx="8155080" cy="10526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8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ons of Fault-Tolerant Lif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20760" y="1936800"/>
            <a:ext cx="8163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est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What is the fault-tolerance threshold for Lif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0760" y="3990960"/>
            <a:ext cx="8372520" cy="1658880"/>
            <a:chOff x="320760" y="3990960"/>
            <a:chExt cx="8372520" cy="1658880"/>
          </a:xfrm>
        </p:grpSpPr>
        <p:sp>
          <p:nvSpPr>
            <p:cNvPr id="185" name=""/>
            <p:cNvSpPr/>
            <p:nvPr/>
          </p:nvSpPr>
          <p:spPr>
            <a:xfrm>
              <a:off x="538200" y="4597560"/>
              <a:ext cx="8155080" cy="10522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0760" y="3990960"/>
              <a:ext cx="82389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6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ff66"/>
                  </a:solidFill>
                  <a:uFillTx/>
                  <a:latin typeface="Tahoma"/>
                </a:rPr>
                <a:t>What would fault-tolerant creatures be lik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09200" y="586116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-hard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87520" y="586116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ortal Bi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46440" y="586116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8200" y="2543040"/>
            <a:ext cx="8155080" cy="10526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320760" y="1936800"/>
            <a:ext cx="84643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i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Life can be constructed from faulty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0760" y="3990960"/>
            <a:ext cx="8372520" cy="1658880"/>
            <a:chOff x="320760" y="3990960"/>
            <a:chExt cx="8372520" cy="1658880"/>
          </a:xfrm>
        </p:grpSpPr>
        <p:sp>
          <p:nvSpPr>
            <p:cNvPr id="93" name=""/>
            <p:cNvSpPr/>
            <p:nvPr/>
          </p:nvSpPr>
          <p:spPr>
            <a:xfrm>
              <a:off x="538200" y="4597560"/>
              <a:ext cx="8155080" cy="10522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760" y="3990960"/>
              <a:ext cx="82389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6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Ques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6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ff66"/>
                  </a:solidFill>
                  <a:uFillTx/>
                  <a:latin typeface="Tahoma"/>
                </a:rPr>
                <a:t>How Faulty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Amazing Theor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38120" y="1703520"/>
            <a:ext cx="8155080" cy="1503360"/>
            <a:chOff x="438120" y="1703520"/>
            <a:chExt cx="8155080" cy="1503360"/>
          </a:xfrm>
        </p:grpSpPr>
        <p:sp>
          <p:nvSpPr>
            <p:cNvPr id="97" name=""/>
            <p:cNvSpPr/>
            <p:nvPr/>
          </p:nvSpPr>
          <p:spPr>
            <a:xfrm>
              <a:off x="438120" y="1703520"/>
              <a:ext cx="8155080" cy="1503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2200" y="1920960"/>
              <a:ext cx="757548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66"/>
                  </a:solidFill>
                  <a:uFillTx/>
                  <a:latin typeface="Tahoma"/>
                </a:rPr>
                <a:t>Reliable computers can be constructed from faulty componen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50920" y="3736800"/>
            <a:ext cx="8516880" cy="2166840"/>
            <a:chOff x="250920" y="3736800"/>
            <a:chExt cx="8516880" cy="2166840"/>
          </a:xfrm>
        </p:grpSpPr>
        <p:sp>
          <p:nvSpPr>
            <p:cNvPr id="100" name=""/>
            <p:cNvSpPr/>
            <p:nvPr/>
          </p:nvSpPr>
          <p:spPr>
            <a:xfrm>
              <a:off x="250920" y="3736800"/>
              <a:ext cx="8516880" cy="216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840" y="3795480"/>
              <a:ext cx="84643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6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 circuit containing N (error-free) gates can be simulated with probability of error at most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, using N log(N/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) faulty gates, which fail with probability p, so long as p&lt;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942160" y="5398920"/>
            <a:ext cx="26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von Neumann (195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320" y="6094440"/>
            <a:ext cx="87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Arial"/>
              </a:rPr>
              <a:t>Quantum version: Preskill, Shor, Aharonov, Ben-Or, Gottesman, Chuang*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7280" y="64771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 Rounded MT Bold"/>
              </a:rPr>
              <a:t>* D. Gottesman and I. Chuang, Nature, vol. 402, p. 390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ault-Tolerant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IMAGE-winograd-cowan-title" descr=""/>
          <p:cNvPicPr/>
          <p:nvPr/>
        </p:nvPicPr>
        <p:blipFill>
          <a:blip r:embed="rId1"/>
          <a:stretch/>
        </p:blipFill>
        <p:spPr>
          <a:xfrm>
            <a:off x="189000" y="1536840"/>
            <a:ext cx="3705120" cy="4822560"/>
          </a:xfrm>
          <a:prstGeom prst="rect">
            <a:avLst/>
          </a:prstGeom>
          <a:ln w="0">
            <a:noFill/>
          </a:ln>
        </p:spPr>
      </p:pic>
      <p:pic>
        <p:nvPicPr>
          <p:cNvPr id="107" name="IMAGE-winograd-cowan-synaptic-logic" descr=""/>
          <p:cNvPicPr/>
          <p:nvPr/>
        </p:nvPicPr>
        <p:blipFill>
          <a:blip r:embed="rId2"/>
          <a:stretch/>
        </p:blipFill>
        <p:spPr>
          <a:xfrm>
            <a:off x="5199120" y="1611360"/>
            <a:ext cx="2547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ault-Tolerant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IMAGE-winograd-cowan-title" descr=""/>
          <p:cNvPicPr/>
          <p:nvPr/>
        </p:nvPicPr>
        <p:blipFill>
          <a:blip r:embed="rId1"/>
          <a:stretch/>
        </p:blipFill>
        <p:spPr>
          <a:xfrm>
            <a:off x="189000" y="1536840"/>
            <a:ext cx="3705120" cy="4822560"/>
          </a:xfrm>
          <a:prstGeom prst="rect">
            <a:avLst/>
          </a:prstGeom>
          <a:ln w="0">
            <a:noFill/>
          </a:ln>
        </p:spPr>
      </p:pic>
      <p:pic>
        <p:nvPicPr>
          <p:cNvPr id="110" name="IMAGE-winograd-cowan-3-5-hamming" descr=""/>
          <p:cNvPicPr/>
          <p:nvPr/>
        </p:nvPicPr>
        <p:blipFill>
          <a:blip r:embed="rId2"/>
          <a:stretch/>
        </p:blipFill>
        <p:spPr>
          <a:xfrm>
            <a:off x="4448160" y="1511280"/>
            <a:ext cx="42465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Fault-Tolerance Thresho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600200"/>
            <a:ext cx="8613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ircuit containing N (error-free) gates can be simulated with probability of error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using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c</a:t>
            </a:r>
            <a:r>
              <a:rPr b="0" lang="en-US" sz="2000" spc="-1" strike="noStrike" baseline="30000">
                <a:solidFill>
                  <a:srgbClr val="ff66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aulty gates, which fail with probability p, if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p&lt;p</a:t>
            </a:r>
            <a:r>
              <a:rPr b="0" lang="en-US" sz="2000" spc="-1" strike="noStrike" baseline="-25000">
                <a:solidFill>
                  <a:srgbClr val="ff66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4040" y="2654280"/>
            <a:ext cx="758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of: Assume 3-input gat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=1 e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38240" y="3675240"/>
            <a:ext cx="3519360" cy="3184920"/>
            <a:chOff x="138240" y="3675240"/>
            <a:chExt cx="3519360" cy="3184920"/>
          </a:xfrm>
        </p:grpSpPr>
        <p:sp>
          <p:nvSpPr>
            <p:cNvPr id="115" name=""/>
            <p:cNvSpPr/>
            <p:nvPr/>
          </p:nvSpPr>
          <p:spPr>
            <a:xfrm>
              <a:off x="640440" y="6461280"/>
              <a:ext cx="244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Tahoma"/>
                </a:rPr>
                <a:t>Non-Fault-Tole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38240" y="3675240"/>
              <a:ext cx="3519360" cy="2815920"/>
              <a:chOff x="138240" y="3675240"/>
              <a:chExt cx="3519360" cy="28159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64960" y="3711240"/>
                <a:ext cx="3301560" cy="1571040"/>
                <a:chOff x="264960" y="3711240"/>
                <a:chExt cx="3301560" cy="1571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77800" y="3823560"/>
                  <a:ext cx="14014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57280" y="3711240"/>
                  <a:ext cx="1449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Circuit 1: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7800" y="4336560"/>
                  <a:ext cx="14014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57280" y="4223520"/>
                  <a:ext cx="1449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Circuit 2: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77800" y="4874400"/>
                  <a:ext cx="1401480" cy="376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7280" y="4761720"/>
                  <a:ext cx="1449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Circuit 3: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264960" y="398700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264960" y="452520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264960" y="505080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1963800" y="3999960"/>
                  <a:ext cx="1602720" cy="1038960"/>
                  <a:chOff x="1963800" y="3999960"/>
                  <a:chExt cx="1602720" cy="103896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2462040" y="4121640"/>
                    <a:ext cx="816120" cy="815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974960" y="3999960"/>
                    <a:ext cx="564840" cy="27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1976400" y="4764600"/>
                    <a:ext cx="565200" cy="27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963800" y="4512240"/>
                    <a:ext cx="48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2718720" y="4299480"/>
                    <a:ext cx="3376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3265200" y="4524840"/>
                    <a:ext cx="301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4" name=""/>
              <p:cNvSpPr/>
              <p:nvPr/>
            </p:nvSpPr>
            <p:spPr>
              <a:xfrm>
                <a:off x="611280" y="5540040"/>
                <a:ext cx="2710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ails with probabilit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+p &lt; 4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8240" y="3675240"/>
                <a:ext cx="3519360" cy="2815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870360" y="2643120"/>
            <a:ext cx="5099040" cy="4217040"/>
            <a:chOff x="3870360" y="2643120"/>
            <a:chExt cx="5099040" cy="421704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606920" y="2712960"/>
              <a:ext cx="206208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606920" y="3678120"/>
              <a:ext cx="206208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606920" y="4654440"/>
              <a:ext cx="2062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638760" y="3219480"/>
              <a:ext cx="750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38760" y="4183200"/>
              <a:ext cx="16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638760" y="4420800"/>
              <a:ext cx="88920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176960" y="3770280"/>
              <a:ext cx="825480" cy="825480"/>
              <a:chOff x="7176960" y="3770280"/>
              <a:chExt cx="825480" cy="825480"/>
            </a:xfrm>
          </p:grpSpPr>
          <p:sp>
            <p:nvSpPr>
              <p:cNvPr id="144" name=""/>
              <p:cNvSpPr/>
              <p:nvPr/>
            </p:nvSpPr>
            <p:spPr>
              <a:xfrm>
                <a:off x="7176960" y="3770280"/>
                <a:ext cx="825480" cy="825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86760" y="3981600"/>
                <a:ext cx="64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MA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892320" y="5651640"/>
              <a:ext cx="500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ails with probability &lt; 3(4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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+ p &lt; 49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02120" y="5999040"/>
              <a:ext cx="26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f  p&lt;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75640" y="6211800"/>
              <a:ext cx="438120" cy="150840"/>
            </a:xfrm>
            <a:prstGeom prst="rightArrow">
              <a:avLst>
                <a:gd name="adj1" fmla="val 50000"/>
                <a:gd name="adj2" fmla="val 7261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48400" y="599904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&lt;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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8560" y="6461280"/>
              <a:ext cx="185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Tahoma"/>
                </a:rPr>
                <a:t>Fault-Tole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70360" y="2643120"/>
              <a:ext cx="5099040" cy="384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icient Fault Toler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487520"/>
            <a:ext cx="861372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ircuit containing N (error-free) gates can be simulated with prob. of error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using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O(N log 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aulty gates, which fail with prob. p, if p&lt;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2463840"/>
            <a:ext cx="8464320" cy="4232160"/>
            <a:chOff x="208080" y="2463840"/>
            <a:chExt cx="8464320" cy="4232160"/>
          </a:xfrm>
        </p:grpSpPr>
        <p:pic>
          <p:nvPicPr>
            <p:cNvPr id="155" name="IMAGE-concatenation" descr=""/>
            <p:cNvPicPr/>
            <p:nvPr/>
          </p:nvPicPr>
          <p:blipFill>
            <a:blip r:embed="rId1"/>
            <a:stretch/>
          </p:blipFill>
          <p:spPr>
            <a:xfrm>
              <a:off x="1790640" y="2938320"/>
              <a:ext cx="5765760" cy="37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08080" y="2463840"/>
              <a:ext cx="84643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6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ey concept: concatenation (encoding at multiple level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08080" y="5896080"/>
            <a:ext cx="84643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/6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Hajek &amp; Weller ’9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8200" y="2543040"/>
            <a:ext cx="8155080" cy="10526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ult-Tolerant Lif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20760" y="1936800"/>
            <a:ext cx="8163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ure does not seem to use such co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How can life be made fault-toler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Lif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img001" descr=""/>
          <p:cNvPicPr/>
          <p:nvPr/>
        </p:nvPicPr>
        <p:blipFill>
          <a:blip r:embed="rId1"/>
          <a:srcRect l="40372" t="3645" r="39817" b="61364"/>
          <a:stretch/>
        </p:blipFill>
        <p:spPr>
          <a:xfrm>
            <a:off x="6102360" y="1608120"/>
            <a:ext cx="1359000" cy="1800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0760" y="1623960"/>
            <a:ext cx="84643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able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Self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Self 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3560" y="33559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rod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760" y="4329000"/>
            <a:ext cx="84643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n Neumann (1966) Theory of Self-Reproducing Automata: </a:t>
            </a: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elementary machine capable of reproduction and universal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5T17:14:24Z</dcterms:created>
  <dc:creator>.</dc:creator>
  <dc:description/>
  <dc:language>en-US</dc:language>
  <cp:lastModifiedBy>Ike</cp:lastModifiedBy>
  <cp:lastPrinted>2000-02-24T23:56:40Z</cp:lastPrinted>
  <dcterms:modified xsi:type="dcterms:W3CDTF">2002-10-15T06:42:20Z</dcterms:modified>
  <cp:revision>224</cp:revision>
  <dc:subject/>
  <dc:title>Quantum Search with Three Quantum Bits</dc:title>
</cp:coreProperties>
</file>