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AF8-CDAE-4C8A-8B5C-B37ACC06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22E-FCC9-42CF-9553-BF0E2709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7EE-1075-40E9-BB43-9F83F639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34F-9F79-4A4F-8784-B6EC548D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550-0D25-4DAF-B516-B801509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5EE-9083-4DCC-A998-A799E00E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7B6-12A0-430C-9EC8-483E53B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113-FC6F-405F-A361-A6C179A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FC2-7564-4534-94EF-7442AFEA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28D-AC6F-4D84-A55C-10B5C060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E43-A667-4197-8881-9DA316A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2BE-446C-4625-B8E9-F950B5F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2FD-AD97-42CA-89D4-8128A7F3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5080" y="3014640"/>
            <a:ext cx="513792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rof. Neil Gershen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Courier New"/>
              </a:rPr>
              <a:t>http://cba.mit.edu/~neilg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SF CCR-01224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IT Media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02.09.18.CBAlogo" descr=""/>
          <p:cNvPicPr/>
          <p:nvPr/>
        </p:nvPicPr>
        <p:blipFill>
          <a:blip r:embed="rId1"/>
          <a:stretch/>
        </p:blipFill>
        <p:spPr>
          <a:xfrm>
            <a:off x="1219320" y="492120"/>
            <a:ext cx="6629400" cy="1440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6858000" cy="53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e Center for Bits and Ato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011" r="0" b="5925"/>
          <a:stretch/>
        </p:blipFill>
        <p:spPr>
          <a:xfrm>
            <a:off x="3657600" y="3048120"/>
            <a:ext cx="5029200" cy="35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2003" r="0" b="0"/>
          <a:stretch/>
        </p:blipFill>
        <p:spPr>
          <a:xfrm>
            <a:off x="457200" y="3048120"/>
            <a:ext cx="507996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977760"/>
            <a:ext cx="8610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0000"/>
                </a:solidFill>
                <a:latin typeface="Arial"/>
              </a:rPr>
              <a:t>Joseph Jacobson, Scott Manalis, Isaac Chuang, Neil Gershenfeld, Marvin Mins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Cynthia Braezeal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dia Lab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Joe Paradiso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dia Lab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Sandy Pentland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dia Lab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Mitch Resnick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dia Lab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Kim Hamad-Schifferli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chanical Engineering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Seth Lloyd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chanical Engineering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Martin Schmidt (Microsystems Technology Laboratory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Larry Sass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Architecture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Tim Swager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Chemistry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Alex Slocum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echanics Engineering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Rahul Sarpeshkar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Electrical Engineering and Computer Science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Shuguang Zhang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Bioengineering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Sebastian Seung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Brain and Cognitive Science, Physics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Bill Butera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IC design/fab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Karen Sollins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Electrical Engineering and Computer Science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Bakhtiar Mikhak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Education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/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Outreach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Sherry Lassiter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Program Manager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John DiFrancesco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acrofabrication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, Ashley Salomon (</a:t>
            </a:r>
            <a:r>
              <a:rPr b="1" i="1" lang="en-US" sz="1200" spc="-1" strike="noStrike">
                <a:solidFill>
                  <a:srgbClr val="0a00cc"/>
                </a:solidFill>
                <a:latin typeface="Arial"/>
              </a:rPr>
              <a:t>Microfabrication</a:t>
            </a:r>
            <a:r>
              <a:rPr b="1" lang="en-US" sz="1200" spc="-1" strike="noStrike">
                <a:solidFill>
                  <a:srgbClr val="0a00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00"/>
                </a:solidFill>
                <a:latin typeface="Arial"/>
              </a:rPr>
              <a:t>Peter Shor, Ruzena Bajcsy, John Doyle, Barrie Gilbert, Alan Huang, Greg Papadopoulus, Nathan Myhrvold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09840" y="6094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0000"/>
                </a:solidFill>
                <a:latin typeface="Arial"/>
              </a:rPr>
              <a:t>NSF CCR-0122419    http://cba.mit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48840"/>
            <a:ext cx="36576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ernet 0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7664" r="0" b="6994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92400" y="22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0280" y="27432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analog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9000" y="23004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9560" y="6491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50560" y="61866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s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600" y="257040"/>
            <a:ext cx="35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P to leaf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bit size &gt; ne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eers don’t need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mplement function, not 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2840" y="1111320"/>
            <a:ext cx="39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5b62"/>
                </a:solidFill>
                <a:latin typeface="Arial"/>
              </a:rPr>
              <a:t>(Raffi Krikorian, Matt Hancher, Sun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62680" y="60958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52160" y="1690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$1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42360" y="16905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1-10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2680" y="169056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RS-485, IR, ultrasound, powerline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4953240" cy="609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intable Comput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353040" cy="310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2280" y="4419720"/>
            <a:ext cx="4038840" cy="234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495680" y="590400"/>
            <a:ext cx="419112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91240" y="3092400"/>
            <a:ext cx="60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91240" y="3844800"/>
            <a:ext cx="7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91240" y="4222800"/>
            <a:ext cx="13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ac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1240" y="4599000"/>
            <a:ext cx="11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ref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1240" y="3468600"/>
            <a:ext cx="8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-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72160" y="31924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29480" y="359244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400068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9920" y="4365720"/>
            <a:ext cx="46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78680" y="473076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502400" y="2992320"/>
            <a:ext cx="879480" cy="3713400"/>
            <a:chOff x="7502400" y="2992320"/>
            <a:chExt cx="879480" cy="3713400"/>
          </a:xfrm>
        </p:grpSpPr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7527960" y="3020760"/>
              <a:ext cx="838080" cy="36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502400" y="2992320"/>
              <a:ext cx="879480" cy="37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502400" y="330372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02400" y="373212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02400" y="426240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02400" y="4662360"/>
            <a:ext cx="87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02400" y="487980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7040" y="6021360"/>
            <a:ext cx="792000" cy="59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0080" y="4957920"/>
            <a:ext cx="156960" cy="1042920"/>
          </a:xfrm>
          <a:custGeom>
            <a:avLst/>
            <a:gdLst>
              <a:gd name="textAreaLeft" fmla="*/ 100440 w 156960"/>
              <a:gd name="textAreaRight" fmla="*/ 157320 w 156960"/>
              <a:gd name="textAreaTop" fmla="*/ 27000 h 1042920"/>
              <a:gd name="textAreaBottom" fmla="*/ 1015920 h 10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6010200"/>
            <a:ext cx="127080" cy="627120"/>
          </a:xfrm>
          <a:custGeom>
            <a:avLst/>
            <a:gdLst>
              <a:gd name="textAreaLeft" fmla="*/ 81360 w 127080"/>
              <a:gd name="textAreaRight" fmla="*/ 127440 w 12708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8160" y="5342040"/>
            <a:ext cx="12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7040" y="5459400"/>
            <a:ext cx="33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70640" y="618156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scr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16800" y="6324480"/>
            <a:ext cx="33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7360" y="7621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3e"/>
                </a:solidFill>
                <a:latin typeface="Arial"/>
              </a:rPr>
              <a:t>(Bill But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9880" y="151920"/>
            <a:ext cx="419112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anotectic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3505320" cy="2154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1500120" cy="2895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3124080" cy="299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267080" y="4038480"/>
            <a:ext cx="3238560" cy="2668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43200" y="977760"/>
            <a:ext cx="632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84e"/>
                </a:solidFill>
                <a:latin typeface="Arial"/>
              </a:rPr>
              <a:t>Brent Ridley, Babak Nivi, and Joseph Jacobs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84e"/>
                </a:solidFill>
                <a:latin typeface="Arial"/>
              </a:rPr>
              <a:t>All</a:t>
            </a:r>
            <a:r>
              <a:rPr b="1" lang="en-US" sz="1600" spc="-1" strike="noStrike">
                <a:solidFill>
                  <a:srgbClr val="00584e"/>
                </a:solidFill>
                <a:latin typeface="Arial"/>
              </a:rPr>
              <a:t>-</a:t>
            </a:r>
            <a:r>
              <a:rPr b="1" i="1" lang="en-US" sz="1600" spc="-1" strike="noStrike">
                <a:solidFill>
                  <a:srgbClr val="00584e"/>
                </a:solidFill>
                <a:latin typeface="Arial"/>
              </a:rPr>
              <a:t>Inorganic Field Effect Transistors Fabricated by Printing</a:t>
            </a:r>
            <a:r>
              <a:rPr b="1" lang="en-US" sz="1600" spc="-1" strike="noStrike">
                <a:solidFill>
                  <a:srgbClr val="00584e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84e"/>
                </a:solidFill>
                <a:latin typeface="Arial"/>
              </a:rPr>
              <a:t>Science (286) 746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2752560"/>
            <a:ext cx="4876920" cy="395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289080"/>
            <a:ext cx="4191120" cy="853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F B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31112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Remote Electronic Control of DNA Hybridization Through Inductive Coupling to an Attached Metal Nanocrystal Antenna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, K. Hamad-Schifferli, J.J. Schwartz, A.T. Santos, S.G. Zhang, and J.M. Jacobson, </a:t>
            </a:r>
            <a:r>
              <a:rPr b="1" i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Nature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 (415) pp. 152-155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8332" t="23335" r="16667" b="22223"/>
          <a:stretch/>
        </p:blipFill>
        <p:spPr>
          <a:xfrm>
            <a:off x="0" y="3316320"/>
            <a:ext cx="4267080" cy="232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2499" t="32224" r="9166" b="40001"/>
          <a:stretch/>
        </p:blipFill>
        <p:spPr>
          <a:xfrm>
            <a:off x="0" y="5718240"/>
            <a:ext cx="4191120" cy="98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2499" t="40001" r="61671" b="3332"/>
          <a:stretch/>
        </p:blipFill>
        <p:spPr>
          <a:xfrm>
            <a:off x="914400" y="152280"/>
            <a:ext cx="2570040" cy="304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3353040" cy="53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Factoring 15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3920" y="76320"/>
            <a:ext cx="408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66"/>
                </a:solidFill>
                <a:latin typeface="Arial"/>
                <a:ea typeface="Times New Roman"/>
              </a:rPr>
              <a:t>Experimental realization of Shor's quantum factoring algorithm using nuclear magnetic resonance,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  <a:ea typeface="Arial"/>
              </a:rPr>
              <a:t>LIEVEN M. K. VANDERSYPEN, MATTHIAS STEFFEN, GREGORY BREYTA, COSTANTINO S. YANNONI, MARK H. SHERWOOD &amp; ISAAC L. CHUANG, </a:t>
            </a:r>
            <a:r>
              <a:rPr b="1" i="1" lang="en-US" sz="1200" spc="-1" strike="noStrike">
                <a:solidFill>
                  <a:srgbClr val="006666"/>
                </a:solidFill>
                <a:latin typeface="Arial"/>
                <a:ea typeface="Arial"/>
              </a:rPr>
              <a:t>Nature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  <a:ea typeface="Arial"/>
              </a:rPr>
              <a:t> (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  <a:ea typeface="Arial"/>
              </a:rPr>
              <a:t>414), 883–887 (20/27 December 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3840" y="685800"/>
            <a:ext cx="4524480" cy="2921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57800" y="1295280"/>
            <a:ext cx="3510000" cy="219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4114800" cy="316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648320" y="3597120"/>
            <a:ext cx="4343400" cy="318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387240" y="2895480"/>
            <a:ext cx="19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0000"/>
                </a:solidFill>
                <a:latin typeface="Arial"/>
              </a:rPr>
              <a:t>perfluorobutadienyl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Oops!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819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anuary 15, 1990: AT&amp;T’s long-distanc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65 million calls, 9 hours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an upgrade to improve switch reliability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10, 1996: electrical gr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25 GW, 190 plants, 7.5 million customers, 9 states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ree, automatic load-shedding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ril 23, 1997: Intern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40% Net “black-hole”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rroneous routing table pointing to 1 ISP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23040" y="2041560"/>
            <a:ext cx="352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70602"/>
                </a:solidFill>
                <a:latin typeface="Arial"/>
              </a:rPr>
              <a:t>Emergent failur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267080" y="609480"/>
            <a:ext cx="533520" cy="46483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4840" y="1387440"/>
            <a:ext cx="33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emonstratio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mergent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8160" y="388764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0602"/>
                </a:solidFill>
                <a:latin typeface="Arial"/>
              </a:rPr>
              <a:t>(don’t scal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36840" y="1387440"/>
            <a:ext cx="33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eep thinking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mergent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2840" y="3886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0602"/>
                </a:solidFill>
                <a:latin typeface="Arial"/>
              </a:rPr>
              <a:t>(don’t wor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609480"/>
            <a:ext cx="403848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609480"/>
            <a:ext cx="403848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95680" y="5333760"/>
            <a:ext cx="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5160" y="59436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rigor + relev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dc:language>en-US</dc:language>
  <cp:lastModifiedBy>LAB</cp:lastModifiedBy>
  <cp:lastPrinted>1997-02-02T14:23:30Z</cp:lastPrinted>
  <dcterms:modified xsi:type="dcterms:W3CDTF">2002-10-14T19:42:43Z</dcterms:modified>
  <cp:revision>1143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