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1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781-FD1A-406E-9A09-EE1E716F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AF7-FE05-4011-B1A2-85BD6028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D69-F81E-476C-A58D-DB5C7EE1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F3E-136B-4F19-A0D0-7AA52B5D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908-0048-46E2-8089-EDEEA997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DD8-187A-4479-9E69-834258FF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6CE-8E49-44CB-B797-3120F2D3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D7B-9E54-4AF2-B40F-56BBB2DC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19C-C427-4F5A-923D-928A9E9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35D-351C-4E49-81A8-236014F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A3B-9ADA-45BA-89F1-DE62A0B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D8E-554F-4EF5-A74C-7071859D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AD9-508F-43A8-A5BF-B84C3B77E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sf" descr="NSF Home Page"/>
          <p:cNvPicPr/>
          <p:nvPr/>
        </p:nvPicPr>
        <p:blipFill>
          <a:blip r:embed="rId1"/>
          <a:stretch/>
        </p:blipFill>
        <p:spPr>
          <a:xfrm>
            <a:off x="7329600" y="5573880"/>
            <a:ext cx="985680" cy="985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438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Replica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9480" y="544212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9120" y="4121280"/>
            <a:ext cx="46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. Joseph Jac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.09.18.CBAlogo" descr=""/>
          <p:cNvPicPr/>
          <p:nvPr/>
        </p:nvPicPr>
        <p:blipFill>
          <a:blip r:embed="rId2"/>
          <a:stretch/>
        </p:blipFill>
        <p:spPr>
          <a:xfrm>
            <a:off x="952560" y="4951440"/>
            <a:ext cx="4952880" cy="1074600"/>
          </a:xfrm>
          <a:prstGeom prst="rect">
            <a:avLst/>
          </a:prstGeom>
          <a:ln w="0">
            <a:noFill/>
          </a:ln>
        </p:spPr>
      </p:pic>
      <p:pic>
        <p:nvPicPr>
          <p:cNvPr id="46" name="ecoldiv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259092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33526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coli – division and re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igradiolaria" descr=""/>
          <p:cNvPicPr/>
          <p:nvPr/>
        </p:nvPicPr>
        <p:blipFill>
          <a:blip r:embed="rId4"/>
          <a:stretch/>
        </p:blipFill>
        <p:spPr>
          <a:xfrm>
            <a:off x="2038320" y="1295280"/>
            <a:ext cx="177156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34290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L 33 Radiolara, Institut fur Leichte Flachentragwerke,199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96800" y="190512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6800" y="205740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1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39800" y="1600200"/>
            <a:ext cx="3049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1143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0844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2209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560" y="281952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NA Polyme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transcribe 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2440" y="3657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8240" y="42670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xP Excisio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440" y="47242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15880" y="5297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lacement with 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186840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2021040"/>
            <a:ext cx="190512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41000" y="20970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080" y="152280"/>
            <a:ext cx="89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e for Self Excising Error Correcting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52880" y="2514600"/>
          <a:ext cx="3919680" cy="30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14600"/>
                    <a:ext cx="39196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166880" y="6400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son ‘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1382760"/>
            <a:ext cx="5791320" cy="3557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6080" y="586728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Threshold M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732640"/>
                <a:ext cx="1143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2120" y="2273400"/>
                <a:ext cx="699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19720" y="4863960"/>
                <a:ext cx="774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791320" y="1981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57600" y="3187800"/>
                <a:ext cx="1282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810400" y="2441520"/>
                <a:ext cx="1428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 flipH="1">
            <a:off x="3733560" y="37339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2400" y="0"/>
            <a:ext cx="67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ing Error Correcting Polymeras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Correcting Codes One Can Replica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me of Arbitra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5080" y="6400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son ‘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For Next Dec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80" y="1676520"/>
            <a:ext cx="91018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complexity per unit vol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6 orders of magnitude left to go in complex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gineered syste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useful for many applications must be ab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 multiple co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 replicating systems may be useful in attaining that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 represents a new discipline in engine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30240" y="2438280"/>
            <a:ext cx="58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ncc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m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n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epani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86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holds the record in bo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per unit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 the ability to carry out self re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olymerase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341784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02960" y="6583320"/>
            <a:ext cx="45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ocus.hms.harvard.edu/1997/Apr18_1997/polymeras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925notw1.ce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267080" cy="277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10240" y="4648320"/>
            <a:ext cx="444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http://www.nature.com/cgi-taf/DynaPage.taf?file=/nature/jou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v411/n6839/full/411810a0_r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44800" y="12952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n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1790640"/>
          <a:ext cx="3810240" cy="2857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90640"/>
                    <a:ext cx="3810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209680" y="3024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less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2360" y="133344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atalytic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7360" y="579132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ed Parts Lack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4080" y="0"/>
            <a:ext cx="58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earing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Protein Biochemical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715000" y="1371600"/>
          <a:ext cx="22255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2255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0" y="1600200"/>
          <a:ext cx="5638680" cy="42292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00200"/>
                    <a:ext cx="56386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108040" y="62485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Szostak, Nature,409, Jan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09680" y="1752480"/>
          <a:ext cx="5105520" cy="38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51055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051360" y="571500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ley et. Al. ACS Proceedings, July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0"/>
            <a:ext cx="45720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earing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ganic Synthetic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25960" y="76320"/>
            <a:ext cx="2220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8600" y="6354720"/>
            <a:ext cx="359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gnn.tigr.org/articles/02_01/Sizing_genom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362320" y="762120"/>
            <a:ext cx="5866560" cy="5073120"/>
            <a:chOff x="2362320" y="762120"/>
            <a:chExt cx="5866560" cy="5073120"/>
          </a:xfrm>
        </p:grpSpPr>
        <p:pic>
          <p:nvPicPr>
            <p:cNvPr id="77" name="amoeba_d" descr=""/>
            <p:cNvPicPr/>
            <p:nvPr/>
          </p:nvPicPr>
          <p:blipFill>
            <a:blip r:embed="rId1"/>
            <a:stretch/>
          </p:blipFill>
          <p:spPr>
            <a:xfrm>
              <a:off x="5392440" y="797040"/>
              <a:ext cx="1450800" cy="8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621960" y="3447360"/>
              <a:ext cx="74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762120"/>
              <a:ext cx="2846160" cy="9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moeba dubi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670,000,0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2320" y="1554120"/>
              <a:ext cx="284616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moeba proteus</a:t>
              </a:r>
              <a:br>
                <a:rPr sz="2000"/>
              </a:b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290,000,0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208480" y="1191960"/>
              <a:ext cx="2115000" cy="870840"/>
              <a:chOff x="5208480" y="1191960"/>
              <a:chExt cx="2115000" cy="870840"/>
            </a:xfrm>
          </p:grpSpPr>
          <p:sp>
            <p:nvSpPr>
              <p:cNvPr id="82" name=""/>
              <p:cNvSpPr/>
              <p:nvPr/>
            </p:nvSpPr>
            <p:spPr>
              <a:xfrm>
                <a:off x="5208480" y="1191960"/>
                <a:ext cx="12654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08480" y="1191960"/>
                <a:ext cx="2115000" cy="8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</a:rPr>
                  <a:t>  </a:t>
                </a:r>
                <a:r>
                  <a:rPr b="0" lang="en-US" sz="5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362320" y="2414160"/>
              <a:ext cx="284616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amoeba_1" descr="Courtesy of Yuuji Tsukii"/>
            <p:cNvPicPr/>
            <p:nvPr/>
          </p:nvPicPr>
          <p:blipFill>
            <a:blip r:embed="rId2"/>
            <a:stretch/>
          </p:blipFill>
          <p:spPr>
            <a:xfrm>
              <a:off x="5392440" y="1766880"/>
              <a:ext cx="1482840" cy="94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2426400" y="2848680"/>
              <a:ext cx="3929040" cy="647280"/>
              <a:chOff x="2426400" y="2848680"/>
              <a:chExt cx="3929040" cy="647280"/>
            </a:xfrm>
          </p:grpSpPr>
          <p:sp>
            <p:nvSpPr>
              <p:cNvPr id="87" name=""/>
              <p:cNvSpPr/>
              <p:nvPr/>
            </p:nvSpPr>
            <p:spPr>
              <a:xfrm>
                <a:off x="2426400" y="28486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2426400" y="2848680"/>
                <a:ext cx="2793960" cy="647280"/>
                <a:chOff x="2426400" y="2848680"/>
                <a:chExt cx="2793960" cy="6472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426400" y="2848680"/>
                  <a:ext cx="20041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mo sapiens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2,900,00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430520" y="2848680"/>
                  <a:ext cx="7898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91" name="people" descr="Copyright 2001, Mary S. Gibbs, GNN"/>
            <p:cNvPicPr/>
            <p:nvPr/>
          </p:nvPicPr>
          <p:blipFill>
            <a:blip r:embed="rId3"/>
            <a:stretch/>
          </p:blipFill>
          <p:spPr>
            <a:xfrm>
              <a:off x="5650560" y="2836080"/>
              <a:ext cx="966960" cy="71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426400" y="4613400"/>
              <a:ext cx="5802480" cy="1221840"/>
              <a:chOff x="2426400" y="4613400"/>
              <a:chExt cx="5802480" cy="1221840"/>
            </a:xfrm>
          </p:grpSpPr>
          <p:sp>
            <p:nvSpPr>
              <p:cNvPr id="93" name=""/>
              <p:cNvSpPr/>
              <p:nvPr/>
            </p:nvSpPr>
            <p:spPr>
              <a:xfrm>
                <a:off x="2426400" y="4613400"/>
                <a:ext cx="5802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426400" y="4613400"/>
                <a:ext cx="4125960" cy="1221840"/>
                <a:chOff x="2426400" y="4613400"/>
                <a:chExt cx="4125960" cy="12218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26400" y="4613400"/>
                  <a:ext cx="295956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uman immunodeficiency virus type 1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19,7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385960" y="4613400"/>
                  <a:ext cx="116640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97" name="hiv" descr="Copyright 2001, Mary S. Gibbs, GNN"/>
            <p:cNvPicPr/>
            <p:nvPr/>
          </p:nvPicPr>
          <p:blipFill>
            <a:blip r:embed="rId4"/>
            <a:stretch/>
          </p:blipFill>
          <p:spPr>
            <a:xfrm>
              <a:off x="5698800" y="4740840"/>
              <a:ext cx="918720" cy="85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"/>
            <p:cNvGrpSpPr/>
            <p:nvPr/>
          </p:nvGrpSpPr>
          <p:grpSpPr>
            <a:xfrm>
              <a:off x="2426400" y="3736080"/>
              <a:ext cx="5609160" cy="647280"/>
              <a:chOff x="2426400" y="3736080"/>
              <a:chExt cx="5609160" cy="647280"/>
            </a:xfrm>
          </p:grpSpPr>
          <p:sp>
            <p:nvSpPr>
              <p:cNvPr id="99" name=""/>
              <p:cNvSpPr/>
              <p:nvPr/>
            </p:nvSpPr>
            <p:spPr>
              <a:xfrm>
                <a:off x="2426400" y="3736080"/>
                <a:ext cx="5609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426400" y="3736080"/>
                <a:ext cx="3988440" cy="647280"/>
                <a:chOff x="2426400" y="3736080"/>
                <a:chExt cx="3988440" cy="647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426400" y="3736080"/>
                  <a:ext cx="28609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ycoplasma genitaliu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580,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287320" y="3736080"/>
                  <a:ext cx="11275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03" name="mgenetalium_200" descr=""/>
            <p:cNvPicPr/>
            <p:nvPr/>
          </p:nvPicPr>
          <p:blipFill>
            <a:blip r:embed="rId5"/>
            <a:stretch/>
          </p:blipFill>
          <p:spPr>
            <a:xfrm>
              <a:off x="5457240" y="3616200"/>
              <a:ext cx="1418040" cy="105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5340960" y="6602400"/>
            <a:ext cx="38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nature.com/nsu/010222/images/ mgenetalium_20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8720" y="152280"/>
            <a:ext cx="77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plicate Complex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640" y="6035760"/>
            <a:ext cx="41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s.  Error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6668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ult Tolerant Translation Codes (Hech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N encodes 5 different nonpolar resid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et, Leu, Ile, Val and P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 encodes 6 different polar resid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ys, His, Glu, Gln, Asp and A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Error Corr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bozyme: 1: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Correcting Polymerase:  1: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de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NA Repair 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bination - retrieval - post replication repa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ymine Dimer byp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4840" y="-100080"/>
            <a:ext cx="702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Correction in Biolog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Extremely High Fidelity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480" y="5727600"/>
            <a:ext cx="90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is cumul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Can We Create An Organ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ich Does Not Have Cumulative Err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344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95960" y="3809880"/>
          <a:ext cx="294804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5960" y="3809880"/>
                    <a:ext cx="29480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219360" y="5257800"/>
            <a:ext cx="27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Coli Retrieval system - Le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248520" y="1219320"/>
            <a:ext cx="281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7640" y="3808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       Use Error Correcting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371600"/>
            <a:ext cx="761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strands of N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By carrying out a consensus vote one requires onl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plicate with error below some epsilon such that the global replication err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9880" y="5683320"/>
                <a:ext cx="158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905120" y="685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62320" y="2133720"/>
            <a:ext cx="2057400" cy="761760"/>
            <a:chOff x="2362320" y="2133720"/>
            <a:chExt cx="2057400" cy="761760"/>
          </a:xfrm>
        </p:grpSpPr>
        <p:sp>
          <p:nvSpPr>
            <p:cNvPr id="120" name=""/>
            <p:cNvSpPr/>
            <p:nvPr/>
          </p:nvSpPr>
          <p:spPr>
            <a:xfrm>
              <a:off x="289584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213372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304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2133720"/>
              <a:ext cx="2286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024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3920" y="213372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91120" y="213372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864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62320" y="2133720"/>
              <a:ext cx="2286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84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243828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304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6720" y="2438280"/>
              <a:ext cx="2286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024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243828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243828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64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2438280"/>
              <a:ext cx="2286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84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27432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5304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27432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024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920" y="27432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27432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64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62320" y="2743200"/>
              <a:ext cx="2286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29000" y="4419720"/>
                <a:ext cx="2209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44Z</dcterms:created>
  <dc:creator>saul griffith</dc:creator>
  <dc:description/>
  <dc:language>en-US</dc:language>
  <cp:lastModifiedBy>MIT</cp:lastModifiedBy>
  <dcterms:modified xsi:type="dcterms:W3CDTF">2002-10-16T15:47:03Z</dcterms:modified>
  <cp:revision>123</cp:revision>
  <dc:subject/>
  <dc:title>Predicated assembly and biomimetics in micro/nano-manufacture</dc:title>
</cp:coreProperties>
</file>