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5.jpeg" ContentType="image/jpeg"/>
  <Override PartName="/ppt/media/image12.jpeg" ContentType="image/jpeg"/>
  <Override PartName="/ppt/media/image11.jpeg" ContentType="image/jpeg"/>
  <Override PartName="/ppt/media/image33.jpeg" ContentType="image/jpeg"/>
  <Override PartName="/ppt/media/image27.jpeg" ContentType="image/jpeg"/>
  <Override PartName="/ppt/media/image3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41.png" ContentType="image/png"/>
  <Override PartName="/ppt/media/image9.wmf" ContentType="image/x-wmf"/>
  <Override PartName="/ppt/media/image43.jpeg" ContentType="image/jpeg"/>
  <Override PartName="/ppt/media/image45.png" ContentType="image/png"/>
  <Override PartName="/ppt/media/image44.jpeg" ContentType="image/jpeg"/>
  <Override PartName="/ppt/media/image13.jpeg" ContentType="image/jpeg"/>
  <Override PartName="/ppt/media/image3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32A-A735-484F-9995-CD7D738E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FCB-7BEF-4B32-B823-948DDCA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B9F-9C38-4348-80EC-7475808E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D52-0374-496F-AA93-F2E37F90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16C-878B-413B-A035-1FEFE94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BB2-B0C7-4A06-84BD-DE620618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4DE-1AA9-4C15-814D-508CCCAB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6A2-939B-43F8-938C-1678037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222-571D-4C3B-845D-D238BD2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D73-4A6B-4958-A850-0449439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82A-4655-442A-A69C-619EDBE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9E3-F137-41E5-B240-4C27E9AB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4ECA-BE97-4663-A4CC-A9D8322A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8215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trolling “Emergelent”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58760" y="2972880"/>
            <a:ext cx="69645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affaello D’And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85800" y="1440000"/>
            <a:ext cx="10515600" cy="3617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2960" y="37944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”   EXTENT 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14640" y="906480"/>
            <a:ext cx="5781600" cy="5933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040" y="131400"/>
            <a:ext cx="65689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2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0120" y="1486080"/>
            <a:ext cx="8163000" cy="4717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600" y="131760"/>
            <a:ext cx="656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1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9440" y="1503360"/>
            <a:ext cx="8882280" cy="4897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600" y="131760"/>
            <a:ext cx="656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NO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1640" y="127152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erformance 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600" y="1947960"/>
          <a:ext cx="25988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947960"/>
                    <a:ext cx="2598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98440" y="2647800"/>
          <a:ext cx="8690040" cy="362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440" y="2647800"/>
                    <a:ext cx="86900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60640" y="1278000"/>
          <a:ext cx="128304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0640" y="1278000"/>
                    <a:ext cx="12830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257800" y="128412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3480" y="19098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9520" y="21744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mi-definite Programm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1280" y="1638360"/>
            <a:ext cx="3900240" cy="4109760"/>
            <a:chOff x="71280" y="1638360"/>
            <a:chExt cx="3900240" cy="41097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65720" y="2163600"/>
              <a:ext cx="24523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698480" y="2034000"/>
              <a:ext cx="0" cy="7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34120" y="4270680"/>
              <a:ext cx="81288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240" y="3657960"/>
              <a:ext cx="6516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9560" y="2940840"/>
              <a:ext cx="61992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1554840" y="1638360"/>
            <a:ext cx="295920" cy="37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54840" y="1638360"/>
                      <a:ext cx="2959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400840" y="1886040"/>
            <a:ext cx="26748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00840" y="1886040"/>
                      <a:ext cx="267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542760" y="3519000"/>
            <a:ext cx="428760" cy="45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42760" y="3519000"/>
                      <a:ext cx="4287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1280" y="3371040"/>
            <a:ext cx="428400" cy="453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280" y="3371040"/>
                      <a:ext cx="42840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3503880" y="4374720"/>
            <a:ext cx="349560" cy="452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3880" y="4374720"/>
                      <a:ext cx="349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95200" y="2349000"/>
            <a:ext cx="349560" cy="452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95200" y="2349000"/>
                      <a:ext cx="349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2635560" y="3523320"/>
              <a:ext cx="82620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287440" y="2167920"/>
              <a:ext cx="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95600" y="4489560"/>
              <a:ext cx="0" cy="7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1444320" y="5330520"/>
            <a:ext cx="295560" cy="3470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44320" y="5330520"/>
                      <a:ext cx="29556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 flipV="1">
              <a:off x="2297880" y="4691520"/>
              <a:ext cx="0" cy="8359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2362320" y="5454000"/>
            <a:ext cx="267120" cy="2941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362320" y="5454000"/>
                      <a:ext cx="267120" cy="2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5281560" y="3149640"/>
          <a:ext cx="2559240" cy="2281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81560" y="3149640"/>
                    <a:ext cx="25592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04840" y="266760"/>
            <a:ext cx="8702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BASIC  BUILDING  BLOCK:  CONTROL 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0480" y="6126120"/>
            <a:ext cx="86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controller that has the same structure as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85920" y="1531800"/>
            <a:ext cx="6688080" cy="3795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440" y="11160"/>
            <a:ext cx="558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84120" y="1536840"/>
            <a:ext cx="6724800" cy="4533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5440" y="11160"/>
            <a:ext cx="558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1120" y="1747800"/>
            <a:ext cx="7477200" cy="3568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41560" y="82440"/>
            <a:ext cx="62085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LY  CAUSAL 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93720" y="1833480"/>
            <a:ext cx="7491600" cy="4102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41560" y="82440"/>
            <a:ext cx="62085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LY  CAUSAL 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600" y="2743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NTERCONNECTED SYSTEMS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xample: Formation F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0" y="156384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pwash created by neighboring craft to provide extra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4605480"/>
            <a:ext cx="8762760" cy="1675800"/>
            <a:chOff x="228600" y="4605480"/>
            <a:chExt cx="8762760" cy="1675800"/>
          </a:xfrm>
        </p:grpSpPr>
        <p:grpSp>
          <p:nvGrpSpPr>
            <p:cNvPr id="46" name=""/>
            <p:cNvGrpSpPr/>
            <p:nvPr/>
          </p:nvGrpSpPr>
          <p:grpSpPr>
            <a:xfrm>
              <a:off x="3733560" y="4605480"/>
              <a:ext cx="1752840" cy="609120"/>
              <a:chOff x="3733560" y="4605480"/>
              <a:chExt cx="1752840" cy="609120"/>
            </a:xfrm>
          </p:grpSpPr>
          <p:sp>
            <p:nvSpPr>
              <p:cNvPr id="47" name=""/>
              <p:cNvSpPr/>
              <p:nvPr/>
            </p:nvSpPr>
            <p:spPr>
              <a:xfrm>
                <a:off x="3733560" y="4757760"/>
                <a:ext cx="1752840" cy="1011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281120" y="5112720"/>
                <a:ext cx="6022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55080" y="4605480"/>
                <a:ext cx="54720" cy="6091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486400" y="5138640"/>
              <a:ext cx="1752480" cy="609120"/>
              <a:chOff x="5486400" y="5138640"/>
              <a:chExt cx="1752480" cy="609120"/>
            </a:xfrm>
          </p:grpSpPr>
          <p:sp>
            <p:nvSpPr>
              <p:cNvPr id="51" name=""/>
              <p:cNvSpPr/>
              <p:nvPr/>
            </p:nvSpPr>
            <p:spPr>
              <a:xfrm>
                <a:off x="5486400" y="5290920"/>
                <a:ext cx="1752480" cy="1011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033960" y="5645880"/>
                <a:ext cx="6022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7560" y="5138640"/>
                <a:ext cx="54720" cy="6091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238880" y="5671800"/>
              <a:ext cx="1752480" cy="609480"/>
              <a:chOff x="7238880" y="5671800"/>
              <a:chExt cx="1752480" cy="6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7238880" y="5824080"/>
                <a:ext cx="17524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786440" y="6179400"/>
                <a:ext cx="6022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060040" y="5671800"/>
                <a:ext cx="54720" cy="609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981080" y="5138640"/>
              <a:ext cx="1752480" cy="609120"/>
              <a:chOff x="1981080" y="5138640"/>
              <a:chExt cx="1752480" cy="609120"/>
            </a:xfrm>
          </p:grpSpPr>
          <p:sp>
            <p:nvSpPr>
              <p:cNvPr id="59" name=""/>
              <p:cNvSpPr/>
              <p:nvPr/>
            </p:nvSpPr>
            <p:spPr>
              <a:xfrm>
                <a:off x="1981080" y="5290920"/>
                <a:ext cx="1752480" cy="1011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28640" y="5645880"/>
                <a:ext cx="6022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02240" y="5138640"/>
                <a:ext cx="54720" cy="6091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600" y="5671800"/>
              <a:ext cx="1752480" cy="609480"/>
              <a:chOff x="228600" y="5671800"/>
              <a:chExt cx="1752480" cy="609480"/>
            </a:xfrm>
          </p:grpSpPr>
          <p:sp>
            <p:nvSpPr>
              <p:cNvPr id="63" name=""/>
              <p:cNvSpPr/>
              <p:nvPr/>
            </p:nvSpPr>
            <p:spPr>
              <a:xfrm>
                <a:off x="228600" y="5824080"/>
                <a:ext cx="17524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76160" y="6179400"/>
                <a:ext cx="602280" cy="1015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49760" y="5671800"/>
                <a:ext cx="54720" cy="609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449280" y="2387520"/>
            <a:ext cx="3809880" cy="1600200"/>
            <a:chOff x="449280" y="2387520"/>
            <a:chExt cx="3809880" cy="1600200"/>
          </a:xfrm>
        </p:grpSpPr>
        <p:grpSp>
          <p:nvGrpSpPr>
            <p:cNvPr id="67" name=""/>
            <p:cNvGrpSpPr/>
            <p:nvPr/>
          </p:nvGrpSpPr>
          <p:grpSpPr>
            <a:xfrm>
              <a:off x="449280" y="2387520"/>
              <a:ext cx="3809880" cy="1600200"/>
              <a:chOff x="449280" y="2387520"/>
              <a:chExt cx="3809880" cy="1600200"/>
            </a:xfrm>
          </p:grpSpPr>
          <p:sp>
            <p:nvSpPr>
              <p:cNvPr id="68" name=""/>
              <p:cNvSpPr/>
              <p:nvPr/>
            </p:nvSpPr>
            <p:spPr>
              <a:xfrm>
                <a:off x="982800" y="3377880"/>
                <a:ext cx="2743200" cy="1526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280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736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9228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9720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0176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50668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1160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1616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2108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26000" y="3606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801960" y="2387520"/>
                <a:ext cx="457200" cy="914400"/>
                <a:chOff x="3801960" y="2387520"/>
                <a:chExt cx="457200" cy="914400"/>
              </a:xfrm>
            </p:grpSpPr>
            <p:sp>
              <p:nvSpPr>
                <p:cNvPr id="80" name=""/>
                <p:cNvSpPr/>
                <p:nvPr/>
              </p:nvSpPr>
              <p:spPr>
                <a:xfrm flipV="1">
                  <a:off x="380196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4030560" y="28447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259160" y="3149280"/>
                  <a:ext cx="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49280" y="2463480"/>
                <a:ext cx="457200" cy="914400"/>
                <a:chOff x="449280" y="2463480"/>
                <a:chExt cx="457200" cy="914400"/>
              </a:xfrm>
            </p:grpSpPr>
            <p:sp>
              <p:nvSpPr>
                <p:cNvPr id="84" name=""/>
                <p:cNvSpPr/>
                <p:nvPr/>
              </p:nvSpPr>
              <p:spPr>
                <a:xfrm flipV="1">
                  <a:off x="906480" y="2463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677880" y="2920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449280" y="3225240"/>
                  <a:ext cx="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>
              <a:off x="2232000" y="3103560"/>
              <a:ext cx="152280" cy="549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6480" y="3163680"/>
              <a:ext cx="441360" cy="88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360" y="3324240"/>
              <a:ext cx="258840" cy="395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61080" y="2370240"/>
            <a:ext cx="31384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85680" y="2825640"/>
            <a:ext cx="9329760" cy="352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440" y="111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EXT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162000" y="2833560"/>
            <a:ext cx="9487080" cy="3946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5440" y="111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EXT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480" y="2487600"/>
            <a:ext cx="8101080" cy="366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440" y="111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3880" y="2581200"/>
            <a:ext cx="7921800" cy="404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440" y="111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19200" y="638280"/>
            <a:ext cx="6558120" cy="599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-193680" y="131760"/>
            <a:ext cx="65689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2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160" y="768240"/>
            <a:ext cx="869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re exists a controller which satisfies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dition if and only  if there ex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920" y="1662120"/>
          <a:ext cx="412092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62120"/>
                    <a:ext cx="4120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613400" y="1663560"/>
          <a:ext cx="398772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3400" y="1663560"/>
                    <a:ext cx="39877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849320" y="2476440"/>
          <a:ext cx="5551560" cy="14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9320" y="2476440"/>
                    <a:ext cx="5551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876320" y="4017960"/>
          <a:ext cx="549756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6320" y="4017960"/>
                    <a:ext cx="54975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9720" y="5654520"/>
          <a:ext cx="2344680" cy="91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9720" y="5654520"/>
                    <a:ext cx="23446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02320" y="1403280"/>
            <a:ext cx="4066920" cy="3718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270000" y="-31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Properties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6480" y="950760"/>
            <a:ext cx="45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:  distribu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, limited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7160" y="3529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1120" y="2270160"/>
            <a:ext cx="38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dimensional, con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840" y="3745080"/>
            <a:ext cx="48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problem siz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the number of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5840" y="50418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al-time re-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58720"/>
            <a:ext cx="7515360" cy="2793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0880" y="4297320"/>
            <a:ext cx="7467840" cy="261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76212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ntralize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129528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880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88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7840" y="1889280"/>
            <a:ext cx="7331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istributed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sec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ully 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hours (4 w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57880" y="120168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time (P3, 1.2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77680" y="11826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st Cas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elligent Vehic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31760" y="1295280"/>
            <a:ext cx="7264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ormation Flight Test-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492200"/>
            <a:ext cx="63486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xample: RoboC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37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competition: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operation, adversaries, uncertain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7:  Nagoya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rnegie Me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:  Par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rnegie Me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: Stockhol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n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:  Melbour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n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: Sea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Fukuo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n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80360" y="1049400"/>
            <a:ext cx="732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ierarchy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ols for desig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igh-performance controlled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uncertain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920" y="270972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7960" y="3324240"/>
            <a:ext cx="848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evel decomposition: temporal and spatial separation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race bottom up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 of models v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ations and red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of uncertainty to higher 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heuristics, coupled with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3600" y="5176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38360" y="888840"/>
            <a:ext cx="1830240" cy="1070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629240" y="3362400"/>
            <a:ext cx="613800" cy="131760"/>
            <a:chOff x="4629240" y="3362400"/>
            <a:chExt cx="613800" cy="131760"/>
          </a:xfrm>
        </p:grpSpPr>
        <p:sp>
          <p:nvSpPr>
            <p:cNvPr id="230" name=""/>
            <p:cNvSpPr/>
            <p:nvPr/>
          </p:nvSpPr>
          <p:spPr>
            <a:xfrm rot="16200000">
              <a:off x="4624560" y="3367080"/>
              <a:ext cx="13176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870080" y="3367080"/>
              <a:ext cx="13176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5115600" y="3366720"/>
              <a:ext cx="131760" cy="12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System Level De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0040" y="2284560"/>
            <a:ext cx="1830240" cy="1069920"/>
          </a:xfrm>
          <a:prstGeom prst="rect">
            <a:avLst/>
          </a:prstGeom>
          <a:solidFill>
            <a:srgbClr val="3333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14280" y="1385640"/>
            <a:ext cx="436320" cy="1160280"/>
            <a:chOff x="1214280" y="1385640"/>
            <a:chExt cx="436320" cy="1160280"/>
          </a:xfrm>
        </p:grpSpPr>
        <p:sp>
          <p:nvSpPr>
            <p:cNvPr id="236" name=""/>
            <p:cNvSpPr/>
            <p:nvPr/>
          </p:nvSpPr>
          <p:spPr>
            <a:xfrm flipH="1">
              <a:off x="1228320" y="2533680"/>
              <a:ext cx="42228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214280" y="140004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214280" y="1385640"/>
              <a:ext cx="4096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479760" y="1305000"/>
            <a:ext cx="314280" cy="1228680"/>
            <a:chOff x="3479760" y="1305000"/>
            <a:chExt cx="314280" cy="1228680"/>
          </a:xfrm>
        </p:grpSpPr>
        <p:sp>
          <p:nvSpPr>
            <p:cNvPr id="240" name=""/>
            <p:cNvSpPr/>
            <p:nvPr/>
          </p:nvSpPr>
          <p:spPr>
            <a:xfrm>
              <a:off x="3479760" y="1305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94040" y="130500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506760" y="25336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687680" y="3557520"/>
            <a:ext cx="1830240" cy="1069920"/>
          </a:xfrm>
          <a:prstGeom prst="rect">
            <a:avLst/>
          </a:prstGeom>
          <a:solidFill>
            <a:srgbClr val="333399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67920" y="3830760"/>
            <a:ext cx="422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254240" y="3120840"/>
            <a:ext cx="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54240" y="3097080"/>
            <a:ext cx="4093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19360" y="31449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33640" y="314640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532320" y="3816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4960" y="4830840"/>
            <a:ext cx="1830240" cy="1069920"/>
          </a:xfrm>
          <a:prstGeom prst="rect">
            <a:avLst/>
          </a:prstGeom>
          <a:solidFill>
            <a:srgbClr val="333399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93480" y="4984920"/>
            <a:ext cx="422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79440" y="4275000"/>
            <a:ext cx="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279440" y="4251240"/>
            <a:ext cx="40968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30520" y="43131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44800" y="43149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43480" y="4984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5600" y="915840"/>
            <a:ext cx="1830240" cy="1070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37280" y="2311560"/>
            <a:ext cx="1830240" cy="1069920"/>
          </a:xfrm>
          <a:prstGeom prst="rect">
            <a:avLst/>
          </a:prstGeom>
          <a:solidFill>
            <a:srgbClr val="3333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681520" y="1412640"/>
            <a:ext cx="436320" cy="1160280"/>
            <a:chOff x="5681520" y="1412640"/>
            <a:chExt cx="436320" cy="1160280"/>
          </a:xfrm>
        </p:grpSpPr>
        <p:sp>
          <p:nvSpPr>
            <p:cNvPr id="260" name=""/>
            <p:cNvSpPr/>
            <p:nvPr/>
          </p:nvSpPr>
          <p:spPr>
            <a:xfrm flipH="1">
              <a:off x="5695560" y="2560680"/>
              <a:ext cx="42228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681520" y="142704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681520" y="1412640"/>
              <a:ext cx="4096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947000" y="1332000"/>
            <a:ext cx="314280" cy="1228680"/>
            <a:chOff x="7947000" y="1332000"/>
            <a:chExt cx="314280" cy="1228680"/>
          </a:xfrm>
        </p:grpSpPr>
        <p:sp>
          <p:nvSpPr>
            <p:cNvPr id="264" name=""/>
            <p:cNvSpPr/>
            <p:nvPr/>
          </p:nvSpPr>
          <p:spPr>
            <a:xfrm>
              <a:off x="7947000" y="1332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61280" y="133200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974000" y="25606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154560" y="3584520"/>
            <a:ext cx="1830600" cy="1069920"/>
          </a:xfrm>
          <a:prstGeom prst="rect">
            <a:avLst/>
          </a:prstGeom>
          <a:solidFill>
            <a:srgbClr val="333399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35160" y="3857760"/>
            <a:ext cx="422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721480" y="3147840"/>
            <a:ext cx="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21480" y="3124080"/>
            <a:ext cx="4093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86600" y="31719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00880" y="317340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99560" y="384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4857840"/>
            <a:ext cx="1830240" cy="1069920"/>
          </a:xfrm>
          <a:prstGeom prst="rect">
            <a:avLst/>
          </a:prstGeom>
          <a:solidFill>
            <a:srgbClr val="333399">
              <a:alpha val="4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760720" y="5011560"/>
            <a:ext cx="4222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46680" y="4301640"/>
            <a:ext cx="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46680" y="4278240"/>
            <a:ext cx="40968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97760" y="43401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2040" y="4341960"/>
            <a:ext cx="0" cy="66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010000" y="50115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6338880"/>
            <a:ext cx="7915320" cy="3556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79760" y="5910120"/>
            <a:ext cx="0" cy="40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15040" y="592452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xample of bottom up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27280" y="1333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ation and Simplified Dynam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920" y="2057400"/>
          <a:ext cx="213336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213336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937800" y="4749840"/>
            <a:ext cx="73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possible motions, design lower level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have like simplified dynam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7432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27720" y="1955880"/>
            <a:ext cx="1830240" cy="1069920"/>
          </a:xfrm>
          <a:prstGeom prst="rect">
            <a:avLst/>
          </a:prstGeom>
          <a:solidFill>
            <a:srgbClr val="3333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ev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45000" y="3228840"/>
            <a:ext cx="1830600" cy="1070280"/>
          </a:xfrm>
          <a:prstGeom prst="rect">
            <a:avLst/>
          </a:prstGeom>
          <a:solidFill>
            <a:srgbClr val="333399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025600" y="3502080"/>
            <a:ext cx="422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011560" y="2792160"/>
            <a:ext cx="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011560" y="2768400"/>
            <a:ext cx="40968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77040" y="2816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91320" y="281772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89280" y="34876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037120" y="3922560"/>
            <a:ext cx="40968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8200" y="39844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005440" y="2133360"/>
            <a:ext cx="40968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56520" y="2195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67000" cy="4419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043600" y="1479600"/>
            <a:ext cx="3186000" cy="4311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83400" y="3445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26440" y="42084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-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353960" y="1417680"/>
            <a:ext cx="69724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0303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emergent behavior is the exception, not the n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 behavior, when useful, is impressive and amaz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emergent behavior tends to be not very rob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uctant to build upon emergent behavior without “understanding” it: no notion of reconfiguration and robust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composition, based on temporal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eparation, is a powerful paradig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radeoff between reliability and performance seems to occur at the limits of ou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5840" y="3078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connected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4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560" y="1450800"/>
            <a:ext cx="794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onsists of many un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ng and actuation exists at every un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are coupled, either dynamically or thr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584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me consideration for control desig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4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280" y="1836720"/>
            <a:ext cx="860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control not desirable, nor feasib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ols for systems with very large number of actuators and sens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and reconfigu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57120" y="1790640"/>
            <a:ext cx="4038480" cy="3274920"/>
            <a:chOff x="357120" y="1790640"/>
            <a:chExt cx="4038480" cy="327492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25200" y="2361960"/>
              <a:ext cx="286092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81080" y="2250720"/>
              <a:ext cx="0" cy="82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636640" y="231732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04920" y="3684240"/>
              <a:ext cx="8636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9080" y="4419360"/>
              <a:ext cx="8636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1200" y="3931920"/>
              <a:ext cx="64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0280" y="3208320"/>
              <a:ext cx="64476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796760" y="1790640"/>
            <a:ext cx="31428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6760" y="1790640"/>
                      <a:ext cx="314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2590560" y="1990440"/>
            <a:ext cx="284040" cy="281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90560" y="1990440"/>
                      <a:ext cx="284040" cy="2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3939840" y="3574800"/>
            <a:ext cx="455760" cy="476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39840" y="3574800"/>
                      <a:ext cx="4557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357120" y="3643200"/>
            <a:ext cx="455400" cy="477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7120" y="3643200"/>
                      <a:ext cx="4554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3927240" y="4398840"/>
            <a:ext cx="371520" cy="476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27240" y="4398840"/>
                      <a:ext cx="3715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74480" y="2885760"/>
            <a:ext cx="371520" cy="476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74480" y="2885760"/>
                      <a:ext cx="3715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626000" y="3002040"/>
          <a:ext cx="4321080" cy="3082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26000" y="3002040"/>
                    <a:ext cx="432108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509400"/>
            <a:ext cx="50036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 BUILDING  BLOCK:  ONE  SPATIAL 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2240" y="968400"/>
            <a:ext cx="7564680" cy="3795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440" y="11160"/>
            <a:ext cx="558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4800" y="1222200"/>
            <a:ext cx="8410680" cy="323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440" y="111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800" y="1252440"/>
            <a:ext cx="8334360" cy="346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13000" y="2556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LY CAUS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4:32:46Z</dcterms:created>
  <dc:creator>Raffaello D'Andrea</dc:creator>
  <dc:description/>
  <dc:language>en-US</dc:language>
  <cp:lastModifiedBy>Raffaello D'Andrea</cp:lastModifiedBy>
  <dcterms:modified xsi:type="dcterms:W3CDTF">2002-10-16T13:06:49Z</dcterms:modified>
  <cp:revision>118</cp:revision>
  <dc:subject/>
  <dc:title>Slide 1</dc:title>
</cp:coreProperties>
</file>