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30E-D90D-4F07-81A3-ADB8B912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D85-5680-4F1D-A43B-8805A14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02D-1424-4AEB-9AD2-48B5D463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882-11D5-498F-A5AB-94F70D7E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DE0-DFB2-4828-BDA0-087C40BE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CE2-B085-49D6-AFCB-28ABA1F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B18-94B6-493F-8B13-8AD9A80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B90-05D9-44ED-BFD4-3EC9B4FF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BE4-DCEC-4BC8-BF25-7C989DF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D08-BA4D-4A13-BC79-9CF0CFD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7AD-68F8-4347-B9A6-DCC91E3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615-999F-4A6F-9197-A2ACAFB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3AE-3EC8-482C-9FBE-E4F82DE32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73814"/>
          <a:stretch/>
        </p:blipFill>
        <p:spPr>
          <a:xfrm>
            <a:off x="762120" y="0"/>
            <a:ext cx="7696080" cy="260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94360" y="33782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s of the AMS, September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network based expla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lying cause: If connections arrive randomly (in time) and if their size (# packets) have high variability (i.e. are heavy-tailed with infinite variance) then the aggregate traffic is perforce self-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herent and mathematically rigorous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 measurements (e.g. TCP connections, IP flow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 analysis (e.g. heavy-tailed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 rot="21391200">
            <a:off x="2082960" y="3885840"/>
            <a:ext cx="4964040" cy="3048120"/>
          </a:xfrm>
          <a:prstGeom prst="cloudCallout">
            <a:avLst>
              <a:gd name="adj1" fmla="val 4564"/>
              <a:gd name="adj2" fmla="val -49486"/>
            </a:avLst>
          </a:prstGeom>
          <a:solidFill>
            <a:srgbClr val="00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7720" y="3657600"/>
            <a:ext cx="588960" cy="107460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90960" y="4713120"/>
            <a:ext cx="109440" cy="341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22600" y="4203720"/>
            <a:ext cx="10800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94240" y="5456160"/>
            <a:ext cx="1076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0760" y="529920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49840" y="463392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7120" y="54561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0400" y="40863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443880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86560" y="514368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5888160"/>
            <a:ext cx="10800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53388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4240" y="561348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0800" y="4987800"/>
            <a:ext cx="10656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27360" y="4400640"/>
            <a:ext cx="10944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30600" y="4400640"/>
            <a:ext cx="93816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49840" y="4400640"/>
            <a:ext cx="757080" cy="350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94240" y="4516560"/>
            <a:ext cx="361800" cy="392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00400" y="4948200"/>
            <a:ext cx="576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857840" y="479124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00440" y="455616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727360" y="5025600"/>
            <a:ext cx="119232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27360" y="4751280"/>
            <a:ext cx="0" cy="35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27360" y="5261040"/>
            <a:ext cx="326880" cy="50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60440" y="5770440"/>
            <a:ext cx="36180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66600" y="5613480"/>
            <a:ext cx="722520" cy="1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00400" y="5025960"/>
            <a:ext cx="324000" cy="46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568400" y="5573880"/>
            <a:ext cx="397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857480" y="4947840"/>
            <a:ext cx="793800" cy="43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146560" y="5770080"/>
            <a:ext cx="72072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46200" y="5456160"/>
            <a:ext cx="468360" cy="274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796000" y="5455800"/>
            <a:ext cx="54144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48360" y="5653080"/>
            <a:ext cx="32400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686200" y="4750920"/>
            <a:ext cx="685800" cy="784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5613480"/>
            <a:ext cx="793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6200640"/>
            <a:ext cx="79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68760" y="584820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027320" y="569124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94240" y="5848200"/>
            <a:ext cx="107640" cy="66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1120" y="507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web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6040" y="357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6040" y="2643120"/>
            <a:ext cx="294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15640" y="27446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ile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92760" y="762120"/>
            <a:ext cx="10782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1049400"/>
            <a:ext cx="10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req &gt;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471600"/>
            <a:ext cx="273060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86760" y="1963800"/>
            <a:ext cx="11260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Web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bright="18000"/>
          </a:blip>
          <a:stretch/>
        </p:blipFill>
        <p:spPr>
          <a:xfrm flipH="1" rot="10800000">
            <a:off x="6095880" y="609588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458200" y="5410080"/>
            <a:ext cx="588960" cy="10749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>
            <a:lum bright="18000"/>
          </a:blip>
          <a:stretch/>
        </p:blipFill>
        <p:spPr>
          <a:xfrm flipH="1" rot="10800000">
            <a:off x="1143000" y="434340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685800" y="1523160"/>
            <a:ext cx="1143000" cy="259092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9960" y="34596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Heavy tailed </a:t>
            </a: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web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819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s streamed out on the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648320"/>
            <a:ext cx="335268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fractal Gaussi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ffic (Willinger,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705720" y="3809880"/>
                <a:ext cx="1828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32004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1828800"/>
            <a:ext cx="457200" cy="137160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1143000"/>
            <a:ext cx="4572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762120"/>
            <a:ext cx="457200" cy="24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2590920"/>
            <a:ext cx="4572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057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0720" y="0"/>
            <a:ext cx="2819160" cy="3200400"/>
            <a:chOff x="990720" y="0"/>
            <a:chExt cx="2819160" cy="3200400"/>
          </a:xfrm>
        </p:grpSpPr>
        <p:sp>
          <p:nvSpPr>
            <p:cNvPr id="249" name=""/>
            <p:cNvSpPr/>
            <p:nvPr/>
          </p:nvSpPr>
          <p:spPr>
            <a:xfrm>
              <a:off x="3352680" y="152280"/>
              <a:ext cx="457200" cy="30481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0920" y="152280"/>
              <a:ext cx="457200" cy="3048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2743200"/>
              <a:ext cx="457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0"/>
              <a:ext cx="457200" cy="32004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6200000">
            <a:off x="6858000" y="45720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514920" y="468612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5943600" y="4952880"/>
            <a:ext cx="457200" cy="243864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267080" y="586728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7734240" y="560052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5029200"/>
            <a:ext cx="5410080" cy="1371600"/>
            <a:chOff x="914400" y="5029200"/>
            <a:chExt cx="5410080" cy="1371600"/>
          </a:xfrm>
        </p:grpSpPr>
        <p:sp>
          <p:nvSpPr>
            <p:cNvPr id="259" name=""/>
            <p:cNvSpPr/>
            <p:nvPr/>
          </p:nvSpPr>
          <p:spPr>
            <a:xfrm rot="16200000">
              <a:off x="4572000" y="3733920"/>
              <a:ext cx="457200" cy="304776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3809880" y="4190760"/>
              <a:ext cx="457200" cy="3048120"/>
            </a:xfrm>
            <a:prstGeom prst="downArrow">
              <a:avLst>
                <a:gd name="adj1" fmla="val 50000"/>
                <a:gd name="adj2" fmla="val 166673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828800" y="54864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2286000" y="4572000"/>
              <a:ext cx="457200" cy="3200400"/>
            </a:xfrm>
            <a:prstGeom prst="downArrow">
              <a:avLst>
                <a:gd name="adj1" fmla="val 50000"/>
                <a:gd name="adj2" fmla="val 175000"/>
              </a:avLst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85800" y="64008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193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 tail web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streamed onto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36576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ng long-range correlations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10280" y="3429000"/>
                <a:ext cx="21337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8152920" y="25146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16002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tails and divergent length scales are everywhere in network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12408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 large literature since 199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land, Taqqu, Willinger, 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xson, Floy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vella, Be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chol-Balter,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avy tails in network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flipV="1" rot="21391200">
            <a:off x="2082960" y="3885840"/>
            <a:ext cx="4964040" cy="3048120"/>
          </a:xfrm>
          <a:prstGeom prst="cloudCallout">
            <a:avLst>
              <a:gd name="adj1" fmla="val 4564"/>
              <a:gd name="adj2" fmla="val -49486"/>
            </a:avLst>
          </a:prstGeom>
          <a:solidFill>
            <a:srgbClr val="00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7720" y="3505320"/>
            <a:ext cx="588960" cy="107460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90960" y="4713120"/>
            <a:ext cx="109440" cy="341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2600" y="4203720"/>
            <a:ext cx="10800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94240" y="5456160"/>
            <a:ext cx="1076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60760" y="529920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49840" y="463392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37120" y="54561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0400" y="40863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80000" y="443880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86560" y="514368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0360" y="5888160"/>
            <a:ext cx="10800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2360" y="53388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4240" y="561348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0800" y="4987800"/>
            <a:ext cx="10656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27360" y="4400640"/>
            <a:ext cx="10944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630600" y="4400640"/>
            <a:ext cx="93816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49840" y="4400640"/>
            <a:ext cx="757080" cy="350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94240" y="4516560"/>
            <a:ext cx="361800" cy="392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00400" y="4948200"/>
            <a:ext cx="576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57840" y="479124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800440" y="455616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727360" y="5025600"/>
            <a:ext cx="119232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27360" y="4751280"/>
            <a:ext cx="0" cy="35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27360" y="5261040"/>
            <a:ext cx="326880" cy="50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160440" y="5770440"/>
            <a:ext cx="36180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666600" y="5613480"/>
            <a:ext cx="722520" cy="1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00400" y="5025960"/>
            <a:ext cx="324000" cy="46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568400" y="5573880"/>
            <a:ext cx="397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57480" y="4947840"/>
            <a:ext cx="793800" cy="43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146560" y="5770080"/>
            <a:ext cx="72072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146200" y="5456160"/>
            <a:ext cx="468360" cy="274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796000" y="5455800"/>
            <a:ext cx="54144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048360" y="5653080"/>
            <a:ext cx="32400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5686200" y="4750920"/>
            <a:ext cx="685800" cy="784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45080" y="5613480"/>
            <a:ext cx="793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12000" y="6200640"/>
            <a:ext cx="79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568760" y="584820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027320" y="569124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94240" y="5848200"/>
            <a:ext cx="107640" cy="66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21120" y="507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web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26040" y="357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26040" y="2643120"/>
            <a:ext cx="294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15640" y="27446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ile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92760" y="762120"/>
            <a:ext cx="10782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1049400"/>
            <a:ext cx="10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req &gt;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71600"/>
            <a:ext cx="273060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86760" y="1963800"/>
            <a:ext cx="11260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Web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>
            <a:lum bright="18000"/>
          </a:blip>
          <a:stretch/>
        </p:blipFill>
        <p:spPr>
          <a:xfrm flipH="1" rot="10800000">
            <a:off x="6095880" y="609588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458200" y="5410080"/>
            <a:ext cx="588960" cy="10749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>
            <a:lum bright="18000"/>
          </a:blip>
          <a:stretch/>
        </p:blipFill>
        <p:spPr>
          <a:xfrm flipH="1" rot="10800000">
            <a:off x="1143000" y="419112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V="1">
            <a:off x="685800" y="1370880"/>
            <a:ext cx="1143000" cy="259092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9960" y="34596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Heavy tailed </a:t>
            </a: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web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2819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s streamed out on the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4492800"/>
            <a:ext cx="4724280" cy="228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ece of a consistent, rigorous theory with supporting measu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705720" y="3809880"/>
                <a:ext cx="1828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463" t="7629" r="41820" b="40514"/>
          <a:stretch/>
        </p:blipFill>
        <p:spPr>
          <a:xfrm>
            <a:off x="0" y="457200"/>
            <a:ext cx="489744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2040" y="152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et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9907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Poisson models don’t capture long-range corre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360" y="-6516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7800" y="-76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105520" y="609480"/>
            <a:ext cx="3962160" cy="5715000"/>
            <a:chOff x="5105520" y="609480"/>
            <a:chExt cx="3962160" cy="5715000"/>
          </a:xfrm>
        </p:grpSpPr>
        <p:sp>
          <p:nvSpPr>
            <p:cNvPr id="49" name=""/>
            <p:cNvSpPr/>
            <p:nvPr/>
          </p:nvSpPr>
          <p:spPr>
            <a:xfrm>
              <a:off x="5105520" y="609480"/>
              <a:ext cx="0" cy="571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5486400" y="2743200"/>
                  <a:ext cx="3581280" cy="13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X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α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5486400" y="4349880"/>
                  <a:ext cx="8557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" name=""/>
          <p:cNvGrpSpPr/>
          <p:nvPr/>
        </p:nvGrpSpPr>
        <p:grpSpPr>
          <a:xfrm>
            <a:off x="4419360" y="5334120"/>
            <a:ext cx="4191120" cy="947160"/>
            <a:chOff x="4419360" y="5334120"/>
            <a:chExt cx="4191120" cy="947160"/>
          </a:xfrm>
        </p:grpSpPr>
        <p:sp>
          <p:nvSpPr>
            <p:cNvPr id="53" name=""/>
            <p:cNvSpPr/>
            <p:nvPr/>
          </p:nvSpPr>
          <p:spPr>
            <a:xfrm>
              <a:off x="6095880" y="53341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“</a:t>
              </a: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bursty” on all time sc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419360" y="5638680"/>
              <a:ext cx="1523880" cy="15264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 flipV="1">
            <a:off x="2743200" y="1523880"/>
            <a:ext cx="2133720" cy="990720"/>
          </a:xfrm>
          <a:prstGeom prst="triangle">
            <a:avLst>
              <a:gd name="adj" fmla="val 6287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43200" y="3200400"/>
            <a:ext cx="2057400" cy="914400"/>
          </a:xfrm>
          <a:prstGeom prst="triangle">
            <a:avLst>
              <a:gd name="adj" fmla="val 4374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43200" y="4572000"/>
            <a:ext cx="2057400" cy="990720"/>
          </a:xfrm>
          <a:prstGeom prst="triangle">
            <a:avLst>
              <a:gd name="adj" fmla="val 26773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91320"/>
            <a:ext cx="1905120" cy="1522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40185" t="6995" r="8283" b="40514"/>
          <a:stretch/>
        </p:blipFill>
        <p:spPr>
          <a:xfrm>
            <a:off x="76320" y="53352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2040" y="152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et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990720"/>
            <a:ext cx="365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ctional Gaussian (fractal) noise models measurements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st parame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n aggregate measure of long-range corre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800" y="-651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c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-76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360" y="5334120"/>
            <a:ext cx="4191120" cy="947160"/>
            <a:chOff x="4419360" y="5334120"/>
            <a:chExt cx="4191120" cy="947160"/>
          </a:xfrm>
        </p:grpSpPr>
        <p:sp>
          <p:nvSpPr>
            <p:cNvPr id="65" name=""/>
            <p:cNvSpPr/>
            <p:nvPr/>
          </p:nvSpPr>
          <p:spPr>
            <a:xfrm>
              <a:off x="6095880" y="53341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“</a:t>
              </a: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bursty” on all time sc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419360" y="5638680"/>
              <a:ext cx="1523880" cy="15264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physics” of  the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sts use chaos to calm the web,” (Physics World, 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networkphysic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literature in physics journals and recently in Science, Nature, etc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38480" y="310500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124080"/>
            <a:ext cx="60984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69" idx="6"/>
            <a:endCxn id="70" idx="2"/>
          </p:cNvCxnSpPr>
          <p:nvPr/>
        </p:nvCxnSpPr>
        <p:spPr>
          <a:xfrm>
            <a:off x="4571640" y="3295800"/>
            <a:ext cx="1524600" cy="576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595400" y="327672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19920" y="457200"/>
          <a:ext cx="23619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"/>
                    <a:ext cx="2361960" cy="1781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762120" y="3657600"/>
            <a:ext cx="7772400" cy="2437920"/>
            <a:chOff x="762120" y="3657600"/>
            <a:chExt cx="7772400" cy="2437920"/>
          </a:xfrm>
        </p:grpSpPr>
        <p:sp>
          <p:nvSpPr>
            <p:cNvPr id="76" name=""/>
            <p:cNvSpPr/>
            <p:nvPr/>
          </p:nvSpPr>
          <p:spPr>
            <a:xfrm flipV="1">
              <a:off x="838080" y="4343040"/>
              <a:ext cx="7620120" cy="9907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914400" y="4419360"/>
              <a:ext cx="7620120" cy="1371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914400" y="4494600"/>
              <a:ext cx="7620120" cy="16002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38080" y="4266000"/>
              <a:ext cx="7620120" cy="7621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38080" y="4190040"/>
              <a:ext cx="7620120" cy="60948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38080" y="4113720"/>
              <a:ext cx="7620120" cy="228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3962520"/>
              <a:ext cx="7620120" cy="7596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2120" y="3657600"/>
              <a:ext cx="7619760" cy="3049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04920" y="38088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OC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elf-Organized Criticality)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15000" y="336384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33829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5" idx="6"/>
            <a:endCxn id="86" idx="2"/>
          </p:cNvCxnSpPr>
          <p:nvPr/>
        </p:nvCxnSpPr>
        <p:spPr>
          <a:xfrm>
            <a:off x="6248160" y="3553920"/>
            <a:ext cx="1524600" cy="57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271560" y="353520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72200" y="1066680"/>
          <a:ext cx="23623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066680"/>
                    <a:ext cx="2362320" cy="1781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920" y="472428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04920" y="456840"/>
            <a:ext cx="0" cy="426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533520"/>
            <a:ext cx="0" cy="53337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1080" y="4743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73408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1920" y="228600"/>
            <a:ext cx="2716200" cy="4479840"/>
          </a:xfrm>
          <a:custGeom>
            <a:avLst/>
            <a:gdLst/>
            <a:ahLst/>
            <a:rect l="l" t="t" r="r" b="b"/>
            <a:pathLst>
              <a:path w="1711" h="2822">
                <a:moveTo>
                  <a:pt x="0" y="2801"/>
                </a:moveTo>
                <a:cubicBezTo>
                  <a:pt x="119" y="2787"/>
                  <a:pt x="488" y="2822"/>
                  <a:pt x="713" y="2714"/>
                </a:cubicBezTo>
                <a:cubicBezTo>
                  <a:pt x="938" y="2606"/>
                  <a:pt x="1201" y="2410"/>
                  <a:pt x="1353" y="2153"/>
                </a:cubicBezTo>
                <a:cubicBezTo>
                  <a:pt x="1505" y="1896"/>
                  <a:pt x="1567" y="1533"/>
                  <a:pt x="1627" y="1174"/>
                </a:cubicBezTo>
                <a:cubicBezTo>
                  <a:pt x="1687" y="815"/>
                  <a:pt x="1693" y="245"/>
                  <a:pt x="1711" y="0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7720" y="1219320"/>
            <a:ext cx="15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18148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ransi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ti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ithout congestion contro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?!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cal” phase transition at max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criticality: self-similar fluctuations, long tailed queues and latencies, 1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series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95480" y="3657600"/>
            <a:ext cx="6248520" cy="3200400"/>
            <a:chOff x="2895480" y="3657600"/>
            <a:chExt cx="6248520" cy="3200400"/>
          </a:xfrm>
        </p:grpSpPr>
        <p:sp>
          <p:nvSpPr>
            <p:cNvPr id="101" name=""/>
            <p:cNvSpPr/>
            <p:nvPr/>
          </p:nvSpPr>
          <p:spPr>
            <a:xfrm>
              <a:off x="2895480" y="424836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488628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560304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635580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589560" y="3657600"/>
              <a:ext cx="4912920" cy="3200400"/>
              <a:chOff x="3589560" y="3657600"/>
              <a:chExt cx="4912920" cy="320040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3589560" y="3706560"/>
                <a:ext cx="426960" cy="3151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604040" y="3706200"/>
                <a:ext cx="26712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618880" y="3657600"/>
                <a:ext cx="106560" cy="3200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526440" y="3706200"/>
                <a:ext cx="5328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7381080" y="3706200"/>
                <a:ext cx="10656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8128800" y="3755520"/>
                <a:ext cx="373680" cy="3003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74976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57680" y="403380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1232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660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21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2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284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440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1232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6600" y="466164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2124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588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956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112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586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660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48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8244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264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442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5868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666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488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8936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2971800"/>
            <a:ext cx="3047760" cy="3808800"/>
            <a:chOff x="228600" y="2971800"/>
            <a:chExt cx="3047760" cy="3808800"/>
          </a:xfrm>
        </p:grpSpPr>
        <p:sp>
          <p:nvSpPr>
            <p:cNvPr id="137" name=""/>
            <p:cNvSpPr/>
            <p:nvPr/>
          </p:nvSpPr>
          <p:spPr>
            <a:xfrm>
              <a:off x="228600" y="5618160"/>
              <a:ext cx="218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28600" y="3105720"/>
              <a:ext cx="0" cy="251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5560" y="3151080"/>
              <a:ext cx="0" cy="313956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4120" y="567684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lo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14800" y="6260040"/>
              <a:ext cx="13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apac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440" y="2971800"/>
              <a:ext cx="1625400" cy="2637000"/>
            </a:xfrm>
            <a:custGeom>
              <a:avLst/>
              <a:gdLst/>
              <a:ahLst/>
              <a:rect l="l" t="t" r="r" b="b"/>
              <a:pathLst>
                <a:path w="1711" h="2822">
                  <a:moveTo>
                    <a:pt x="0" y="2801"/>
                  </a:moveTo>
                  <a:cubicBezTo>
                    <a:pt x="119" y="2787"/>
                    <a:pt x="488" y="2822"/>
                    <a:pt x="713" y="2714"/>
                  </a:cubicBezTo>
                  <a:cubicBezTo>
                    <a:pt x="938" y="2606"/>
                    <a:pt x="1201" y="2410"/>
                    <a:pt x="1353" y="2153"/>
                  </a:cubicBezTo>
                  <a:cubicBezTo>
                    <a:pt x="1505" y="1896"/>
                    <a:pt x="1567" y="1533"/>
                    <a:pt x="1627" y="1174"/>
                  </a:cubicBezTo>
                  <a:cubicBezTo>
                    <a:pt x="1687" y="815"/>
                    <a:pt x="1693" y="245"/>
                    <a:pt x="1711" y="0"/>
                  </a:cubicBezTo>
                </a:path>
              </a:pathLst>
            </a:custGeom>
            <a:noFill/>
            <a:ln w="5724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9360" y="3601440"/>
              <a:ext cx="138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ecff"/>
                  </a:solidFill>
                  <a:latin typeface="Times New Roman"/>
                </a:rPr>
                <a:t>Avera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ecff"/>
                  </a:solidFill>
                  <a:latin typeface="Times New Roman"/>
                </a:rPr>
                <a:t>Que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762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“edge of chaos”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ity due to chaos and independent of higher-layer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95480" y="3657600"/>
            <a:ext cx="6248520" cy="3200400"/>
            <a:chOff x="2895480" y="3657600"/>
            <a:chExt cx="6248520" cy="3200400"/>
          </a:xfrm>
        </p:grpSpPr>
        <p:sp>
          <p:nvSpPr>
            <p:cNvPr id="146" name=""/>
            <p:cNvSpPr/>
            <p:nvPr/>
          </p:nvSpPr>
          <p:spPr>
            <a:xfrm>
              <a:off x="2895480" y="424836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488628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560304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635580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89560" y="3657600"/>
              <a:ext cx="4912920" cy="3200400"/>
              <a:chOff x="3589560" y="3657600"/>
              <a:chExt cx="4912920" cy="320040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3589560" y="3706560"/>
                <a:ext cx="426960" cy="3151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604040" y="3706200"/>
                <a:ext cx="26712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618880" y="3657600"/>
                <a:ext cx="106560" cy="3200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526440" y="3706200"/>
                <a:ext cx="5328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7381080" y="3706200"/>
                <a:ext cx="10656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8128800" y="3755520"/>
                <a:ext cx="373680" cy="3003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74976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7680" y="403380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1232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6660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1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2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4284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440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1232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66600" y="466164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124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7588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956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5112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86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660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748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8244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8264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442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868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666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7488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8936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OC/EOC/… models fa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critical” traffic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 scaling at all different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 can be unstable and perhaps chaotic, but does not generate self-similar sc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 scaling occurs in all forms of traffic (TCP and nonTC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traffic is not consistent with thes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ctal and scale-free topology models are equally specious (for different reas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7:42:31Z</dcterms:created>
  <dc:creator>BA&amp;H User</dc:creator>
  <dc:description/>
  <dc:language>en-US</dc:language>
  <cp:lastModifiedBy>Physics and Media Group</cp:lastModifiedBy>
  <cp:lastPrinted>2002-05-28T18:09:41Z</cp:lastPrinted>
  <dcterms:modified xsi:type="dcterms:W3CDTF">2002-10-26T12:52:11Z</dcterms:modified>
  <cp:revision>666</cp:revision>
  <dc:subject/>
  <dc:title>No Slide Title</dc:title>
</cp:coreProperties>
</file>