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F8D-AE5F-4B5D-9618-F33AFF5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C58-9247-4B20-9985-AA9547F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41C-BFD0-41C0-949E-96DC310B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328-C250-4E32-B1D6-EF0E2D99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C65-473C-4BA6-8B5D-1FCD5BA2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9EB-A667-49D2-B705-01F4BB0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C3F6-D7E2-4D9D-B321-B4DC571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D9C4-1249-4C6D-A035-E6E1278F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04B-6FA5-42B2-BF95-A8FE1075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DB6-9DCC-4488-8D29-061191B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5722-387F-4565-9218-45A3F94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ABF-D027-4AE4-8905-6B4B26A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0957-91FD-432C-974C-9BC6E57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10D-8F6F-4A1D-8112-F63B35C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369-7472-480E-A4BE-8E344A1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B29E-2A80-47E0-829F-89B643A8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41B-138A-47E3-8E17-BAFFC113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598-6637-4486-A5C6-64E444CF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D77-4E64-4BF8-85B7-443D421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628-7085-4EE1-93DD-729FC88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5BB-672A-402E-9610-3B44FD69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9D3-3EA1-46B1-94B6-2691FAE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4DA-034B-4655-B194-04CDCFE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599-CB71-4B55-8725-9416B12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A4A-56E6-41B5-B0FE-1B6C6D61A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A6E8-D0D3-4A50-9E26-93864923F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uTec Pro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295280"/>
            <a:ext cx="6324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o Tecn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co de Costa 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the context of an academic course to help students develop projects that directly benefit local rur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hap2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971800" cy="1671840"/>
          </a:xfrm>
          <a:prstGeom prst="rect">
            <a:avLst/>
          </a:prstGeom>
          <a:ln w="0">
            <a:noFill/>
          </a:ln>
        </p:spPr>
      </p:pic>
      <p:pic>
        <p:nvPicPr>
          <p:cNvPr id="148" name="fablab" descr=""/>
          <p:cNvPicPr/>
          <p:nvPr/>
        </p:nvPicPr>
        <p:blipFill>
          <a:blip r:embed="rId2"/>
          <a:stretch/>
        </p:blipFill>
        <p:spPr>
          <a:xfrm>
            <a:off x="5943600" y="31050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showing" descr=""/>
          <p:cNvPicPr/>
          <p:nvPr/>
        </p:nvPicPr>
        <p:blipFill>
          <a:blip r:embed="rId3"/>
          <a:stretch/>
        </p:blipFill>
        <p:spPr>
          <a:xfrm>
            <a:off x="1295280" y="3735360"/>
            <a:ext cx="2438640" cy="1598760"/>
          </a:xfrm>
          <a:prstGeom prst="rect">
            <a:avLst/>
          </a:prstGeom>
          <a:ln w="0">
            <a:noFill/>
          </a:ln>
        </p:spPr>
      </p:pic>
      <p:pic>
        <p:nvPicPr>
          <p:cNvPr id="150" name="soldering" descr=""/>
          <p:cNvPicPr/>
          <p:nvPr/>
        </p:nvPicPr>
        <p:blipFill>
          <a:blip r:embed="rId4"/>
          <a:stretch/>
        </p:blipFill>
        <p:spPr>
          <a:xfrm>
            <a:off x="3962520" y="4208400"/>
            <a:ext cx="17524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uTec Pro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2952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o Tecn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co de Costa 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digiclock" descr=""/>
          <p:cNvPicPr/>
          <p:nvPr/>
        </p:nvPicPr>
        <p:blipFill>
          <a:blip r:embed="rId1"/>
          <a:stretch/>
        </p:blipFill>
        <p:spPr>
          <a:xfrm>
            <a:off x="7891560" y="4419720"/>
            <a:ext cx="100620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clock" descr=""/>
          <p:cNvPicPr/>
          <p:nvPr/>
        </p:nvPicPr>
        <p:blipFill>
          <a:blip r:embed="rId2"/>
          <a:stretch/>
        </p:blipFill>
        <p:spPr>
          <a:xfrm>
            <a:off x="6324480" y="1981080"/>
            <a:ext cx="2590920" cy="2235240"/>
          </a:xfrm>
          <a:prstGeom prst="rect">
            <a:avLst/>
          </a:prstGeom>
          <a:ln w="0">
            <a:noFill/>
          </a:ln>
        </p:spPr>
      </p:pic>
      <p:pic>
        <p:nvPicPr>
          <p:cNvPr id="155" name="buoyancy" descr=""/>
          <p:cNvPicPr/>
          <p:nvPr/>
        </p:nvPicPr>
        <p:blipFill>
          <a:blip r:embed="rId3"/>
          <a:stretch/>
        </p:blipFill>
        <p:spPr>
          <a:xfrm>
            <a:off x="3809880" y="3581280"/>
            <a:ext cx="2286000" cy="1944720"/>
          </a:xfrm>
          <a:prstGeom prst="rect">
            <a:avLst/>
          </a:prstGeom>
          <a:ln w="0">
            <a:noFill/>
          </a:ln>
        </p:spPr>
      </p:pic>
      <p:pic>
        <p:nvPicPr>
          <p:cNvPr id="156" name="tekno" descr=""/>
          <p:cNvPicPr/>
          <p:nvPr/>
        </p:nvPicPr>
        <p:blipFill>
          <a:blip r:embed="rId4"/>
          <a:stretch/>
        </p:blipFill>
        <p:spPr>
          <a:xfrm>
            <a:off x="1295280" y="2536920"/>
            <a:ext cx="2286000" cy="1625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867280" y="425124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ro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lo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Tea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5468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chimedes Princi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ing about Buoya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175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kno the Fire D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uTec Pro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2952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o Tecn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co de Costa 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crfab1" descr=""/>
          <p:cNvPicPr/>
          <p:nvPr/>
        </p:nvPicPr>
        <p:blipFill>
          <a:blip r:embed="rId1"/>
          <a:stretch/>
        </p:blipFill>
        <p:spPr>
          <a:xfrm>
            <a:off x="6629400" y="4425840"/>
            <a:ext cx="2286000" cy="2194200"/>
          </a:xfrm>
          <a:prstGeom prst="rect">
            <a:avLst/>
          </a:prstGeom>
          <a:ln w="0">
            <a:noFill/>
          </a:ln>
        </p:spPr>
      </p:pic>
      <p:pic>
        <p:nvPicPr>
          <p:cNvPr id="163" name="crfab2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crfab3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2286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2:04:36Z</dcterms:created>
  <dc:creator>MIT Media Lab</dc:creator>
  <dc:description/>
  <dc:language>en-US</dc:language>
  <cp:lastModifiedBy>Chris Lyon</cp:lastModifiedBy>
  <dcterms:modified xsi:type="dcterms:W3CDTF">2003-06-19T22:19:48Z</dcterms:modified>
  <cp:revision>144</cp:revision>
  <dc:subject/>
  <dc:title>6.376 Project Thingy</dc:title>
</cp:coreProperties>
</file>