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ct" ContentType="image/x-pic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951663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951600" cy="92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9720" cy="488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971520" y="0"/>
            <a:ext cx="2979720" cy="488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98080" y="731880"/>
            <a:ext cx="4559400" cy="34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7640" y="4395600"/>
            <a:ext cx="5116320" cy="41511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791560"/>
            <a:ext cx="2979720" cy="488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971520" y="8791560"/>
            <a:ext cx="2979720" cy="488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62F87FF-31CF-48D1-9201-E360BC5495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3971520" y="8791560"/>
            <a:ext cx="2979720" cy="488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8D2B891-DD77-4BDC-9D7D-20CF2C502E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-360" y="8791560"/>
            <a:ext cx="2979720" cy="488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-360" y="0"/>
            <a:ext cx="2979720" cy="488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971520" y="0"/>
            <a:ext cx="2979720" cy="488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20960" cy="34653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27000" y="4390560"/>
            <a:ext cx="50976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CE2A3-1D1A-4012-85EE-0B5C104FDA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67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203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880" y="3981600"/>
            <a:ext cx="8305920" cy="203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3F6D8-9EB3-4DFF-8F87-97AA65CB5E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67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3716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2DFE8-9D28-43AC-BB44-198F724AD0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67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880" y="398160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89600" y="398160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7960" y="398160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859C4-E5D2-44A2-AFBD-0EAC9644B0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67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C9B58-C210-479C-8C33-1C825D138B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67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D3185-5F93-4198-8418-ECA140D5D1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67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C176F-AB12-4320-9F49-B59180CB7C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67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059A1-4C38-4956-B3F8-C48011091A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267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6A05E-2E20-499F-A30A-9914D15671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67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88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25DCA-F758-47D5-80C0-3D7B59F4D0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67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3716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540A4-0497-47EE-9123-9D71DF5C9B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67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3981600"/>
            <a:ext cx="8305920" cy="203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E8453-DF70-4219-A974-831729EDDB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67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700"/>
              </a:spcBef>
              <a:buClr>
                <a:srgbClr val="fc0128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spcBef>
                <a:spcPts val="700"/>
              </a:spcBef>
              <a:buClr>
                <a:srgbClr val="00ae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28600">
              <a:spcBef>
                <a:spcPts val="700"/>
              </a:spcBef>
              <a:buClr>
                <a:srgbClr val="fc0128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ae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c0128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04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1919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7816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1919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B0D34-B6B2-4A41-A2A0-AF68ADE20B5E}" type="slidenum">
              <a:rPr b="0" lang="en-US" sz="1400" spc="-1" strike="noStrike">
                <a:solidFill>
                  <a:srgbClr val="91919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Arial"/>
              </a:rPr>
              <a:t>NSF and Science of Design</a:t>
            </a:r>
            <a:endParaRPr b="1" lang="en-US" sz="40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2590920"/>
            <a:ext cx="830556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438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Avogadro Scale Enginee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Center for Bits &amp; Ato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November 18-19, 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amal Abdal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ing &amp; Communication Foundations Divi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&amp; Information Sciences Directo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tional Science Foundatio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KA-cba-ase 03111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8DB07-A356-4227-A5AE-4E917C8A66A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6776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Arial"/>
              </a:rPr>
              <a:t>Motivation</a:t>
            </a:r>
            <a:endParaRPr b="1" lang="en-US" sz="40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llenges in computing  &amp; commun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0000"/>
              </a:lnSpc>
              <a:spcBef>
                <a:spcPts val="451"/>
              </a:spcBef>
              <a:buClr>
                <a:srgbClr val="00ae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Emerging technolog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28600">
              <a:lnSpc>
                <a:spcPct val="90000"/>
              </a:lnSpc>
              <a:spcBef>
                <a:spcPts val="451"/>
              </a:spcBef>
              <a:buClr>
                <a:srgbClr val="fc0128"/>
              </a:buClr>
              <a:buFont typeface="Symbol" charset="2"/>
              <a:buChar char="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noscale syste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28600">
              <a:lnSpc>
                <a:spcPct val="90000"/>
              </a:lnSpc>
              <a:spcBef>
                <a:spcPts val="451"/>
              </a:spcBef>
              <a:buClr>
                <a:srgbClr val="fc0128"/>
              </a:buClr>
              <a:buFont typeface="Symbol" charset="2"/>
              <a:buChar char="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ternative computing paradigms (e.g., DNA-based, quantum, chemica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28600">
              <a:lnSpc>
                <a:spcPct val="90000"/>
              </a:lnSpc>
              <a:spcBef>
                <a:spcPts val="451"/>
              </a:spcBef>
              <a:buClr>
                <a:srgbClr val="fc0128"/>
              </a:buClr>
              <a:buFont typeface="Symbol" charset="2"/>
              <a:buChar char="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bile computing &amp; communi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28600">
              <a:lnSpc>
                <a:spcPct val="90000"/>
              </a:lnSpc>
              <a:spcBef>
                <a:spcPts val="451"/>
              </a:spcBef>
              <a:buClr>
                <a:srgbClr val="fc0128"/>
              </a:buClr>
              <a:buFont typeface="Symbol" charset="2"/>
              <a:buChar char="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tributed sens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0000"/>
              </a:lnSpc>
              <a:spcBef>
                <a:spcPts val="451"/>
              </a:spcBef>
              <a:buClr>
                <a:srgbClr val="00ae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Computational issu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28600">
              <a:lnSpc>
                <a:spcPct val="90000"/>
              </a:lnSpc>
              <a:spcBef>
                <a:spcPts val="451"/>
              </a:spcBef>
              <a:buClr>
                <a:srgbClr val="fc0128"/>
              </a:buClr>
              <a:buFont typeface="Symbol" charset="2"/>
              <a:buChar char="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reasing complexity of scientific and engineering proble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28600">
              <a:lnSpc>
                <a:spcPct val="90000"/>
              </a:lnSpc>
              <a:spcBef>
                <a:spcPts val="451"/>
              </a:spcBef>
              <a:buClr>
                <a:srgbClr val="fc0128"/>
              </a:buClr>
              <a:buFont typeface="Symbol" charset="2"/>
              <a:buChar char="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ively distributed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28600">
              <a:lnSpc>
                <a:spcPct val="90000"/>
              </a:lnSpc>
              <a:spcBef>
                <a:spcPts val="451"/>
              </a:spcBef>
              <a:buClr>
                <a:srgbClr val="fc0128"/>
              </a:buClr>
              <a:buFont typeface="Symbol" charset="2"/>
              <a:buChar char="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st and secur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ing need and opportunity to design, build and maintain systems which are larger and more complex than existing ones by several orders of magnitu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KA-cba-ase 03111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A9917-245A-4824-8D93-2636307EF76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67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Design as Mathematical Problem Solving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c0128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ientific knowledge base for design dom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c0128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ility to express design desiderata as a mathematical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c0128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ailable solution techniques, algorithmic and heuristi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c0128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timization techniques needed since usually many solutions feasi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KA-cba-ase 03111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C3946-7E74-499B-9362-72B033D7060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Engineering practice to analyze and synthesize complex syste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0000"/>
              </a:lnSpc>
              <a:spcBef>
                <a:spcPts val="601"/>
              </a:spcBef>
              <a:buClr>
                <a:srgbClr val="00ae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ose the idea of 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architectu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functional organization as intercommunicating block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0000"/>
              </a:lnSpc>
              <a:spcBef>
                <a:spcPts val="601"/>
              </a:spcBef>
              <a:buClr>
                <a:srgbClr val="00ae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hierarchical decomposi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multiple 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layers of abstra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0000"/>
              </a:lnSpc>
              <a:spcBef>
                <a:spcPts val="601"/>
              </a:spcBef>
              <a:buClr>
                <a:srgbClr val="00ae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fferent mathematical models, languages and formalisms, to represent component interactions at different lay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0000"/>
              </a:lnSpc>
              <a:spcBef>
                <a:spcPts val="601"/>
              </a:spcBef>
              <a:buClr>
                <a:srgbClr val="00ae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nnon's use of Boolean algebra to analyze relay circu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0000"/>
              </a:lnSpc>
              <a:spcBef>
                <a:spcPts val="601"/>
              </a:spcBef>
              <a:buClr>
                <a:srgbClr val="00ae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ll's (and others') idea of high-level hardware design langu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0000"/>
              </a:lnSpc>
              <a:spcBef>
                <a:spcPts val="499"/>
              </a:spcBef>
              <a:buClr>
                <a:srgbClr val="00ae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way-Mead VLSI design methodolog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KA-cba-ase 03111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52A9E-7870-40D2-B0B2-7A23766CB0C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67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Arial"/>
              </a:rPr>
              <a:t>Benefits of That Approach</a:t>
            </a:r>
            <a:endParaRPr b="1" lang="en-US" sz="40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ables design of the most complex human-made systems: computer hardware, networks, databases, softw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.g., VLSI designers can create without being bogged down by complexities of low-level component interactions, yet produce designs that exploit the electronics, physics, and material science involved in compon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KA-cba-ase 03111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928A0-E116-4555-942C-57936DD57B5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67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Arial"/>
              </a:rPr>
              <a:t>De-layered design</a:t>
            </a:r>
            <a:endParaRPr b="1" lang="en-US" sz="40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700"/>
              </a:spcBef>
              <a:buClr>
                <a:srgbClr val="fc0128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posite of traditional practi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c0128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re efficient design since cross-layer relationships can be exploit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c0128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times the two practices can be mixed, combining humans’ layered and local design work with automated cross-layer and global optimiz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KA-cba-ase 03111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F6078-EBE2-4E4D-B38A-C831303B841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6776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Arial"/>
              </a:rPr>
              <a:t>Random List of Issues</a:t>
            </a:r>
            <a:endParaRPr b="1" lang="en-US" sz="40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415800" indent="-41580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tilitarian and esthetic aspect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5800" indent="-41580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main-independent design principle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5800" indent="-41580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ping with complexity of systems approaching Avogadro sca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9760" indent="-259560">
              <a:lnSpc>
                <a:spcPct val="90000"/>
              </a:lnSpc>
              <a:spcBef>
                <a:spcPts val="499"/>
              </a:spcBef>
              <a:buClr>
                <a:srgbClr val="00ae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gregation and statistical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9760" indent="-259560">
              <a:lnSpc>
                <a:spcPct val="90000"/>
              </a:lnSpc>
              <a:spcBef>
                <a:spcPts val="499"/>
              </a:spcBef>
              <a:buClr>
                <a:srgbClr val="00ae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loiting sparsity, regularity and structur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5800" indent="-41580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f-diagnosis, self-repair, self regeneration, evolv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5800" indent="-41580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rning from na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5800" indent="-41580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al problems for software and software-intensive syst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9760" indent="-259560">
              <a:lnSpc>
                <a:spcPct val="90000"/>
              </a:lnSpc>
              <a:spcBef>
                <a:spcPts val="499"/>
              </a:spcBef>
              <a:buClr>
                <a:srgbClr val="00ae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ientific principles, engineering practices, standard components, design automation, verification and test too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9760" indent="-259560">
              <a:lnSpc>
                <a:spcPct val="90000"/>
              </a:lnSpc>
              <a:spcBef>
                <a:spcPts val="499"/>
              </a:spcBef>
              <a:buClr>
                <a:srgbClr val="00ae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quirement and specification, derivation of design from the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9760" indent="-259560">
              <a:lnSpc>
                <a:spcPct val="90000"/>
              </a:lnSpc>
              <a:spcBef>
                <a:spcPts val="499"/>
              </a:spcBef>
              <a:buClr>
                <a:srgbClr val="00ae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bust, reliable, fault-tolerant desig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9760" indent="-259560">
              <a:lnSpc>
                <a:spcPct val="90000"/>
              </a:lnSpc>
              <a:spcBef>
                <a:spcPts val="499"/>
              </a:spcBef>
              <a:buClr>
                <a:srgbClr val="00ae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enance, built-in verification. Quality assur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9760" indent="-259560">
              <a:lnSpc>
                <a:spcPct val="90000"/>
              </a:lnSpc>
              <a:spcBef>
                <a:spcPts val="499"/>
              </a:spcBef>
              <a:buClr>
                <a:srgbClr val="00ae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ucation and work force develop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9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9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KA-cba-ase 03111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86069-AEDA-4C4E-AFDA-F48D3844DAB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590920" y="5257800"/>
            <a:ext cx="1600200" cy="10666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5257800"/>
            <a:ext cx="1676520" cy="10666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533412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cial, Behavioral, and Economic Sci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3657600"/>
            <a:ext cx="1600200" cy="10666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657600"/>
            <a:ext cx="1600200" cy="10666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3657600"/>
            <a:ext cx="1371600" cy="10666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914400"/>
            <a:ext cx="2209680" cy="99072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143000"/>
            <a:ext cx="2057400" cy="533520"/>
          </a:xfrm>
          <a:prstGeom prst="rect">
            <a:avLst/>
          </a:prstGeom>
          <a:solidFill>
            <a:srgbClr val="cc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05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3429000"/>
            <a:ext cx="7086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86600" y="2362320"/>
            <a:ext cx="1828800" cy="53316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238880" y="34290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30481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-458280" y="0"/>
            <a:ext cx="880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c0128"/>
                </a:solidFill>
                <a:latin typeface="Tahoma"/>
              </a:rPr>
              <a:t>National Science Found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1219320"/>
            <a:ext cx="23619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Inspector Gener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05320" y="106668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ational Sci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o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43400" y="2133720"/>
            <a:ext cx="2195280" cy="916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ir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puty Dir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010280" y="2438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ff Off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3657600"/>
            <a:ext cx="1606320" cy="10699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ae00"/>
                </a:solidFill>
                <a:latin typeface="Tahoma"/>
              </a:rPr>
              <a:t>Computer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ae00"/>
                </a:solidFill>
                <a:latin typeface="Tahoma"/>
              </a:rPr>
              <a:t>Info. Sci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ae00"/>
                </a:solidFill>
                <a:latin typeface="Tahoma"/>
              </a:rPr>
              <a:t>&amp; Engineer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29000" y="396252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ngine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3959280"/>
            <a:ext cx="15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Geosci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543800" y="3657600"/>
            <a:ext cx="1447920" cy="10666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themat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&amp; Phys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ci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137160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78040" y="5345280"/>
            <a:ext cx="1393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ducation 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um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e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0" y="5257800"/>
            <a:ext cx="1752480" cy="109836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Budget,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inanc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war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5257800"/>
            <a:ext cx="1670040" cy="8550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nformation Resour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29000" y="2133720"/>
            <a:ext cx="2209680" cy="914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320" y="380988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iologi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cie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76520" y="3657600"/>
            <a:ext cx="160020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43800" y="3657600"/>
            <a:ext cx="144792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52578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52578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81680" y="5257800"/>
            <a:ext cx="1600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638680" y="259092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81480" y="3429000"/>
            <a:ext cx="0" cy="160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95280" y="5029200"/>
            <a:ext cx="6324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90720" y="34290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438280" y="34290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67080" y="34290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248520" y="34290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77320" y="34290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95280" y="5029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29000" y="5029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562720" y="5029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0120" y="5029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logo1sm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749160" cy="762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KA-cba-ase 03111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43541-F774-40FD-80F7-808CCCEF34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6776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Arial"/>
              </a:rPr>
              <a:t>Reorganized CISE Structure</a:t>
            </a:r>
            <a:endParaRPr b="1" lang="en-US" sz="40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Divi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ministrative units based on intellectual parti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Clus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rehensive activity within a Division in a coherent area of research and edu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ams of Program Officers and staff working closely with the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Them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cused areas of research and education that cut across clusters and div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ress scientific and national prior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program announcements and fun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KA-cba-ase 03111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1B993-EC69-4817-BF58-10F92C1D3CE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67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0128"/>
                </a:solidFill>
                <a:latin typeface="Arial"/>
              </a:rPr>
              <a:t>The New CISE</a:t>
            </a:r>
            <a:endParaRPr b="1" lang="en-US" sz="4400" spc="-1" strike="noStrike">
              <a:solidFill>
                <a:srgbClr val="fc0128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57200" y="2146320"/>
          <a:ext cx="8074080" cy="25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146320"/>
                    <a:ext cx="8074080" cy="25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1447920" y="5334120"/>
            <a:ext cx="6172200" cy="9471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800" spc="-1" strike="noStrike">
                <a:solidFill>
                  <a:srgbClr val="00ae00"/>
                </a:solidFill>
                <a:latin typeface="Arial"/>
              </a:rPr>
              <a:t>Cross Cutting The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2800" spc="-1" strike="noStrike">
                <a:solidFill>
                  <a:srgbClr val="063de8"/>
                </a:solidFill>
                <a:latin typeface="Arial"/>
              </a:rPr>
              <a:t>Cyber Tru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063de8"/>
                </a:solidFill>
                <a:latin typeface="Arial"/>
              </a:rPr>
              <a:t>Science of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KA-cba-ase 03111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A47B3-BE96-46F4-A08B-CF6392F8CF2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67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Arial"/>
              </a:rPr>
              <a:t>Computing and Communication Foundations (CCF)</a:t>
            </a:r>
            <a:endParaRPr b="1" lang="en-US" sz="40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al and Mathematical Found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ae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e computing &amp; communication the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ae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gorithmic &amp; computational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ae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-specific the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ndations of Computing Processes &amp; Artifa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ae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design &amp; productiv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ae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-end software, architecture &amp; desig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ae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uter graphics &amp; visual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erging models for technology and compu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ae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ologically motivated computing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ae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um computing &amp; commun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ae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uting &amp; communication systems based on nan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KA-cba-ase 03111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B51BD-DA25-42C1-9EBA-0D074D0874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04920" y="45720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Formal &amp; Mathematical Found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termine inherent limits of computation and communication, and obtain optimal solutions within those limi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vestigate information representation methods, algorithms, and computational techniques for advancing information technology as well as all scientific and engineering discipline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Times New Roman"/>
              </a:rPr>
              <a:t>Representative Topics of Intere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of computation and algorithms, algorithmic &amp; computational approaches to mathematics &amp; science, information coding and commun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KA-cba-ase 03111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C2AC3-4643-44DA-BAA1-6A2F347923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04920" y="10663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47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Foundations o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Computing Processes &amp; Artifa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vance the science, formalisms, and methodologies for building computing and communication system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Times New Roman"/>
              </a:rPr>
              <a:t>Representative Topics of Intere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engineering, programming language design and implementation, computer architecture and design, design test and automation techniques, graphics and visual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KA-cba-ase 03111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0138A-51C4-41ED-BE30-D9A0D387FD5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0492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Emerging Models and Technolog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for Compu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plore computational models, techniques, and systems based on emerging and future technologie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Times New Roman"/>
              </a:rPr>
              <a:t>Representative Topics of Intere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mputing systems based on nanotechnology, quantum computing and communication, computational devices and architectures inspired by processing of information in living matter, computational approaches to problems in bi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KA-cba-ase 03111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1039A-C22B-432B-B3FA-F68365D025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67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Arial"/>
              </a:rPr>
              <a:t>Support of Design at NSF</a:t>
            </a:r>
            <a:endParaRPr b="1" lang="en-US" sz="40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c0128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arly all engineering progra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c0128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Design and Manufacturing Innov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ivision in E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c0128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Computing Processes &amp; Artifac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luster in CCF (for software and hardware design, test &amp; design automation tools, …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c0128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Science of Desig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heme in CISE (being formulated--a workshop held during Nov 2-4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KA-cba-ase 03111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E143A-B413-48CD-A85D-9D7792A09B7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31T22:23:08Z</dcterms:created>
  <dc:creator>Kamal Abdali</dc:creator>
  <dc:description/>
  <dc:language>en-US</dc:language>
  <cp:lastModifiedBy>Kamal Abdali</cp:lastModifiedBy>
  <dcterms:modified xsi:type="dcterms:W3CDTF">2003-11-20T19:19:37Z</dcterms:modified>
  <cp:revision>22</cp:revision>
  <dc:subject/>
  <dc:title>NSF Programs in  High Performance Computing</dc:title>
</cp:coreProperties>
</file>