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3.jpeg" ContentType="image/jpeg"/>
  <Override PartName="/ppt/media/image2.jpeg" ContentType="image/jpeg"/>
  <Override PartName="/ppt/media/image5.pct" ContentType="image/x-pict"/>
  <Override PartName="/ppt/media/image9.jpeg" ContentType="image/jpeg"/>
  <Override PartName="/ppt/media/image11.jpeg" ContentType="image/jpeg"/>
  <Override PartName="/ppt/media/image6.pct" ContentType="image/x-pict"/>
  <Override PartName="/ppt/media/image1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ct" ContentType="image/x-pict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33360" y="533160"/>
            <a:ext cx="236196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AB5-4A79-4F7D-9EC0-2839F4E01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way of introduction, I am the Capitan, Navigator, Oarsman, and Deck-swabbie on the paintable computing project here at MIT. And in my time with you,  I would like to first put forth the notion of “Virtual Self-assembly”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far we’ve take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why anyone should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ing it’s relevance, self-assembly in the virtual domain offers a promising avenue for overcoming the really gnawing complexity limitations of self-assembly in the physical dom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applications we have demonstrated in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ing M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 where packetized media is modeled as a diffusive “data gas” that is streamed through a single port, randomizes its position for storage, and re-assembles itself into a serial order for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istic Data Stor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ilds on this idea by adding signal processing to construct holistic representations for image storage – here, the data gas reacts enzymatically with pfrags that perform space-frequency transformation on the packets. The result that undersampling of the packets results in reconstructed images that are undersampled in spectrum -- much like a hol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face B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bjects placed on the periphery of a 2D surface diffuse into the 2D ensemble small process fragments that replicate and self organize into a dynamic token 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 Seg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realized as the competition among process fragments, each selective for  image characteristics such as sky, water, trees, and 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yond individual applications lurks the real questions of how this technique relates to the fundamentals of a budding field. I see three points worth rai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first, a question. Does a threshold number of universal computers, arranged in a dense irregular mesh, and each with some capacity to sense and actuate the physical world, beget an universal assembler. I am totally out of my water make or refute the claim. But the question begs an answer. And I am grateful for anyone’s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ck on the shop floor, The combination of a Turing substrate whose nodes are stamped out by millions in mature wafer foundries, together with mobile code whose replication machinery is a simple digital copy, seems an interesting alternative to von-Neuman’s original abstraction of machine of potentially unbounded complexity replicating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Finally, virtually self-assembly holds out the promise of overcoming the gnawing problems of contemporary techniques for self-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be most profitably used as an adjunct to material self-assembly. On deck for my work is a iterative sequencing of material and virtual self-assembly. With material resources assembling into coarse aggregates followed by detailed functional assignment in the virtual domain. At which point the sequence repeats using the previous result as a dynamic scaf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elf-assembly is predicated on -- and motivated by -- the notion of a “Turing substrate” . We use this name to describe a 3D volume populated my a dense irregular rmesh of  logic-enabled nodes that are computationally 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bstraction is a straightforward extension of work that models nature as an irregular mash of fine grain computing elements, each with task-specific physical hardware running a limited internalized proced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rrant chip designers like myself, the notion of a Turing Substrate is simply an admission that today, you can fit a 32-bit Palm-class computer and a quarter meg of SRAM into 2 square mm of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133720" y="533520"/>
            <a:ext cx="2361960" cy="17715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601992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umber of groups throughout the world, this is a core concept if not a term of art. Our work on paint specifically targets traditional silicon processing elements in sand-sized packages separated by millimeter length sc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s, the vision is scoop out the dust, pour it into a paint-like goo, plaster it down, expose it to power, and it does the re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lief shared throughout this community has been that the hardware development was mostly evolutionary. But that the software was going to send us back to the drawing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BC1-4363-4E9D-8604-EF3358EF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2AD-6E20-4FDA-A590-A249E604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A68-B33C-463E-8E33-A42B4983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CC9-9E4B-4AEB-B55A-2AA89D49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4BF-E571-4069-B75B-B02D2C06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82D-34FD-4B38-8E55-87A2F637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636-BEF2-4C81-8E3A-F326F285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038-A869-4808-BD0E-6E308315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88A-E5AE-4AB3-8933-4D8968D8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885-554A-4343-8345-30D7A496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AEE-F23F-4DE9-97E3-B65F90E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5E4-4DD3-4890-BAB3-4279618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8381-17A3-46E1-9E34-EA01A4299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ct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2701800" y="133812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Virtual Self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9600" y="240516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Turing sub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92920" y="2475000"/>
            <a:ext cx="49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 dense mesh of spatially 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ocally interconnected Turing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8120" y="41958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5120" y="4253040"/>
            <a:ext cx="442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pontaneous aggregation of spatially mobile fragments of code with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5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649116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7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02.10.CBAlogo.MIT.400" descr=""/>
            <p:cNvPicPr/>
            <p:nvPr/>
          </p:nvPicPr>
          <p:blipFill>
            <a:blip r:embed="rId2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/>
          <p:nvPr/>
        </p:nvSpPr>
        <p:spPr>
          <a:xfrm>
            <a:off x="3243600" y="47484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arly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33520" y="1143000"/>
            <a:ext cx="8086680" cy="5257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440360" y="18082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dia Stre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0000" y="281952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olistic Data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53320" y="373392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urface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22000" y="4724280"/>
            <a:ext cx="26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mage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4064040" y="1130400"/>
            <a:ext cx="2031840" cy="10414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4775040" y="2489040"/>
            <a:ext cx="2032200" cy="10414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4495680" y="3695760"/>
            <a:ext cx="2032200" cy="13078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7"/>
          <a:stretch/>
        </p:blipFill>
        <p:spPr>
          <a:xfrm>
            <a:off x="3276720" y="5257800"/>
            <a:ext cx="2031840" cy="1359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8"/>
          <a:stretch/>
        </p:blipFill>
        <p:spPr>
          <a:xfrm>
            <a:off x="5510160" y="5359320"/>
            <a:ext cx="1754280" cy="11667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9"/>
          <a:stretch/>
        </p:blipFill>
        <p:spPr>
          <a:xfrm>
            <a:off x="6946920" y="2378160"/>
            <a:ext cx="163044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2294640" y="44928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hy Virtual Self-assemb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35520" y="1503360"/>
            <a:ext cx="48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uring Substrate 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Sensing/A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40280" y="203688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niversal Self-asse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164280" y="1336680"/>
            <a:ext cx="381240" cy="698040"/>
            <a:chOff x="6164280" y="1336680"/>
            <a:chExt cx="381240" cy="698040"/>
          </a:xfrm>
        </p:grpSpPr>
        <p:sp>
          <p:nvSpPr>
            <p:cNvPr id="401" name=""/>
            <p:cNvSpPr/>
            <p:nvPr/>
          </p:nvSpPr>
          <p:spPr>
            <a:xfrm>
              <a:off x="6166800" y="1514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alatino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64280" y="1336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alatino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 flipV="1">
            <a:off x="1525680" y="2538000"/>
            <a:ext cx="61275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jvns" descr=""/>
          <p:cNvPicPr/>
          <p:nvPr/>
        </p:nvPicPr>
        <p:blipFill>
          <a:blip r:embed="rId4"/>
          <a:stretch/>
        </p:blipFill>
        <p:spPr>
          <a:xfrm>
            <a:off x="1054080" y="2844720"/>
            <a:ext cx="3687840" cy="3311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206360" y="3009960"/>
            <a:ext cx="3403800" cy="3009960"/>
          </a:xfrm>
          <a:prstGeom prst="line">
            <a:avLst/>
          </a:prstGeom>
          <a:ln w="28440">
            <a:solidFill>
              <a:srgbClr val="fa1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218960" y="2959200"/>
            <a:ext cx="3390840" cy="3098880"/>
          </a:xfrm>
          <a:prstGeom prst="line">
            <a:avLst/>
          </a:prstGeom>
          <a:ln w="28440">
            <a:solidFill>
              <a:srgbClr val="fa1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51640" y="3276720"/>
            <a:ext cx="1206360" cy="635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74000" y="5079960"/>
            <a:ext cx="1206360" cy="635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35560" y="4076640"/>
            <a:ext cx="1460520" cy="952560"/>
          </a:xfrm>
          <a:custGeom>
            <a:avLst/>
            <a:gdLst/>
            <a:ahLst/>
            <a:rect l="l" t="t" r="r" b="b"/>
            <a:pathLst>
              <a:path w="768" h="584">
                <a:moveTo>
                  <a:pt x="0" y="0"/>
                </a:moveTo>
                <a:lnTo>
                  <a:pt x="0" y="296"/>
                </a:lnTo>
                <a:lnTo>
                  <a:pt x="768" y="296"/>
                </a:lnTo>
                <a:lnTo>
                  <a:pt x="768" y="58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91240" y="4343400"/>
            <a:ext cx="812880" cy="41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413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02.10.CBAlogo.MIT.400" descr=""/>
            <p:cNvPicPr/>
            <p:nvPr/>
          </p:nvPicPr>
          <p:blipFill>
            <a:blip r:embed="rId2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7" name=""/>
          <p:cNvSpPr/>
          <p:nvPr/>
        </p:nvSpPr>
        <p:spPr>
          <a:xfrm>
            <a:off x="2294640" y="44928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hy Virtual Self-assemb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02040" y="1503360"/>
            <a:ext cx="52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efect likelihood as limitation to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720" y="2163600"/>
            <a:ext cx="60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toichiometric limits on component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857680"/>
            <a:ext cx="9144000" cy="3530520"/>
          </a:xfrm>
          <a:prstGeom prst="rect">
            <a:avLst/>
          </a:prstGeom>
          <a:solidFill>
            <a:srgbClr val="fffeaa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9160" y="4521240"/>
            <a:ext cx="753120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8560" y="3292560"/>
            <a:ext cx="16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elf-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8560" y="5235480"/>
            <a:ext cx="16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elf-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2960" y="369108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89120" y="551988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93960" y="369108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43400" y="551988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060720" y="4038120"/>
            <a:ext cx="888840" cy="13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54480" y="4051440"/>
            <a:ext cx="1003320" cy="13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956200" y="405144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81960" y="4089240"/>
            <a:ext cx="50796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78840" y="4889520"/>
            <a:ext cx="29196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435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02.10.CBAlogo.MIT.400" descr=""/>
            <p:cNvPicPr/>
            <p:nvPr/>
          </p:nvPicPr>
          <p:blipFill>
            <a:blip r:embed="rId2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>
            <a:off x="3296880" y="47484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697120" y="1841400"/>
            <a:ext cx="4427640" cy="3721320"/>
            <a:chOff x="2697120" y="1841400"/>
            <a:chExt cx="4427640" cy="3721320"/>
          </a:xfrm>
        </p:grpSpPr>
        <p:pic>
          <p:nvPicPr>
            <p:cNvPr id="441" name="" descr=""/>
            <p:cNvPicPr/>
            <p:nvPr/>
          </p:nvPicPr>
          <p:blipFill>
            <a:blip r:embed="rId3"/>
            <a:stretch/>
          </p:blipFill>
          <p:spPr>
            <a:xfrm>
              <a:off x="2697120" y="1841400"/>
              <a:ext cx="4427640" cy="3721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3213000" y="2209680"/>
              <a:ext cx="749520" cy="457200"/>
              <a:chOff x="3213000" y="2209680"/>
              <a:chExt cx="749520" cy="457200"/>
            </a:xfrm>
          </p:grpSpPr>
          <p:sp>
            <p:nvSpPr>
              <p:cNvPr id="443" name=""/>
              <p:cNvSpPr/>
              <p:nvPr/>
            </p:nvSpPr>
            <p:spPr>
              <a:xfrm>
                <a:off x="3213000" y="2209680"/>
                <a:ext cx="74952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62760" y="228096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4394160" y="3073320"/>
              <a:ext cx="749520" cy="457200"/>
              <a:chOff x="4394160" y="3073320"/>
              <a:chExt cx="749520" cy="457200"/>
            </a:xfrm>
          </p:grpSpPr>
          <p:sp>
            <p:nvSpPr>
              <p:cNvPr id="446" name=""/>
              <p:cNvSpPr/>
              <p:nvPr/>
            </p:nvSpPr>
            <p:spPr>
              <a:xfrm>
                <a:off x="4394160" y="3073320"/>
                <a:ext cx="74952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543920" y="314460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994360" y="2387520"/>
              <a:ext cx="749520" cy="457200"/>
              <a:chOff x="5994360" y="2387520"/>
              <a:chExt cx="749520" cy="457200"/>
            </a:xfrm>
          </p:grpSpPr>
          <p:sp>
            <p:nvSpPr>
              <p:cNvPr id="449" name=""/>
              <p:cNvSpPr/>
              <p:nvPr/>
            </p:nvSpPr>
            <p:spPr>
              <a:xfrm>
                <a:off x="5994360" y="2387520"/>
                <a:ext cx="74952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44120" y="245880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638680" y="4470480"/>
              <a:ext cx="749520" cy="457200"/>
              <a:chOff x="5638680" y="4470480"/>
              <a:chExt cx="749520" cy="457200"/>
            </a:xfrm>
          </p:grpSpPr>
          <p:sp>
            <p:nvSpPr>
              <p:cNvPr id="452" name=""/>
              <p:cNvSpPr/>
              <p:nvPr/>
            </p:nvSpPr>
            <p:spPr>
              <a:xfrm>
                <a:off x="5638680" y="4470480"/>
                <a:ext cx="74952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88440" y="454176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327480" y="4965840"/>
              <a:ext cx="749160" cy="457200"/>
              <a:chOff x="3327480" y="4965840"/>
              <a:chExt cx="749160" cy="457200"/>
            </a:xfrm>
          </p:grpSpPr>
          <p:sp>
            <p:nvSpPr>
              <p:cNvPr id="455" name=""/>
              <p:cNvSpPr/>
              <p:nvPr/>
            </p:nvSpPr>
            <p:spPr>
              <a:xfrm>
                <a:off x="3327480" y="4965840"/>
                <a:ext cx="74916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76520" y="503712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 rot="21516000">
              <a:off x="3494160" y="2728440"/>
              <a:ext cx="279360" cy="2221200"/>
            </a:xfrm>
            <a:prstGeom prst="rect">
              <a:avLst/>
            </a:prstGeom>
            <a:solidFill>
              <a:srgbClr val="fefec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85000">
              <a:off x="4188960" y="3466800"/>
              <a:ext cx="279360" cy="1660320"/>
            </a:xfrm>
            <a:prstGeom prst="rect">
              <a:avLst/>
            </a:prstGeom>
            <a:solidFill>
              <a:srgbClr val="fefecb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1200">
              <a:off x="6080040" y="2833560"/>
              <a:ext cx="279360" cy="1654200"/>
            </a:xfrm>
            <a:prstGeom prst="rect">
              <a:avLst/>
            </a:prstGeom>
            <a:solidFill>
              <a:srgbClr val="fefecb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3735000">
              <a:off x="5443560" y="2569680"/>
              <a:ext cx="279360" cy="866880"/>
            </a:xfrm>
            <a:prstGeom prst="rect">
              <a:avLst/>
            </a:prstGeom>
            <a:solidFill>
              <a:srgbClr val="fefecb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767800">
              <a:off x="4837680" y="1492200"/>
              <a:ext cx="279720" cy="2025720"/>
            </a:xfrm>
            <a:prstGeom prst="rect">
              <a:avLst/>
            </a:prstGeom>
            <a:solidFill>
              <a:srgbClr val="fefecb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94240" y="2717640"/>
              <a:ext cx="91800" cy="2146320"/>
            </a:xfrm>
            <a:prstGeom prst="line">
              <a:avLst/>
            </a:prstGeom>
            <a:ln w="0">
              <a:solidFill>
                <a:srgbClr val="ffff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6520" y="2870280"/>
              <a:ext cx="92160" cy="2146320"/>
            </a:xfrm>
            <a:prstGeom prst="line">
              <a:avLst/>
            </a:prstGeom>
            <a:ln w="0">
              <a:solidFill>
                <a:srgbClr val="ffff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76640" y="2425680"/>
              <a:ext cx="1866960" cy="139680"/>
            </a:xfrm>
            <a:prstGeom prst="line">
              <a:avLst/>
            </a:prstGeom>
            <a:ln w="9360">
              <a:solidFill>
                <a:srgbClr val="ecf4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013280" y="3530520"/>
              <a:ext cx="647640" cy="1447920"/>
            </a:xfrm>
            <a:prstGeom prst="line">
              <a:avLst/>
            </a:prstGeom>
            <a:ln w="9360">
              <a:solidFill>
                <a:srgbClr val="ecf4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108480" y="2857680"/>
              <a:ext cx="253800" cy="1587240"/>
            </a:xfrm>
            <a:prstGeom prst="line">
              <a:avLst/>
            </a:prstGeom>
            <a:ln w="9360">
              <a:solidFill>
                <a:srgbClr val="ecf4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194440" y="2704680"/>
              <a:ext cx="761760" cy="482760"/>
            </a:xfrm>
            <a:prstGeom prst="line">
              <a:avLst/>
            </a:prstGeom>
            <a:ln w="9360">
              <a:solidFill>
                <a:srgbClr val="ecf4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2882880" y="436680"/>
            <a:ext cx="36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uring Substrate -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73280" y="1574640"/>
            <a:ext cx="8142120" cy="464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047600" y="1332000"/>
            <a:ext cx="7463160" cy="189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83120" y="16556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uring sub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79920" y="1687680"/>
            <a:ext cx="51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1) A dense irregular mesh of individ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8200" y="1941480"/>
            <a:ext cx="61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grammable Turing machines.  2) a 3D volume populated by logic-enabled nodes which are computationally universal.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e also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computational fabr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2878920" y="42372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uring Substrate -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3280" y="1574640"/>
            <a:ext cx="8142120" cy="464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97760" y="3548160"/>
            <a:ext cx="473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Smart Dus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(U. C. Berke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52760" y="4322880"/>
            <a:ext cx="6604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morphous Computing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(MIT LCS/AI-l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9320" y="5173560"/>
            <a:ext cx="580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Paintable Computing Projec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(C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1047600" y="1332000"/>
            <a:ext cx="7463160" cy="1895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83120" y="16556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uring sub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79920" y="1687680"/>
            <a:ext cx="51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1) A dense irregular mesh of individ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78200" y="1941480"/>
            <a:ext cx="61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grammable Turing machines.  2) a 3D volume populated by logic-enabled nodes which are computationslly universal.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e also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: computational fabr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88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02.10.CBAlogo.MIT.400" descr=""/>
            <p:cNvPicPr/>
            <p:nvPr/>
          </p:nvPicPr>
          <p:blipFill>
            <a:blip r:embed="rId2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53520" y="44928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8360" y="1103400"/>
            <a:ext cx="8130960" cy="2136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58680" y="13892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55880" y="1446120"/>
            <a:ext cx="39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1) The undirected reassembly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71760" y="1687680"/>
            <a:ext cx="633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cess from randomly distributed fragments of code with state. 2) The spontaneous aggregation of a distributed process from mobile process fragments migrating within a computational medium.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e also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Wack-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65440" y="4076640"/>
            <a:ext cx="698400" cy="520560"/>
            <a:chOff x="1765440" y="4076640"/>
            <a:chExt cx="698400" cy="520560"/>
          </a:xfrm>
        </p:grpSpPr>
        <p:sp>
          <p:nvSpPr>
            <p:cNvPr id="98" name=""/>
            <p:cNvSpPr/>
            <p:nvPr/>
          </p:nvSpPr>
          <p:spPr>
            <a:xfrm>
              <a:off x="1765440" y="407664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86400" y="418608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96880" y="3124080"/>
            <a:ext cx="698400" cy="520560"/>
            <a:chOff x="596880" y="3124080"/>
            <a:chExt cx="698400" cy="520560"/>
          </a:xfrm>
        </p:grpSpPr>
        <p:sp>
          <p:nvSpPr>
            <p:cNvPr id="101" name=""/>
            <p:cNvSpPr/>
            <p:nvPr/>
          </p:nvSpPr>
          <p:spPr>
            <a:xfrm>
              <a:off x="596880" y="312408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7840" y="323352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3960" y="6032520"/>
            <a:ext cx="698400" cy="520560"/>
            <a:chOff x="723960" y="6032520"/>
            <a:chExt cx="698400" cy="520560"/>
          </a:xfrm>
        </p:grpSpPr>
        <p:sp>
          <p:nvSpPr>
            <p:cNvPr id="104" name=""/>
            <p:cNvSpPr/>
            <p:nvPr/>
          </p:nvSpPr>
          <p:spPr>
            <a:xfrm>
              <a:off x="723960" y="603252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4920" y="614196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679840" y="5295960"/>
            <a:ext cx="698400" cy="520560"/>
            <a:chOff x="2679840" y="5295960"/>
            <a:chExt cx="698400" cy="520560"/>
          </a:xfrm>
        </p:grpSpPr>
        <p:sp>
          <p:nvSpPr>
            <p:cNvPr id="107" name=""/>
            <p:cNvSpPr/>
            <p:nvPr/>
          </p:nvSpPr>
          <p:spPr>
            <a:xfrm>
              <a:off x="2679840" y="529596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00800" y="540540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90840" y="3390840"/>
            <a:ext cx="698400" cy="520560"/>
            <a:chOff x="3390840" y="3390840"/>
            <a:chExt cx="698400" cy="520560"/>
          </a:xfrm>
        </p:grpSpPr>
        <p:sp>
          <p:nvSpPr>
            <p:cNvPr id="110" name=""/>
            <p:cNvSpPr/>
            <p:nvPr/>
          </p:nvSpPr>
          <p:spPr>
            <a:xfrm>
              <a:off x="3390840" y="339084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11800" y="350028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705040" y="3632040"/>
            <a:ext cx="495360" cy="482400"/>
            <a:chOff x="2705040" y="3632040"/>
            <a:chExt cx="495360" cy="482400"/>
          </a:xfrm>
        </p:grpSpPr>
        <p:sp>
          <p:nvSpPr>
            <p:cNvPr id="113" name=""/>
            <p:cNvSpPr/>
            <p:nvPr/>
          </p:nvSpPr>
          <p:spPr>
            <a:xfrm>
              <a:off x="2705040" y="3632040"/>
              <a:ext cx="49536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160" y="371592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49160" y="4368960"/>
            <a:ext cx="495360" cy="482400"/>
            <a:chOff x="749160" y="4368960"/>
            <a:chExt cx="495360" cy="482400"/>
          </a:xfrm>
        </p:grpSpPr>
        <p:sp>
          <p:nvSpPr>
            <p:cNvPr id="116" name=""/>
            <p:cNvSpPr/>
            <p:nvPr/>
          </p:nvSpPr>
          <p:spPr>
            <a:xfrm>
              <a:off x="749160" y="4368960"/>
              <a:ext cx="49536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3280" y="44528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486080" y="5054760"/>
            <a:ext cx="495000" cy="482400"/>
            <a:chOff x="1486080" y="5054760"/>
            <a:chExt cx="495000" cy="482400"/>
          </a:xfrm>
        </p:grpSpPr>
        <p:sp>
          <p:nvSpPr>
            <p:cNvPr id="119" name=""/>
            <p:cNvSpPr/>
            <p:nvPr/>
          </p:nvSpPr>
          <p:spPr>
            <a:xfrm>
              <a:off x="1486080" y="50547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99840" y="51386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65640" y="4597560"/>
            <a:ext cx="495000" cy="482400"/>
            <a:chOff x="3365640" y="4597560"/>
            <a:chExt cx="495000" cy="482400"/>
          </a:xfrm>
        </p:grpSpPr>
        <p:sp>
          <p:nvSpPr>
            <p:cNvPr id="122" name=""/>
            <p:cNvSpPr/>
            <p:nvPr/>
          </p:nvSpPr>
          <p:spPr>
            <a:xfrm>
              <a:off x="3365640" y="45975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79400" y="46814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H="1" flipV="1">
            <a:off x="1015920" y="4927320"/>
            <a:ext cx="12960" cy="10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015920" y="3720600"/>
            <a:ext cx="129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828800" y="4673520"/>
            <a:ext cx="21600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269720" y="5499000"/>
            <a:ext cx="291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52760" y="4000320"/>
            <a:ext cx="139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3593880"/>
            <a:ext cx="203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51160" y="5054760"/>
            <a:ext cx="1904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70200" y="3936600"/>
            <a:ext cx="50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54360" y="3238560"/>
            <a:ext cx="495000" cy="482400"/>
            <a:chOff x="1854360" y="3238560"/>
            <a:chExt cx="495000" cy="482400"/>
          </a:xfrm>
        </p:grpSpPr>
        <p:sp>
          <p:nvSpPr>
            <p:cNvPr id="133" name=""/>
            <p:cNvSpPr/>
            <p:nvPr/>
          </p:nvSpPr>
          <p:spPr>
            <a:xfrm>
              <a:off x="1854360" y="32385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68120" y="33224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320840" y="3403440"/>
            <a:ext cx="4698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4920" y="3454560"/>
            <a:ext cx="99072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02.10.CBAlogo.MIT.4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3053520" y="44928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8360" y="1103400"/>
            <a:ext cx="8130960" cy="213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58680" y="13892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55880" y="1446120"/>
            <a:ext cx="39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1) The undirected reassembly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71760" y="1687680"/>
            <a:ext cx="633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cess from randomly distributed fragments of code with state. 2) The spontaneous aggregation of a distributed process from mobile process fragments migrating within a computational medium.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e also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Wack-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65440" y="4076640"/>
            <a:ext cx="698400" cy="520560"/>
            <a:chOff x="1765440" y="4076640"/>
            <a:chExt cx="698400" cy="520560"/>
          </a:xfrm>
        </p:grpSpPr>
        <p:sp>
          <p:nvSpPr>
            <p:cNvPr id="149" name=""/>
            <p:cNvSpPr/>
            <p:nvPr/>
          </p:nvSpPr>
          <p:spPr>
            <a:xfrm>
              <a:off x="1765440" y="407664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6400" y="418608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96880" y="3124080"/>
            <a:ext cx="698400" cy="520560"/>
            <a:chOff x="596880" y="3124080"/>
            <a:chExt cx="698400" cy="520560"/>
          </a:xfrm>
        </p:grpSpPr>
        <p:sp>
          <p:nvSpPr>
            <p:cNvPr id="152" name=""/>
            <p:cNvSpPr/>
            <p:nvPr/>
          </p:nvSpPr>
          <p:spPr>
            <a:xfrm>
              <a:off x="596880" y="312408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7840" y="323352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23960" y="6032520"/>
            <a:ext cx="698400" cy="520560"/>
            <a:chOff x="723960" y="6032520"/>
            <a:chExt cx="698400" cy="520560"/>
          </a:xfrm>
        </p:grpSpPr>
        <p:sp>
          <p:nvSpPr>
            <p:cNvPr id="155" name=""/>
            <p:cNvSpPr/>
            <p:nvPr/>
          </p:nvSpPr>
          <p:spPr>
            <a:xfrm>
              <a:off x="723960" y="603252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4920" y="614196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79840" y="5295960"/>
            <a:ext cx="698400" cy="520560"/>
            <a:chOff x="2679840" y="5295960"/>
            <a:chExt cx="698400" cy="520560"/>
          </a:xfrm>
        </p:grpSpPr>
        <p:sp>
          <p:nvSpPr>
            <p:cNvPr id="158" name=""/>
            <p:cNvSpPr/>
            <p:nvPr/>
          </p:nvSpPr>
          <p:spPr>
            <a:xfrm>
              <a:off x="2679840" y="529596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00800" y="540540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390840" y="3390840"/>
            <a:ext cx="698400" cy="520560"/>
            <a:chOff x="3390840" y="3390840"/>
            <a:chExt cx="698400" cy="520560"/>
          </a:xfrm>
        </p:grpSpPr>
        <p:sp>
          <p:nvSpPr>
            <p:cNvPr id="161" name=""/>
            <p:cNvSpPr/>
            <p:nvPr/>
          </p:nvSpPr>
          <p:spPr>
            <a:xfrm>
              <a:off x="3390840" y="339084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1800" y="350028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705040" y="3632040"/>
            <a:ext cx="495360" cy="482400"/>
            <a:chOff x="2705040" y="3632040"/>
            <a:chExt cx="495360" cy="482400"/>
          </a:xfrm>
        </p:grpSpPr>
        <p:sp>
          <p:nvSpPr>
            <p:cNvPr id="164" name=""/>
            <p:cNvSpPr/>
            <p:nvPr/>
          </p:nvSpPr>
          <p:spPr>
            <a:xfrm>
              <a:off x="2705040" y="3632040"/>
              <a:ext cx="49536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19160" y="371592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49160" y="4368960"/>
            <a:ext cx="495360" cy="482400"/>
            <a:chOff x="749160" y="4368960"/>
            <a:chExt cx="495360" cy="482400"/>
          </a:xfrm>
        </p:grpSpPr>
        <p:sp>
          <p:nvSpPr>
            <p:cNvPr id="167" name=""/>
            <p:cNvSpPr/>
            <p:nvPr/>
          </p:nvSpPr>
          <p:spPr>
            <a:xfrm>
              <a:off x="749160" y="4368960"/>
              <a:ext cx="49536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3280" y="44528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86080" y="5054760"/>
            <a:ext cx="495000" cy="482400"/>
            <a:chOff x="1486080" y="5054760"/>
            <a:chExt cx="495000" cy="482400"/>
          </a:xfrm>
        </p:grpSpPr>
        <p:sp>
          <p:nvSpPr>
            <p:cNvPr id="170" name=""/>
            <p:cNvSpPr/>
            <p:nvPr/>
          </p:nvSpPr>
          <p:spPr>
            <a:xfrm>
              <a:off x="1486080" y="50547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9840" y="51386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65640" y="4597560"/>
            <a:ext cx="495000" cy="482400"/>
            <a:chOff x="3365640" y="4597560"/>
            <a:chExt cx="495000" cy="482400"/>
          </a:xfrm>
        </p:grpSpPr>
        <p:sp>
          <p:nvSpPr>
            <p:cNvPr id="173" name=""/>
            <p:cNvSpPr/>
            <p:nvPr/>
          </p:nvSpPr>
          <p:spPr>
            <a:xfrm>
              <a:off x="3365640" y="45975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79400" y="46814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 flipV="1">
            <a:off x="1015920" y="4927320"/>
            <a:ext cx="12960" cy="10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015920" y="3720600"/>
            <a:ext cx="129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828800" y="4673520"/>
            <a:ext cx="21600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269720" y="5499000"/>
            <a:ext cx="291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52760" y="4000320"/>
            <a:ext cx="139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00400" y="3593880"/>
            <a:ext cx="203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51160" y="5054760"/>
            <a:ext cx="1904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670200" y="3936600"/>
            <a:ext cx="50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54360" y="3238560"/>
            <a:ext cx="495000" cy="482400"/>
            <a:chOff x="1854360" y="3238560"/>
            <a:chExt cx="495000" cy="482400"/>
          </a:xfrm>
        </p:grpSpPr>
        <p:sp>
          <p:nvSpPr>
            <p:cNvPr id="184" name=""/>
            <p:cNvSpPr/>
            <p:nvPr/>
          </p:nvSpPr>
          <p:spPr>
            <a:xfrm>
              <a:off x="1854360" y="32385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68120" y="33224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320840" y="3403440"/>
            <a:ext cx="4698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74920" y="3454560"/>
            <a:ext cx="99072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91600" y="492300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71240" y="492300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01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6840" y="492300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91600" y="529740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0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1240" y="529740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26840" y="529740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91600" y="567216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71240" y="567216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01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6840" y="567216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001010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1600" y="604692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010100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71240" y="604692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6840" y="604692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4368960" y="3149640"/>
            <a:ext cx="3886200" cy="3263400"/>
            <a:chOff x="4368960" y="3149640"/>
            <a:chExt cx="3886200" cy="32634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4383720" y="3149640"/>
              <a:ext cx="3859920" cy="32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68960" y="3160440"/>
              <a:ext cx="3886200" cy="325260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mit-logo" descr=""/>
            <p:cNvPicPr/>
            <p:nvPr/>
          </p:nvPicPr>
          <p:blipFill>
            <a:blip r:embed="rId2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02.10.CBAlogo.MIT.400" descr=""/>
            <p:cNvPicPr/>
            <p:nvPr/>
          </p:nvPicPr>
          <p:blipFill>
            <a:blip r:embed="rId3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3053520" y="44928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68360" y="1103400"/>
            <a:ext cx="8130960" cy="2136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58680" y="13892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55880" y="1446120"/>
            <a:ext cx="39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1) The undirected reassembly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71760" y="1687680"/>
            <a:ext cx="633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cess from randomly distributed fragments of code with state. 2) The spontaneous aggregation of a distributed process from mobile process fragments migrating within a computational medium.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e also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Wack-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65440" y="4076640"/>
            <a:ext cx="698400" cy="520560"/>
            <a:chOff x="1765440" y="4076640"/>
            <a:chExt cx="698400" cy="520560"/>
          </a:xfrm>
        </p:grpSpPr>
        <p:sp>
          <p:nvSpPr>
            <p:cNvPr id="215" name=""/>
            <p:cNvSpPr/>
            <p:nvPr/>
          </p:nvSpPr>
          <p:spPr>
            <a:xfrm>
              <a:off x="1765440" y="407664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86400" y="418608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96880" y="3124080"/>
            <a:ext cx="698400" cy="520560"/>
            <a:chOff x="596880" y="3124080"/>
            <a:chExt cx="698400" cy="520560"/>
          </a:xfrm>
        </p:grpSpPr>
        <p:sp>
          <p:nvSpPr>
            <p:cNvPr id="218" name=""/>
            <p:cNvSpPr/>
            <p:nvPr/>
          </p:nvSpPr>
          <p:spPr>
            <a:xfrm>
              <a:off x="596880" y="312408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7840" y="323352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23960" y="6032520"/>
            <a:ext cx="698400" cy="520560"/>
            <a:chOff x="723960" y="6032520"/>
            <a:chExt cx="698400" cy="520560"/>
          </a:xfrm>
        </p:grpSpPr>
        <p:sp>
          <p:nvSpPr>
            <p:cNvPr id="221" name=""/>
            <p:cNvSpPr/>
            <p:nvPr/>
          </p:nvSpPr>
          <p:spPr>
            <a:xfrm>
              <a:off x="723960" y="603252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920" y="614196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79840" y="5295960"/>
            <a:ext cx="698400" cy="520560"/>
            <a:chOff x="2679840" y="5295960"/>
            <a:chExt cx="698400" cy="520560"/>
          </a:xfrm>
        </p:grpSpPr>
        <p:sp>
          <p:nvSpPr>
            <p:cNvPr id="224" name=""/>
            <p:cNvSpPr/>
            <p:nvPr/>
          </p:nvSpPr>
          <p:spPr>
            <a:xfrm>
              <a:off x="2679840" y="529596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00800" y="540540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390840" y="3390840"/>
            <a:ext cx="698400" cy="520560"/>
            <a:chOff x="3390840" y="3390840"/>
            <a:chExt cx="698400" cy="520560"/>
          </a:xfrm>
        </p:grpSpPr>
        <p:sp>
          <p:nvSpPr>
            <p:cNvPr id="227" name=""/>
            <p:cNvSpPr/>
            <p:nvPr/>
          </p:nvSpPr>
          <p:spPr>
            <a:xfrm>
              <a:off x="3390840" y="339084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11800" y="350028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705040" y="3632040"/>
            <a:ext cx="495360" cy="482400"/>
            <a:chOff x="2705040" y="3632040"/>
            <a:chExt cx="495360" cy="482400"/>
          </a:xfrm>
        </p:grpSpPr>
        <p:sp>
          <p:nvSpPr>
            <p:cNvPr id="230" name=""/>
            <p:cNvSpPr/>
            <p:nvPr/>
          </p:nvSpPr>
          <p:spPr>
            <a:xfrm>
              <a:off x="2705040" y="3632040"/>
              <a:ext cx="49536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19160" y="371592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49160" y="4368960"/>
            <a:ext cx="495360" cy="482400"/>
            <a:chOff x="749160" y="4368960"/>
            <a:chExt cx="495360" cy="482400"/>
          </a:xfrm>
        </p:grpSpPr>
        <p:sp>
          <p:nvSpPr>
            <p:cNvPr id="233" name=""/>
            <p:cNvSpPr/>
            <p:nvPr/>
          </p:nvSpPr>
          <p:spPr>
            <a:xfrm>
              <a:off x="749160" y="4368960"/>
              <a:ext cx="49536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3280" y="44528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486080" y="5054760"/>
            <a:ext cx="495000" cy="482400"/>
            <a:chOff x="1486080" y="5054760"/>
            <a:chExt cx="495000" cy="482400"/>
          </a:xfrm>
        </p:grpSpPr>
        <p:sp>
          <p:nvSpPr>
            <p:cNvPr id="236" name=""/>
            <p:cNvSpPr/>
            <p:nvPr/>
          </p:nvSpPr>
          <p:spPr>
            <a:xfrm>
              <a:off x="1486080" y="50547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9840" y="51386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365640" y="4597560"/>
            <a:ext cx="495000" cy="482400"/>
            <a:chOff x="3365640" y="4597560"/>
            <a:chExt cx="495000" cy="482400"/>
          </a:xfrm>
        </p:grpSpPr>
        <p:sp>
          <p:nvSpPr>
            <p:cNvPr id="239" name=""/>
            <p:cNvSpPr/>
            <p:nvPr/>
          </p:nvSpPr>
          <p:spPr>
            <a:xfrm>
              <a:off x="3365640" y="45975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79400" y="46814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 flipV="1">
            <a:off x="1015920" y="4927320"/>
            <a:ext cx="12960" cy="10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015920" y="3720600"/>
            <a:ext cx="129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828800" y="4673520"/>
            <a:ext cx="21600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269720" y="5499000"/>
            <a:ext cx="291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52760" y="4000320"/>
            <a:ext cx="139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200400" y="3593880"/>
            <a:ext cx="203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251160" y="5054760"/>
            <a:ext cx="1904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670200" y="3936600"/>
            <a:ext cx="50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854360" y="3238560"/>
            <a:ext cx="495000" cy="482400"/>
            <a:chOff x="1854360" y="3238560"/>
            <a:chExt cx="495000" cy="482400"/>
          </a:xfrm>
        </p:grpSpPr>
        <p:sp>
          <p:nvSpPr>
            <p:cNvPr id="250" name=""/>
            <p:cNvSpPr/>
            <p:nvPr/>
          </p:nvSpPr>
          <p:spPr>
            <a:xfrm>
              <a:off x="1854360" y="32385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68120" y="33224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320840" y="3403440"/>
            <a:ext cx="4698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4920" y="3454560"/>
            <a:ext cx="99072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804200" y="4114800"/>
            <a:ext cx="1034280" cy="419040"/>
            <a:chOff x="4804200" y="4114800"/>
            <a:chExt cx="1034280" cy="419040"/>
          </a:xfrm>
        </p:grpSpPr>
        <p:sp>
          <p:nvSpPr>
            <p:cNvPr id="255" name=""/>
            <p:cNvSpPr/>
            <p:nvPr/>
          </p:nvSpPr>
          <p:spPr>
            <a:xfrm>
              <a:off x="4863960" y="4114800"/>
              <a:ext cx="965160" cy="4190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4200" y="417348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"/>
                </a:rPr>
                <a:t>111001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845680" y="4648320"/>
            <a:ext cx="1034280" cy="419040"/>
            <a:chOff x="5845680" y="4648320"/>
            <a:chExt cx="1034280" cy="419040"/>
          </a:xfrm>
        </p:grpSpPr>
        <p:sp>
          <p:nvSpPr>
            <p:cNvPr id="258" name=""/>
            <p:cNvSpPr/>
            <p:nvPr/>
          </p:nvSpPr>
          <p:spPr>
            <a:xfrm>
              <a:off x="5905440" y="4648320"/>
              <a:ext cx="965160" cy="4190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5680" y="4732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"/>
                </a:rPr>
                <a:t>01101010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026840" y="4838760"/>
            <a:ext cx="1034280" cy="419040"/>
            <a:chOff x="7026840" y="4838760"/>
            <a:chExt cx="1034280" cy="419040"/>
          </a:xfrm>
        </p:grpSpPr>
        <p:sp>
          <p:nvSpPr>
            <p:cNvPr id="261" name=""/>
            <p:cNvSpPr/>
            <p:nvPr/>
          </p:nvSpPr>
          <p:spPr>
            <a:xfrm>
              <a:off x="7048440" y="4838760"/>
              <a:ext cx="965160" cy="4190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26840" y="492300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"/>
                </a:rPr>
                <a:t>111001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690080" y="4978440"/>
            <a:ext cx="1034280" cy="419040"/>
            <a:chOff x="4690080" y="4978440"/>
            <a:chExt cx="1034280" cy="419040"/>
          </a:xfrm>
        </p:grpSpPr>
        <p:sp>
          <p:nvSpPr>
            <p:cNvPr id="264" name=""/>
            <p:cNvSpPr/>
            <p:nvPr/>
          </p:nvSpPr>
          <p:spPr>
            <a:xfrm>
              <a:off x="4711680" y="4978440"/>
              <a:ext cx="965160" cy="4190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90080" y="505620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"/>
                </a:rPr>
                <a:t>101001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871240" y="529740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26840" y="529740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91600" y="567216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71240" y="567216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01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6840" y="567216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001010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91600" y="604692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010100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71240" y="604692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26840" y="604692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1110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978080" y="3517560"/>
            <a:ext cx="3049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388200" y="3594240"/>
            <a:ext cx="107928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480440" y="4381560"/>
            <a:ext cx="126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30880" y="4000680"/>
            <a:ext cx="547560" cy="990360"/>
          </a:xfrm>
          <a:custGeom>
            <a:avLst/>
            <a:gdLst/>
            <a:ahLst/>
            <a:rect l="l" t="t" r="r" b="b"/>
            <a:pathLst>
              <a:path w="345" h="624">
                <a:moveTo>
                  <a:pt x="345" y="624"/>
                </a:moveTo>
                <a:cubicBezTo>
                  <a:pt x="213" y="500"/>
                  <a:pt x="82" y="376"/>
                  <a:pt x="41" y="272"/>
                </a:cubicBezTo>
                <a:cubicBezTo>
                  <a:pt x="0" y="168"/>
                  <a:pt x="88" y="45"/>
                  <a:pt x="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280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02.10.CBAlogo.MIT.400" descr=""/>
            <p:cNvPicPr/>
            <p:nvPr/>
          </p:nvPicPr>
          <p:blipFill>
            <a:blip r:embed="rId2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/>
          <p:cNvSpPr/>
          <p:nvPr/>
        </p:nvSpPr>
        <p:spPr>
          <a:xfrm>
            <a:off x="3053520" y="44928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68360" y="1103400"/>
            <a:ext cx="8130960" cy="2136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58680" y="13892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Virtual Self-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55880" y="1446120"/>
            <a:ext cx="39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1) The undirected reassembly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71760" y="1687680"/>
            <a:ext cx="633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cess from randomly distributed fragments of code with state. 2) The spontaneous aggregation of a distributed process from mobile process fragments migrating within a computational medium.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e also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Wack-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65440" y="4076640"/>
            <a:ext cx="698400" cy="520560"/>
            <a:chOff x="1765440" y="4076640"/>
            <a:chExt cx="698400" cy="520560"/>
          </a:xfrm>
        </p:grpSpPr>
        <p:sp>
          <p:nvSpPr>
            <p:cNvPr id="290" name=""/>
            <p:cNvSpPr/>
            <p:nvPr/>
          </p:nvSpPr>
          <p:spPr>
            <a:xfrm>
              <a:off x="1765440" y="407664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86400" y="418608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96880" y="3124080"/>
            <a:ext cx="698400" cy="520560"/>
            <a:chOff x="596880" y="3124080"/>
            <a:chExt cx="698400" cy="520560"/>
          </a:xfrm>
        </p:grpSpPr>
        <p:sp>
          <p:nvSpPr>
            <p:cNvPr id="293" name=""/>
            <p:cNvSpPr/>
            <p:nvPr/>
          </p:nvSpPr>
          <p:spPr>
            <a:xfrm>
              <a:off x="596880" y="312408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7840" y="323352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23960" y="6032520"/>
            <a:ext cx="698400" cy="520560"/>
            <a:chOff x="723960" y="6032520"/>
            <a:chExt cx="698400" cy="520560"/>
          </a:xfrm>
        </p:grpSpPr>
        <p:sp>
          <p:nvSpPr>
            <p:cNvPr id="296" name=""/>
            <p:cNvSpPr/>
            <p:nvPr/>
          </p:nvSpPr>
          <p:spPr>
            <a:xfrm>
              <a:off x="723960" y="603252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920" y="614196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79840" y="5295960"/>
            <a:ext cx="698400" cy="520560"/>
            <a:chOff x="2679840" y="5295960"/>
            <a:chExt cx="698400" cy="520560"/>
          </a:xfrm>
        </p:grpSpPr>
        <p:sp>
          <p:nvSpPr>
            <p:cNvPr id="299" name=""/>
            <p:cNvSpPr/>
            <p:nvPr/>
          </p:nvSpPr>
          <p:spPr>
            <a:xfrm>
              <a:off x="2679840" y="529596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00800" y="540540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390840" y="3390840"/>
            <a:ext cx="698400" cy="520560"/>
            <a:chOff x="3390840" y="3390840"/>
            <a:chExt cx="698400" cy="520560"/>
          </a:xfrm>
        </p:grpSpPr>
        <p:sp>
          <p:nvSpPr>
            <p:cNvPr id="302" name=""/>
            <p:cNvSpPr/>
            <p:nvPr/>
          </p:nvSpPr>
          <p:spPr>
            <a:xfrm>
              <a:off x="3390840" y="3390840"/>
              <a:ext cx="698400" cy="520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11800" y="3500280"/>
              <a:ext cx="42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705040" y="3632040"/>
            <a:ext cx="495360" cy="482400"/>
            <a:chOff x="2705040" y="3632040"/>
            <a:chExt cx="495360" cy="482400"/>
          </a:xfrm>
        </p:grpSpPr>
        <p:sp>
          <p:nvSpPr>
            <p:cNvPr id="305" name=""/>
            <p:cNvSpPr/>
            <p:nvPr/>
          </p:nvSpPr>
          <p:spPr>
            <a:xfrm>
              <a:off x="2705040" y="3632040"/>
              <a:ext cx="49536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19160" y="371592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49160" y="4368960"/>
            <a:ext cx="495360" cy="482400"/>
            <a:chOff x="749160" y="4368960"/>
            <a:chExt cx="495360" cy="482400"/>
          </a:xfrm>
        </p:grpSpPr>
        <p:sp>
          <p:nvSpPr>
            <p:cNvPr id="308" name=""/>
            <p:cNvSpPr/>
            <p:nvPr/>
          </p:nvSpPr>
          <p:spPr>
            <a:xfrm>
              <a:off x="749160" y="4368960"/>
              <a:ext cx="49536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3280" y="44528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486080" y="5054760"/>
            <a:ext cx="495000" cy="482400"/>
            <a:chOff x="1486080" y="5054760"/>
            <a:chExt cx="495000" cy="482400"/>
          </a:xfrm>
        </p:grpSpPr>
        <p:sp>
          <p:nvSpPr>
            <p:cNvPr id="311" name=""/>
            <p:cNvSpPr/>
            <p:nvPr/>
          </p:nvSpPr>
          <p:spPr>
            <a:xfrm>
              <a:off x="1486080" y="50547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99840" y="51386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365640" y="4597560"/>
            <a:ext cx="495000" cy="482400"/>
            <a:chOff x="3365640" y="4597560"/>
            <a:chExt cx="495000" cy="482400"/>
          </a:xfrm>
        </p:grpSpPr>
        <p:sp>
          <p:nvSpPr>
            <p:cNvPr id="314" name=""/>
            <p:cNvSpPr/>
            <p:nvPr/>
          </p:nvSpPr>
          <p:spPr>
            <a:xfrm>
              <a:off x="3365640" y="45975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79400" y="46814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H="1" flipV="1">
            <a:off x="1015920" y="4927320"/>
            <a:ext cx="12960" cy="10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015920" y="3720600"/>
            <a:ext cx="129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828800" y="4673520"/>
            <a:ext cx="21600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269720" y="5499000"/>
            <a:ext cx="291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52760" y="4000320"/>
            <a:ext cx="139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00400" y="3593880"/>
            <a:ext cx="203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251160" y="5054760"/>
            <a:ext cx="1904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670200" y="3936600"/>
            <a:ext cx="50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854360" y="3238560"/>
            <a:ext cx="495000" cy="482400"/>
            <a:chOff x="1854360" y="3238560"/>
            <a:chExt cx="495000" cy="482400"/>
          </a:xfrm>
        </p:grpSpPr>
        <p:sp>
          <p:nvSpPr>
            <p:cNvPr id="325" name=""/>
            <p:cNvSpPr/>
            <p:nvPr/>
          </p:nvSpPr>
          <p:spPr>
            <a:xfrm>
              <a:off x="1854360" y="3238560"/>
              <a:ext cx="495000" cy="482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68120" y="3322440"/>
              <a:ext cx="33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320840" y="3403440"/>
            <a:ext cx="4698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74920" y="3454560"/>
            <a:ext cx="99072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297320" y="3251160"/>
            <a:ext cx="4071960" cy="3327480"/>
            <a:chOff x="4297320" y="3251160"/>
            <a:chExt cx="4071960" cy="3327480"/>
          </a:xfrm>
        </p:grpSpPr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4297320" y="3251160"/>
              <a:ext cx="4071960" cy="332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4771440" y="3580200"/>
              <a:ext cx="689040" cy="408600"/>
              <a:chOff x="4771440" y="3580200"/>
              <a:chExt cx="689040" cy="40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4771440" y="3580200"/>
                <a:ext cx="689040" cy="40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11120" y="364104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57920" y="4352400"/>
              <a:ext cx="689040" cy="408600"/>
              <a:chOff x="5857920" y="4352400"/>
              <a:chExt cx="689040" cy="408600"/>
            </a:xfrm>
          </p:grpSpPr>
          <p:sp>
            <p:nvSpPr>
              <p:cNvPr id="335" name=""/>
              <p:cNvSpPr/>
              <p:nvPr/>
            </p:nvSpPr>
            <p:spPr>
              <a:xfrm>
                <a:off x="5857920" y="4352400"/>
                <a:ext cx="689040" cy="40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95800" y="441756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329600" y="3739320"/>
              <a:ext cx="689040" cy="408600"/>
              <a:chOff x="7329600" y="3739320"/>
              <a:chExt cx="689040" cy="408600"/>
            </a:xfrm>
          </p:grpSpPr>
          <p:sp>
            <p:nvSpPr>
              <p:cNvPr id="338" name=""/>
              <p:cNvSpPr/>
              <p:nvPr/>
            </p:nvSpPr>
            <p:spPr>
              <a:xfrm>
                <a:off x="7329600" y="3739320"/>
                <a:ext cx="689040" cy="40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68560" y="380268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002360" y="5601960"/>
              <a:ext cx="689040" cy="408600"/>
              <a:chOff x="7002360" y="5601960"/>
              <a:chExt cx="689040" cy="408600"/>
            </a:xfrm>
          </p:grpSpPr>
          <p:sp>
            <p:nvSpPr>
              <p:cNvPr id="341" name=""/>
              <p:cNvSpPr/>
              <p:nvPr/>
            </p:nvSpPr>
            <p:spPr>
              <a:xfrm>
                <a:off x="7002360" y="5601960"/>
                <a:ext cx="689040" cy="40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41320" y="566532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876920" y="6044760"/>
              <a:ext cx="688680" cy="408600"/>
              <a:chOff x="4876920" y="6044760"/>
              <a:chExt cx="688680" cy="408600"/>
            </a:xfrm>
          </p:grpSpPr>
          <p:sp>
            <p:nvSpPr>
              <p:cNvPr id="344" name=""/>
              <p:cNvSpPr/>
              <p:nvPr/>
            </p:nvSpPr>
            <p:spPr>
              <a:xfrm>
                <a:off x="4876920" y="6044760"/>
                <a:ext cx="688680" cy="40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12640" y="6107040"/>
                <a:ext cx="445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F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Palatino"/>
                  </a:rPr>
                  <a:t>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Palatino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rot="21516000">
              <a:off x="5030280" y="4044600"/>
              <a:ext cx="256680" cy="1986120"/>
            </a:xfrm>
            <a:prstGeom prst="rect">
              <a:avLst/>
            </a:prstGeom>
            <a:solidFill>
              <a:srgbClr val="fefec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485000">
              <a:off x="5669640" y="4704480"/>
              <a:ext cx="256680" cy="1484280"/>
            </a:xfrm>
            <a:prstGeom prst="rect">
              <a:avLst/>
            </a:prstGeom>
            <a:solidFill>
              <a:srgbClr val="fefecb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1200">
              <a:off x="7408080" y="4138200"/>
              <a:ext cx="256680" cy="1478880"/>
            </a:xfrm>
            <a:prstGeom prst="rect">
              <a:avLst/>
            </a:prstGeom>
            <a:solidFill>
              <a:srgbClr val="fefecb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3735000">
              <a:off x="6826680" y="3891240"/>
              <a:ext cx="249480" cy="797040"/>
            </a:xfrm>
            <a:prstGeom prst="rect">
              <a:avLst/>
            </a:prstGeom>
            <a:solidFill>
              <a:srgbClr val="fefecb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767800">
              <a:off x="6269760" y="2912760"/>
              <a:ext cx="249840" cy="1863000"/>
            </a:xfrm>
            <a:prstGeom prst="rect">
              <a:avLst/>
            </a:prstGeom>
            <a:solidFill>
              <a:srgbClr val="fefecb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22080" y="4034520"/>
              <a:ext cx="84240" cy="1919160"/>
            </a:xfrm>
            <a:prstGeom prst="line">
              <a:avLst/>
            </a:prstGeom>
            <a:ln w="0">
              <a:solidFill>
                <a:srgbClr val="ffff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62120" y="4170960"/>
              <a:ext cx="84600" cy="1919160"/>
            </a:xfrm>
            <a:prstGeom prst="line">
              <a:avLst/>
            </a:prstGeom>
            <a:ln w="0">
              <a:solidFill>
                <a:srgbClr val="ffff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65960" y="3773520"/>
              <a:ext cx="1716840" cy="124560"/>
            </a:xfrm>
            <a:prstGeom prst="line">
              <a:avLst/>
            </a:prstGeom>
            <a:ln w="9360">
              <a:solidFill>
                <a:srgbClr val="ecf4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07640" y="4761360"/>
              <a:ext cx="595440" cy="1294560"/>
            </a:xfrm>
            <a:prstGeom prst="line">
              <a:avLst/>
            </a:prstGeom>
            <a:ln w="9360">
              <a:solidFill>
                <a:srgbClr val="ecf4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434720" y="4159800"/>
              <a:ext cx="233280" cy="1419120"/>
            </a:xfrm>
            <a:prstGeom prst="line">
              <a:avLst/>
            </a:prstGeom>
            <a:ln w="9360">
              <a:solidFill>
                <a:srgbClr val="ecf4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593760" y="4023000"/>
              <a:ext cx="700560" cy="431640"/>
            </a:xfrm>
            <a:prstGeom prst="line">
              <a:avLst/>
            </a:prstGeom>
            <a:ln w="9360">
              <a:solidFill>
                <a:srgbClr val="ecf4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359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02.10.CBAlogo.MIT.400" descr=""/>
            <p:cNvPicPr/>
            <p:nvPr/>
          </p:nvPicPr>
          <p:blipFill>
            <a:blip r:embed="rId2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2089080" y="152280"/>
            <a:ext cx="50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essellation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rmodynamic (-like)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Macintosh HD:Users:bill:Talks:Movies:Tesselation 2.mov" descr=""/>
          <p:cNvPicPr/>
          <p:nvPr/>
        </p:nvPicPr>
        <p:blipFill>
          <a:blip r:embed="rId3"/>
          <a:stretch/>
        </p:blipFill>
        <p:spPr>
          <a:xfrm>
            <a:off x="812880" y="1422360"/>
            <a:ext cx="75531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3"/>
            </a:gs>
            <a:gs pos="100000">
              <a:srgbClr val="fff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71600" y="92556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367" name=""/>
            <p:cNvSpPr/>
            <p:nvPr/>
          </p:nvSpPr>
          <p:spPr>
            <a:xfrm>
              <a:off x="0" y="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64911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intable Computing Project   Fall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mit-logo" descr=""/>
            <p:cNvPicPr/>
            <p:nvPr/>
          </p:nvPicPr>
          <p:blipFill>
            <a:blip r:embed="rId1"/>
            <a:stretch/>
          </p:blipFill>
          <p:spPr>
            <a:xfrm>
              <a:off x="914400" y="79200"/>
              <a:ext cx="685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02.10.CBAlogo.MIT.400" descr=""/>
            <p:cNvPicPr/>
            <p:nvPr/>
          </p:nvPicPr>
          <p:blipFill>
            <a:blip r:embed="rId2"/>
            <a:stretch/>
          </p:blipFill>
          <p:spPr>
            <a:xfrm>
              <a:off x="7238880" y="127080"/>
              <a:ext cx="1752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>
            <a:off x="3154680" y="169920"/>
            <a:ext cx="30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istribu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Graphics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Macintosh HD:Users:bill:Paintable Computing:Applications:Display:Text Display.mov" descr=""/>
          <p:cNvPicPr/>
          <p:nvPr/>
        </p:nvPicPr>
        <p:blipFill>
          <a:blip r:embed="rId3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3:54:40Z</dcterms:created>
  <dc:creator>The Garden</dc:creator>
  <dc:description/>
  <dc:language>en-US</dc:language>
  <cp:lastModifiedBy>William Butera</cp:lastModifiedBy>
  <cp:lastPrinted>2003-11-19T13:00:21Z</cp:lastPrinted>
  <dcterms:modified xsi:type="dcterms:W3CDTF">2003-11-19T22:57:55Z</dcterms:modified>
  <cp:revision>284</cp:revision>
  <dc:subject/>
  <dc:title>No Slide Title</dc:title>
</cp:coreProperties>
</file>