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2960" y="-360"/>
            <a:ext cx="29736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27160" y="688680"/>
            <a:ext cx="4603680" cy="34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73640"/>
            <a:ext cx="5486400" cy="4145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74368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2960" y="8743680"/>
            <a:ext cx="29736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BF9FBE1-5457-43C3-9574-65B0EBB34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2960" y="8743680"/>
            <a:ext cx="29736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F74B04F-B261-4F6B-B874-4712A53AC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74368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-36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2960" y="-360"/>
            <a:ext cx="29736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71640" y="709560"/>
            <a:ext cx="4730760" cy="35481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840" y="4492440"/>
            <a:ext cx="4896000" cy="4259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uble in performance every 15 month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27160" y="6890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73640"/>
            <a:ext cx="5486400" cy="4145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 one working on Infiniband's switch y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rus bandwidth is 3 bytes/cycle (2bit x12/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rus total BW 1.4Gb/sx6x64000 x1/8 = 67TB/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rus bisectional bandwidth 2(2 uni)x2(Torus)x32x64x1.4Gb/sx1byte/8bit = 1.4 TB/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rus latency is about 20 processor cyc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lobal tree 16 levels dee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lobal tree is 2bitx2 wiresx3portsx2directions/8=3bytes/cycle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lobal tree total bandwidth 0.35GB/sx64K = 23 TB/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2.8Gb/s /8 = 0.35G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, deterministic 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acket has a 256 byte payload, a 24 bit 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ns per hub + capture/driver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classes/route/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ndependent virtual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MPI_ALLRE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2960" y="8743680"/>
            <a:ext cx="29736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261868A-F402-427C-A028-328A7A8A7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74368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-36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2960" y="-360"/>
            <a:ext cx="29736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71640" y="709560"/>
            <a:ext cx="4730760" cy="3548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88840" y="4492440"/>
            <a:ext cx="4896000" cy="4259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OB: Built on Beowulf, Tom Sterling's machin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B7A-D96C-4279-8099-8E730007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760-8913-433E-B7DF-FC567B04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3AC-80A8-45E9-B110-FBA4C282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138-E0FD-47A8-80AA-C2F6D0BF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042D-B904-4EB9-BA42-3747B2B1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8EFD-D382-4D1D-9F61-923A9FDE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8741-3F04-498F-8FCD-12B39940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073D-C10D-4D24-9ED9-3C991C86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B664-3AE7-4832-B1A0-DD0A52CF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FC5E-6AA8-4D32-B42D-A3644DD6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FEFA-A802-4E67-9E0B-BDC46CE1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09D-0323-4CF2-91CE-3B53685B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D7DE-B605-4309-8BD0-01DE5858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3468-9348-45B5-848D-DFFD66FA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F9AA-7335-4E53-8C61-5CAB717F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888F-15E4-4844-8203-A1ED23F4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E432-095D-4EDC-8939-7BE1DE82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866-B180-4142-8ABD-941DA4F2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D20-4D81-46A3-8F8B-FC85FE10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D49-B296-458E-AF07-6F379A28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2B9-33BD-4AB2-951B-B0582584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423-12A3-4600-A3EE-B36562C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7B5-E550-413B-9ABD-1BEE5032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C70-BC1D-4031-91AC-0C6EBBC5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49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649"/>
              </a:spcBef>
              <a:buClr>
                <a:srgbClr val="66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649"/>
              </a:spcBef>
              <a:buClr>
                <a:srgbClr val="cc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1B21-4D1E-45E5-ACAD-E9465087F98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8D85-3E34-4239-B25A-1BDCD3CC07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83440" y="152280"/>
            <a:ext cx="795600" cy="1067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201160" y="1295280"/>
            <a:ext cx="714240" cy="2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1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6A73-9745-42C5-BE15-5496E68A2D8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8C29-6C0C-42DB-BDD3-B0EBD97E6A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46960" y="2971800"/>
            <a:ext cx="131616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4648320"/>
            <a:ext cx="1324080" cy="515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24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51"/>
              </a:spcBef>
              <a:buClr>
                <a:srgbClr val="66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51"/>
              </a:spcBef>
              <a:buClr>
                <a:srgbClr val="ccffff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BlueGene/L Supercomputer  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419360" y="3505320"/>
            <a:ext cx="2678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Ch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2917800" cy="25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3FD0-5847-4BB8-9C10-0062B3D3C0C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E0E4FCA-83E6-4007-8AA1-E310847979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63520" y="525600"/>
          <a:ext cx="8886960" cy="55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525600"/>
                    <a:ext cx="888696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8CD-321D-4166-A1B0-4E717ECD35F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AB439-C1C9-4497-AB46-1768DA762E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BlueGene/L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990720"/>
          <a:ext cx="7290000" cy="52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29000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B51-A18E-4BC1-8FE4-C4CFF926FF4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9E1F3-C438-4EA2-A382-E6B9781CA2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512 Way BG/L Prototyp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9720" y="914400"/>
            <a:ext cx="7284960" cy="546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F2B-8DBE-40A3-A706-27E14CF9B3D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5D006-4C50-4B67-9D9C-BBE59F66BC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BlueGene/L Interconnection Network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520" y="1775880"/>
            <a:ext cx="56419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99"/>
                </a:solidFill>
                <a:latin typeface="Arial"/>
              </a:rPr>
              <a:t>3 Dimensional To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onnects all compute nodes (65,53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 cut-through hardware ro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4Gb/s on all 12 node links (2.1 GB/s per n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 backbone for compu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7/1.4 Tb/s bisection bandwidth, 67TB/s total 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99"/>
                </a:solidFill>
                <a:latin typeface="Arial"/>
              </a:rPr>
              <a:t>Global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-to-all broadcast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tion operations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8 Gb/s of bandwidth per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ncy of tree traversal 2.5 µ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23TB/s total binary tree bandwidth (64k mach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onnects all compute and I/O nodes (1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99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porated into every node A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 in the I/O nodes (1:6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49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external comm. (file I/O, control, user interaction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38240" y="1447920"/>
          <a:ext cx="2604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447920"/>
                    <a:ext cx="2604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B38-FD02-4C80-BD04-7D4B29FA83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371C8-DFD7-4149-8931-0193AD033A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mplete BlueGene/L System at LLNL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876600" y="3162240"/>
            <a:ext cx="4724640" cy="1447560"/>
          </a:xfrm>
          <a:custGeom>
            <a:avLst/>
            <a:gdLst>
              <a:gd name="textAreaLeft" fmla="*/ 1038960 w 4724640"/>
              <a:gd name="textAreaRight" fmla="*/ 3685680 w 4724640"/>
              <a:gd name="textAreaTop" fmla="*/ 318240 h 1447560"/>
              <a:gd name="textAreaBottom" fmla="*/ 11293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65,5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523880"/>
            <a:ext cx="1067040" cy="4724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/O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,0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2895480" y="3276360"/>
            <a:ext cx="4114800" cy="762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ederated Gigabit Ethernet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,048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267080"/>
            <a:ext cx="1828800" cy="838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ont-end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5257800"/>
            <a:ext cx="1828800" cy="8380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vice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676520"/>
            <a:ext cx="14479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2209680"/>
            <a:ext cx="144792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su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2743200"/>
            <a:ext cx="14479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3276720"/>
            <a:ext cx="1981440" cy="76176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W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791320"/>
            <a:ext cx="28191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5334120"/>
            <a:ext cx="76176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59436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rol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4572000"/>
            <a:ext cx="76176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3581280"/>
            <a:ext cx="76176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2819520"/>
            <a:ext cx="99036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286000"/>
            <a:ext cx="99036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1752480"/>
            <a:ext cx="99036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581280"/>
            <a:ext cx="1295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F8E-D08C-4010-9408-7374A64BC32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8A30F-D858-47B1-A846-A27C5D928C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9320" y="390600"/>
            <a:ext cx="811836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Summary of performance result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26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GEMM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2.3% of dual core peak on 1 nod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ed performance at 500 MHz: 3.7 GFl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jected performance at 700 MHz: 5.2 GFlops (tested in lab up to 650 MHz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NPACK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7% of peak on 1 nod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0% of peak on 512 nodes (1435 GFlops at 500 MHz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PM, UMT2000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gle processor performance roughly on par with POWER3 at 375 MH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sted on up to 128 nodes (also NAS Parallel Benchmark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FT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p to 508 MFlops on single processor at 444 MHz (TU Vienn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eudo-ops performance (5N log N) @ 700 MHz of 1300 Mflops (65% of peak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REAM – impressive results even at 444 MHz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uned:     Copy: 2.4 GB/s, Scale: 2.1 GB/s, Add: 1.8 GB/s, Triad: 1.9 GB/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ndard: Copy: 1.2 GB/s, Scale: 1.1 GB/s, Add: 1.2 GB/s, Triad: 1.2 GB/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700 MHz: Would beat STREAM numbers for most high end microprocess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PI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tency –  &lt; 4000 cycles (5.5 </a:t>
            </a:r>
            <a:r>
              <a:rPr b="0" lang="en-US" sz="1300" spc="-1" strike="noStrike">
                <a:solidFill>
                  <a:srgbClr val="000000"/>
                </a:solidFill>
                <a:latin typeface="Math A"/>
                <a:ea typeface="Math A"/>
              </a:rPr>
              <a:t>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at 700 MHz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26"/>
              </a:spcBef>
              <a:buClr>
                <a:srgbClr val="33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ndwidth – full link bandwidth demonstrated on up to 6 lin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4EA-5549-4D60-92B2-F745D28BA2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29A3C-5A50-4B59-BD6F-6A1702F5B8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71520" y="257040"/>
            <a:ext cx="7572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960" y="22320"/>
            <a:ext cx="832032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0" spc="-1" strike="noStrike">
                <a:solidFill>
                  <a:srgbClr val="3232b8"/>
                </a:solidFill>
                <a:latin typeface="Arial"/>
              </a:rPr>
              <a:t>Ap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01760" y="2011320"/>
            <a:ext cx="755172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8960" y="797040"/>
            <a:ext cx="8825040" cy="55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BG/L is a general purpose technical supercompute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-body simul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lecular dynamics (classical and quantu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sma physic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ellar dynamics for star clusters, galax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lex multiphysics co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utational Fluid Dynamics (weather, climate, sPPM..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retio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aleigh-Jeans instabilit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netary formation and evolution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adiative 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gnetohydrodynamic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eling thermonuclear events in/on astrophysical objec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utron star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ite dwarf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81080">
              <a:lnSpc>
                <a:spcPct val="100000"/>
              </a:lnSpc>
              <a:spcAft>
                <a:spcPts val="312"/>
              </a:spcAft>
              <a:buClr>
                <a:srgbClr val="80808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ernova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diotelescop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970-CB82-4589-A6C5-A3EA138AACC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564CA-730F-43FE-ADBE-A2B04912DB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080" y="30240"/>
            <a:ext cx="8674200" cy="85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03320" indent="169560" algn="ctr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da0030"/>
                </a:solidFill>
                <a:latin typeface="Times New Roman"/>
              </a:rPr>
              <a:t>Embedded technology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promises to be an efficient path toward building massively parallel computers optimized at the system level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da0030"/>
                </a:solidFill>
                <a:latin typeface="Times New Roman"/>
              </a:rPr>
              <a:t>Cost/performance is ~20x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better than standard methods to get to TFlops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da0030"/>
                </a:solidFill>
                <a:latin typeface="Times New Roman"/>
              </a:rPr>
              <a:t>Low Power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is critical to achieving a dense, simple, inexpensive packaging solu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031760" indent="604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Blue Gene/L will have a scientific reach far beyond existing limits for a large class of </a:t>
            </a:r>
            <a:r>
              <a:rPr b="0" lang="en-US" sz="2100" spc="-1" strike="noStrike">
                <a:solidFill>
                  <a:srgbClr val="da0030"/>
                </a:solidFill>
                <a:latin typeface="Times New Roman"/>
              </a:rPr>
              <a:t>important scientific problems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031760" indent="604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Blue Gene/L will give insight into possible</a:t>
            </a:r>
            <a:r>
              <a:rPr b="0" lang="en-US" sz="2100" spc="-1" strike="noStrike">
                <a:solidFill>
                  <a:srgbClr val="da0030"/>
                </a:solidFill>
                <a:latin typeface="Times New Roman"/>
              </a:rPr>
              <a:t> future product directions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Blue Gene/L hardware will be quite flexible. A mature, sophisticated software environment needs to be developed to really determine the </a:t>
            </a:r>
            <a:r>
              <a:rPr b="0" lang="en-US" sz="2100" spc="-1" strike="noStrike">
                <a:solidFill>
                  <a:srgbClr val="da0030"/>
                </a:solidFill>
                <a:latin typeface="Times New Roman"/>
              </a:rPr>
              <a:t>reach (both scientific and commercial) of this architectu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A81-FFA8-49BA-BE84-71A8DE2A0E3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F4B49-0E81-4513-86F9-98FECEEBB0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_USER</cp:lastModifiedBy>
  <dcterms:modified xsi:type="dcterms:W3CDTF">2003-11-11T21:19:08Z</dcterms:modified>
  <cp:revision>187</cp:revision>
  <dc:subject/>
  <dc:title>PowerPoint Presentation</dc:title>
</cp:coreProperties>
</file>