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763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EB4-2BA8-4EDE-9706-B8F19020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 Bieche, U.P. Uhry, R. Maynard, R. Rammal, J. Phys. A 13, 2553 (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Barahona, R. Maynard, R. Rammal, J.P. Uhry, J. Phys. A 15, 673 (198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Barahona, J. Phys. A: Math. Gen., 15:3241, 1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anonical: Berg &amp; Neuhaus, PRL 68, 9 (1992); Phys. Lett B 267, 249 (199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tempering:  K.N.K. Hukushima, J. Phys. Soc. Japan 65, 1604 (1996); G.P.E. Marinari, Europhys. Lett. 19, 451 (1992); A.P. Lyubartsev et al., J. Chem. Phys. 96, 1776 (199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g-Landau:  F. Wang and D.P. Landau, PRL 86, 2050 (2001); PRE 64, 056101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CC5-635F-4FE5-B080-452DD7CB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011-D274-47E8-A06F-520F1A9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8F0-6027-40AE-8BD9-6339E45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4B4-A608-4625-9D27-174122B3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58B-D5AD-464F-9006-80E824F8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457-676D-41BC-9043-D2AA4B39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C1C-9DA1-4833-BE2D-1ECC79B9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65B-6AF8-48C3-AF51-09D2716D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E54-4EEE-4179-9511-2461F2F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D11-49D3-460B-B57D-E3CC568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38D-1DC6-4A41-856E-704ABC0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485-8807-497C-B740-2243042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A7B2-7B92-44B8-B595-E5477154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ng computational and physic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Computational complexity:  How the number of computational steps needed to solve a problem scales with probl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Physical complexity:  No agreed-upon genera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: relating physical properties to difficulty of determining equilibrium low temperature behavior of spin gla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transitions versus NP-completeness – no simpl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of non-Metropolis sampling algorithms – unexpected exponential scaling for 2D nearest neighbor spin glass (which is i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. Dayal, S. Trebst, S. Wessel, D. Würtz, M. Troyer (ETH Zürich), S. Sabhapandit &amp; SNC (U. of Wiscons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6248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unding:  PRF, N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893880"/>
            <a:ext cx="4496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N. Copper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in glass (Edwards-Anderson, 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2480" y="3733560"/>
            <a:ext cx="5448600" cy="1095120"/>
            <a:chOff x="1752480" y="3733560"/>
            <a:chExt cx="5448600" cy="1095120"/>
          </a:xfrm>
        </p:grpSpPr>
        <p:sp>
          <p:nvSpPr>
            <p:cNvPr id="55" name=""/>
            <p:cNvSpPr/>
            <p:nvPr/>
          </p:nvSpPr>
          <p:spPr>
            <a:xfrm>
              <a:off x="1866960" y="3962520"/>
              <a:ext cx="0" cy="6858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2760" y="39625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866600" y="3962520"/>
              <a:ext cx="68580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66960" y="4648320"/>
              <a:ext cx="68580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14880" y="4038480"/>
              <a:ext cx="68580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14880" y="4495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35680" y="3821040"/>
              <a:ext cx="24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ff"/>
                  </a:solidFill>
                  <a:latin typeface="Arial"/>
                </a:rPr>
                <a:t>Ferromagnetic b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52960" y="426708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tiferromagnetic b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765440" y="3733560"/>
              <a:ext cx="0" cy="228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752480" y="4495320"/>
              <a:ext cx="0" cy="228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629080" y="3733560"/>
              <a:ext cx="0" cy="228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9400" y="436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09480" y="1371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 of spins coupled by both ferromagnetic and antiferromagnetic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inter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ustration (many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s with same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459240" y="5135040"/>
            <a:ext cx="1341360" cy="1341360"/>
            <a:chOff x="3459240" y="5135040"/>
            <a:chExt cx="1341360" cy="1341360"/>
          </a:xfrm>
        </p:grpSpPr>
        <p:sp>
          <p:nvSpPr>
            <p:cNvPr id="69" name=""/>
            <p:cNvSpPr/>
            <p:nvPr/>
          </p:nvSpPr>
          <p:spPr>
            <a:xfrm flipV="1">
              <a:off x="4132080" y="5148000"/>
              <a:ext cx="0" cy="3384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132080" y="5783040"/>
              <a:ext cx="0" cy="3384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132080" y="5479560"/>
              <a:ext cx="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19480" y="6138360"/>
              <a:ext cx="0" cy="33804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459240" y="5148000"/>
              <a:ext cx="680400" cy="1328400"/>
              <a:chOff x="3459240" y="5148000"/>
              <a:chExt cx="680400" cy="1328400"/>
            </a:xfrm>
          </p:grpSpPr>
          <p:sp>
            <p:nvSpPr>
              <p:cNvPr id="74" name=""/>
              <p:cNvSpPr/>
              <p:nvPr/>
            </p:nvSpPr>
            <p:spPr>
              <a:xfrm>
                <a:off x="3471480" y="5148000"/>
                <a:ext cx="33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71480" y="5808600"/>
                <a:ext cx="338040" cy="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71480" y="5478480"/>
                <a:ext cx="33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71480" y="6138720"/>
                <a:ext cx="338040" cy="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59240" y="6468840"/>
                <a:ext cx="33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4040" y="6468840"/>
                <a:ext cx="337680" cy="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89000" y="6138720"/>
                <a:ext cx="33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89000" y="5478480"/>
                <a:ext cx="338040" cy="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01960" y="5148000"/>
                <a:ext cx="33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89000" y="5808600"/>
                <a:ext cx="338040" cy="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471480" y="5148000"/>
                <a:ext cx="0" cy="33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3471480" y="5478120"/>
                <a:ext cx="0" cy="33804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3471480" y="5783040"/>
                <a:ext cx="0" cy="33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801960" y="5148000"/>
                <a:ext cx="0" cy="33840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71480" y="6117840"/>
                <a:ext cx="0" cy="33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801960" y="5478120"/>
                <a:ext cx="0" cy="33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3801960" y="6138360"/>
                <a:ext cx="0" cy="33804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3801960" y="5808240"/>
                <a:ext cx="0" cy="33804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449600" y="6464160"/>
              <a:ext cx="33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9600" y="5803920"/>
              <a:ext cx="33804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49600" y="6134040"/>
              <a:ext cx="33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600" y="5473440"/>
              <a:ext cx="33804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62560" y="5143320"/>
              <a:ext cx="33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27400" y="5143320"/>
              <a:ext cx="33804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32080" y="5473440"/>
              <a:ext cx="33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32080" y="6134040"/>
              <a:ext cx="33840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9480" y="6464160"/>
              <a:ext cx="33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9480" y="5808600"/>
              <a:ext cx="338040" cy="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87640" y="6125760"/>
              <a:ext cx="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787640" y="5795640"/>
              <a:ext cx="0" cy="33804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787640" y="5490720"/>
              <a:ext cx="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457520" y="6125760"/>
              <a:ext cx="0" cy="33804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787640" y="5155920"/>
              <a:ext cx="0" cy="3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457520" y="5795640"/>
              <a:ext cx="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457520" y="5135040"/>
              <a:ext cx="0" cy="33804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57520" y="5465520"/>
              <a:ext cx="0" cy="3384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 nearest neighbor spin glass, no simple relation between computational complexity and presence of physical phase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: Finding ground state is NP-complete (Barahona ‘82), model has phase transition at nonzero temperatur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, single layer: finding ground state is in P (Bieche et al., 1980), no phase transition at nonzer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, two-layer: finding ground state is NP-complete (Barahona ’82), no phase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racterizing algorithms for determining statistical mechanical properties of spin glass model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81952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 logarithmically slow relaxation for spin glass in any dimension (because of energy barriers between low-lying exciting states and ground state) (Huse and Fisher (PR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203 (1986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28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Monte Carlo (weight configurations by e</a:t>
            </a:r>
            <a:r>
              <a:rPr b="0" lang="en-US" sz="2400" spc="-1" strike="noStrike" baseline="30000">
                <a:solidFill>
                  <a:srgbClr val="cc00ff"/>
                </a:solidFill>
                <a:latin typeface="Arial"/>
              </a:rPr>
              <a:t>-(energy/temperature)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495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Flat histogram methods (weight configurations by 1/(density of state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4100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vercome free energy barrie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 apparent polynomial scaling for frustrated Ising model, but not for 2-D spin 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at histogram methods for overcoming tunneling barriers between local free energy mi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lticanonical method, parallel tempering, Wang-Landau samp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2209320"/>
            <a:ext cx="2361960" cy="1143360"/>
            <a:chOff x="5867280" y="2209320"/>
            <a:chExt cx="2361960" cy="1143360"/>
          </a:xfrm>
        </p:grpSpPr>
        <p:grpSp>
          <p:nvGrpSpPr>
            <p:cNvPr id="120" name=""/>
            <p:cNvGrpSpPr/>
            <p:nvPr/>
          </p:nvGrpSpPr>
          <p:grpSpPr>
            <a:xfrm>
              <a:off x="5867280" y="2209320"/>
              <a:ext cx="2361960" cy="1143360"/>
              <a:chOff x="5867280" y="2209320"/>
              <a:chExt cx="2361960" cy="114336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5867280" y="22093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67280" y="3352680"/>
                <a:ext cx="236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019920" y="2220840"/>
              <a:ext cx="1828800" cy="1131840"/>
            </a:xfrm>
            <a:custGeom>
              <a:avLst/>
              <a:gdLst/>
              <a:ahLst/>
              <a:rect l="l" t="t" r="r" b="b"/>
              <a:pathLst>
                <a:path w="1152" h="713">
                  <a:moveTo>
                    <a:pt x="0" y="713"/>
                  </a:moveTo>
                  <a:cubicBezTo>
                    <a:pt x="12" y="573"/>
                    <a:pt x="23" y="445"/>
                    <a:pt x="48" y="329"/>
                  </a:cubicBezTo>
                  <a:cubicBezTo>
                    <a:pt x="73" y="213"/>
                    <a:pt x="113" y="34"/>
                    <a:pt x="152" y="17"/>
                  </a:cubicBezTo>
                  <a:cubicBezTo>
                    <a:pt x="191" y="0"/>
                    <a:pt x="252" y="150"/>
                    <a:pt x="280" y="225"/>
                  </a:cubicBezTo>
                  <a:cubicBezTo>
                    <a:pt x="308" y="300"/>
                    <a:pt x="303" y="400"/>
                    <a:pt x="320" y="465"/>
                  </a:cubicBezTo>
                  <a:cubicBezTo>
                    <a:pt x="337" y="530"/>
                    <a:pt x="341" y="584"/>
                    <a:pt x="384" y="617"/>
                  </a:cubicBezTo>
                  <a:cubicBezTo>
                    <a:pt x="427" y="650"/>
                    <a:pt x="512" y="673"/>
                    <a:pt x="576" y="665"/>
                  </a:cubicBezTo>
                  <a:cubicBezTo>
                    <a:pt x="640" y="657"/>
                    <a:pt x="720" y="649"/>
                    <a:pt x="768" y="569"/>
                  </a:cubicBezTo>
                  <a:cubicBezTo>
                    <a:pt x="816" y="489"/>
                    <a:pt x="832" y="273"/>
                    <a:pt x="864" y="185"/>
                  </a:cubicBezTo>
                  <a:cubicBezTo>
                    <a:pt x="896" y="97"/>
                    <a:pt x="920" y="9"/>
                    <a:pt x="960" y="41"/>
                  </a:cubicBezTo>
                  <a:cubicBezTo>
                    <a:pt x="1000" y="73"/>
                    <a:pt x="1072" y="281"/>
                    <a:pt x="1104" y="377"/>
                  </a:cubicBezTo>
                  <a:cubicBezTo>
                    <a:pt x="1136" y="473"/>
                    <a:pt x="1144" y="545"/>
                    <a:pt x="1152" y="6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6200000">
            <a:off x="4714560" y="2460600"/>
            <a:ext cx="15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(density of st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3352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09680"/>
            <a:ext cx="39625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Usual Monte Carlo: weight configuration by exp(energy/temper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Flat histogram: weight configuration by 1/(density of sta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equally likely to move up and down in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3809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029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029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516920" y="4274280"/>
            <a:ext cx="19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of configurations acce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191120"/>
            <a:ext cx="19810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histogram algorithms generate density of states in course of calculation; we obtain general limits by examining performance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sity of states as weighting function (for certain model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racterize algorithm speed using tunneling tim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time to sample energy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30360" y="1447920"/>
            <a:ext cx="5251320" cy="3846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14400" y="547056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 time scales as power of system size for ferromagnetic Ising model and for fully frustrated Ising model (though not simple random walk in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 2-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 spin glass, tunneling time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re broadly distributed (Fréchet distribution), and appear to scale exponentially with system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779560" cy="4724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6200000">
            <a:off x="-260640" y="352584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4724640" cy="338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505320" y="5753160"/>
            <a:ext cx="4711680" cy="1104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38480" y="54100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échet cumulative probabilit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6095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419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lation between tunneling times and properties of energy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22360" y="1461960"/>
            <a:ext cx="58928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computational complexity and physical complexity is nontriv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histogram algorithms have faster performance than usual Monte Carlo, but slower than “expec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0384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72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termines scaling of flat histogram algorithm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lationships between algorithms and physical proc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8:35:36Z</dcterms:created>
  <dc:creator>Susan Coppersmith</dc:creator>
  <dc:description/>
  <dc:language>en-US</dc:language>
  <cp:lastModifiedBy>Susan Coppersmith</cp:lastModifiedBy>
  <dcterms:modified xsi:type="dcterms:W3CDTF">2003-11-16T14:59:18Z</dcterms:modified>
  <cp:revision>76</cp:revision>
  <dc:subject/>
  <dc:title>PowerPoint Presentation</dc:title>
</cp:coreProperties>
</file>