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31.jpeg" ContentType="image/jpeg"/>
  <Override PartName="/ppt/media/image10.wmf" ContentType="image/x-wmf"/>
  <Override PartName="/ppt/media/image29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3.jpeg" ContentType="image/jpeg"/>
  <Override PartName="/ppt/media/image30.wmf" ContentType="image/x-wmf"/>
  <Override PartName="/ppt/media/image33.jpeg" ContentType="image/jpeg"/>
  <Override PartName="/ppt/media/image32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media/image24.jpeg" ContentType="image/jpeg"/>
  <Override PartName="/ppt/media/image2.wmf" ContentType="image/x-wmf"/>
  <Override PartName="/ppt/media/image1.wmf" ContentType="image/x-wmf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5.wmf" ContentType="image/x-wmf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77E4-8AC0-4173-BC2A-03E388C0C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:  chemical process industry, pulp and paper industry. Braatz, Dumont, Stewar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Platoons: PATH and Hedrick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Formation Flight:  Miller and How, Camp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ive Optics (adaptive secondary in IR b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S arrays (Bamieh and Napoli), micro-cantilever array control for massively parallel data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Switching:  Lucent’s WaveStart Lambda Router, thousands of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 structures, smart structures: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l-Sayed &amp; Krishnaprasad ’81 towed underwater cable for oil exp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8FA-8392-4444-8BCE-0350D5B6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B82-6AEB-434B-BBCD-C9590421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5D2-C7B7-4E80-B567-E81FE350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0DE-71F8-4F1D-92A2-B43961A2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699-73F1-419C-8CA8-BACFA08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A4B-8553-47D0-B098-9DD25580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073-377B-425C-B65C-D923BFE9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D41-7983-4F0F-A6C7-BD2D8B1E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98F-5094-4299-8123-0E93BD93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181-D1E7-40D6-8172-CFD8823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B5A-6C2E-475C-A634-20DE9A2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F21-3EF2-4F27-8F95-797CC03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2DD3-EDBF-446A-8933-0DF50688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3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wmf"/><Relationship Id="rId20" Type="http://schemas.openxmlformats.org/officeDocument/2006/relationships/image" Target="../media/image24.jpe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28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29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30.wmf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60280" y="3358800"/>
            <a:ext cx="69642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affaello D’And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rnell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2480" y="846000"/>
            <a:ext cx="70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sign and Control of Interconn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14640" y="906480"/>
            <a:ext cx="5781600" cy="5933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194040" y="131400"/>
            <a:ext cx="65689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2D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00120" y="1486080"/>
            <a:ext cx="8163000" cy="4717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600" y="131760"/>
            <a:ext cx="656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1D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9440" y="1503360"/>
            <a:ext cx="8882280" cy="489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600" y="131760"/>
            <a:ext cx="656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NO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53000" y="5132520"/>
            <a:ext cx="5337360" cy="1836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129960"/>
            <a:ext cx="882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ults for linear and piece-wise linea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1720" y="808200"/>
            <a:ext cx="857340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the follow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midefinite 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27400" y="1360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92360" y="1422360"/>
          <a:ext cx="2776680" cy="12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2360" y="1422360"/>
                    <a:ext cx="27766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49120" y="2692440"/>
            <a:ext cx="8613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N and the      are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of the basic building block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08160" y="2654280"/>
          <a:ext cx="438480" cy="6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08160" y="2654280"/>
                    <a:ext cx="4384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3720" y="6437160"/>
            <a:ext cx="45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D’Andrea ’98, D’Andrea &amp; Dullerud ‘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181240" y="4143240"/>
          <a:ext cx="1616040" cy="5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1240" y="4143240"/>
                    <a:ext cx="1616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12760" y="3592440"/>
            <a:ext cx="757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connected systems are well-pos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, and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290520" y="5030640"/>
            <a:ext cx="2338560" cy="1173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2624040" y="4941720"/>
            <a:ext cx="3551400" cy="13687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6461280" y="1316160"/>
            <a:ext cx="2693520" cy="2173320"/>
            <a:chOff x="6461280" y="1316160"/>
            <a:chExt cx="2693520" cy="2173320"/>
          </a:xfrm>
        </p:grpSpPr>
        <p:pic>
          <p:nvPicPr>
            <p:cNvPr id="231" name="" descr=""/>
            <p:cNvPicPr/>
            <p:nvPr/>
          </p:nvPicPr>
          <p:blipFill>
            <a:blip r:embed="rId10"/>
            <a:stretch/>
          </p:blipFill>
          <p:spPr>
            <a:xfrm>
              <a:off x="6840000" y="1695240"/>
              <a:ext cx="1908360" cy="17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544520" y="1621440"/>
              <a:ext cx="0" cy="5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981560" y="1665360"/>
              <a:ext cx="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27440" y="2572560"/>
              <a:ext cx="57600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3060720"/>
              <a:ext cx="57600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04000" y="2737080"/>
              <a:ext cx="43092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6600" y="2256840"/>
              <a:ext cx="42984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7421400" y="1316160"/>
            <a:ext cx="209520" cy="261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421400" y="1316160"/>
                      <a:ext cx="20952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7950960" y="1448640"/>
            <a:ext cx="189360" cy="186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950960" y="1448640"/>
                      <a:ext cx="189360" cy="18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0960" y="2500200"/>
            <a:ext cx="303840" cy="316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850960" y="2500200"/>
                      <a:ext cx="30384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461280" y="2545560"/>
            <a:ext cx="303480" cy="316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61280" y="2545560"/>
                      <a:ext cx="303480" cy="31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8842680" y="3047040"/>
            <a:ext cx="247680" cy="316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842680" y="3047040"/>
                      <a:ext cx="24768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6539400" y="2042640"/>
            <a:ext cx="247680" cy="316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39400" y="2042640"/>
                      <a:ext cx="24768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42920" y="677880"/>
            <a:ext cx="3900240" cy="4109760"/>
            <a:chOff x="142920" y="677880"/>
            <a:chExt cx="3900240" cy="41097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837360" y="1203120"/>
              <a:ext cx="24523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770120" y="1073520"/>
              <a:ext cx="0" cy="7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05760" y="3310200"/>
              <a:ext cx="81288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0880" y="2697480"/>
              <a:ext cx="6516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1200" y="1980360"/>
              <a:ext cx="61992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6" name=""/>
            <p:cNvGraphicFramePr/>
            <p:nvPr/>
          </p:nvGraphicFramePr>
          <p:xfrm>
            <a:off x="1626480" y="677880"/>
            <a:ext cx="295920" cy="37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6480" y="677880"/>
                      <a:ext cx="2959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2472480" y="925560"/>
            <a:ext cx="26748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72480" y="925560"/>
                      <a:ext cx="2674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3614400" y="2558520"/>
            <a:ext cx="428760" cy="45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14400" y="2558520"/>
                      <a:ext cx="4287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42920" y="2410560"/>
            <a:ext cx="428400" cy="453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2920" y="2410560"/>
                      <a:ext cx="42840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"/>
            <p:cNvGraphicFramePr/>
            <p:nvPr/>
          </p:nvGraphicFramePr>
          <p:xfrm>
            <a:off x="3575520" y="3414240"/>
            <a:ext cx="349560" cy="452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75520" y="3414240"/>
                      <a:ext cx="3495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"/>
            <p:cNvGraphicFramePr/>
            <p:nvPr/>
          </p:nvGraphicFramePr>
          <p:xfrm>
            <a:off x="366840" y="1388520"/>
            <a:ext cx="349560" cy="452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66840" y="1388520"/>
                      <a:ext cx="3495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2707200" y="2562840"/>
              <a:ext cx="82620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59080" y="1207440"/>
              <a:ext cx="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67240" y="3529080"/>
              <a:ext cx="0" cy="7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1515960" y="4370040"/>
            <a:ext cx="295560" cy="3470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15960" y="4370040"/>
                      <a:ext cx="29556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 flipV="1">
              <a:off x="2369520" y="3731040"/>
              <a:ext cx="0" cy="8359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2433960" y="4493520"/>
            <a:ext cx="267120" cy="2941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433960" y="4493520"/>
                      <a:ext cx="267120" cy="2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6" name=""/>
          <p:cNvGraphicFramePr/>
          <p:nvPr/>
        </p:nvGraphicFramePr>
        <p:xfrm>
          <a:off x="4262400" y="824040"/>
          <a:ext cx="4727520" cy="2344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62400" y="824040"/>
                    <a:ext cx="472752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1360" y="0"/>
            <a:ext cx="8702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asic  building  block:  control 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80" y="4944960"/>
            <a:ext cx="491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controller that ha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ructure as the pl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099040" y="3718080"/>
            <a:ext cx="4006800" cy="3185640"/>
            <a:chOff x="5099040" y="3718080"/>
            <a:chExt cx="4006800" cy="3185640"/>
          </a:xfrm>
        </p:grpSpPr>
        <p:pic>
          <p:nvPicPr>
            <p:cNvPr id="281" name="" descr=""/>
            <p:cNvPicPr/>
            <p:nvPr/>
          </p:nvPicPr>
          <p:blipFill>
            <a:blip r:embed="rId20"/>
            <a:stretch/>
          </p:blipFill>
          <p:spPr>
            <a:xfrm>
              <a:off x="5099040" y="4195800"/>
              <a:ext cx="3838680" cy="27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773760" y="413064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370640" y="4228920"/>
              <a:ext cx="0" cy="879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9840" y="5564160"/>
              <a:ext cx="841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7760" y="6265800"/>
              <a:ext cx="8636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75400" y="5702040"/>
              <a:ext cx="63468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72160" y="5032440"/>
              <a:ext cx="64440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567480" y="3718080"/>
            <a:ext cx="314280" cy="36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67480" y="3718080"/>
                      <a:ext cx="31428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7361280" y="3889440"/>
            <a:ext cx="284040" cy="308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361280" y="3889440"/>
                      <a:ext cx="284040" cy="30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2" name=""/>
            <p:cNvGraphicFramePr/>
            <p:nvPr/>
          </p:nvGraphicFramePr>
          <p:xfrm>
            <a:off x="8593200" y="5479920"/>
            <a:ext cx="512640" cy="5601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593200" y="5479920"/>
                      <a:ext cx="512640" cy="56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"/>
            <p:cNvGraphicFramePr/>
            <p:nvPr/>
          </p:nvGraphicFramePr>
          <p:xfrm>
            <a:off x="5210280" y="5459400"/>
            <a:ext cx="512640" cy="561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210280" y="5459400"/>
                      <a:ext cx="512640" cy="56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"/>
            <p:cNvGraphicFramePr/>
            <p:nvPr/>
          </p:nvGraphicFramePr>
          <p:xfrm>
            <a:off x="8613720" y="6270480"/>
            <a:ext cx="428760" cy="5601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613720" y="6270480"/>
                      <a:ext cx="428760" cy="56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"/>
            <p:cNvGraphicFramePr/>
            <p:nvPr/>
          </p:nvGraphicFramePr>
          <p:xfrm>
            <a:off x="5305320" y="4724280"/>
            <a:ext cx="428760" cy="5601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305320" y="4724280"/>
                      <a:ext cx="428760" cy="56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20920" y="1284120"/>
            <a:ext cx="6724440" cy="4534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5440" y="11160"/>
            <a:ext cx="558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519200" y="638280"/>
            <a:ext cx="6558120" cy="5995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-193680" y="131760"/>
            <a:ext cx="65689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, 2D 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5120" y="204840"/>
            <a:ext cx="4451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Properties of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80" y="1206360"/>
            <a:ext cx="36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 has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ure as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7160" y="351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60" y="2868480"/>
            <a:ext cx="38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dimensional, con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60" y="462744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problem size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the numb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317840" y="4346640"/>
            <a:ext cx="4826160" cy="2467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957920" y="588960"/>
            <a:ext cx="41860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50200" y="61920"/>
            <a:ext cx="88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rbitrary interconnections, heterogeneou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50960" y="1287360"/>
            <a:ext cx="80496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11560" y="1254240"/>
            <a:ext cx="804960" cy="7855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19760" y="2706840"/>
            <a:ext cx="8049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02120" y="2916360"/>
            <a:ext cx="804960" cy="78552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24040" y="3873600"/>
            <a:ext cx="804960" cy="785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7960" y="4776840"/>
            <a:ext cx="804960" cy="7858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289240" y="2033640"/>
            <a:ext cx="561960" cy="185904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73200" y="1530360"/>
            <a:ext cx="1665000" cy="7308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714640" y="1911240"/>
            <a:ext cx="1090440" cy="95904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837400" y="3400560"/>
            <a:ext cx="1056960" cy="14508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616280" y="3628800"/>
            <a:ext cx="766800" cy="119052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611600" y="1983960"/>
            <a:ext cx="596880" cy="96516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59560" y="888480"/>
            <a:ext cx="295200" cy="435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0280" y="3112920"/>
            <a:ext cx="565200" cy="2232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46320" y="4680000"/>
            <a:ext cx="111240" cy="111132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405080" y="1525680"/>
            <a:ext cx="1133280" cy="1080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54040" y="849240"/>
            <a:ext cx="6583320" cy="5010120"/>
          </a:xfrm>
          <a:prstGeom prst="rect">
            <a:avLst/>
          </a:prstGeom>
          <a:noFill/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98760" y="4410000"/>
            <a:ext cx="2689200" cy="71748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flipH="1">
            <a:off x="5981400" y="4935600"/>
            <a:ext cx="33156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3640" y="1278000"/>
            <a:ext cx="24300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00200" y="3976560"/>
            <a:ext cx="33192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783400" y="1409760"/>
            <a:ext cx="3427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792320" y="3106800"/>
            <a:ext cx="33012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446960" y="2766960"/>
            <a:ext cx="33192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200" y="61920"/>
            <a:ext cx="88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rbitrary interconnections, heterogeneou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50960" y="1287360"/>
            <a:ext cx="80496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11560" y="1254240"/>
            <a:ext cx="804960" cy="7855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19760" y="2706840"/>
            <a:ext cx="8049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02120" y="2916360"/>
            <a:ext cx="804960" cy="78552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24040" y="3873600"/>
            <a:ext cx="804960" cy="785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87960" y="4776840"/>
            <a:ext cx="804960" cy="7858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89240" y="2033640"/>
            <a:ext cx="561960" cy="185904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373200" y="1530360"/>
            <a:ext cx="1665000" cy="7308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714640" y="1911240"/>
            <a:ext cx="1090440" cy="95904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837400" y="3400560"/>
            <a:ext cx="1056960" cy="14508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616280" y="3628800"/>
            <a:ext cx="766800" cy="119052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611600" y="1983960"/>
            <a:ext cx="596880" cy="96516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659560" y="888480"/>
            <a:ext cx="295200" cy="43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0280" y="3112920"/>
            <a:ext cx="565200" cy="2232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46320" y="4680000"/>
            <a:ext cx="111240" cy="111132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405080" y="1525680"/>
            <a:ext cx="1133280" cy="1080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98760" y="4410000"/>
            <a:ext cx="2689200" cy="71748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611440" y="1900080"/>
            <a:ext cx="561960" cy="1859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695760" y="1397160"/>
            <a:ext cx="1665360" cy="7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6037200" y="1777680"/>
            <a:ext cx="1090800" cy="95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159600" y="3266640"/>
            <a:ext cx="1057320" cy="145116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938840" y="3495600"/>
            <a:ext cx="766800" cy="119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933800" y="1850760"/>
            <a:ext cx="596880" cy="965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981760" y="755640"/>
            <a:ext cx="295200" cy="43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72480" y="2979720"/>
            <a:ext cx="212760" cy="1116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57360" y="4524480"/>
            <a:ext cx="155520" cy="13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1341360" y="1348920"/>
            <a:ext cx="1519200" cy="15084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20960" y="4276800"/>
            <a:ext cx="2689200" cy="717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73520" y="1154160"/>
            <a:ext cx="804600" cy="78588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1120680"/>
            <a:ext cx="804600" cy="785880"/>
          </a:xfrm>
          <a:prstGeom prst="ellipse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42320" y="2573280"/>
            <a:ext cx="804600" cy="78588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2782800"/>
            <a:ext cx="804960" cy="785880"/>
          </a:xfrm>
          <a:prstGeom prst="ellipse">
            <a:avLst/>
          </a:prstGeom>
          <a:solidFill>
            <a:srgbClr val="cc00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10160" y="4643280"/>
            <a:ext cx="804960" cy="785880"/>
          </a:xfrm>
          <a:prstGeom prst="ellipse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46240" y="3718080"/>
            <a:ext cx="804960" cy="785520"/>
          </a:xfrm>
          <a:prstGeom prst="ellipse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742080" y="3094200"/>
            <a:ext cx="297000" cy="8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021200" y="3338640"/>
            <a:ext cx="30780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033880" y="1641240"/>
            <a:ext cx="298440" cy="15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730520" y="4252680"/>
            <a:ext cx="3301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655720" y="1720800"/>
            <a:ext cx="25272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288040" y="5266800"/>
            <a:ext cx="3301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54040" y="849240"/>
            <a:ext cx="6583320" cy="5010120"/>
          </a:xfrm>
          <a:prstGeom prst="rect">
            <a:avLst/>
          </a:prstGeom>
          <a:noFill/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0960" y="1287360"/>
            <a:ext cx="80496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1560" y="1254240"/>
            <a:ext cx="804960" cy="7855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9760" y="2706840"/>
            <a:ext cx="8049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02120" y="2916360"/>
            <a:ext cx="804960" cy="78552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4040" y="3873600"/>
            <a:ext cx="804960" cy="785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7960" y="4776840"/>
            <a:ext cx="804960" cy="7858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9240" y="2033640"/>
            <a:ext cx="561960" cy="185904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73200" y="1530360"/>
            <a:ext cx="1665000" cy="7308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714640" y="1911240"/>
            <a:ext cx="1090440" cy="95904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837400" y="3400560"/>
            <a:ext cx="1056960" cy="14508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616280" y="3628800"/>
            <a:ext cx="766800" cy="119052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11600" y="1983960"/>
            <a:ext cx="596880" cy="96516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659560" y="888480"/>
            <a:ext cx="295200" cy="435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0280" y="3112920"/>
            <a:ext cx="565200" cy="2232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46320" y="4680000"/>
            <a:ext cx="111240" cy="111132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405080" y="1525680"/>
            <a:ext cx="1133280" cy="1080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54040" y="849240"/>
            <a:ext cx="6583320" cy="5010120"/>
          </a:xfrm>
          <a:prstGeom prst="rect">
            <a:avLst/>
          </a:prstGeom>
          <a:noFill/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98760" y="4410000"/>
            <a:ext cx="2689200" cy="71748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90600" y="237960"/>
            <a:ext cx="549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26720" y="141120"/>
            <a:ext cx="8812440" cy="1355400"/>
            <a:chOff x="126720" y="141120"/>
            <a:chExt cx="8812440" cy="1355400"/>
          </a:xfrm>
        </p:grpSpPr>
        <p:sp>
          <p:nvSpPr>
            <p:cNvPr id="380" name=""/>
            <p:cNvSpPr/>
            <p:nvPr/>
          </p:nvSpPr>
          <p:spPr>
            <a:xfrm>
              <a:off x="126720" y="141120"/>
              <a:ext cx="881244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Theore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the interconnected system is well-posed, stable, an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f the following </a:t>
              </a:r>
              <a:r>
                <a:rPr b="1" lang="en-US" sz="2400" spc="-1" strike="noStrike" u="sng">
                  <a:solidFill>
                    <a:srgbClr val="0000cc"/>
                  </a:solidFill>
                  <a:uFillTx/>
                  <a:latin typeface="Arial"/>
                </a:rPr>
                <a:t>coupled</a:t>
              </a: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midefinite  programs ha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solu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1" name=""/>
            <p:cNvGraphicFramePr/>
            <p:nvPr/>
          </p:nvGraphicFramePr>
          <p:xfrm>
            <a:off x="222120" y="625320"/>
            <a:ext cx="1341360" cy="4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2120" y="625320"/>
                      <a:ext cx="134136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"/>
          <p:cNvSpPr/>
          <p:nvPr/>
        </p:nvSpPr>
        <p:spPr>
          <a:xfrm>
            <a:off x="226440" y="3782880"/>
            <a:ext cx="415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Langbort, Chandra, &amp; D’Andrea ’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handra, Langbort, &amp; D’Andrea ‘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06600" y="1689120"/>
          <a:ext cx="820728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1689120"/>
                    <a:ext cx="8207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6" name=""/>
          <p:cNvGrpSpPr/>
          <p:nvPr/>
        </p:nvGrpSpPr>
        <p:grpSpPr>
          <a:xfrm>
            <a:off x="614520" y="2870280"/>
            <a:ext cx="7573680" cy="766800"/>
            <a:chOff x="614520" y="2870280"/>
            <a:chExt cx="7573680" cy="766800"/>
          </a:xfrm>
        </p:grpSpPr>
        <p:sp>
          <p:nvSpPr>
            <p:cNvPr id="387" name=""/>
            <p:cNvSpPr/>
            <p:nvPr/>
          </p:nvSpPr>
          <p:spPr>
            <a:xfrm>
              <a:off x="900000" y="3025800"/>
              <a:ext cx="72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f the subsystems are not interconnect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614520" y="2870280"/>
            <a:ext cx="1328400" cy="76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4520" y="2870280"/>
                      <a:ext cx="132840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0" name=""/>
          <p:cNvGrpSpPr/>
          <p:nvPr/>
        </p:nvGrpSpPr>
        <p:grpSpPr>
          <a:xfrm>
            <a:off x="4954680" y="3676680"/>
            <a:ext cx="4122360" cy="3049560"/>
            <a:chOff x="4954680" y="3676680"/>
            <a:chExt cx="4122360" cy="3049560"/>
          </a:xfrm>
        </p:grpSpPr>
        <p:sp>
          <p:nvSpPr>
            <p:cNvPr id="391" name=""/>
            <p:cNvSpPr/>
            <p:nvPr/>
          </p:nvSpPr>
          <p:spPr>
            <a:xfrm>
              <a:off x="5658480" y="3943080"/>
              <a:ext cx="494280" cy="478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0480" y="3922920"/>
              <a:ext cx="494280" cy="4780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9880" y="4807080"/>
              <a:ext cx="494280" cy="4780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0200" y="4934880"/>
              <a:ext cx="494280" cy="478080"/>
            </a:xfrm>
            <a:prstGeom prst="ellipse">
              <a:avLst/>
            </a:prstGeom>
            <a:solidFill>
              <a:srgbClr val="cc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50520" y="5517360"/>
              <a:ext cx="494280" cy="47808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78840" y="6067440"/>
              <a:ext cx="494280" cy="4780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497560" y="4397040"/>
              <a:ext cx="345240" cy="113148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163560" y="4091040"/>
              <a:ext cx="1022760" cy="4428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602120" y="4322520"/>
              <a:ext cx="669960" cy="5835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677720" y="5229000"/>
              <a:ext cx="649080" cy="88308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6927480" y="5368680"/>
              <a:ext cx="470880" cy="72432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924600" y="4367160"/>
              <a:ext cx="366480" cy="587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68280" y="3700080"/>
              <a:ext cx="181080" cy="2646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30000" y="5054400"/>
              <a:ext cx="347040" cy="1332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0080" y="6008400"/>
              <a:ext cx="68040" cy="67644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954680" y="4088160"/>
              <a:ext cx="696240" cy="6552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84560" y="3676680"/>
              <a:ext cx="4044600" cy="3049560"/>
            </a:xfrm>
            <a:prstGeom prst="rect">
              <a:avLst/>
            </a:prstGeom>
            <a:noFill/>
            <a:ln w="254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26440" y="5843880"/>
              <a:ext cx="1652040" cy="43668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90600" y="237960"/>
            <a:ext cx="549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6720" y="141120"/>
            <a:ext cx="8812440" cy="1355400"/>
            <a:chOff x="126720" y="141120"/>
            <a:chExt cx="8812440" cy="1355400"/>
          </a:xfrm>
        </p:grpSpPr>
        <p:sp>
          <p:nvSpPr>
            <p:cNvPr id="411" name=""/>
            <p:cNvSpPr/>
            <p:nvPr/>
          </p:nvSpPr>
          <p:spPr>
            <a:xfrm>
              <a:off x="126720" y="141120"/>
              <a:ext cx="881244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Theore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the interconnected system is well-posed, stable, an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f the following </a:t>
              </a:r>
              <a:r>
                <a:rPr b="1" lang="en-US" sz="2400" spc="-1" strike="noStrike" u="sng">
                  <a:solidFill>
                    <a:srgbClr val="0000cc"/>
                  </a:solidFill>
                  <a:uFillTx/>
                  <a:latin typeface="Arial"/>
                </a:rPr>
                <a:t>coupled</a:t>
              </a: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midefinite  programs ha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solu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222120" y="625320"/>
            <a:ext cx="1341360" cy="4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2120" y="625320"/>
                      <a:ext cx="134136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4" name=""/>
          <p:cNvSpPr/>
          <p:nvPr/>
        </p:nvSpPr>
        <p:spPr>
          <a:xfrm>
            <a:off x="226440" y="3782880"/>
            <a:ext cx="415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Langbort, Chandra, &amp; D’Andrea ’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handra, Langbort, &amp; D’Andrea ‘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06600" y="1689120"/>
          <a:ext cx="820728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1689120"/>
                    <a:ext cx="8207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14520" y="2870280"/>
            <a:ext cx="7573680" cy="766800"/>
            <a:chOff x="614520" y="2870280"/>
            <a:chExt cx="7573680" cy="766800"/>
          </a:xfrm>
        </p:grpSpPr>
        <p:sp>
          <p:nvSpPr>
            <p:cNvPr id="418" name=""/>
            <p:cNvSpPr/>
            <p:nvPr/>
          </p:nvSpPr>
          <p:spPr>
            <a:xfrm>
              <a:off x="900000" y="3025800"/>
              <a:ext cx="72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f the subsystems are not interconnect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9" name=""/>
            <p:cNvGraphicFramePr/>
            <p:nvPr/>
          </p:nvGraphicFramePr>
          <p:xfrm>
            <a:off x="614520" y="2870280"/>
            <a:ext cx="1328400" cy="76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4520" y="2870280"/>
                      <a:ext cx="132840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1" name=""/>
          <p:cNvSpPr/>
          <p:nvPr/>
        </p:nvSpPr>
        <p:spPr>
          <a:xfrm>
            <a:off x="319680" y="5067360"/>
            <a:ext cx="43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orking with lineariz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, results generalize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4753080" y="3454560"/>
            <a:ext cx="43797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709080" y="85716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6880" y="1778040"/>
            <a:ext cx="8740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definite programming a powerful tool for contr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analysis of interconnected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of powerful results for single system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, piece-wise linear, nonline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distributed semidefinite programs, wh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is captured by interconnection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5981400" y="4935600"/>
            <a:ext cx="33156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93640" y="1278000"/>
            <a:ext cx="24300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00200" y="3976560"/>
            <a:ext cx="33192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83400" y="1409760"/>
            <a:ext cx="3427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92320" y="3106800"/>
            <a:ext cx="33012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446960" y="2766960"/>
            <a:ext cx="33192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0960" y="1287360"/>
            <a:ext cx="80496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11560" y="1254240"/>
            <a:ext cx="804960" cy="7855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19760" y="2706840"/>
            <a:ext cx="8049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2120" y="2916360"/>
            <a:ext cx="804960" cy="78552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4040" y="3873600"/>
            <a:ext cx="804960" cy="785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7960" y="4776840"/>
            <a:ext cx="804960" cy="7858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9240" y="2033640"/>
            <a:ext cx="561960" cy="185904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373200" y="1530360"/>
            <a:ext cx="1665000" cy="7308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14640" y="1911240"/>
            <a:ext cx="1090440" cy="95904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37400" y="3400560"/>
            <a:ext cx="1056960" cy="14508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616280" y="3628800"/>
            <a:ext cx="766800" cy="119052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611600" y="1983960"/>
            <a:ext cx="596880" cy="965160"/>
          </a:xfrm>
          <a:prstGeom prst="line">
            <a:avLst/>
          </a:prstGeom>
          <a:ln w="38160">
            <a:solidFill>
              <a:srgbClr val="5f5f5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59560" y="888480"/>
            <a:ext cx="295200" cy="43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0280" y="3112920"/>
            <a:ext cx="565200" cy="2232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6320" y="4680000"/>
            <a:ext cx="111240" cy="111132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405080" y="1525680"/>
            <a:ext cx="1133280" cy="10800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98760" y="4410000"/>
            <a:ext cx="2689200" cy="717480"/>
          </a:xfrm>
          <a:prstGeom prst="line">
            <a:avLst/>
          </a:prstGeom>
          <a:ln w="76320">
            <a:solidFill>
              <a:srgbClr val="5f5f5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11440" y="1900080"/>
            <a:ext cx="561960" cy="1859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695760" y="1397160"/>
            <a:ext cx="1665360" cy="7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037200" y="1777680"/>
            <a:ext cx="1090800" cy="95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159600" y="3266640"/>
            <a:ext cx="1057320" cy="145116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38840" y="3495600"/>
            <a:ext cx="766800" cy="119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33800" y="1850760"/>
            <a:ext cx="596880" cy="965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755640"/>
            <a:ext cx="295200" cy="43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72480" y="2979720"/>
            <a:ext cx="212760" cy="1116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57360" y="4524480"/>
            <a:ext cx="155520" cy="13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341360" y="1348920"/>
            <a:ext cx="1519200" cy="15084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0960" y="4276800"/>
            <a:ext cx="2689200" cy="717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3520" y="1154160"/>
            <a:ext cx="804600" cy="78588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120680"/>
            <a:ext cx="804600" cy="785880"/>
          </a:xfrm>
          <a:prstGeom prst="ellipse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2320" y="2573280"/>
            <a:ext cx="804600" cy="785880"/>
          </a:xfrm>
          <a:prstGeom prst="ellipse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4320" y="2782800"/>
            <a:ext cx="804960" cy="785880"/>
          </a:xfrm>
          <a:prstGeom prst="ellipse">
            <a:avLst/>
          </a:prstGeom>
          <a:solidFill>
            <a:srgbClr val="cc00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10160" y="4643280"/>
            <a:ext cx="804960" cy="785880"/>
          </a:xfrm>
          <a:prstGeom prst="ellipse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6240" y="3718080"/>
            <a:ext cx="804960" cy="785520"/>
          </a:xfrm>
          <a:prstGeom prst="ellipse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42080" y="3094200"/>
            <a:ext cx="297000" cy="8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021200" y="3338640"/>
            <a:ext cx="30780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033880" y="1641240"/>
            <a:ext cx="298440" cy="15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30520" y="4252680"/>
            <a:ext cx="3301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655720" y="1720800"/>
            <a:ext cx="25272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88040" y="5266800"/>
            <a:ext cx="3301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4040" y="849240"/>
            <a:ext cx="6583320" cy="5010120"/>
          </a:xfrm>
          <a:prstGeom prst="rect">
            <a:avLst/>
          </a:prstGeom>
          <a:noFill/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63640" y="174600"/>
            <a:ext cx="57675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00" y="770040"/>
            <a:ext cx="57006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generation an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plat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formation f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S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”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26960" y="4940280"/>
            <a:ext cx="4516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mon thr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2640" y="5451480"/>
            <a:ext cx="7535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nsing and actu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tructured interconnection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40600" y="24300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 Problem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0" y="10620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5360" y="10000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5240" y="4513320"/>
          <a:ext cx="56131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4513320"/>
                    <a:ext cx="5613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068560" y="5222880"/>
          <a:ext cx="15526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8560" y="5222880"/>
                    <a:ext cx="1552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930040" y="60688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ty, performance,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920" y="60847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8480" y="1808280"/>
            <a:ext cx="2514600" cy="1904760"/>
          </a:xfrm>
          <a:prstGeom prst="rect">
            <a:avLst/>
          </a:prstGeom>
          <a:solidFill>
            <a:srgbClr val="c5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82720" y="228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440" y="2314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582720" y="31226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280" y="3144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0240" y="3713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97280" y="3713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77560" y="1741320"/>
            <a:ext cx="40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2200" y="3057480"/>
            <a:ext cx="4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03040" y="3865680"/>
            <a:ext cx="4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23000" y="3789360"/>
            <a:ext cx="40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5480" y="3073320"/>
            <a:ext cx="40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840" y="170352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586640" y="1590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64200" y="2185920"/>
            <a:ext cx="1997280" cy="1376280"/>
          </a:xfrm>
          <a:prstGeom prst="rect">
            <a:avLst/>
          </a:prstGeom>
          <a:solidFill>
            <a:srgbClr val="c5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8049960" y="2878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056200" y="2879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9960" y="1590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2760" y="1500120"/>
            <a:ext cx="4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2720" y="1500120"/>
            <a:ext cx="40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7200" y="24051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0880" y="2209680"/>
            <a:ext cx="482400" cy="731880"/>
            <a:chOff x="5330880" y="2209680"/>
            <a:chExt cx="482400" cy="731880"/>
          </a:xfrm>
        </p:grpSpPr>
        <p:sp>
          <p:nvSpPr>
            <p:cNvPr id="150" name=""/>
            <p:cNvSpPr/>
            <p:nvPr/>
          </p:nvSpPr>
          <p:spPr>
            <a:xfrm>
              <a:off x="5330880" y="23619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53200" y="22096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331480" y="2185920"/>
            <a:ext cx="449640" cy="717480"/>
            <a:chOff x="8331480" y="2185920"/>
            <a:chExt cx="449640" cy="717480"/>
          </a:xfrm>
        </p:grpSpPr>
        <p:sp>
          <p:nvSpPr>
            <p:cNvPr id="153" name=""/>
            <p:cNvSpPr/>
            <p:nvPr/>
          </p:nvSpPr>
          <p:spPr>
            <a:xfrm>
              <a:off x="8376480" y="2323800"/>
              <a:ext cx="40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31480" y="21859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57120" y="1790640"/>
            <a:ext cx="4038480" cy="3274920"/>
            <a:chOff x="357120" y="1790640"/>
            <a:chExt cx="4038480" cy="32749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925200" y="2361960"/>
              <a:ext cx="286092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81080" y="2250720"/>
              <a:ext cx="0" cy="82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636640" y="231732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4920" y="3684240"/>
              <a:ext cx="8636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89080" y="4419360"/>
              <a:ext cx="8636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71200" y="3931920"/>
              <a:ext cx="64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0280" y="3208320"/>
              <a:ext cx="64476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1796760" y="1790640"/>
            <a:ext cx="31428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6760" y="1790640"/>
                      <a:ext cx="314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90560" y="1990440"/>
            <a:ext cx="284040" cy="281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90560" y="1990440"/>
                      <a:ext cx="284040" cy="2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939840" y="3574800"/>
            <a:ext cx="455760" cy="476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39840" y="3574800"/>
                      <a:ext cx="4557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57120" y="3643200"/>
            <a:ext cx="455400" cy="477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57120" y="3643200"/>
                      <a:ext cx="4554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3927240" y="4398840"/>
            <a:ext cx="371520" cy="476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27240" y="4398840"/>
                      <a:ext cx="3715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474480" y="2885760"/>
            <a:ext cx="371520" cy="476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74480" y="2885760"/>
                      <a:ext cx="3715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" y="995040"/>
            <a:ext cx="63820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asic building block, one spatial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3120" y="24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mplest case: Homogene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245200" y="2612880"/>
          <a:ext cx="3008160" cy="351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45200" y="2612880"/>
                    <a:ext cx="300816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1840" y="1057320"/>
            <a:ext cx="558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3280" y="2397240"/>
            <a:ext cx="75646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146640" y="0"/>
            <a:ext cx="2997360" cy="2814480"/>
            <a:chOff x="6146640" y="0"/>
            <a:chExt cx="2997360" cy="28144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200640" y="111240"/>
              <a:ext cx="2860560" cy="27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256160" y="0"/>
              <a:ext cx="0" cy="8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12080" y="6624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0360" y="1433520"/>
              <a:ext cx="8636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64520" y="2168640"/>
              <a:ext cx="86328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46640" y="1681200"/>
              <a:ext cx="64620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65720" y="957240"/>
              <a:ext cx="6444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90520" y="2317680"/>
            <a:ext cx="8410680" cy="3238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72720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14880" y="254160"/>
            <a:ext cx="2997360" cy="2814480"/>
            <a:chOff x="6014880" y="254160"/>
            <a:chExt cx="2997360" cy="281448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068880" y="365400"/>
              <a:ext cx="2860560" cy="27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124400" y="254160"/>
              <a:ext cx="0" cy="8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80320" y="32040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48600" y="1687680"/>
              <a:ext cx="8636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32760" y="2422800"/>
              <a:ext cx="86328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14880" y="1935360"/>
              <a:ext cx="64620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33960" y="1211400"/>
              <a:ext cx="6444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639720" y="2298600"/>
            <a:ext cx="10515600" cy="361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981000"/>
            <a:ext cx="5567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EXT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950080" y="276120"/>
            <a:ext cx="2996640" cy="2814480"/>
            <a:chOff x="5950080" y="276120"/>
            <a:chExt cx="2996640" cy="281448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6003720" y="387360"/>
              <a:ext cx="2860200" cy="27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059240" y="276120"/>
              <a:ext cx="0" cy="8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715160" y="34236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3440" y="1709640"/>
              <a:ext cx="86328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67600" y="2444760"/>
              <a:ext cx="86292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50080" y="1957320"/>
              <a:ext cx="64584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68800" y="1233360"/>
              <a:ext cx="64404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4:32:46Z</dcterms:created>
  <dc:creator>Raffaello D'Andrea</dc:creator>
  <dc:description/>
  <dc:language>en-US</dc:language>
  <cp:lastModifiedBy>Raffaello D'Andrea</cp:lastModifiedBy>
  <dcterms:modified xsi:type="dcterms:W3CDTF">2003-11-16T20:03:42Z</dcterms:modified>
  <cp:revision>234</cp:revision>
  <dc:subject/>
  <dc:title>Slide 1</dc:title>
</cp:coreProperties>
</file>