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5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F5D-BDA9-4BC5-A485-806794DB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506-A09D-413A-9816-B79EAB5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900-71ED-45D4-8305-C475E343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F08-14A1-41C0-97BB-C10BA856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F4B-C0AD-418E-A9A3-87AB9EC0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54A-65B7-437F-A245-D5191A9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644-3DF8-4974-9554-31C30F2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84E8-2A34-46B1-9B3A-3D5162D8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4EB-2F98-455C-AC47-B763B64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3041-C36B-4D1C-A870-C084F77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A4E0-9702-4402-86F6-94AA7D6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57D-BB4D-4FCE-9C4C-7EE2704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557-07E9-4D05-A749-8ECCED2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DCE6-89B2-4896-831F-DB562B2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4225-E994-4437-9874-18D67F9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1AC-A1FC-404B-8A8C-92425C20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6213-7DB5-40D9-A173-FCE828E8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8D9B-2E25-4943-AAB8-7E66AD5B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B59D-19B3-4DB7-9145-00996D3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F55A-D42F-4882-97BC-C4C6BEB1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4382-7A9D-4F0B-B173-1B753A4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26BF-CD7C-4838-8B5D-7ACA4F1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1E1-8C44-4D44-A6F0-B03E8629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81D0-42D4-4A8A-9D3F-6B12C9D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9149-E25E-4996-9DA1-5B90324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2F07-03DE-4FFA-966C-876F07E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D340-BB1D-4DEE-A67C-6C8CF02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D324-3783-47F6-8DCC-26FE042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9A83-0056-4148-9FB9-726B128F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95B2-2A0F-4F08-A5E3-BB6EF97E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FF80-64AF-4BCF-AACC-7959BA0F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111A-81E6-4909-826E-EF2FE8F6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2CF3-8F2A-41AD-B5CA-841022E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6A1-F194-4AEF-945A-741D58B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21E4-AF4B-41FF-9643-C284F3C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AC22-92C0-4D9F-95D3-FE0CDC3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F652-6133-4E4D-AF8E-DA5A7B2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F9D5-3FF9-4475-98BA-6DA7059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ECBE-1345-47C4-9BA3-756AE1F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A3F5-A505-40FE-AE35-53DEBDD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8C80-77BC-4812-970E-489F1017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8BBF-F563-474C-9455-FAF9FDF8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4100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30080" y="129492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4100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30080" y="4041360"/>
            <a:ext cx="2846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1362-2DF0-44D3-90FB-F1C009E1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77D-E3F0-458C-B652-DA2EAB9A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D13-7314-4504-A01D-38158FF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CBF-0C54-441B-BD51-B8BE4FD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04136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48F-D69F-479F-AA89-3019DAF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294920"/>
            <a:ext cx="4313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041360"/>
            <a:ext cx="8839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716-1E02-44B3-BEDE-96D6878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94C-5DEA-4CB3-8200-9793B2084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0317-3B31-4D83-BBBE-5C6AE7B87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3349-30A4-4633-93CB-B43DB2BC6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0CC-E37B-4D84-A36B-8CE3A0AD5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exity and Fragilit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Do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and 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t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616720"/>
            <a:ext cx="7772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 Prajna, Papachristodoulou, and Parri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5480" y="2089080"/>
            <a:ext cx="67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eestyle Script"/>
              </a:rPr>
              <a:t>Or, what color is your herr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shold theor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990720"/>
            <a:ext cx="2362320" cy="1218960"/>
          </a:xfrm>
          <a:prstGeom prst="rightArrow">
            <a:avLst>
              <a:gd name="adj1" fmla="val 50000"/>
              <a:gd name="adj2" fmla="val 48449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D bit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533520"/>
            <a:ext cx="2590560" cy="1218960"/>
          </a:xfrm>
          <a:prstGeom prst="rightArrow">
            <a:avLst>
              <a:gd name="adj1" fmla="val 50000"/>
              <a:gd name="adj2" fmla="val 53131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1447920"/>
            <a:ext cx="2590560" cy="1218960"/>
          </a:xfrm>
          <a:prstGeom prst="rightArrow">
            <a:avLst>
              <a:gd name="adj1" fmla="val 50000"/>
              <a:gd name="adj2" fmla="val 53131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441972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correcting c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657600"/>
            <a:ext cx="2971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657600"/>
            <a:ext cx="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2880" y="297180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tenc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" y="43434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rror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3657600"/>
            <a:ext cx="259092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62485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eestyle Script"/>
              </a:rPr>
              <a:t>Thanks to Arum and B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10449000">
            <a:off x="3199680" y="1293480"/>
            <a:ext cx="2127240" cy="152388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3681" y="11942"/>
                </a:moveTo>
                <a:arcTo wR="-7210" hR="-7210" stAng="10253189" swAng="-8720992"/>
                <a:lnTo>
                  <a:pt x="1055" y="6144"/>
                </a:lnTo>
                <a:arcTo wR="10800" hR="10800" stAng="-9267803" swAng="8720992"/>
                <a:lnTo>
                  <a:pt x="24130" y="8662"/>
                </a:lnTo>
                <a:lnTo>
                  <a:pt x="20403" y="13812"/>
                </a:lnTo>
                <a:lnTo>
                  <a:pt x="15253" y="1008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607600">
            <a:off x="7162920" y="1142640"/>
            <a:ext cx="1218960" cy="18288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362" y="7072"/>
                </a:moveTo>
                <a:arcTo wR="-6593" hR="-6593" stAng="-8734054" swAng="-9778583"/>
                <a:lnTo>
                  <a:pt x="4070" y="2353"/>
                </a:lnTo>
                <a:arcTo wR="10800" hR="10800" stAng="-7712637" swAng="9778583"/>
                <a:lnTo>
                  <a:pt x="21935" y="18433"/>
                </a:lnTo>
                <a:lnTo>
                  <a:pt x="15257" y="19679"/>
                </a:lnTo>
                <a:lnTo>
                  <a:pt x="14011" y="13001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 feedba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2362320" cy="1218960"/>
          </a:xfrm>
          <a:prstGeom prst="rightArrow">
            <a:avLst>
              <a:gd name="adj1" fmla="val 50000"/>
              <a:gd name="adj2" fmla="val 48449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D bit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1371600"/>
            <a:ext cx="2590560" cy="1219320"/>
          </a:xfrm>
          <a:prstGeom prst="leftArrow">
            <a:avLst>
              <a:gd name="adj1" fmla="val 50000"/>
              <a:gd name="adj2" fmla="val 53115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657600"/>
            <a:ext cx="2971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657600"/>
            <a:ext cx="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2880" y="297180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tenc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640" y="43434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rror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657600"/>
            <a:ext cx="259092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6748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3657600"/>
            <a:ext cx="685800" cy="3200400"/>
          </a:xfrm>
          <a:prstGeom prst="downArrow">
            <a:avLst>
              <a:gd name="adj1" fmla="val 50000"/>
              <a:gd name="adj2" fmla="val 116667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3434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Zero error with bounded </a:t>
            </a:r>
            <a:r>
              <a:rPr b="1" i="1" lang="en-US" sz="2800" spc="-1" strike="noStrike">
                <a:solidFill>
                  <a:srgbClr val="66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(latenc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533520"/>
            <a:ext cx="2590560" cy="1218960"/>
          </a:xfrm>
          <a:prstGeom prst="rightArrow">
            <a:avLst>
              <a:gd name="adj1" fmla="val 50000"/>
              <a:gd name="adj2" fmla="val 53131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rot="10449000">
            <a:off x="3199680" y="1293480"/>
            <a:ext cx="2127240" cy="152388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3681" y="11942"/>
                </a:moveTo>
                <a:arcTo wR="-7210" hR="-7210" stAng="10253189" swAng="-8720992"/>
                <a:lnTo>
                  <a:pt x="1055" y="6144"/>
                </a:lnTo>
                <a:arcTo wR="10800" hR="10800" stAng="-9267803" swAng="8720992"/>
                <a:lnTo>
                  <a:pt x="24130" y="8662"/>
                </a:lnTo>
                <a:lnTo>
                  <a:pt x="20403" y="13812"/>
                </a:lnTo>
                <a:lnTo>
                  <a:pt x="15253" y="1008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607600">
            <a:off x="7162920" y="1142640"/>
            <a:ext cx="1218960" cy="18288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362" y="7072"/>
                </a:moveTo>
                <a:arcTo wR="-6593" hR="-6593" stAng="-8734054" swAng="-9778583"/>
                <a:lnTo>
                  <a:pt x="4070" y="2353"/>
                </a:lnTo>
                <a:arcTo wR="10800" hR="10800" stAng="-7712637" swAng="9778583"/>
                <a:lnTo>
                  <a:pt x="21935" y="18433"/>
                </a:lnTo>
                <a:lnTo>
                  <a:pt x="15257" y="19679"/>
                </a:lnTo>
                <a:lnTo>
                  <a:pt x="14011" y="13001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 feedba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990720"/>
            <a:ext cx="2362320" cy="1218960"/>
          </a:xfrm>
          <a:prstGeom prst="rightArrow">
            <a:avLst>
              <a:gd name="adj1" fmla="val 50000"/>
              <a:gd name="adj2" fmla="val 48449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D bit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1371600"/>
            <a:ext cx="2590560" cy="1219320"/>
          </a:xfrm>
          <a:prstGeom prst="leftArrow">
            <a:avLst>
              <a:gd name="adj1" fmla="val 50000"/>
              <a:gd name="adj2" fmla="val 53115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990720"/>
            <a:ext cx="1676520" cy="1218960"/>
          </a:xfrm>
          <a:prstGeom prst="rightArrow">
            <a:avLst>
              <a:gd name="adj1" fmla="val 50000"/>
              <a:gd name="adj2" fmla="val 3438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Zero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 error with bounded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(latency)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9600" y="5562720"/>
            <a:ext cx="45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anger: new fragilitie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533520"/>
            <a:ext cx="2590560" cy="1218960"/>
          </a:xfrm>
          <a:prstGeom prst="rightArrow">
            <a:avLst>
              <a:gd name="adj1" fmla="val 50000"/>
              <a:gd name="adj2" fmla="val 53131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wo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pposit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views of complex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formation by reaction/dif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ge-of-cha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 for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organized cri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ran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-free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quilibrium, 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onlinearity &amp; complexity as exo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ine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o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ness/frag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ar from equi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onlinearity &amp; complexity as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pposit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views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dead, you are likely to stay that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ine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alive, it is very easy to kill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276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news (unfortunately)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ness is less fungible with other features than you think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90536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ood news (hopefully)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we can identify our fragilities, we 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y that we are otherwise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keep ourselves that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2057400"/>
            <a:ext cx="260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PP (Number partitioning probl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038480" y="1066680"/>
          <a:ext cx="421812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066680"/>
                    <a:ext cx="4218120" cy="4513320"/>
                  </a:xfrm>
                  <a:prstGeom prst="rect">
                    <a:avLst/>
                  </a:prstGeom>
                  <a:ln w="381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829880" y="6019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 “classic” NP complet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The “simplest” hard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85320" y="46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7720" y="383868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7720" y="304812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7720" y="225756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7720" y="14684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7720" y="67788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5597640"/>
            <a:ext cx="514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71600" y="463680"/>
            <a:ext cx="15840" cy="515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00664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4904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64960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344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9400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3640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93696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936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58136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6688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22432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0984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86728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5424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816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188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6000" y="4776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6000" y="3986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86000" y="3195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6000" y="24066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6000" y="16160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6000" y="825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320" y="5375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828800" y="228600"/>
          <a:ext cx="5959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959440" cy="838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828800" y="1600200"/>
          <a:ext cx="60739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6073920" cy="838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858000" y="3048120"/>
          <a:ext cx="1717560" cy="35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048120"/>
                    <a:ext cx="171756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031720" y="44956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85320" y="46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7720" y="383868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7720" y="304812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7720" y="225756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7720" y="14684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7720" y="67788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84440" y="463680"/>
            <a:ext cx="4833720" cy="4962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5597640"/>
            <a:ext cx="514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371600" y="463680"/>
            <a:ext cx="15840" cy="515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0664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4904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4960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344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29400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3640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93696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7936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58136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6688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22432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984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86728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5424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8160" y="553212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1880" y="56228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86000" y="4776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86000" y="39862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86000" y="3195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86000" y="24066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86000" y="16160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86000" y="825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35120" y="477684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55880" y="1838160"/>
            <a:ext cx="127080" cy="14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8080" y="290844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00280" y="379728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21040" y="5245200"/>
            <a:ext cx="127080" cy="1396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43240" y="281772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65440" y="467676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3697200"/>
            <a:ext cx="130320" cy="141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8400" y="515448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30600" y="388764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51360" y="486720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73560" y="271944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95760" y="328608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6520" y="426564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8720" y="858960"/>
            <a:ext cx="13032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65960" y="5343480"/>
            <a:ext cx="12996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35120" y="4776840"/>
            <a:ext cx="12708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55880" y="1838160"/>
            <a:ext cx="127080" cy="140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8080" y="290844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0280" y="3797280"/>
            <a:ext cx="12708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1040" y="5245200"/>
            <a:ext cx="1270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3240" y="281772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65440" y="4676760"/>
            <a:ext cx="12708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3697200"/>
            <a:ext cx="130320" cy="141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08400" y="515448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30600" y="3887640"/>
            <a:ext cx="12708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51360" y="486720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73560" y="271944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95760" y="3286080"/>
            <a:ext cx="1270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6520" y="426564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38720" y="858960"/>
            <a:ext cx="13032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65960" y="5343480"/>
            <a:ext cx="129960" cy="1396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77560" y="4527720"/>
            <a:ext cx="233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|77+65-62-59-31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= min=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96680" y="946080"/>
            <a:ext cx="256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=294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|77+65+62+59+31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22080" y="3048120"/>
            <a:ext cx="225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40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|77-65-62-59-31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320" y="5375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00200" y="285840"/>
          <a:ext cx="380988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5840"/>
                    <a:ext cx="3809880" cy="679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819520" y="1508040"/>
          <a:ext cx="121896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508040"/>
                    <a:ext cx="1218960" cy="70164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4877640" y="1828800"/>
            <a:ext cx="3949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calable algorith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 flipV="1">
            <a:off x="2444760" y="1870200"/>
            <a:ext cx="963720" cy="922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22480" y="201924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22480" y="233676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22480" y="265896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22480" y="297648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22480" y="329580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151920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183996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15748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324792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356868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388620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44760" y="2792520"/>
            <a:ext cx="963720" cy="9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646440" y="3357360"/>
            <a:ext cx="963720" cy="376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46440" y="3733920"/>
            <a:ext cx="963720" cy="734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646440" y="1117080"/>
            <a:ext cx="963720" cy="752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317340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352440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11480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446580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02896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234000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1870200"/>
            <a:ext cx="963720" cy="358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856040" y="1870200"/>
            <a:ext cx="963720" cy="358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56040" y="2228760"/>
            <a:ext cx="963720" cy="257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8600" y="5950080"/>
            <a:ext cx="721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63480" y="5636880"/>
            <a:ext cx="180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6019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30280" y="5868720"/>
            <a:ext cx="180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68360" y="6019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532320" y="5868720"/>
            <a:ext cx="14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70400" y="6019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4000" y="5868720"/>
            <a:ext cx="14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72080" y="6019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34240" y="5868720"/>
            <a:ext cx="14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6019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28600" y="594036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120" y="5637240"/>
            <a:ext cx="19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28600" y="548172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5880" y="5184720"/>
            <a:ext cx="39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28600" y="502128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724280"/>
            <a:ext cx="59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128600" y="4648320"/>
            <a:ext cx="1800" cy="129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9000" y="5864400"/>
            <a:ext cx="149400" cy="14580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32320" y="5736960"/>
            <a:ext cx="1440" cy="1969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60680" y="5864400"/>
            <a:ext cx="149400" cy="14580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60680" y="5718240"/>
            <a:ext cx="149400" cy="14904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734000" y="5793840"/>
            <a:ext cx="1440" cy="14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2360" y="5864400"/>
            <a:ext cx="149400" cy="14580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62360" y="5724360"/>
            <a:ext cx="149400" cy="14616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25960" y="5835600"/>
            <a:ext cx="255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4400" y="5745240"/>
            <a:ext cx="145800" cy="14580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95760" y="74916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95760" y="1066680"/>
            <a:ext cx="317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84920" y="178452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43520" y="230184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2440" y="2370240"/>
            <a:ext cx="339120" cy="3661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760" y="1143000"/>
            <a:ext cx="380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4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20696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96040" y="2819520"/>
            <a:ext cx="380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1640" y="4818240"/>
            <a:ext cx="191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167652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19800" y="380880"/>
            <a:ext cx="380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360" y="1477800"/>
            <a:ext cx="380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43520" y="2590920"/>
            <a:ext cx="253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029200" y="609120"/>
            <a:ext cx="963360" cy="685440"/>
            <a:chOff x="5029200" y="609120"/>
            <a:chExt cx="963360" cy="685440"/>
          </a:xfrm>
        </p:grpSpPr>
        <p:sp>
          <p:nvSpPr>
            <p:cNvPr id="451" name=""/>
            <p:cNvSpPr/>
            <p:nvPr/>
          </p:nvSpPr>
          <p:spPr>
            <a:xfrm flipV="1">
              <a:off x="5029200" y="609120"/>
              <a:ext cx="963360" cy="39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29200" y="1008720"/>
              <a:ext cx="96336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952880" y="3047760"/>
            <a:ext cx="963360" cy="685440"/>
            <a:chOff x="4952880" y="3047760"/>
            <a:chExt cx="963360" cy="685440"/>
          </a:xfrm>
        </p:grpSpPr>
        <p:sp>
          <p:nvSpPr>
            <p:cNvPr id="454" name=""/>
            <p:cNvSpPr/>
            <p:nvPr/>
          </p:nvSpPr>
          <p:spPr>
            <a:xfrm flipV="1">
              <a:off x="4952880" y="3047760"/>
              <a:ext cx="963360" cy="39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2880" y="3447360"/>
              <a:ext cx="96336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952880" y="4266720"/>
            <a:ext cx="963360" cy="685440"/>
            <a:chOff x="4952880" y="4266720"/>
            <a:chExt cx="963360" cy="685440"/>
          </a:xfrm>
        </p:grpSpPr>
        <p:sp>
          <p:nvSpPr>
            <p:cNvPr id="457" name=""/>
            <p:cNvSpPr/>
            <p:nvPr/>
          </p:nvSpPr>
          <p:spPr>
            <a:xfrm flipV="1">
              <a:off x="4952880" y="4266720"/>
              <a:ext cx="963360" cy="39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4666320"/>
              <a:ext cx="96336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59000" y="4572000"/>
            <a:ext cx="149400" cy="14940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040" y="92160"/>
            <a:ext cx="14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a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818320" y="316080"/>
            <a:ext cx="2690640" cy="2485800"/>
            <a:chOff x="5818320" y="316080"/>
            <a:chExt cx="2690640" cy="2485800"/>
          </a:xfrm>
        </p:grpSpPr>
        <p:sp>
          <p:nvSpPr>
            <p:cNvPr id="462" name=""/>
            <p:cNvSpPr/>
            <p:nvPr/>
          </p:nvSpPr>
          <p:spPr>
            <a:xfrm flipV="1">
              <a:off x="5818320" y="1130400"/>
              <a:ext cx="312480" cy="420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18320" y="1550880"/>
              <a:ext cx="312480" cy="427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213600" y="1804680"/>
              <a:ext cx="312480" cy="173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13600" y="1978200"/>
              <a:ext cx="312480" cy="338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6213600" y="785520"/>
              <a:ext cx="312480" cy="344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13600" y="1130400"/>
              <a:ext cx="312480" cy="164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608880" y="2257200"/>
              <a:ext cx="320400" cy="58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08880" y="2316240"/>
              <a:ext cx="32040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608880" y="1690560"/>
              <a:ext cx="32040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8880" y="1805040"/>
              <a:ext cx="320400" cy="173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608880" y="1130400"/>
              <a:ext cx="320400" cy="164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8880" y="1295280"/>
              <a:ext cx="32040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608880" y="563400"/>
              <a:ext cx="320400" cy="22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08880" y="785880"/>
              <a:ext cx="3204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004160" y="2521080"/>
              <a:ext cx="3204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04160" y="2538360"/>
              <a:ext cx="320400" cy="13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004160" y="2225160"/>
              <a:ext cx="3204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04160" y="2257560"/>
              <a:ext cx="3204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004160" y="1920600"/>
              <a:ext cx="320400" cy="57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04160" y="1978200"/>
              <a:ext cx="320400" cy="9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004160" y="1623600"/>
              <a:ext cx="3204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04160" y="1690560"/>
              <a:ext cx="32040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004160" y="1328400"/>
              <a:ext cx="320400" cy="81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04160" y="1409760"/>
              <a:ext cx="32040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004160" y="1023840"/>
              <a:ext cx="32040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04160" y="1130400"/>
              <a:ext cx="3204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004160" y="727200"/>
              <a:ext cx="3204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04160" y="843120"/>
              <a:ext cx="3204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004160" y="431640"/>
              <a:ext cx="3204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04160" y="563400"/>
              <a:ext cx="3204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97640" y="2670120"/>
              <a:ext cx="322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97640" y="2670120"/>
              <a:ext cx="322200" cy="73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397640" y="2513160"/>
              <a:ext cx="3222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7640" y="2521080"/>
              <a:ext cx="3222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397640" y="2356920"/>
              <a:ext cx="3222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7640" y="2373480"/>
              <a:ext cx="32220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97640" y="2208240"/>
              <a:ext cx="3222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7640" y="2225520"/>
              <a:ext cx="3222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97640" y="2052720"/>
              <a:ext cx="32220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7640" y="2076480"/>
              <a:ext cx="3222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97640" y="1895040"/>
              <a:ext cx="3222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7640" y="1920960"/>
              <a:ext cx="3222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97640" y="1739520"/>
              <a:ext cx="3222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97640" y="1773360"/>
              <a:ext cx="3222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397640" y="1592280"/>
              <a:ext cx="3222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7640" y="1623960"/>
              <a:ext cx="3222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397640" y="1434600"/>
              <a:ext cx="3222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97640" y="1476360"/>
              <a:ext cx="3222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97640" y="1279080"/>
              <a:ext cx="3222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97640" y="1328760"/>
              <a:ext cx="3222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397640" y="1130400"/>
              <a:ext cx="3222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7640" y="1179360"/>
              <a:ext cx="3222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97640" y="974880"/>
              <a:ext cx="3222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97640" y="1023840"/>
              <a:ext cx="3222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7640" y="817200"/>
              <a:ext cx="3222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7640" y="876240"/>
              <a:ext cx="3222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397640" y="661680"/>
              <a:ext cx="3222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97640" y="727200"/>
              <a:ext cx="3222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7640" y="512640"/>
              <a:ext cx="3222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7640" y="579600"/>
              <a:ext cx="3222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397640" y="356760"/>
              <a:ext cx="32220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97640" y="431640"/>
              <a:ext cx="32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02640" y="2743200"/>
              <a:ext cx="311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02640" y="2743200"/>
              <a:ext cx="3110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802640" y="2660760"/>
              <a:ext cx="3110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02640" y="2670120"/>
              <a:ext cx="3110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02640" y="2587680"/>
              <a:ext cx="31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02640" y="2587680"/>
              <a:ext cx="3110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802640" y="250524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02640" y="2513160"/>
              <a:ext cx="3110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802640" y="243036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02640" y="2438280"/>
              <a:ext cx="3110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802640" y="2347920"/>
              <a:ext cx="3110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02640" y="2357280"/>
              <a:ext cx="3110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802640" y="227484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02640" y="2282760"/>
              <a:ext cx="3110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802640" y="219240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02640" y="220824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802640" y="2117880"/>
              <a:ext cx="311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02640" y="2125800"/>
              <a:ext cx="31104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802640" y="2034720"/>
              <a:ext cx="3110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02640" y="2052720"/>
              <a:ext cx="3110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802640" y="1961640"/>
              <a:ext cx="3110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02640" y="197820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802640" y="187956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02640" y="1895400"/>
              <a:ext cx="3110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802640" y="1805040"/>
              <a:ext cx="3110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02640" y="1822320"/>
              <a:ext cx="31104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802640" y="1722600"/>
              <a:ext cx="3110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02640" y="1739880"/>
              <a:ext cx="3110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2640" y="164952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02640" y="166536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802640" y="1566360"/>
              <a:ext cx="3110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2640" y="159228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802640" y="1491840"/>
              <a:ext cx="31104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02640" y="1509840"/>
              <a:ext cx="3110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802640" y="140976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2640" y="143496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802640" y="1336680"/>
              <a:ext cx="3110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2640" y="1360440"/>
              <a:ext cx="3110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802640" y="125424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02640" y="127944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802640" y="1179000"/>
              <a:ext cx="3110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02640" y="120492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802640" y="1098720"/>
              <a:ext cx="3110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02640" y="113040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802640" y="1023840"/>
              <a:ext cx="3110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2640" y="1047600"/>
              <a:ext cx="3110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802640" y="941040"/>
              <a:ext cx="3110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2640" y="97488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802640" y="866880"/>
              <a:ext cx="3110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02640" y="892080"/>
              <a:ext cx="3110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802640" y="785880"/>
              <a:ext cx="3110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02640" y="81756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802640" y="711360"/>
              <a:ext cx="3110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02640" y="74448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802640" y="628200"/>
              <a:ext cx="3110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02640" y="66204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802640" y="553680"/>
              <a:ext cx="3110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02640" y="58752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802640" y="473040"/>
              <a:ext cx="3110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02640" y="512640"/>
              <a:ext cx="31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802640" y="398520"/>
              <a:ext cx="3110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02640" y="431640"/>
              <a:ext cx="3110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802640" y="316080"/>
              <a:ext cx="3110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02640" y="357120"/>
              <a:ext cx="31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196120" y="278460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96120" y="278460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6120" y="274320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96120" y="2743200"/>
              <a:ext cx="3128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196120" y="270180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96120" y="2701800"/>
              <a:ext cx="3128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196120" y="266076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96120" y="2660760"/>
              <a:ext cx="3128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96120" y="262908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96120" y="262908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96120" y="258768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96120" y="258768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96120" y="254628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96120" y="254628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196120" y="250524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96120" y="2505240"/>
              <a:ext cx="3128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96120" y="24638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96120" y="247176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196120" y="243036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96120" y="2430360"/>
              <a:ext cx="3128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6120" y="238932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96120" y="238932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96120" y="234792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96120" y="234792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196120" y="23083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196120" y="231624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8196120" y="22669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96120" y="227484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196120" y="223344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96120" y="2233440"/>
              <a:ext cx="3128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6120" y="2192400"/>
              <a:ext cx="31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96120" y="219240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196120" y="21510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96120" y="21589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196120" y="210996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96120" y="211788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8196120" y="206856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96120" y="207648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96120" y="203508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96120" y="2035080"/>
              <a:ext cx="3128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196120" y="19954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96120" y="20034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8196120" y="19540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96120" y="1962000"/>
              <a:ext cx="3128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196120" y="19130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96120" y="192096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6120" y="1879560"/>
              <a:ext cx="31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196120" y="187956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8196120" y="1837800"/>
              <a:ext cx="3128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96120" y="18464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8196120" y="17971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96120" y="18050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8196120" y="17557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96120" y="1763640"/>
              <a:ext cx="3128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8196120" y="17146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96120" y="1722600"/>
              <a:ext cx="31284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196120" y="16826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96120" y="169056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96120" y="16416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96120" y="16495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196120" y="16002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96120" y="160812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8196120" y="15588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96120" y="156672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96120" y="1517760"/>
              <a:ext cx="312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96120" y="153360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196120" y="14842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6120" y="1492200"/>
              <a:ext cx="3128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196120" y="14428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6120" y="1450800"/>
              <a:ext cx="3128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196120" y="140184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196120" y="1409760"/>
              <a:ext cx="3128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8196120" y="1360080"/>
              <a:ext cx="3128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96120" y="1378080"/>
              <a:ext cx="3128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8196120" y="1318680"/>
            <a:ext cx="3128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196120" y="133668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8196120" y="128736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196120" y="129528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8196120" y="124632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196120" y="125424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8196120" y="120492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196120" y="122076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196120" y="116352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196120" y="1179360"/>
            <a:ext cx="3128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196120" y="113040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96120" y="1138320"/>
            <a:ext cx="3128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8196120" y="1088640"/>
            <a:ext cx="3128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96120" y="109872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196120" y="1047240"/>
            <a:ext cx="3128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196120" y="106524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8196120" y="1006560"/>
            <a:ext cx="31284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196120" y="102384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8196120" y="96696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96120" y="98280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196120" y="93348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6120" y="94140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196120" y="89208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196120" y="90792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8196120" y="85104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196120" y="86688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8196120" y="80964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96120" y="825480"/>
            <a:ext cx="3128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8196120" y="767880"/>
            <a:ext cx="3128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196120" y="78588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96120" y="735120"/>
            <a:ext cx="31284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196120" y="75240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8196120" y="693360"/>
            <a:ext cx="3128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196120" y="71136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8196120" y="65412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96120" y="66996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8196120" y="61272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196120" y="628560"/>
            <a:ext cx="3128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8196120" y="571680"/>
            <a:ext cx="3128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196120" y="59544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196120" y="53820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96120" y="55404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8196120" y="49680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196120" y="51264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8196120" y="455760"/>
            <a:ext cx="31284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196120" y="47304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8196120" y="414360"/>
            <a:ext cx="3128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196120" y="43956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8196120" y="372600"/>
            <a:ext cx="3128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196120" y="39852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8196120" y="341280"/>
            <a:ext cx="3128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96120" y="357120"/>
            <a:ext cx="31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8196120" y="299520"/>
            <a:ext cx="31284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96120" y="316080"/>
            <a:ext cx="31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81640" y="3763800"/>
            <a:ext cx="3571920" cy="2543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81640" y="376380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81640" y="3763800"/>
            <a:ext cx="3571920" cy="2543400"/>
          </a:xfrm>
          <a:custGeom>
            <a:avLst/>
            <a:gdLst/>
            <a:ahLst/>
            <a:rect l="l" t="t" r="r" b="b"/>
            <a:pathLst>
              <a:path w="434" h="309">
                <a:moveTo>
                  <a:pt x="0" y="309"/>
                </a:moveTo>
                <a:lnTo>
                  <a:pt x="434" y="30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381640" y="3763440"/>
            <a:ext cx="1440" cy="25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81640" y="630720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381640" y="3763440"/>
            <a:ext cx="1440" cy="25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38164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57640" y="36892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5788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77692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7692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5316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17220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7220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4844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6748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4192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96276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6276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3720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365960" y="6265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65960" y="3763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4076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761240" y="6265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61240" y="3763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3604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5508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5508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3132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55036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5036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52660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953560" y="6265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953560" y="3763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929800" y="6330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81640" y="6067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911800" y="6067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66920" y="5927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81640" y="56070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911800" y="56070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54673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81640" y="51465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8911800" y="51465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76920" y="50054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81640" y="46864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911800" y="46864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76920" y="45450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81640" y="42242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8911800" y="4224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76920" y="40845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81640" y="37638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8911800" y="37638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66920" y="3624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81640" y="376380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81640" y="3763800"/>
            <a:ext cx="3571920" cy="2543400"/>
          </a:xfrm>
          <a:custGeom>
            <a:avLst/>
            <a:gdLst/>
            <a:ahLst/>
            <a:rect l="l" t="t" r="r" b="b"/>
            <a:pathLst>
              <a:path w="434" h="309">
                <a:moveTo>
                  <a:pt x="0" y="309"/>
                </a:moveTo>
                <a:lnTo>
                  <a:pt x="434" y="30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381640" y="3763440"/>
            <a:ext cx="1440" cy="25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776920" y="5764320"/>
            <a:ext cx="1440" cy="303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45240" y="6035760"/>
            <a:ext cx="7308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745240" y="573084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172200" y="5846400"/>
            <a:ext cx="1440" cy="220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38720" y="6035760"/>
            <a:ext cx="7488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38720" y="5813280"/>
            <a:ext cx="7488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567480" y="6001920"/>
            <a:ext cx="1440" cy="65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34000" y="6035760"/>
            <a:ext cx="7488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34000" y="5969160"/>
            <a:ext cx="748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962760" y="6017760"/>
            <a:ext cx="1440" cy="49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29280" y="6035760"/>
            <a:ext cx="7488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29280" y="5986440"/>
            <a:ext cx="7488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7365960" y="6027840"/>
            <a:ext cx="1800" cy="39600"/>
          </a:xfrm>
          <a:prstGeom prst="line">
            <a:avLst/>
          </a:prstGeom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32840" y="6035760"/>
            <a:ext cx="7452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32840" y="5994360"/>
            <a:ext cx="7452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7761240" y="6051600"/>
            <a:ext cx="1800" cy="15840"/>
          </a:xfrm>
          <a:prstGeom prst="line">
            <a:avLst/>
          </a:prstGeom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28120" y="6035760"/>
            <a:ext cx="74520" cy="73080"/>
          </a:xfrm>
          <a:prstGeom prst="ellipse">
            <a:avLst/>
          </a:prstGeom>
          <a:solidFill>
            <a:srgbClr val="3333ff"/>
          </a:solidFill>
          <a:ln w="0">
            <a:solidFill>
              <a:srgbClr val="333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28120" y="6018120"/>
            <a:ext cx="7452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147160" y="6059520"/>
            <a:ext cx="25200" cy="25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123400" y="6035760"/>
            <a:ext cx="72720" cy="730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8600" y="835200"/>
            <a:ext cx="129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21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6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35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3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0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2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4760" y="763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286000" y="228600"/>
          <a:ext cx="152388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"/>
                    <a:ext cx="15238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7" name=""/>
          <p:cNvGrpSpPr/>
          <p:nvPr/>
        </p:nvGrpSpPr>
        <p:grpSpPr>
          <a:xfrm>
            <a:off x="156600" y="3276720"/>
            <a:ext cx="4110480" cy="3176280"/>
            <a:chOff x="156600" y="3276720"/>
            <a:chExt cx="4110480" cy="3176280"/>
          </a:xfrm>
        </p:grpSpPr>
        <p:grpSp>
          <p:nvGrpSpPr>
            <p:cNvPr id="798" name=""/>
            <p:cNvGrpSpPr/>
            <p:nvPr/>
          </p:nvGrpSpPr>
          <p:grpSpPr>
            <a:xfrm>
              <a:off x="156600" y="3505320"/>
              <a:ext cx="4110480" cy="2947680"/>
              <a:chOff x="156600" y="3505320"/>
              <a:chExt cx="4110480" cy="2947680"/>
            </a:xfrm>
          </p:grpSpPr>
          <p:sp>
            <p:nvSpPr>
              <p:cNvPr id="799" name=""/>
              <p:cNvSpPr/>
              <p:nvPr/>
            </p:nvSpPr>
            <p:spPr>
              <a:xfrm>
                <a:off x="661680" y="3763800"/>
                <a:ext cx="3571560" cy="25434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61680" y="3763800"/>
                <a:ext cx="3571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1680" y="3763800"/>
                <a:ext cx="3571560" cy="2543400"/>
              </a:xfrm>
              <a:custGeom>
                <a:avLst/>
                <a:gdLst/>
                <a:ahLst/>
                <a:rect l="l" t="t" r="r" b="b"/>
                <a:pathLst>
                  <a:path w="434" h="309">
                    <a:moveTo>
                      <a:pt x="0" y="309"/>
                    </a:moveTo>
                    <a:lnTo>
                      <a:pt x="434" y="309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61680" y="3763440"/>
                <a:ext cx="1440" cy="254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1680" y="6307200"/>
                <a:ext cx="3571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661680" y="3763440"/>
                <a:ext cx="1440" cy="254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6168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7480" y="3611520"/>
                <a:ext cx="10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792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105696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696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03320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145224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5224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2848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184752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4752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2196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24280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4280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1724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264600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64600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62080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3041280" y="6265440"/>
                <a:ext cx="14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41280" y="37638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1608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435120" y="6265440"/>
                <a:ext cx="108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435120" y="3763800"/>
                <a:ext cx="10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41136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3830400" y="6265440"/>
                <a:ext cx="108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830400" y="3763800"/>
                <a:ext cx="10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80664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233600" y="6265440"/>
                <a:ext cx="108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233600" y="3763800"/>
                <a:ext cx="108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209840" y="6330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61680" y="55087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209480" y="550872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61680" y="554976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4209480" y="554976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1680" y="55911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4209480" y="559116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1680" y="56404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209480" y="564048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61680" y="569736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209480" y="569736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61680" y="577224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209480" y="577224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1680" y="58546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209480" y="585468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1680" y="596124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209480" y="596124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1680" y="611820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4209480" y="611820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1680" y="55087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4192200" y="5508720"/>
                <a:ext cx="4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6600" y="544356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48840" y="5249880"/>
                <a:ext cx="18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1680" y="524520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4209480" y="524520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1680" y="50896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209480" y="508968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1680" y="49816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4209480" y="498168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680" y="489888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209480" y="489888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61680" y="48261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4209480" y="482616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61680" y="476712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4209480" y="476712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1680" y="47181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4209480" y="471816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1680" y="46767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209480" y="467676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1680" y="463716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4209480" y="463716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1680" y="46371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192200" y="4637160"/>
                <a:ext cx="4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56600" y="457056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8840" y="4376880"/>
                <a:ext cx="18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1680" y="437364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209480" y="437364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1680" y="421632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4209480" y="421632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1680" y="411012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4209480" y="411012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1680" y="401940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4209480" y="401940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1680" y="395280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209480" y="395280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1680" y="389556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4209480" y="389556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1680" y="384660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4209480" y="384660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1680" y="3797280"/>
                <a:ext cx="1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4209480" y="3797280"/>
                <a:ext cx="2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1680" y="3763800"/>
                <a:ext cx="17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4209480" y="3763800"/>
                <a:ext cx="23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1680" y="376380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4192200" y="3763800"/>
                <a:ext cx="41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56600" y="369900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8480" y="35053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1680" y="3763800"/>
                <a:ext cx="35715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1680" y="3763800"/>
                <a:ext cx="3571560" cy="2543400"/>
              </a:xfrm>
              <a:custGeom>
                <a:avLst/>
                <a:gdLst/>
                <a:ahLst/>
                <a:rect l="l" t="t" r="r" b="b"/>
                <a:pathLst>
                  <a:path w="434" h="309">
                    <a:moveTo>
                      <a:pt x="0" y="309"/>
                    </a:moveTo>
                    <a:lnTo>
                      <a:pt x="434" y="309"/>
                    </a:lnTo>
                    <a:lnTo>
                      <a:pt x="4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661680" y="3763440"/>
                <a:ext cx="1440" cy="254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49040" y="451332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025280" y="4487760"/>
                <a:ext cx="727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44320" y="4627440"/>
                <a:ext cx="23400" cy="25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19120" y="4603680"/>
                <a:ext cx="74160" cy="73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839600" y="5079960"/>
                <a:ext cx="23400" cy="25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814400" y="5056200"/>
                <a:ext cx="7416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234880" y="5211720"/>
                <a:ext cx="23400" cy="25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209680" y="5187960"/>
                <a:ext cx="74160" cy="73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38080" y="5237280"/>
                <a:ext cx="23400" cy="23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12880" y="5211720"/>
                <a:ext cx="7416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031920" y="5591160"/>
                <a:ext cx="24840" cy="23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08160" y="5565600"/>
                <a:ext cx="7416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427200" y="6299280"/>
                <a:ext cx="24840" cy="237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403440" y="6273720"/>
                <a:ext cx="72720" cy="74520"/>
              </a:xfrm>
              <a:prstGeom prst="ellipse">
                <a:avLst/>
              </a:prstGeom>
              <a:solidFill>
                <a:srgbClr val="cc0099"/>
              </a:solidFill>
              <a:ln w="0">
                <a:solidFill>
                  <a:srgbClr val="cc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2136600" y="32767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milo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83400" y="0"/>
            <a:ext cx="3360600" cy="5029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0861"/>
          <a:stretch/>
        </p:blipFill>
        <p:spPr>
          <a:xfrm>
            <a:off x="304920" y="3886200"/>
            <a:ext cx="6095880" cy="2971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4876920" cy="3774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28600" y="-304920"/>
            <a:ext cx="8534520" cy="754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popular medi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as given u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ree similar vision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f our technologic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u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6647E-006 L 0 -0.46057 E">
                                      <p:cBhvr>
                                        <p:cTn id="14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04920" y="2743200"/>
            <a:ext cx="137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5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4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4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2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0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9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14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1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097160" y="165240"/>
            <a:ext cx="2206800" cy="2608200"/>
            <a:chOff x="4097160" y="165240"/>
            <a:chExt cx="2206800" cy="2608200"/>
          </a:xfrm>
        </p:grpSpPr>
        <p:sp>
          <p:nvSpPr>
            <p:cNvPr id="921" name=""/>
            <p:cNvSpPr/>
            <p:nvPr/>
          </p:nvSpPr>
          <p:spPr>
            <a:xfrm flipV="1">
              <a:off x="4097160" y="1012320"/>
              <a:ext cx="255600" cy="444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97160" y="1457280"/>
              <a:ext cx="255600" cy="444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4419720" y="1728360"/>
              <a:ext cx="261720" cy="173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19720" y="1901880"/>
              <a:ext cx="261720" cy="36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419720" y="658440"/>
              <a:ext cx="261720" cy="353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19720" y="1012680"/>
              <a:ext cx="261720" cy="18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48040" y="2196720"/>
              <a:ext cx="25560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48040" y="2263680"/>
              <a:ext cx="255600" cy="230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748040" y="1604880"/>
              <a:ext cx="255600" cy="123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48040" y="1728720"/>
              <a:ext cx="255600" cy="173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748040" y="1012320"/>
              <a:ext cx="255600" cy="18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748040" y="1193760"/>
              <a:ext cx="25560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4748040" y="420480"/>
              <a:ext cx="255600" cy="23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8040" y="658800"/>
              <a:ext cx="255600" cy="57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068800" y="2476080"/>
              <a:ext cx="2635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68800" y="2494080"/>
              <a:ext cx="263520" cy="13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068800" y="2163240"/>
              <a:ext cx="2635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68800" y="2197080"/>
              <a:ext cx="263520" cy="123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5068800" y="1850760"/>
              <a:ext cx="26352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68800" y="1901880"/>
              <a:ext cx="263520" cy="10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5068800" y="1537920"/>
              <a:ext cx="26352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68800" y="1604880"/>
              <a:ext cx="26352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068800" y="1217520"/>
              <a:ext cx="263520" cy="90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68800" y="1308240"/>
              <a:ext cx="26352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5068800" y="904680"/>
              <a:ext cx="263520" cy="10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800" y="1012680"/>
              <a:ext cx="26352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068800" y="592200"/>
              <a:ext cx="263520" cy="123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068800" y="716040"/>
              <a:ext cx="2635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5068800" y="279000"/>
              <a:ext cx="263520" cy="14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68800" y="420840"/>
              <a:ext cx="2635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97480" y="2633760"/>
              <a:ext cx="2556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7480" y="2633760"/>
              <a:ext cx="255600" cy="82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397480" y="2468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97480" y="2476440"/>
              <a:ext cx="25560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5397480" y="2305080"/>
              <a:ext cx="2556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7480" y="2320920"/>
              <a:ext cx="255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397480" y="214776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97480" y="2163600"/>
              <a:ext cx="2556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397480" y="1982880"/>
              <a:ext cx="25560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7480" y="2008080"/>
              <a:ext cx="255600" cy="57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397480" y="1819440"/>
              <a:ext cx="2556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397480" y="1851120"/>
              <a:ext cx="255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397480" y="1661760"/>
              <a:ext cx="2556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97480" y="1695600"/>
              <a:ext cx="2556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397480" y="1498680"/>
              <a:ext cx="2556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97480" y="1538280"/>
              <a:ext cx="2556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397480" y="1333080"/>
              <a:ext cx="2556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97480" y="1374840"/>
              <a:ext cx="25560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5397480" y="1176480"/>
              <a:ext cx="25560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397480" y="1217520"/>
              <a:ext cx="2556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397480" y="1012320"/>
              <a:ext cx="2556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97480" y="1062000"/>
              <a:ext cx="2556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397480" y="847440"/>
              <a:ext cx="2556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97480" y="905040"/>
              <a:ext cx="2556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397480" y="682200"/>
              <a:ext cx="25560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97480" y="749160"/>
              <a:ext cx="2556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397480" y="526680"/>
              <a:ext cx="2556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97480" y="59220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5397480" y="361800"/>
              <a:ext cx="25560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97480" y="436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5397480" y="198000"/>
              <a:ext cx="2556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97480" y="2793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9680" y="2716200"/>
              <a:ext cx="2620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9680" y="2716200"/>
              <a:ext cx="26208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9680" y="2633760"/>
              <a:ext cx="2620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633760"/>
              <a:ext cx="26208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19680" y="2550960"/>
              <a:ext cx="26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19680" y="2550960"/>
              <a:ext cx="26208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19680" y="2468520"/>
              <a:ext cx="26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19680" y="2468520"/>
              <a:ext cx="26208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9680" y="2386080"/>
              <a:ext cx="2620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19680" y="2386080"/>
              <a:ext cx="26208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19680" y="2305080"/>
              <a:ext cx="262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19680" y="2305080"/>
              <a:ext cx="262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5719680" y="222264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19680" y="2230560"/>
              <a:ext cx="26208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5719680" y="213984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19680" y="2147760"/>
              <a:ext cx="262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719680" y="2057400"/>
              <a:ext cx="2620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19680" y="2065320"/>
              <a:ext cx="2620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5719680" y="197496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719680" y="1982880"/>
              <a:ext cx="26208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5719680" y="1891800"/>
              <a:ext cx="2620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19680" y="1901880"/>
              <a:ext cx="2620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719680" y="1810800"/>
              <a:ext cx="262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19680" y="1819440"/>
              <a:ext cx="2620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5719680" y="172872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19680" y="1736640"/>
              <a:ext cx="262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5719680" y="1646280"/>
              <a:ext cx="2620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19680" y="1662120"/>
              <a:ext cx="2620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719680" y="1563840"/>
              <a:ext cx="2620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719680" y="1579680"/>
              <a:ext cx="262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719680" y="1480680"/>
              <a:ext cx="2620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19680" y="1498680"/>
              <a:ext cx="262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719680" y="1398600"/>
              <a:ext cx="26208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19680" y="1415880"/>
              <a:ext cx="2620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5719680" y="1317600"/>
              <a:ext cx="2620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19680" y="1333440"/>
              <a:ext cx="262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5719680" y="1235160"/>
              <a:ext cx="2620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19680" y="1251000"/>
              <a:ext cx="2620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719680" y="1152000"/>
              <a:ext cx="26208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19680" y="1176480"/>
              <a:ext cx="26208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719680" y="1069560"/>
              <a:ext cx="2620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9680" y="1095480"/>
              <a:ext cx="2620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719680" y="987480"/>
              <a:ext cx="262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9680" y="1012680"/>
              <a:ext cx="26208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719680" y="905040"/>
              <a:ext cx="262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19680" y="930240"/>
              <a:ext cx="2620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719680" y="824040"/>
              <a:ext cx="262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9680" y="847800"/>
              <a:ext cx="2620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719680" y="741240"/>
              <a:ext cx="26208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19680" y="765000"/>
              <a:ext cx="26208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5719680" y="658800"/>
              <a:ext cx="26208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719680" y="682560"/>
              <a:ext cx="2620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719680" y="576360"/>
              <a:ext cx="26208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19680" y="60948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719680" y="493200"/>
              <a:ext cx="262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9680" y="52704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719680" y="410760"/>
              <a:ext cx="262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9680" y="44460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719680" y="330120"/>
              <a:ext cx="2620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19680" y="36180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5719680" y="247680"/>
              <a:ext cx="2620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19680" y="279360"/>
              <a:ext cx="2620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5719680" y="165240"/>
              <a:ext cx="26208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19680" y="198360"/>
              <a:ext cx="2620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6048360" y="2747520"/>
              <a:ext cx="25560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48360" y="2757600"/>
              <a:ext cx="2556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048360" y="270684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48360" y="271620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048360" y="266688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48360" y="2674800"/>
              <a:ext cx="2556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048360" y="2625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48360" y="263376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6048360" y="2584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8360" y="259236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6048360" y="2543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48360" y="2550960"/>
              <a:ext cx="2556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048360" y="2502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48360" y="250992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048360" y="2460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48360" y="246852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6048360" y="241920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48360" y="2427120"/>
              <a:ext cx="2556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048360" y="2378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48360" y="238608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048360" y="2336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48360" y="234468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048360" y="229500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48360" y="230508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6048360" y="225432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8360" y="226368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048360" y="221256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48360" y="2222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048360" y="21733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48360" y="2181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6048360" y="2131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48360" y="2139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6048360" y="209088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48360" y="209880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048360" y="20494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48360" y="20574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048360" y="2008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48360" y="2016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048360" y="1967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48360" y="1974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048360" y="1925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48360" y="1933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6048360" y="1884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48360" y="189216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048360" y="1843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48360" y="185112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048360" y="180180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48360" y="181116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048360" y="176004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48360" y="1770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048360" y="171144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48360" y="1728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048360" y="166968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48360" y="1687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6048360" y="162828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48360" y="1646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6048360" y="158904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48360" y="16048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048360" y="1547280"/>
              <a:ext cx="2556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48360" y="1563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6048360" y="150660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48360" y="1522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048360" y="146520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48360" y="1481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048360" y="1424160"/>
              <a:ext cx="2556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48360" y="144000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048360" y="138276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48360" y="139860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6048360" y="134136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48360" y="135720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048360" y="130032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48360" y="1317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048360" y="1258920"/>
              <a:ext cx="2556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48360" y="1276200"/>
              <a:ext cx="255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048360" y="139320"/>
            <a:ext cx="584280" cy="2642040"/>
            <a:chOff x="6048360" y="139320"/>
            <a:chExt cx="584280" cy="2642040"/>
          </a:xfrm>
        </p:grpSpPr>
        <p:sp>
          <p:nvSpPr>
            <p:cNvPr id="1122" name=""/>
            <p:cNvSpPr/>
            <p:nvPr/>
          </p:nvSpPr>
          <p:spPr>
            <a:xfrm flipV="1">
              <a:off x="6048360" y="121716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48360" y="1235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048360" y="117648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48360" y="1193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6048360" y="113652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48360" y="11523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048360" y="109548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048360" y="1111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048360" y="105408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48360" y="1069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048360" y="1012320"/>
              <a:ext cx="2556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48360" y="1028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6048360" y="97164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48360" y="9874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048360" y="93024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48360" y="9460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048360" y="888480"/>
              <a:ext cx="2556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48360" y="905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048360" y="847800"/>
              <a:ext cx="2556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48360" y="863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048360" y="80604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48360" y="824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048360" y="76464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48360" y="782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048360" y="723960"/>
              <a:ext cx="2556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48360" y="741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6048360" y="682200"/>
              <a:ext cx="2556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48360" y="700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6048360" y="632880"/>
              <a:ext cx="2556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48360" y="658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6048360" y="592200"/>
              <a:ext cx="2556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48360" y="617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6048360" y="55260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48360" y="576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048360" y="51120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48360" y="534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048360" y="46980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48360" y="493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6048360" y="42876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48360" y="452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6048360" y="38736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48360" y="411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048360" y="345960"/>
              <a:ext cx="2556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048360" y="3697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048360" y="304920"/>
              <a:ext cx="2556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48360" y="330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6048360" y="263160"/>
              <a:ext cx="2556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48360" y="289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048360" y="221760"/>
              <a:ext cx="2556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048360" y="247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6048360" y="181080"/>
              <a:ext cx="2556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048360" y="2062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48360" y="139320"/>
              <a:ext cx="2556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48360" y="165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69120" y="27734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69120" y="2773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69120" y="27478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69120" y="2747880"/>
              <a:ext cx="2635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69120" y="27320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369120" y="2732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369120" y="27068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369120" y="2706840"/>
              <a:ext cx="26352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69120" y="2690640"/>
              <a:ext cx="2635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69120" y="2690640"/>
              <a:ext cx="2635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9120" y="26668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369120" y="2666880"/>
              <a:ext cx="2635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69120" y="26496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369120" y="2649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369120" y="26258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69120" y="2625840"/>
              <a:ext cx="2635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69120" y="26082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369120" y="2608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69120" y="25844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369120" y="2584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69120" y="25671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69120" y="256716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69120" y="25430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69120" y="2543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369120" y="25257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69120" y="252576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69120" y="25020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69120" y="25020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69120" y="24861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69120" y="2486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369120" y="24606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69120" y="2460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369120" y="2444760"/>
              <a:ext cx="2635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69120" y="2444760"/>
              <a:ext cx="2635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369120" y="24192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369120" y="2419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6369120" y="2395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369120" y="24033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69120" y="23781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69120" y="2378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6369120" y="23544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369120" y="2362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369120" y="23367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69120" y="2336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6369120" y="23130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69120" y="2320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69120" y="22953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369120" y="229536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6369120" y="2271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69120" y="22795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9120" y="22543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69120" y="225432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9120" y="22305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69120" y="22305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9120" y="22129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69120" y="221292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69120" y="21891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69120" y="2189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69120" y="21733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69120" y="2173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9120" y="21477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369120" y="2147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69120" y="21319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69120" y="2131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369120" y="2106720"/>
              <a:ext cx="2635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69120" y="2106720"/>
              <a:ext cx="2635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69120" y="20908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9120" y="2090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69120" y="20653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69120" y="2065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6369120" y="20415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369120" y="2049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69120" y="20239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69120" y="2023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69120" y="2000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69120" y="20080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69120" y="19828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369120" y="198288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6369120" y="19591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69120" y="1967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369120" y="19414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69120" y="194148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6369120" y="19177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69120" y="19256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369120" y="19018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69120" y="1901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6369120" y="1876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69120" y="18842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69120" y="18604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9120" y="1860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369120" y="18352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69120" y="18432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69120" y="18194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69120" y="1819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6369120" y="1793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69120" y="18018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369120" y="17780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69120" y="1778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6369120" y="1752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69120" y="17604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369120" y="17366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69120" y="17366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369120" y="17114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69120" y="171144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6369120" y="16876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69120" y="1695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69120" y="16700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69120" y="167004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6369120" y="16462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69120" y="1654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69120" y="16286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369120" y="162864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369120" y="1604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69120" y="16128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69120" y="15890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69120" y="1589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369120" y="15638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69120" y="1571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69120" y="15476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69120" y="1547640"/>
              <a:ext cx="26352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369120" y="1522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9120" y="15303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69120" y="15066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69120" y="1506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6369120" y="1481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69120" y="14889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69120" y="14652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69120" y="1465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369120" y="1440000"/>
              <a:ext cx="2635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9120" y="1447920"/>
              <a:ext cx="2635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69120" y="14241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69120" y="1424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6369120" y="139860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69120" y="14079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69120" y="13827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69120" y="1382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369120" y="135684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69120" y="13669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6369120" y="1333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69120" y="13413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369120" y="1317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69120" y="13255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369120" y="12924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69120" y="1300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6369120" y="1276200"/>
              <a:ext cx="2635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69120" y="1284120"/>
              <a:ext cx="2635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369120" y="131760"/>
            <a:ext cx="583920" cy="2657520"/>
            <a:chOff x="6369120" y="131760"/>
            <a:chExt cx="583920" cy="2657520"/>
          </a:xfrm>
        </p:grpSpPr>
        <p:sp>
          <p:nvSpPr>
            <p:cNvPr id="1323" name=""/>
            <p:cNvSpPr/>
            <p:nvPr/>
          </p:nvSpPr>
          <p:spPr>
            <a:xfrm flipV="1">
              <a:off x="6369120" y="12510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69120" y="1258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6369120" y="1235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69120" y="12430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6369120" y="1209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69120" y="121752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369120" y="1193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69120" y="12016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369120" y="11685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69120" y="11764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69120" y="11523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69120" y="1152360"/>
              <a:ext cx="26352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6369120" y="112716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69120" y="11365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9120" y="11113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69120" y="1111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369120" y="108540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69120" y="10954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69120" y="10699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69120" y="1069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6369120" y="1046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69120" y="10540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69120" y="10288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69120" y="1028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6369120" y="1004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69120" y="10126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6369120" y="9795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69120" y="987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6369120" y="9637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69120" y="9716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6369120" y="938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9120" y="9460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6369120" y="922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9120" y="9302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6369120" y="896400"/>
              <a:ext cx="26352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9120" y="90504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6369120" y="8809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9120" y="8888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6369120" y="8557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86364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6369120" y="839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69120" y="8478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6369120" y="81396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69120" y="8240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6369120" y="798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69120" y="8064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6369120" y="77328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69120" y="7826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6369120" y="7570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69120" y="7650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6369120" y="733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69120" y="74124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6369120" y="716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69120" y="7239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6369120" y="6922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69120" y="7002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6369120" y="6746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69120" y="6825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6369120" y="650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69120" y="65880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369120" y="62532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69120" y="63324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6369120" y="6094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69120" y="6174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6369120" y="5842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69120" y="59220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6369120" y="568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369120" y="5763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369120" y="54252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69120" y="552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6369120" y="527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69120" y="5349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6369120" y="501120"/>
              <a:ext cx="2635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69120" y="511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369120" y="4856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69120" y="4935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6369120" y="46188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369120" y="46980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6369120" y="444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369120" y="4525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6369120" y="4208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69120" y="4287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6369120" y="403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69120" y="4111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6369120" y="3794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369120" y="38736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6369120" y="3618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69120" y="3697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6369120" y="33804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69120" y="34596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6369120" y="320760"/>
              <a:ext cx="2635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369120" y="3301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369120" y="2970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369120" y="3049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369120" y="271080"/>
              <a:ext cx="2635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69120" y="2890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369120" y="2556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369120" y="26352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6369120" y="229680"/>
              <a:ext cx="2635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369120" y="2476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6369120" y="21420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69120" y="22212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369120" y="189000"/>
              <a:ext cx="26352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69120" y="206280"/>
              <a:ext cx="263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6369120" y="1731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69120" y="1810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6369120" y="149400"/>
              <a:ext cx="2635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69120" y="16524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6369120" y="131760"/>
              <a:ext cx="2635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69120" y="139680"/>
              <a:ext cx="263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97440" y="2781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97440" y="27813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697440" y="2773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697440" y="2773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97440" y="2765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97440" y="2765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7440" y="2747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97440" y="274788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697440" y="2739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7440" y="2739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97440" y="2732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7440" y="2732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7440" y="27241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97440" y="27241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97440" y="2706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97440" y="270684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97440" y="2698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97440" y="2698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97440" y="2690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7440" y="2690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697440" y="26827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97440" y="26827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97440" y="2666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97440" y="26668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697440" y="2657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697440" y="265752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697440" y="2649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697440" y="2649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697440" y="2633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697440" y="2641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97440" y="2625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97440" y="2625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97440" y="2616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97440" y="261612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97440" y="2608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697440" y="2608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697440" y="2592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697440" y="25923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697440" y="2584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697440" y="2584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697440" y="2576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697440" y="2576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697440" y="2567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97440" y="2567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97440" y="2550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97440" y="2550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697440" y="2543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697440" y="2543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697440" y="2535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97440" y="2535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697440" y="2525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697440" y="2525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697440" y="2509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697440" y="2509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97440" y="2502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97440" y="2502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97440" y="2494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97440" y="2494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6697440" y="247608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697440" y="2486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697440" y="24685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97440" y="2468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97440" y="2460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97440" y="2460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97440" y="2452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697440" y="2452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6697440" y="243540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697440" y="2444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97440" y="2427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97440" y="242712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97440" y="2419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97440" y="2419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97440" y="24112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97440" y="24112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97440" y="23954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97440" y="2395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97440" y="2386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97440" y="238608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97440" y="2378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97440" y="2378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97440" y="2370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97440" y="2370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97440" y="2354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97440" y="23544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97440" y="2344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97440" y="234468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97440" y="2336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97440" y="2336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6697440" y="2320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97440" y="2328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6697800" y="1284120"/>
            <a:ext cx="255600" cy="1036800"/>
            <a:chOff x="6697800" y="1284120"/>
            <a:chExt cx="255600" cy="1036800"/>
          </a:xfrm>
        </p:grpSpPr>
        <p:sp>
          <p:nvSpPr>
            <p:cNvPr id="1524" name=""/>
            <p:cNvSpPr/>
            <p:nvPr/>
          </p:nvSpPr>
          <p:spPr>
            <a:xfrm>
              <a:off x="6697800" y="2313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97800" y="2313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97800" y="2305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7800" y="2305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7800" y="22953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22953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6697800" y="2279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97800" y="22874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97800" y="22716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97800" y="2271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97800" y="2263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97800" y="2263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97800" y="2254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7800" y="2254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7800" y="22384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22384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97800" y="2230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97800" y="2230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697800" y="2222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697800" y="2222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697800" y="2212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697800" y="2212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697800" y="2197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697800" y="2197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697800" y="2189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97800" y="2189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97800" y="2181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697800" y="2181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697800" y="216324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697800" y="2173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697800" y="2155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97800" y="2155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697800" y="2147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697800" y="2147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97800" y="2139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97800" y="2139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6697800" y="212256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697800" y="2131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697800" y="2114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97800" y="2114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97800" y="21067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97800" y="2106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697800" y="2098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97800" y="2098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6697800" y="2082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97800" y="2090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697800" y="2073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97800" y="207324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97800" y="2065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697800" y="2065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97800" y="2057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97800" y="2057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97800" y="2041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697800" y="2041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97800" y="2031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697800" y="203184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697800" y="2023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97800" y="2023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6697800" y="2008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697800" y="20160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697800" y="20001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97800" y="2000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697800" y="1992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697800" y="1992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697800" y="1982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97800" y="1982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6697800" y="1967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697800" y="1974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697800" y="19591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697800" y="1959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697800" y="1951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697800" y="1951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97800" y="1941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97800" y="1941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6697800" y="1925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97800" y="1933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697800" y="19177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697800" y="1917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97800" y="1909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697800" y="1909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97800" y="1901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97800" y="1901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97800" y="1884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97800" y="1884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697800" y="1876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697800" y="18763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97800" y="1868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7800" y="1868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6697800" y="185112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97800" y="1860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697800" y="1843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697800" y="1843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97800" y="1835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97800" y="1835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97800" y="1827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97800" y="1827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6697800" y="181080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697800" y="1819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697800" y="1801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97800" y="180180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697800" y="1793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7800" y="1793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97800" y="1785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697800" y="1785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6697800" y="1770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97800" y="1778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97800" y="1760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97800" y="176040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97800" y="1752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97800" y="1752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697800" y="1744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97800" y="1744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6697800" y="1728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97800" y="1736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697800" y="17208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697800" y="17208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697800" y="1711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697800" y="1711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697800" y="1695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697800" y="1703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697800" y="1687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697800" y="1687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697800" y="1679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97800" y="167940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97800" y="1670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97800" y="1670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6697800" y="1654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697800" y="16621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697800" y="1646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697800" y="1646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697800" y="1638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697800" y="1638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697800" y="1628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97800" y="1628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697800" y="16128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697800" y="16207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697800" y="1604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697800" y="16048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697800" y="1596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697800" y="1596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697800" y="1589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697800" y="1589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6697800" y="1571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697800" y="1579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697800" y="1563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697800" y="1563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697800" y="1555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697800" y="1555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6697800" y="153828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697800" y="1547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697800" y="1530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697800" y="15303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697800" y="1522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97800" y="1522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97800" y="1514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697800" y="1514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6697800" y="1498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697800" y="1506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697800" y="1488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697800" y="148896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697800" y="1481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697800" y="1481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697800" y="1473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697800" y="1473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6697800" y="1457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97800" y="1465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697800" y="1447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697800" y="144792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697800" y="1440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97800" y="1440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97800" y="1432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97800" y="1432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6697800" y="141552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697800" y="1424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697800" y="1407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697800" y="1407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697800" y="1398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697800" y="1398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6697800" y="1382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697800" y="1390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6697800" y="1374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697800" y="1382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697800" y="1366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697800" y="1366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97800" y="1357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97800" y="1357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6697800" y="13413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697800" y="13492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97800" y="13334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97800" y="1333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97800" y="13255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697800" y="13255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697800" y="1317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97800" y="1317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6697800" y="13003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697800" y="1308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697800" y="1292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697800" y="12924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697800" y="1284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697800" y="1284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6697800" y="239760"/>
            <a:ext cx="255600" cy="1038240"/>
            <a:chOff x="6697800" y="239760"/>
            <a:chExt cx="255600" cy="1038240"/>
          </a:xfrm>
        </p:grpSpPr>
        <p:sp>
          <p:nvSpPr>
            <p:cNvPr id="1725" name=""/>
            <p:cNvSpPr/>
            <p:nvPr/>
          </p:nvSpPr>
          <p:spPr>
            <a:xfrm>
              <a:off x="6697800" y="1276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97800" y="12762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6697800" y="1258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97800" y="1266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697800" y="1251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97800" y="1251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97800" y="1243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97800" y="1243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697800" y="1227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697800" y="1235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6697800" y="121716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697800" y="1227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97800" y="12096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97800" y="1209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97800" y="1201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97800" y="1201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6697800" y="1185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97800" y="1193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97800" y="11764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697800" y="117648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97800" y="1168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697800" y="1168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697800" y="1160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97800" y="1160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697800" y="1144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697800" y="11523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97800" y="11365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697800" y="1136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697800" y="1127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697800" y="1127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697800" y="1119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697800" y="11192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6697800" y="11034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697800" y="1111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97800" y="10954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697800" y="10954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697800" y="1085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697800" y="1085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6697800" y="10699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697800" y="1077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6697800" y="1062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697800" y="1069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697800" y="1054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697800" y="1054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697800" y="1046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97800" y="10461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6697800" y="10288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697800" y="1036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6697800" y="102024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697800" y="1028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697800" y="1012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697800" y="10126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697800" y="1004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697800" y="1004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6697800" y="9874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697800" y="995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697800" y="9795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697800" y="979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697800" y="971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97800" y="971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6697800" y="95364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697800" y="9637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6697800" y="946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697800" y="9540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697800" y="9381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697800" y="938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697800" y="930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697800" y="930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6697800" y="9144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697800" y="9223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6697800" y="90504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97800" y="9144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697800" y="8967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97800" y="896760"/>
              <a:ext cx="255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97800" y="888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97800" y="8888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6697800" y="8730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97800" y="8809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6697800" y="86364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97800" y="8730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97800" y="8557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697800" y="8557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697800" y="847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97800" y="847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6697800" y="831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697800" y="839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697800" y="824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97800" y="824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697800" y="814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697800" y="814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6697800" y="7984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97800" y="806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697800" y="790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97800" y="798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697800" y="7826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697800" y="782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697800" y="773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697800" y="773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6697800" y="757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697800" y="7650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6697800" y="7491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697800" y="7570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97800" y="7412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697800" y="7412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697800" y="733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697800" y="733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6697800" y="7160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697800" y="723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6697800" y="708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697800" y="716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697800" y="700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97800" y="700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697800" y="692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697800" y="692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6697800" y="674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697800" y="682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6697800" y="666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97800" y="674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97800" y="658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697800" y="6588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6697800" y="6429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697800" y="6508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6697800" y="63288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697800" y="642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697800" y="6253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697800" y="6253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697800" y="617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697800" y="6174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6697800" y="6015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97800" y="609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697800" y="59220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97800" y="601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97800" y="5842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697800" y="584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697800" y="576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697800" y="576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697800" y="5605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97800" y="568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6697800" y="552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697800" y="560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697800" y="542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697800" y="542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97800" y="534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697800" y="5349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6697800" y="519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97800" y="5270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6697800" y="511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697800" y="5191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697800" y="501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697800" y="5014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697800" y="4856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7800" y="4935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697800" y="4777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697800" y="4856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697800" y="4698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697800" y="4698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697800" y="461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697800" y="46188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6697800" y="4446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697800" y="452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697800" y="436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97800" y="444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697800" y="428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697800" y="428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697800" y="420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697800" y="4208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97800" y="4032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697800" y="411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697800" y="3952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97800" y="4032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697800" y="387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697800" y="3873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97800" y="379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97800" y="379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697800" y="36180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697800" y="3697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97800" y="3538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697800" y="36180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97800" y="345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97800" y="34596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697800" y="33012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697800" y="33804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697800" y="320760"/>
              <a:ext cx="2556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97800" y="330120"/>
              <a:ext cx="255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6697800" y="3128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697800" y="32076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97800" y="304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697800" y="3049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6697800" y="2890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697800" y="2970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6697800" y="279000"/>
              <a:ext cx="2556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697800" y="2890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697800" y="27144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97800" y="27144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97800" y="263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97800" y="26352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697800" y="24768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697800" y="25560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697800" y="239760"/>
              <a:ext cx="255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97800" y="247680"/>
              <a:ext cx="255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6697800" y="23004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697800" y="23004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697800" y="22212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697800" y="22212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6697800" y="20628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697800" y="21420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6697800" y="19836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697800" y="206280"/>
            <a:ext cx="25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697800" y="18900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697800" y="18900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6697800" y="17316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97800" y="18108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6697800" y="16524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697800" y="17316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6697800" y="15732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697800" y="16524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697800" y="14940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697800" y="14940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6697800" y="13176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697800" y="13968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6697800" y="123840"/>
            <a:ext cx="255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697800" y="131760"/>
            <a:ext cx="25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43280" y="3784680"/>
            <a:ext cx="3571920" cy="2674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43280" y="37846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743280" y="3784680"/>
            <a:ext cx="3571920" cy="2674800"/>
          </a:xfrm>
          <a:custGeom>
            <a:avLst/>
            <a:gdLst/>
            <a:ahLst/>
            <a:rect l="l" t="t" r="r" b="b"/>
            <a:pathLst>
              <a:path w="434" h="325">
                <a:moveTo>
                  <a:pt x="0" y="325"/>
                </a:moveTo>
                <a:lnTo>
                  <a:pt x="434" y="325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3743280" y="3784680"/>
            <a:ext cx="1800" cy="267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743280" y="645948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3743280" y="3784680"/>
            <a:ext cx="1800" cy="267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3743280" y="64184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743280" y="378468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669840" y="6485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5365800" y="641844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65800" y="37846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290920" y="6485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V="1">
            <a:off x="6986520" y="641844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86520" y="378468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838560" y="64850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743280" y="56530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7291440" y="56530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43280" y="56944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7291440" y="5694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743280" y="57434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7291440" y="57434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743280" y="58006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7291440" y="58006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743280" y="58672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7291440" y="58672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743280" y="594036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7291440" y="59403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743280" y="60310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7291440" y="60310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743280" y="61466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7291440" y="61466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743280" y="63118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7291440" y="6311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743280" y="56530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7273440" y="56530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258720" y="55054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53560" y="54151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743280" y="53737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7291440" y="5373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743280" y="52084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7291440" y="52084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743280" y="50943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7291440" y="50943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743280" y="50036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7291440" y="50036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3280" y="49291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7291440" y="49291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743280" y="48625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7291440" y="4862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743280" y="48052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7291440" y="48052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743280" y="47642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7291440" y="47642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743280" y="47149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7291440" y="47149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743280" y="4714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7273440" y="47149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258720" y="4567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55356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743280" y="44355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7291440" y="44355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743280" y="42703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7291440" y="42703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743280" y="415620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7291440" y="4156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743280" y="40654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7291440" y="40654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743280" y="39909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7291440" y="3990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43280" y="392580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7291440" y="392580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743280" y="38750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291440" y="38750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743280" y="38257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7291440" y="38257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743280" y="37846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91440" y="37846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743280" y="37846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7273440" y="37846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258720" y="36370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553920" y="3546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743280" y="37846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743280" y="3784680"/>
            <a:ext cx="3571920" cy="2674800"/>
          </a:xfrm>
          <a:custGeom>
            <a:avLst/>
            <a:gdLst/>
            <a:ahLst/>
            <a:rect l="l" t="t" r="r" b="b"/>
            <a:pathLst>
              <a:path w="434" h="325">
                <a:moveTo>
                  <a:pt x="0" y="325"/>
                </a:moveTo>
                <a:lnTo>
                  <a:pt x="434" y="325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3743280" y="3784680"/>
            <a:ext cx="1800" cy="267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56120" y="4937040"/>
            <a:ext cx="2520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032360" y="4913280"/>
            <a:ext cx="7452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78320" y="4937040"/>
            <a:ext cx="237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52760" y="4913280"/>
            <a:ext cx="7488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707000" y="510228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681440" y="5076720"/>
            <a:ext cx="7488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027760" y="5275440"/>
            <a:ext cx="2520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003640" y="524988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356080" y="5627520"/>
            <a:ext cx="255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332320" y="5603760"/>
            <a:ext cx="7488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678640" y="5627520"/>
            <a:ext cx="237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653080" y="5603760"/>
            <a:ext cx="7452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06960" y="5950080"/>
            <a:ext cx="255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981760" y="592452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327720" y="6006960"/>
            <a:ext cx="255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303960" y="598176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657840" y="6451560"/>
            <a:ext cx="24120" cy="23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632640" y="6426360"/>
            <a:ext cx="74520" cy="7452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824760" y="3189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"/>
          <p:cNvGrpSpPr/>
          <p:nvPr/>
        </p:nvGrpSpPr>
        <p:grpSpPr>
          <a:xfrm>
            <a:off x="4427640" y="-33480"/>
            <a:ext cx="3497040" cy="3767040"/>
            <a:chOff x="4427640" y="-33480"/>
            <a:chExt cx="3497040" cy="3767040"/>
          </a:xfrm>
        </p:grpSpPr>
        <p:sp>
          <p:nvSpPr>
            <p:cNvPr id="2051" name=""/>
            <p:cNvSpPr/>
            <p:nvPr/>
          </p:nvSpPr>
          <p:spPr>
            <a:xfrm flipV="1">
              <a:off x="4427640" y="910800"/>
              <a:ext cx="288720" cy="70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427640" y="1617840"/>
              <a:ext cx="288720" cy="70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781520" y="2044080"/>
              <a:ext cx="289080" cy="28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781520" y="2325240"/>
              <a:ext cx="289080" cy="565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781520" y="343440"/>
              <a:ext cx="289080" cy="56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781520" y="910800"/>
              <a:ext cx="289080" cy="28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5143320" y="2799720"/>
              <a:ext cx="279360" cy="9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143320" y="2891520"/>
              <a:ext cx="279360" cy="37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5143320" y="1855080"/>
              <a:ext cx="279360" cy="188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143320" y="2044080"/>
              <a:ext cx="279360" cy="28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5143320" y="910440"/>
              <a:ext cx="279360" cy="28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43320" y="1196640"/>
              <a:ext cx="279360" cy="183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5143320" y="-33480"/>
              <a:ext cx="279360" cy="37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143320" y="343800"/>
              <a:ext cx="279360" cy="97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497560" y="3239640"/>
              <a:ext cx="28872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97560" y="3268800"/>
              <a:ext cx="288720" cy="22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5497560" y="2740680"/>
              <a:ext cx="288720" cy="58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497560" y="2799720"/>
              <a:ext cx="288720" cy="193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5497560" y="2242800"/>
              <a:ext cx="288720" cy="82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497560" y="2325240"/>
              <a:ext cx="288720" cy="168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497560" y="1743840"/>
              <a:ext cx="288720" cy="11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497560" y="1855080"/>
              <a:ext cx="288720" cy="140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497560" y="1245240"/>
              <a:ext cx="288720" cy="135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97560" y="1380600"/>
              <a:ext cx="288720" cy="11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5497560" y="746280"/>
              <a:ext cx="288720" cy="16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497560" y="910800"/>
              <a:ext cx="288720" cy="82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5497560" y="246960"/>
              <a:ext cx="288720" cy="193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497560" y="441000"/>
              <a:ext cx="288720" cy="52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5851440" y="348228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851440" y="3492000"/>
              <a:ext cx="287280" cy="12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5851440" y="3225600"/>
              <a:ext cx="2872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851440" y="3239640"/>
              <a:ext cx="287280" cy="116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5851440" y="296856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851440" y="2993040"/>
              <a:ext cx="287280" cy="106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5851440" y="2455560"/>
              <a:ext cx="28728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51440" y="2494080"/>
              <a:ext cx="287280" cy="86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5851440" y="2198520"/>
              <a:ext cx="287280" cy="43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51440" y="2242800"/>
              <a:ext cx="287280" cy="82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5851440" y="1942200"/>
              <a:ext cx="287280" cy="53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851440" y="1995480"/>
              <a:ext cx="287280" cy="72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5851440" y="1423440"/>
              <a:ext cx="287280" cy="68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851440" y="1491840"/>
              <a:ext cx="287280" cy="62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5851440" y="1167480"/>
              <a:ext cx="287280" cy="77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51440" y="1245240"/>
              <a:ext cx="287280" cy="52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5851440" y="910800"/>
              <a:ext cx="287280" cy="82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851440" y="992880"/>
              <a:ext cx="287280" cy="48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5851440" y="396720"/>
              <a:ext cx="287280" cy="9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51440" y="493920"/>
              <a:ext cx="2872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213600" y="3613320"/>
              <a:ext cx="28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213600" y="3613320"/>
              <a:ext cx="288720" cy="62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6213600" y="3351960"/>
              <a:ext cx="28872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13600" y="3356640"/>
              <a:ext cx="288720" cy="57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6213600" y="3089880"/>
              <a:ext cx="28872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213600" y="3099600"/>
              <a:ext cx="288720" cy="52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6213600" y="2566800"/>
              <a:ext cx="28872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13600" y="2581200"/>
              <a:ext cx="288720" cy="48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6213600" y="2436480"/>
              <a:ext cx="28872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213600" y="2455920"/>
              <a:ext cx="288720" cy="42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6213600" y="2305440"/>
              <a:ext cx="28872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213600" y="2325240"/>
              <a:ext cx="288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6213600" y="2043720"/>
              <a:ext cx="2887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213600" y="2068200"/>
              <a:ext cx="28872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6213600" y="1521000"/>
              <a:ext cx="2887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13600" y="1554480"/>
              <a:ext cx="28872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6213600" y="1389600"/>
              <a:ext cx="288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213600" y="1423800"/>
              <a:ext cx="288720" cy="29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6213600" y="1259280"/>
              <a:ext cx="288720" cy="38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213600" y="1298520"/>
              <a:ext cx="2887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6213600" y="997200"/>
              <a:ext cx="288720" cy="43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213600" y="1041480"/>
              <a:ext cx="2887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6213600" y="474480"/>
              <a:ext cx="288720" cy="48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213600" y="523080"/>
              <a:ext cx="28872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567480" y="367596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567480" y="3675960"/>
              <a:ext cx="2872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567480" y="341424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567480" y="3414240"/>
              <a:ext cx="2872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567480" y="314820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567480" y="3152880"/>
              <a:ext cx="2872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6567480" y="262008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567480" y="262980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6567480" y="2556720"/>
              <a:ext cx="287280" cy="1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67480" y="256716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6567480" y="248904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567480" y="249876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6567480" y="235836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567480" y="236808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6567480" y="209664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567480" y="210636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6567480" y="1569240"/>
              <a:ext cx="2872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567480" y="1583280"/>
              <a:ext cx="28728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6567480" y="1501200"/>
              <a:ext cx="28728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567480" y="1521000"/>
              <a:ext cx="28728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6567480" y="1438200"/>
              <a:ext cx="28728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567480" y="1453680"/>
              <a:ext cx="287280" cy="18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6567480" y="1307520"/>
              <a:ext cx="28728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567480" y="1322640"/>
              <a:ext cx="2872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6567480" y="104112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67480" y="106596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6567480" y="518040"/>
              <a:ext cx="28728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567480" y="54288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929280" y="3709440"/>
              <a:ext cx="27936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29280" y="3709440"/>
              <a:ext cx="27936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29280" y="3181680"/>
              <a:ext cx="27936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929280" y="3181680"/>
              <a:ext cx="27936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6929280" y="2648880"/>
              <a:ext cx="2793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929280" y="2653920"/>
              <a:ext cx="27936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6929280" y="258660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9280" y="259128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6929280" y="251856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929280" y="2523240"/>
              <a:ext cx="279360" cy="1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6929280" y="238788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929280" y="2392560"/>
              <a:ext cx="279360" cy="1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6929280" y="212112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929280" y="2130840"/>
              <a:ext cx="279360" cy="1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6929280" y="1593720"/>
              <a:ext cx="27936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929280" y="160308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6929280" y="1525680"/>
              <a:ext cx="279360" cy="10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929280" y="153576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6929280" y="146232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929280" y="147204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6929280" y="132696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929280" y="133668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929280" y="1065600"/>
              <a:ext cx="27936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929280" y="107532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6929280" y="537840"/>
              <a:ext cx="27936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929280" y="547560"/>
              <a:ext cx="2793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283520" y="372456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283520" y="372456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83520" y="260064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283520" y="260064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283520" y="253368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83520" y="2533680"/>
              <a:ext cx="287280" cy="9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283520" y="240264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283520" y="240264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7283520" y="213516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283520" y="214128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7283520" y="154044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83520" y="154512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7283520" y="147204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283520" y="147672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7283520" y="134136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283520" y="134604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7283520" y="107532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283520" y="108000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7283520" y="54756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283520" y="55224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637400" y="260532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637400" y="260532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7637400" y="2538360"/>
              <a:ext cx="28728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637400" y="254304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7637400" y="1345680"/>
              <a:ext cx="2872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637400" y="1351800"/>
              <a:ext cx="28728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3" name=""/>
          <p:cNvSpPr/>
          <p:nvPr/>
        </p:nvSpPr>
        <p:spPr>
          <a:xfrm>
            <a:off x="533520" y="281952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2090090255344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63721751320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4746662417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060830317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02644233218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92626477347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65757095625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49449872187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45338439007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235645782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20257233462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02276328492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4" name=""/>
          <p:cNvGrpSpPr/>
          <p:nvPr/>
        </p:nvGrpSpPr>
        <p:grpSpPr>
          <a:xfrm>
            <a:off x="3940200" y="2739960"/>
            <a:ext cx="4746240" cy="4027320"/>
            <a:chOff x="3940200" y="2739960"/>
            <a:chExt cx="4746240" cy="4027320"/>
          </a:xfrm>
        </p:grpSpPr>
        <p:sp>
          <p:nvSpPr>
            <p:cNvPr id="2205" name=""/>
            <p:cNvSpPr/>
            <p:nvPr/>
          </p:nvSpPr>
          <p:spPr>
            <a:xfrm>
              <a:off x="4348800" y="2903400"/>
              <a:ext cx="4337640" cy="3564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348800" y="290340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48800" y="6467400"/>
              <a:ext cx="433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4348800" y="290340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348800" y="64256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289040" y="6492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5009760" y="64256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948200" y="6492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5679000" y="6425640"/>
              <a:ext cx="216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619240" y="6492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6347880" y="6425640"/>
              <a:ext cx="216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8480" y="6492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7018920" y="64256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957360" y="6492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7678440" y="6425640"/>
              <a:ext cx="216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556040" y="6492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8347320" y="6425640"/>
              <a:ext cx="216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227800" y="6492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348800" y="6384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348800" y="64180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348800" y="646740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348800" y="638460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940200" y="62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78520" y="622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48800" y="6122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348800" y="596556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348800" y="58593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348800" y="577656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348800" y="57020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348800" y="56448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348800" y="55958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348800" y="5554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348800" y="55130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348800" y="551304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940200" y="5414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8520" y="5348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348800" y="52495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348800" y="50925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48800" y="49860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8800" y="49035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348800" y="48384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348800" y="477180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348800" y="47224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348800" y="4681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348800" y="46400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348800" y="4640040"/>
              <a:ext cx="3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940200" y="4541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78520" y="44766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48800" y="43765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48800" y="4228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348800" y="41144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348800" y="40320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348800" y="396540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348800" y="390816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348800" y="3858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48800" y="380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348800" y="37684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348800" y="3768480"/>
              <a:ext cx="3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40200" y="3670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78520" y="36036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48800" y="350496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940200" y="2804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178160" y="2739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4348800" y="290340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668840" y="3709800"/>
              <a:ext cx="306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639680" y="3686040"/>
              <a:ext cx="885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98600" y="4146480"/>
              <a:ext cx="3060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969080" y="4122360"/>
              <a:ext cx="8856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339520" y="4195440"/>
              <a:ext cx="288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308920" y="4171680"/>
              <a:ext cx="9036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669280" y="4244760"/>
              <a:ext cx="288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38680" y="4221000"/>
              <a:ext cx="903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99040" y="4582800"/>
              <a:ext cx="288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68440" y="4557600"/>
              <a:ext cx="903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338160" y="4582800"/>
              <a:ext cx="3096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07560" y="4557600"/>
              <a:ext cx="903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67920" y="4657680"/>
              <a:ext cx="3096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39120" y="4632120"/>
              <a:ext cx="885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007760" y="5109840"/>
              <a:ext cx="3060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978240" y="5084640"/>
              <a:ext cx="885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337160" y="6040080"/>
              <a:ext cx="30600" cy="2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308000" y="6014880"/>
              <a:ext cx="9072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66920" y="6040080"/>
              <a:ext cx="30600" cy="2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38120" y="6014880"/>
              <a:ext cx="903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007840" y="6459480"/>
              <a:ext cx="28800" cy="252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977240" y="6435360"/>
              <a:ext cx="90360" cy="73080"/>
            </a:xfrm>
            <a:prstGeom prst="ellipse">
              <a:avLst/>
            </a:prstGeom>
            <a:solidFill>
              <a:srgbClr val="cc0099"/>
            </a:solidFill>
            <a:ln w="0">
              <a:solidFill>
                <a:srgbClr val="cc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1" name=""/>
          <p:cNvSpPr/>
          <p:nvPr/>
        </p:nvSpPr>
        <p:spPr>
          <a:xfrm>
            <a:off x="824760" y="3189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2" name=""/>
          <p:cNvGrpSpPr/>
          <p:nvPr/>
        </p:nvGrpSpPr>
        <p:grpSpPr>
          <a:xfrm>
            <a:off x="4172040" y="-360"/>
            <a:ext cx="3292560" cy="2905200"/>
            <a:chOff x="4172040" y="-360"/>
            <a:chExt cx="3292560" cy="2905200"/>
          </a:xfrm>
        </p:grpSpPr>
        <p:sp>
          <p:nvSpPr>
            <p:cNvPr id="2293" name=""/>
            <p:cNvSpPr/>
            <p:nvPr/>
          </p:nvSpPr>
          <p:spPr>
            <a:xfrm flipV="1">
              <a:off x="4172040" y="848520"/>
              <a:ext cx="189000" cy="515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72040" y="1364040"/>
              <a:ext cx="189000" cy="511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4410000" y="1672920"/>
              <a:ext cx="190440" cy="203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10000" y="1876320"/>
              <a:ext cx="190440" cy="414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4410000" y="438840"/>
              <a:ext cx="190440" cy="40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10000" y="848520"/>
              <a:ext cx="190440" cy="206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4649760" y="2220840"/>
              <a:ext cx="189000" cy="69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649760" y="2290680"/>
              <a:ext cx="189000" cy="27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649760" y="1534680"/>
              <a:ext cx="189000" cy="138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649760" y="1672920"/>
              <a:ext cx="189000" cy="203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4649760" y="848520"/>
              <a:ext cx="189000" cy="206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49760" y="1055160"/>
              <a:ext cx="189000" cy="13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4649760" y="162360"/>
              <a:ext cx="189000" cy="27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649760" y="438840"/>
              <a:ext cx="189000" cy="64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4888080" y="2542680"/>
              <a:ext cx="18864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888080" y="2562480"/>
              <a:ext cx="188640" cy="162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4888080" y="2180160"/>
              <a:ext cx="188640" cy="40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888080" y="2221200"/>
              <a:ext cx="188640" cy="13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4888080" y="1815480"/>
              <a:ext cx="188640" cy="60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88080" y="1876320"/>
              <a:ext cx="18864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4888080" y="1453320"/>
              <a:ext cx="188640" cy="81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888080" y="1534680"/>
              <a:ext cx="188640" cy="102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4888080" y="1087560"/>
              <a:ext cx="188640" cy="101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080" y="1190160"/>
              <a:ext cx="188640" cy="81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4888080" y="726480"/>
              <a:ext cx="18864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88080" y="848520"/>
              <a:ext cx="188640" cy="60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4888080" y="365760"/>
              <a:ext cx="188640" cy="138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88080" y="504000"/>
              <a:ext cx="188640" cy="40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888080" y="-360"/>
              <a:ext cx="188640" cy="162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88080" y="162360"/>
              <a:ext cx="18864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5126040" y="2716920"/>
              <a:ext cx="190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126040" y="2724840"/>
              <a:ext cx="190440" cy="86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5126040" y="2529720"/>
              <a:ext cx="190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26040" y="2542680"/>
              <a:ext cx="190440" cy="8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5126040" y="2343240"/>
              <a:ext cx="1904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126040" y="2359080"/>
              <a:ext cx="19044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5126040" y="2155680"/>
              <a:ext cx="19044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26040" y="2180520"/>
              <a:ext cx="190440" cy="69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5126040" y="1969920"/>
              <a:ext cx="190440" cy="27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26040" y="1998360"/>
              <a:ext cx="190440" cy="64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5126040" y="1783440"/>
              <a:ext cx="190440" cy="32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126040" y="1815840"/>
              <a:ext cx="190440" cy="60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5126040" y="1595880"/>
              <a:ext cx="190440" cy="40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126040" y="1637280"/>
              <a:ext cx="190440" cy="51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5126040" y="1222200"/>
              <a:ext cx="190440" cy="48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126040" y="1271160"/>
              <a:ext cx="190440" cy="43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5126040" y="1035000"/>
              <a:ext cx="1904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6040" y="1087920"/>
              <a:ext cx="190440" cy="40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5126040" y="848520"/>
              <a:ext cx="190440" cy="60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126040" y="909000"/>
              <a:ext cx="190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5126040" y="661680"/>
              <a:ext cx="190440" cy="64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26040" y="726480"/>
              <a:ext cx="19044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5126040" y="474120"/>
              <a:ext cx="190440" cy="69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126040" y="544320"/>
              <a:ext cx="190440" cy="2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5126040" y="287640"/>
              <a:ext cx="19044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126040" y="365760"/>
              <a:ext cx="19044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5126040" y="100800"/>
              <a:ext cx="190440" cy="8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126040" y="182160"/>
              <a:ext cx="190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65800" y="2811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65800" y="2811240"/>
              <a:ext cx="189000" cy="48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365800" y="2717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65800" y="2717280"/>
              <a:ext cx="189000" cy="45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5365800" y="26190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365800" y="2624040"/>
              <a:ext cx="189000" cy="43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5365800" y="24321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365800" y="2437200"/>
              <a:ext cx="189000" cy="40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5365800" y="233496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65800" y="2343240"/>
              <a:ext cx="189000" cy="40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5365800" y="224208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365800" y="2250360"/>
              <a:ext cx="189000" cy="40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5365800" y="205164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65800" y="2063160"/>
              <a:ext cx="18900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5365800" y="195732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65800" y="1970280"/>
              <a:ext cx="189000" cy="32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5365800" y="185976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65800" y="1876320"/>
              <a:ext cx="1890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5365800" y="167256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365800" y="1689480"/>
              <a:ext cx="18900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5365800" y="1290960"/>
              <a:ext cx="189000" cy="2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365800" y="1315440"/>
              <a:ext cx="189000" cy="2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5365800" y="1197720"/>
              <a:ext cx="18900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365800" y="122256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5365800" y="1100160"/>
              <a:ext cx="189000" cy="27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65800" y="1128600"/>
              <a:ext cx="18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5365800" y="1006560"/>
              <a:ext cx="18900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65800" y="103536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365800" y="908640"/>
              <a:ext cx="1890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365800" y="94140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5365800" y="815760"/>
              <a:ext cx="1890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65800" y="84852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5365800" y="723240"/>
              <a:ext cx="189000" cy="32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65800" y="75600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5365800" y="531000"/>
              <a:ext cx="189000" cy="37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65800" y="56880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5365800" y="438480"/>
              <a:ext cx="18900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365800" y="47448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5365800" y="340560"/>
              <a:ext cx="189000" cy="40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65800" y="381960"/>
              <a:ext cx="18900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5365800" y="149400"/>
              <a:ext cx="189000" cy="45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365800" y="1951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03760" y="2859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603760" y="2859840"/>
              <a:ext cx="189000" cy="2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603760" y="2811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603760" y="2811240"/>
              <a:ext cx="18900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603760" y="2762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03760" y="2762280"/>
              <a:ext cx="18900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03760" y="26679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03760" y="2667960"/>
              <a:ext cx="18900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03760" y="2619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03760" y="2619360"/>
              <a:ext cx="189000" cy="2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5603760" y="247320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03760" y="247788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5603760" y="24285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03760" y="2432520"/>
              <a:ext cx="18900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5603760" y="23799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03760" y="2383560"/>
              <a:ext cx="18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5603760" y="228276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03760" y="229068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V="1">
              <a:off x="5603760" y="209124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03760" y="2099160"/>
              <a:ext cx="1890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5603760" y="204336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03760" y="2051640"/>
              <a:ext cx="18900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5603760" y="19980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03760" y="200304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5603760" y="194940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03760" y="1957680"/>
              <a:ext cx="1890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5603760" y="1900440"/>
              <a:ext cx="18900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03760" y="190872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5603760" y="185184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03760" y="186012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5603760" y="171000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03760" y="171828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5603760" y="166140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03760" y="167292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V="1">
              <a:off x="5603760" y="132840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03760" y="133992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5603760" y="127944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03760" y="129096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5603760" y="123048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03760" y="124236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5603760" y="113616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03760" y="114912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5603760" y="108756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03760" y="110052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5603760" y="1039320"/>
              <a:ext cx="1890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03760" y="105516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5603760" y="94104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03760" y="95796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5603760" y="897480"/>
              <a:ext cx="18900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03760" y="909000"/>
              <a:ext cx="1890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5603760" y="84816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3760" y="86472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5603760" y="750600"/>
              <a:ext cx="18900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03760" y="767520"/>
              <a:ext cx="1890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5603760" y="56088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603760" y="5803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5603760" y="51192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603760" y="5313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5603760" y="466560"/>
              <a:ext cx="18900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603760" y="4827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5603760" y="368640"/>
              <a:ext cx="18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03760" y="38988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5603760" y="178560"/>
              <a:ext cx="189000" cy="19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603760" y="1983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42080" y="28843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842080" y="288432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42080" y="2859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42080" y="285984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42080" y="28353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42080" y="283536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42080" y="27867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842080" y="278676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842080" y="2689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842080" y="268920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5842080" y="26643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842080" y="26679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5842080" y="26402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842080" y="26438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842080" y="2497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842080" y="2497320"/>
              <a:ext cx="190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842080" y="2473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842080" y="2473200"/>
              <a:ext cx="190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5842080" y="244836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842080" y="2453400"/>
              <a:ext cx="190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5842080" y="240012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842080" y="24044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842080" y="23072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842080" y="230724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5842080" y="21117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842080" y="21153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5842080" y="208764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842080" y="20912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5842080" y="20628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842080" y="20667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842080" y="2043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842080" y="204336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5842080" y="201888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842080" y="2022840"/>
              <a:ext cx="190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5842080" y="19944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842080" y="19983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5842080" y="19699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842080" y="197388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5842080" y="19213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842080" y="19249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5842080" y="189720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2080" y="1900800"/>
              <a:ext cx="190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5842080" y="18723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842080" y="18763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5842080" y="17294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842080" y="173448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5842080" y="170568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842080" y="17100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5842080" y="16808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842080" y="168588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5842080" y="13442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842080" y="13525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5842080" y="13201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842080" y="13284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5842080" y="12956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842080" y="13039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5842080" y="12470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2080" y="12549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5842080" y="12225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2080" y="12304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5842080" y="115308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842080" y="11574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5842080" y="11286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842080" y="113652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5842080" y="11041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842080" y="11120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5842080" y="10551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842080" y="10634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5842080" y="95796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842080" y="96588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5842080" y="9378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842080" y="94140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5842080" y="91368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842080" y="9216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5842080" y="8892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842080" y="8974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5842080" y="8647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842080" y="8730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5842080" y="84024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842080" y="84852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5842080" y="7675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842080" y="77544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5842080" y="5767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842080" y="58500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5842080" y="5526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842080" y="5608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5842080" y="5281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842080" y="5360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5842080" y="50400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842080" y="5119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5842080" y="479520"/>
              <a:ext cx="190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842080" y="4874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5842080" y="45468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842080" y="466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5842080" y="381960"/>
              <a:ext cx="190440" cy="1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842080" y="3934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5842080" y="189720"/>
              <a:ext cx="190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842080" y="203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081840" y="2895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081840" y="289584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081840" y="28843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081840" y="28843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081840" y="2871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081840" y="28713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081840" y="2859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081840" y="28598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081840" y="28468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081840" y="28468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081840" y="28353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081840" y="283536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081840" y="2798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81840" y="27982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081840" y="27867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081840" y="27867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081840" y="2700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081840" y="270072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081840" y="2689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081840" y="268920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081840" y="2676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081840" y="267624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081840" y="2652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081840" y="2652120"/>
              <a:ext cx="1886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081840" y="25102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1840" y="25102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081840" y="2497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081840" y="24973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1840" y="2485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081840" y="24858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081840" y="2461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1840" y="246132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081840" y="2448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081840" y="24487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1840" y="2412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081840" y="241272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6081840" y="23148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1840" y="23187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081840" y="21236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081840" y="212364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1840" y="21121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1840" y="21121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081840" y="2099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081840" y="209916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081840" y="2074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081840" y="207468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081840" y="2063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081840" y="2063160"/>
              <a:ext cx="1886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6081840" y="20512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81840" y="205524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6081840" y="20268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081840" y="20307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6081840" y="201456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081840" y="201888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6081840" y="20026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081840" y="200628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6081840" y="19782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081840" y="19818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081840" y="1933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081840" y="19332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081840" y="1921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81840" y="19216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081840" y="1908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081840" y="19087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081840" y="1884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081840" y="188460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6081840" y="17377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081840" y="17427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6081840" y="17262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081840" y="17298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6081840" y="171396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081840" y="17182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6081840" y="16891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081840" y="16941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6081840" y="13521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081840" y="13561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6081840" y="133992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081840" y="134424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6081840" y="13280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081840" y="133164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6081840" y="13035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081840" y="13071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081840" y="1258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081840" y="12585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081840" y="1247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081840" y="12470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081840" y="1234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081840" y="12340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6081840" y="116100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081840" y="11656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6081840" y="114912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081840" y="1153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6081840" y="11361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081840" y="1141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6081840" y="11116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1840" y="11167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6081840" y="10630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081840" y="10681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6081840" y="96588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081840" y="97056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081840" y="957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1840" y="95796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081840" y="946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081840" y="9460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6081840" y="9212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081840" y="9252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6081840" y="90900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1840" y="9136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6081840" y="8971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081840" y="901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6081840" y="8726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081840" y="876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V="1">
              <a:off x="6081840" y="8596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081840" y="864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6081840" y="84852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081840" y="852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6081840" y="77544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081840" y="7801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6081840" y="76356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081840" y="76752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6081840" y="58500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081840" y="588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6081840" y="57240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08184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6081840" y="5605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08184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6081840" y="5356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081840" y="5396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6081840" y="52344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81840" y="5281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6081840" y="5115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81840" y="515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6081840" y="4870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81840" y="491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6081840" y="4741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081840" y="479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6081840" y="46296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081840" y="46656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6081840" y="38988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081840" y="39348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6081840" y="3769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081840" y="3819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6081840" y="1980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081840" y="203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319800" y="2900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319800" y="290052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319800" y="2895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319800" y="2895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319800" y="2887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319800" y="288756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319800" y="2876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319800" y="287604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319800" y="2871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19800" y="2871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19800" y="2863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19800" y="28630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319800" y="28515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319800" y="28515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319800" y="2846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319800" y="2846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319800" y="2838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319800" y="283896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319800" y="280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19800" y="28029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319800" y="2798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319800" y="27982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319800" y="2790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319800" y="27900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319800" y="2709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319800" y="2709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319800" y="2700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319800" y="27007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319800" y="2697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319800" y="2697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319800" y="2684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319800" y="2684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319800" y="2660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319800" y="2660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319800" y="2513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319800" y="25138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319800" y="2510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319800" y="2510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319800" y="2502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319800" y="25023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19800" y="2489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319800" y="24894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319800" y="2485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319800" y="2485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319800" y="2464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319800" y="24649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319800" y="2461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19800" y="246132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19800" y="24534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19800" y="24534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6319800" y="24156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319800" y="242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319800" y="2323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319800" y="2323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319800" y="21283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319800" y="21283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319800" y="21236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19800" y="21236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319800" y="2115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319800" y="21153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319800" y="2103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19800" y="210384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319800" y="2099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319800" y="209916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319800" y="20793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319800" y="208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319800" y="2074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319800" y="20746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6319800" y="20664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319800" y="2071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6319800" y="20548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19800" y="2059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6319800" y="20304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319800" y="203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319800" y="2027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319800" y="20271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319800" y="2022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319800" y="2022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319800" y="20109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319800" y="20109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319800" y="1986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19800" y="1986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319800" y="1937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319800" y="1937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6319800" y="192924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319800" y="1933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319800" y="19249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19800" y="192492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319800" y="19134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319800" y="19134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319800" y="18889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19800" y="188892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6319800" y="17424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319800" y="1746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319800" y="1738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319800" y="17380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6319800" y="172944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19800" y="1734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6319800" y="17179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19800" y="1721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6319800" y="16938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19800" y="16974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6319800" y="13557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319800" y="1360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319800" y="1352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319800" y="13525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6319800" y="134424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31980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319800" y="1339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319800" y="13399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6319800" y="133164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31980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319800" y="13284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319800" y="13284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31980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31980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319800" y="1303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319800" y="13039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319800" y="1263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319800" y="1263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6319800" y="12546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19800" y="1258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319800" y="1250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319800" y="12502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319800" y="12387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319800" y="12387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319800" y="1165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319800" y="116568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6319800" y="115740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319800" y="116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319800" y="1153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319800" y="115308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319800" y="1141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319800" y="11412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319800" y="1136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319800" y="1136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6319800" y="11163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319800" y="1120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6319800" y="10677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319800" y="1071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V="1">
              <a:off x="6319800" y="97056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19800" y="974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319800" y="965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319800" y="96588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31980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31980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31980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31980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319800" y="9252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319800" y="9252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6319800" y="9165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319800" y="921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319800" y="913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319800" y="913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319800" y="901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319800" y="901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31980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31980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6319800" y="8679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319800" y="873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319800" y="864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319800" y="8647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319800" y="852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319800" y="8521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6319800" y="7797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319800" y="783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31980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31980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6319800" y="7675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319800" y="771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31980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31980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V="1">
              <a:off x="6319800" y="5803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319800" y="585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31980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31980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31980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31980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319800" y="5396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319800" y="5396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6319800" y="5310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319800" y="536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319800" y="5281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319800" y="5281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319800" y="515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319800" y="51552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319800" y="491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319800" y="49104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6319800" y="48240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319800" y="487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319800" y="479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319800" y="4795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6319800" y="46656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319800" y="471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6319800" y="39348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319800" y="3978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31980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31980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6319800" y="38160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319800" y="385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319800" y="203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319800" y="203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6319800" y="19476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319800" y="198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558120" y="2904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558120" y="2904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558120" y="2895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558120" y="289584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558120" y="28922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558120" y="28922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558120" y="28796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558120" y="28796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558120" y="2876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558120" y="2876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558120" y="2871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558120" y="287136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558120" y="2868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558120" y="2868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558120" y="28551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558120" y="28551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558120" y="28515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558120" y="28515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558120" y="28468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558120" y="284688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58120" y="28436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58120" y="28436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58120" y="28062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558120" y="28062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558120" y="28029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558120" y="28029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558120" y="27946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558120" y="27946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558120" y="2709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558120" y="270900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558120" y="27054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558120" y="27054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558120" y="26974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558120" y="26974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558120" y="26845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558120" y="268452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558120" y="26600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558120" y="26600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558120" y="2518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558120" y="2518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558120" y="25102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558120" y="25102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558120" y="2505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558120" y="2505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558120" y="24940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120" y="24940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120" y="24894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120" y="24894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120" y="24858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120" y="248580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120" y="2469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120" y="2469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120" y="24649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120" y="246492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558120" y="246132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120" y="24649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558120" y="2457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558120" y="2457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558120" y="2421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558120" y="2421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558120" y="24159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558120" y="241596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558120" y="2323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58120" y="23234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558120" y="2131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558120" y="2131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558120" y="21283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558120" y="21283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558120" y="21236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558120" y="21236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558120" y="2120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558120" y="2120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558120" y="21070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558120" y="21070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558120" y="21038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558120" y="21038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6558120" y="209916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558120" y="21038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558120" y="20829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558120" y="20829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558120" y="20797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558120" y="20797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6558120" y="207432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558120" y="20797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558120" y="2071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558120" y="2071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558120" y="20599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558120" y="20599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558120" y="2035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558120" y="2035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558120" y="20307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558120" y="203076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558120" y="20307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558120" y="20307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558120" y="2022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558120" y="202284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558120" y="20109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558120" y="201096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558120" y="19864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558120" y="19864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558120" y="19378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58120" y="19378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58120" y="19378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58120" y="19378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58120" y="1933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58120" y="1933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V="1">
              <a:off x="6558120" y="192456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58120" y="1929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6558120" y="19130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58120" y="19170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58120" y="18925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58120" y="18925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58120" y="1746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58120" y="1746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8120" y="17427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58120" y="17427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V="1">
              <a:off x="6558120" y="173772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58120" y="17427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58120" y="17344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58120" y="17344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58120" y="17218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58120" y="17218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8120" y="16974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58120" y="16974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58120" y="13608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58120" y="13608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58120" y="13561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58120" y="135612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6558120" y="13521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58120" y="13561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8120" y="1348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8120" y="1348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58120" y="13442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58120" y="134424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558120" y="133992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58120" y="13442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58120" y="1336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58120" y="1336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8120" y="13316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58120" y="133164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58120" y="13316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58120" y="13316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58120" y="1311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58120" y="1311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6558120" y="130680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58120" y="13118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58120" y="13071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58120" y="13071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558120" y="12632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558120" y="126324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6558120" y="125820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558120" y="12632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558120" y="1258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58120" y="12585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58120" y="12502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58120" y="125028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558120" y="12387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558120" y="12387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6558120" y="11653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558120" y="11689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558120" y="11656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558120" y="11656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558120" y="1161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558120" y="1161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6558120" y="115308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558120" y="11574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558120" y="11530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558120" y="11530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558120" y="11448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558120" y="11448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58120" y="1141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58120" y="1141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58120" y="11365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58120" y="11365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58120" y="1120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8120" y="1120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558120" y="10717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558120" y="10717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558120" y="9741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558120" y="9741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558120" y="9705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558120" y="97056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558120" y="9705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558120" y="9705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558120" y="9622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558120" y="9622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6558120" y="95796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558120" y="9622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558120" y="9496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558120" y="9496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558120" y="9457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558120" y="9496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558120" y="9252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558120" y="9252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558120" y="921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558120" y="921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58120" y="9136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8120" y="91368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58120" y="90108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58120" y="90108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58120" y="876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558120" y="87660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558120" y="876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558120" y="8766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558120" y="873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558120" y="8730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6558120" y="8643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558120" y="8683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6558120" y="85212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558120" y="8568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558120" y="7833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58120" y="7833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58120" y="775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58120" y="775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58120" y="7718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558120" y="7718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58120" y="588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58120" y="588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6558120" y="585000"/>
              <a:ext cx="1904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58120" y="5886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58120" y="5850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58120" y="5850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58120" y="5767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58120" y="5767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V="1">
              <a:off x="6558120" y="57240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58120" y="5767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58120" y="564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558120" y="564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6558120" y="5605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558120" y="5641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558120" y="5396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558120" y="53964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558120" y="5360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558120" y="5360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558120" y="52812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558120" y="52812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6558120" y="51552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558120" y="5198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558120" y="49068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558120" y="49572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558120" y="4910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558120" y="4910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558120" y="487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558120" y="4874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6558120" y="479160"/>
              <a:ext cx="1904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558120" y="48276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58120" y="466560"/>
              <a:ext cx="1904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558120" y="47124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558120" y="3978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558120" y="39780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558120" y="3898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558120" y="389880"/>
              <a:ext cx="1904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558120" y="385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558120" y="38520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558120" y="203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558120" y="203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58120" y="198000"/>
              <a:ext cx="190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558120" y="20304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558120" y="198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558120" y="198360"/>
              <a:ext cx="1904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797880" y="29005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797880" y="29005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797880" y="2892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797880" y="2892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797880" y="2892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797880" y="2892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797880" y="2879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797880" y="2879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797880" y="2879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797880" y="2879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797880" y="2876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797880" y="28760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797880" y="2876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797880" y="2876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797880" y="2868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797880" y="2868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797880" y="2855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797880" y="2855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797880" y="2855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797880" y="2855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797880" y="28515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797880" y="28515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797880" y="28436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797880" y="28436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797880" y="280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797880" y="280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797880" y="2794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797880" y="27946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797880" y="2705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797880" y="2705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797880" y="2700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797880" y="2700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797880" y="2689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797880" y="2689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797880" y="2664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797880" y="2664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797880" y="2518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797880" y="2518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797880" y="25138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797880" y="25138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797880" y="2505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797880" y="2505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797880" y="2494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797880" y="2494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797880" y="2489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797880" y="24894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797880" y="2489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97880" y="2489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97880" y="2469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797880" y="2469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797880" y="2469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797880" y="2469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797880" y="24649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797880" y="24649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797880" y="2457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797880" y="2457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797880" y="2421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797880" y="24210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97880" y="2421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797880" y="2421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797880" y="2326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797880" y="2326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797880" y="2131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797880" y="2131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797880" y="21283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797880" y="21283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797880" y="21283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797880" y="21283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797880" y="2120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797880" y="2120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797880" y="2107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797880" y="2107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797880" y="2107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797880" y="2107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6797880" y="21034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797880" y="21070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797880" y="21038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797880" y="21038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6797880" y="208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797880" y="208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797880" y="208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797880" y="2082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797880" y="2079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797880" y="2079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797880" y="2071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797880" y="20714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6797880" y="20599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797880" y="20599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797880" y="2035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797880" y="20354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797880" y="2035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797880" y="2035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797880" y="20307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797880" y="20307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6797880" y="202284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797880" y="2027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797880" y="2022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797880" y="2022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6797880" y="2010960"/>
              <a:ext cx="18864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797880" y="2014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797880" y="20109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797880" y="20109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797880" y="1990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797880" y="1990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797880" y="1941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797880" y="1941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797880" y="19378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97880" y="19378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797880" y="1933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797880" y="1933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797880" y="1929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797880" y="1929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797880" y="19170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797880" y="19170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6797880" y="19134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797880" y="19134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797880" y="1892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797880" y="1892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797880" y="1746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797880" y="1746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6797880" y="174240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797880" y="1746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797880" y="17427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797880" y="17427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797880" y="1734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797880" y="1734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797880" y="1734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797880" y="17344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797880" y="17218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797880" y="17218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797880" y="16974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797880" y="169740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797880" y="1360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6797880" y="1360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6797880" y="135576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797880" y="1360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797880" y="13561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797880" y="13561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797880" y="1348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797880" y="1344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797880" y="1344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797880" y="1336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797880" y="1331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797880" y="13316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797880" y="1311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797880" y="13118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797880" y="1311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797880" y="1311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797880" y="1311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97880" y="1311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6797880" y="1307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797880" y="13071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6797880" y="126288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6797880" y="12668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797880" y="12632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797880" y="12632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797880" y="1258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797880" y="12585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797880" y="1254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797880" y="12549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797880" y="12423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797880" y="12423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797880" y="11689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797880" y="11689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797880" y="11656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797880" y="11656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797880" y="1161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797880" y="1161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797880" y="1157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797880" y="1157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797880" y="1153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797880" y="115308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797880" y="1153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797880" y="11530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797880" y="1144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6797880" y="1144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6797880" y="114084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797880" y="11448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797880" y="1141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797880" y="1141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797880" y="1136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797880" y="11365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797880" y="1120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797880" y="1120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6797880" y="11163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797880" y="1120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797880" y="1071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797880" y="1071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797880" y="974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797880" y="974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797880" y="974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797880" y="9741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797880" y="9705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797880" y="9705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797880" y="9622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797880" y="9496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797880" y="9252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797880" y="92520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797880" y="9252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797880" y="9252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6797880" y="921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797880" y="921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6797880" y="91332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797880" y="9169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6797880" y="90108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797880" y="9054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797880" y="8812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797880" y="88128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6797880" y="876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797880" y="876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797880" y="876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797880" y="8766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797880" y="873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797880" y="8730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797880" y="868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797880" y="8683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797880" y="8568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797880" y="8568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797880" y="775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797880" y="775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797880" y="7718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797880" y="7718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797880" y="588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797880" y="588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797880" y="588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97880" y="5886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797880" y="5850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797880" y="58500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797880" y="57672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79788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797880" y="56412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79788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79788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79788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797880" y="5641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6797880" y="539280"/>
              <a:ext cx="1886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797880" y="5443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797880" y="536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797880" y="536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797880" y="527760"/>
              <a:ext cx="1886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797880" y="5313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6797880" y="515520"/>
              <a:ext cx="18864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7880" y="5198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97880" y="495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97880" y="49572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97880" y="491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97880" y="491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797880" y="491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97880" y="4910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797880" y="487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797880" y="4874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797880" y="4827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797880" y="48276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797880" y="471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797880" y="47124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797880" y="3898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797880" y="389880"/>
              <a:ext cx="1886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797880" y="385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797880" y="38520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97880" y="203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797880" y="203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797880" y="203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797880" y="20304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797880" y="198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797880" y="198360"/>
              <a:ext cx="18864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5840" y="2900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035840" y="29005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035840" y="2892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035840" y="2892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035840" y="2892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035840" y="2892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035840" y="2879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035840" y="2879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035840" y="2879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035840" y="2879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035840" y="2876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035840" y="2876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035840" y="2868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035840" y="286812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035840" y="2855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035840" y="285516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035840" y="2855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035840" y="2855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035840" y="28515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035840" y="28515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035840" y="28436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035840" y="284364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035840" y="280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035840" y="280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035840" y="2700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035840" y="2700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035840" y="2689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035840" y="2689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035840" y="2664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035840" y="2664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035840" y="2518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035840" y="2518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035840" y="2513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035840" y="2513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035840" y="2494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035840" y="2494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035840" y="2494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035840" y="2494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035840" y="2489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035840" y="2489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035840" y="2469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035840" y="2469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035840" y="2464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035840" y="24649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035840" y="2457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035840" y="245700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035840" y="242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035840" y="242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035840" y="2326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035840" y="2326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035840" y="2131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035840" y="2131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035840" y="2131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035840" y="2131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035840" y="21283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035840" y="21283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035840" y="2120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035840" y="2120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035840" y="2107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035840" y="2103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035840" y="2103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035840" y="208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035840" y="2082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035840" y="2079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035840" y="2079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7035840" y="2071080"/>
              <a:ext cx="18900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035840" y="2074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035840" y="2063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035840" y="2063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035840" y="2038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035840" y="2038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035840" y="203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035840" y="203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035840" y="20307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035840" y="20307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035840" y="2027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035840" y="2027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035840" y="2022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035840" y="2022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035840" y="2014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035840" y="2014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035840" y="20109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035840" y="20109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035840" y="1990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035840" y="1990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035840" y="1941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35840" y="1941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35840" y="1937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35840" y="1937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35840" y="1933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35840" y="1933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35840" y="1929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35840" y="1929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35840" y="1929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5840" y="1929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35840" y="1917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35840" y="1917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35840" y="1917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35840" y="1917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35840" y="1892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35840" y="1892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35840" y="1746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35840" y="1746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35840" y="17427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035840" y="17427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035840" y="1734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035840" y="1734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035840" y="1734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035840" y="17344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035840" y="1721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35840" y="172188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7035840" y="1697400"/>
              <a:ext cx="1890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035840" y="17020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035840" y="1360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035840" y="1360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035840" y="13561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035840" y="13561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035840" y="1348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035840" y="1344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035840" y="1344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03584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035840" y="133632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03584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03584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03584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035840" y="1336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035840" y="1331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035840" y="13316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3584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3584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3584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35840" y="13118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35840" y="1307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35840" y="13071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5840" y="1263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035840" y="12632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035840" y="1258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035840" y="12585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35840" y="1254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35840" y="12549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035840" y="1242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7035840" y="1242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7035840" y="1165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035840" y="11656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035840" y="116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7035840" y="1161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035840" y="1157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035840" y="1157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035840" y="1157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035840" y="1157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035840" y="1153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035840" y="11530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35840" y="1144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035840" y="1144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035840" y="1144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035840" y="11448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035840" y="1141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035840" y="1141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035840" y="11365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35840" y="113652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035840" y="1120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035840" y="1120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035840" y="1120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035840" y="1120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035840" y="1071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035840" y="1071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35840" y="1071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035840" y="10717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035840" y="974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035840" y="974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035840" y="974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035840" y="9741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035840" y="9705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035840" y="9705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035840" y="9622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703584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703584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03584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035840" y="9496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V="1">
              <a:off x="7035840" y="924840"/>
              <a:ext cx="1890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035840" y="92988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035840" y="9252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035840" y="9252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035840" y="921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035840" y="921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035840" y="921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035840" y="921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035840" y="9169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035840" y="9169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035840" y="905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035840" y="9054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03584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03584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03584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035840" y="8766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7035840" y="873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035840" y="8730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035840" y="868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035840" y="8683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035840" y="8568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35840" y="8568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03584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03584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03584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035840" y="775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035840" y="771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035840" y="771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03584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03584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03584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35840" y="5886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35840" y="585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35840" y="58500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03584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035840" y="576720"/>
              <a:ext cx="18900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03584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03584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03584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035840" y="57672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03584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3584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03584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035840" y="5641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035840" y="5443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035840" y="54432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035840" y="536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035840" y="536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035840" y="536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035840" y="536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035840" y="531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035840" y="5313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035840" y="519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035840" y="5198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035840" y="491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035840" y="491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5840" y="491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5840" y="4910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5840" y="487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035840" y="487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35840" y="487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035840" y="4874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035840" y="4827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035840" y="48276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035840" y="471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035840" y="47124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03584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03584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03584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035840" y="389880"/>
              <a:ext cx="18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035840" y="385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035840" y="38520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035840" y="203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035840" y="20304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7035840" y="198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7035840" y="198360"/>
              <a:ext cx="18900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265880" y="29005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7265880" y="29005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7265880" y="2892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265880" y="2892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7265880" y="2892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265880" y="2892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265880" y="2879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7265880" y="2879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7265880" y="2879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7265880" y="2879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65880" y="2859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265880" y="2859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265880" y="28029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65880" y="28029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7265880" y="25185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265880" y="25185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265880" y="2494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265880" y="2494080"/>
              <a:ext cx="19872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265880" y="2494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265880" y="2494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265880" y="2326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265880" y="2326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265880" y="21315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265880" y="21315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265880" y="21283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265880" y="21283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265880" y="21200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265880" y="21200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65880" y="21070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265880" y="21070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265880" y="2074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65880" y="2074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65880" y="20631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265880" y="20631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65880" y="2035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265880" y="2035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265880" y="20307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65880" y="20307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265880" y="2022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265880" y="2022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65880" y="20109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265880" y="20109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7265880" y="1990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65880" y="1990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265880" y="19414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7265880" y="19414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65880" y="19296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7265880" y="19296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7265880" y="19170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65880" y="19170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265880" y="19170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7265880" y="19170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7265880" y="18925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7265880" y="18925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7265880" y="17344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7265880" y="1734480"/>
              <a:ext cx="19872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265880" y="17344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265880" y="17344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7265880" y="1721520"/>
              <a:ext cx="19872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265880" y="17265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7265880" y="17020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65880" y="17020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265880" y="13608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265880" y="13608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7265880" y="1348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65880" y="1348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265880" y="1344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65880" y="1344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7265880" y="1336320"/>
              <a:ext cx="198720" cy="3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265880" y="13399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65880" y="1336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265880" y="1336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7265880" y="1336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65880" y="1336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265880" y="1331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265880" y="13316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65880" y="1311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265880" y="13118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265880" y="12549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65880" y="12549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265880" y="12423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265880" y="12423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65880" y="11656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265880" y="11656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265880" y="1157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65880" y="1157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265880" y="1157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265880" y="1157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65880" y="1153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265880" y="11530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265880" y="11448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65880" y="11448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265880" y="1141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265880" y="1141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65880" y="1141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7265880" y="1141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7265880" y="1120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265880" y="11203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265880" y="10717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265880" y="10717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65880" y="9741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65880" y="9741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265880" y="9622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65880" y="9622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265880" y="9622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265880" y="9622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65880" y="949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265880" y="94968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265880" y="9252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65880" y="9252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265880" y="9216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265880" y="9216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65880" y="905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265880" y="9054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7265880" y="8730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65880" y="8730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265880" y="8568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265880" y="85680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65880" y="775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265880" y="775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265880" y="7718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65880" y="7718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265880" y="5767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265880" y="5767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65880" y="5767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265880" y="57672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265880" y="5641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65880" y="56412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265880" y="5360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265880" y="5360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65880" y="5313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265880" y="53136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265880" y="5198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65880" y="5198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265880" y="487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265880" y="4874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65880" y="471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265880" y="47124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265880" y="3898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65880" y="389880"/>
              <a:ext cx="19872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265880" y="385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65880" y="38520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5880" y="2030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65880" y="20304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265880" y="1983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65880" y="198360"/>
              <a:ext cx="198720" cy="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3654360" y="2666880"/>
            <a:ext cx="4087800" cy="3993480"/>
            <a:chOff x="3654360" y="2666880"/>
            <a:chExt cx="4087800" cy="3993480"/>
          </a:xfrm>
        </p:grpSpPr>
        <p:sp>
          <p:nvSpPr>
            <p:cNvPr id="3870" name=""/>
            <p:cNvSpPr/>
            <p:nvPr/>
          </p:nvSpPr>
          <p:spPr>
            <a:xfrm flipV="1">
              <a:off x="4178520" y="285732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178520" y="6421320"/>
              <a:ext cx="356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4178520" y="285732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4178520" y="63802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128480" y="644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V="1">
              <a:off x="5224680" y="63802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174640" y="644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V="1">
              <a:off x="6276960" y="638028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6177960" y="6446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V="1">
              <a:off x="7323120" y="6380280"/>
              <a:ext cx="1800" cy="41040"/>
            </a:xfrm>
            <a:prstGeom prst="line">
              <a:avLst/>
            </a:prstGeom>
            <a:ln w="0">
              <a:solidFill>
                <a:srgbClr val="cc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22320" y="6446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4178520" y="59356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178520" y="59688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4178520" y="60022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4178520" y="60357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4178520" y="60768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4178520" y="612612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178520" y="61833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178520" y="62658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178520" y="63723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178520" y="593568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654360" y="5837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877560" y="57452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178520" y="57546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178520" y="56484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178520" y="55656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178520" y="550872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178520" y="54594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178520" y="54180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178520" y="53848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178520" y="53514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178520" y="531972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178520" y="53197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654360" y="5219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877560" y="5127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178520" y="51386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178520" y="50306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178520" y="49482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178520" y="489096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178520" y="48420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178520" y="48006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178520" y="476712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178520" y="47340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178520" y="470196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178520" y="47019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54360" y="4603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877560" y="4510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178520" y="45212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178520" y="44132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178520" y="43308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178520" y="42735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178520" y="42242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178520" y="418320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178520" y="414972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178520" y="41180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178520" y="408456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178520" y="40845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654360" y="3986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877560" y="38926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178520" y="39034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4178520" y="37958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178520" y="37148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4178520" y="36558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178520" y="360684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178520" y="35654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4178520" y="35337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178520" y="35002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4178520" y="34671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178520" y="34671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3654360" y="3368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3877560" y="3274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178520" y="32860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178520" y="31798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178520" y="30970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178520" y="303840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178520" y="29890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3654360" y="2759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877560" y="266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4178520" y="2857320"/>
              <a:ext cx="1440" cy="35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376880" y="3614760"/>
              <a:ext cx="2376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351320" y="3591000"/>
              <a:ext cx="7452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591080" y="3614760"/>
              <a:ext cx="2376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565520" y="3591000"/>
              <a:ext cx="7488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795920" y="3624120"/>
              <a:ext cx="2520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772160" y="3598920"/>
              <a:ext cx="730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010120" y="3689280"/>
              <a:ext cx="2556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984920" y="3664080"/>
              <a:ext cx="7452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16400" y="3771720"/>
              <a:ext cx="24120" cy="2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191200" y="3746520"/>
              <a:ext cx="7452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429160" y="4232160"/>
              <a:ext cx="2556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405400" y="42084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635800" y="4232160"/>
              <a:ext cx="252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610240" y="4208400"/>
              <a:ext cx="7452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850000" y="4265640"/>
              <a:ext cx="2376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824440" y="4240080"/>
              <a:ext cx="74880" cy="74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054840" y="4314960"/>
              <a:ext cx="2520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031080" y="4289400"/>
              <a:ext cx="730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269040" y="4389480"/>
              <a:ext cx="2556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245280" y="4363920"/>
              <a:ext cx="730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475320" y="5327640"/>
              <a:ext cx="24120" cy="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450120" y="5302080"/>
              <a:ext cx="74520" cy="74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689880" y="5738760"/>
              <a:ext cx="2376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664320" y="5713200"/>
              <a:ext cx="74520" cy="74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894720" y="5738760"/>
              <a:ext cx="2520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870600" y="5713200"/>
              <a:ext cx="73080" cy="74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7108920" y="5746680"/>
              <a:ext cx="23760" cy="2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083360" y="5722920"/>
              <a:ext cx="74880" cy="73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7315200" y="6413400"/>
              <a:ext cx="23760" cy="255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290000" y="6389640"/>
              <a:ext cx="74520" cy="73080"/>
            </a:xfrm>
            <a:prstGeom prst="ellipse">
              <a:avLst/>
            </a:prstGeom>
            <a:solidFill>
              <a:srgbClr val="cc0099"/>
            </a:solidFill>
            <a:ln w="0">
              <a:solidFill>
                <a:srgbClr val="cc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9" name=""/>
          <p:cNvSpPr/>
          <p:nvPr/>
        </p:nvSpPr>
        <p:spPr>
          <a:xfrm>
            <a:off x="228600" y="1828800"/>
            <a:ext cx="251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874666798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21151292664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1693274533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11095064177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94121864385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68531746275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1180172815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6766995122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57185233601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37545499036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35864880423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32549477956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15211121740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15060744756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142381229893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09014042888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231120" y="12193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402240" y="4572000"/>
            <a:ext cx="2378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y so har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382680" y="152280"/>
            <a:ext cx="372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ill exponentially b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3" name="" descr=""/>
          <p:cNvPicPr/>
          <p:nvPr/>
        </p:nvPicPr>
        <p:blipFill>
          <a:blip r:embed="rId1"/>
          <a:stretch/>
        </p:blipFill>
        <p:spPr>
          <a:xfrm>
            <a:off x="3886200" y="-152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3984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4276800" y="61786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flipV="1">
            <a:off x="427680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4276800" y="26146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42267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flipV="1">
            <a:off x="49197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486972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V="1">
            <a:off x="556884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55191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 flipV="1">
            <a:off x="621972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17004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 flipV="1">
            <a:off x="68691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681948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 flipV="1">
            <a:off x="752004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7420680" y="620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4276800" y="56610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4276800" y="57103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4276800" y="5759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4276800" y="5816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4276800" y="58910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4276800" y="5964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4276800" y="606420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276800" y="5661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939480" y="5560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413676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4276800" y="5356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4276800" y="51753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276800" y="5051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276800" y="49528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4276800" y="48704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276800" y="4803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4276800" y="47466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4276800" y="46893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276800" y="46483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4276800" y="4648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3939480" y="4549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4136760" y="4483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4276800" y="4335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4276800" y="41623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4276800" y="4030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4276800" y="3932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4276800" y="3849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4276800" y="3784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4276800" y="37260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4276800" y="3676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4276800" y="36273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4276800" y="3627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3939480" y="3529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4136760" y="34624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4276800" y="33228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4276800" y="31417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4276800" y="30178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4276800" y="29192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4276800" y="283680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4276800" y="27716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276800" y="27050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276800" y="26557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276800" y="2614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276800" y="26146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3939480" y="2516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4136760" y="2451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4589640" y="3932280"/>
            <a:ext cx="2520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4565520" y="3906720"/>
            <a:ext cx="7488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911840" y="393228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4886280" y="3906720"/>
            <a:ext cx="7452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240160" y="3956040"/>
            <a:ext cx="2412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5214960" y="393228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5560920" y="4508640"/>
            <a:ext cx="255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37160" y="448308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889600" y="5092560"/>
            <a:ext cx="255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586584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6211800" y="5092560"/>
            <a:ext cx="237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8660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6540480" y="5289480"/>
            <a:ext cx="255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6515280" y="5265720"/>
            <a:ext cx="7452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861240" y="5560920"/>
            <a:ext cx="2520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837480" y="553716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7191360" y="6170760"/>
            <a:ext cx="23760" cy="25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7165800" y="6146640"/>
            <a:ext cx="74880" cy="730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609480" y="31240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62125678985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41664067413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36728136575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3542304261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159186944298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113701468036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060628930059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059858007297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049196888149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0.02475508644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824760" y="4716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"/>
          <p:cNvSpPr/>
          <p:nvPr/>
        </p:nvSpPr>
        <p:spPr>
          <a:xfrm>
            <a:off x="2077920" y="5597640"/>
            <a:ext cx="6303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 flipV="1">
            <a:off x="207792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004480" y="56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312408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901240" y="56228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V="1">
            <a:off x="417672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953880" y="56228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523080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5007960" y="56228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flipV="1">
            <a:off x="6275520" y="55321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6052680" y="56228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flipV="1">
            <a:off x="7327800" y="55321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7104960" y="56228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2077920" y="55976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1896840" y="5450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2077920" y="4956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1674360" y="48085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2077920" y="432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1674360" y="41752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2077920" y="36813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1674360" y="353376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2077920" y="30481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674360" y="28987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 flipV="1">
            <a:off x="2077920" y="2803320"/>
            <a:ext cx="1800" cy="279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477840" y="2286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2122560" y="2587680"/>
            <a:ext cx="1332000" cy="3035160"/>
          </a:xfrm>
          <a:custGeom>
            <a:avLst/>
            <a:gdLst/>
            <a:ahLst/>
            <a:rect l="l" t="t" r="r" b="b"/>
            <a:pathLst>
              <a:path w="839" h="1912">
                <a:moveTo>
                  <a:pt x="0" y="1643"/>
                </a:moveTo>
                <a:lnTo>
                  <a:pt x="5" y="1715"/>
                </a:lnTo>
                <a:lnTo>
                  <a:pt x="10" y="1565"/>
                </a:lnTo>
                <a:lnTo>
                  <a:pt x="20" y="1249"/>
                </a:lnTo>
                <a:lnTo>
                  <a:pt x="26" y="1700"/>
                </a:lnTo>
                <a:lnTo>
                  <a:pt x="31" y="943"/>
                </a:lnTo>
                <a:lnTo>
                  <a:pt x="36" y="1456"/>
                </a:lnTo>
                <a:lnTo>
                  <a:pt x="46" y="1228"/>
                </a:lnTo>
                <a:lnTo>
                  <a:pt x="51" y="1187"/>
                </a:lnTo>
                <a:lnTo>
                  <a:pt x="57" y="969"/>
                </a:lnTo>
                <a:lnTo>
                  <a:pt x="67" y="1394"/>
                </a:lnTo>
                <a:lnTo>
                  <a:pt x="72" y="1762"/>
                </a:lnTo>
                <a:lnTo>
                  <a:pt x="77" y="1435"/>
                </a:lnTo>
                <a:lnTo>
                  <a:pt x="83" y="1555"/>
                </a:lnTo>
                <a:lnTo>
                  <a:pt x="93" y="1467"/>
                </a:lnTo>
                <a:lnTo>
                  <a:pt x="98" y="1741"/>
                </a:lnTo>
                <a:lnTo>
                  <a:pt x="103" y="1819"/>
                </a:lnTo>
                <a:lnTo>
                  <a:pt x="108" y="1622"/>
                </a:lnTo>
                <a:lnTo>
                  <a:pt x="119" y="1767"/>
                </a:lnTo>
                <a:lnTo>
                  <a:pt x="124" y="1321"/>
                </a:lnTo>
                <a:lnTo>
                  <a:pt x="129" y="1166"/>
                </a:lnTo>
                <a:lnTo>
                  <a:pt x="140" y="1803"/>
                </a:lnTo>
                <a:lnTo>
                  <a:pt x="145" y="1316"/>
                </a:lnTo>
                <a:lnTo>
                  <a:pt x="150" y="1866"/>
                </a:lnTo>
                <a:lnTo>
                  <a:pt x="155" y="1410"/>
                </a:lnTo>
                <a:lnTo>
                  <a:pt x="165" y="617"/>
                </a:lnTo>
                <a:lnTo>
                  <a:pt x="171" y="1228"/>
                </a:lnTo>
                <a:lnTo>
                  <a:pt x="176" y="1581"/>
                </a:lnTo>
                <a:lnTo>
                  <a:pt x="186" y="1508"/>
                </a:lnTo>
                <a:lnTo>
                  <a:pt x="191" y="990"/>
                </a:lnTo>
                <a:lnTo>
                  <a:pt x="197" y="1508"/>
                </a:lnTo>
                <a:lnTo>
                  <a:pt x="202" y="1653"/>
                </a:lnTo>
                <a:lnTo>
                  <a:pt x="212" y="1788"/>
                </a:lnTo>
                <a:lnTo>
                  <a:pt x="217" y="1192"/>
                </a:lnTo>
                <a:lnTo>
                  <a:pt x="223" y="1321"/>
                </a:lnTo>
                <a:lnTo>
                  <a:pt x="228" y="1467"/>
                </a:lnTo>
                <a:lnTo>
                  <a:pt x="238" y="1653"/>
                </a:lnTo>
                <a:lnTo>
                  <a:pt x="243" y="1498"/>
                </a:lnTo>
                <a:lnTo>
                  <a:pt x="248" y="1238"/>
                </a:lnTo>
                <a:lnTo>
                  <a:pt x="259" y="1430"/>
                </a:lnTo>
                <a:lnTo>
                  <a:pt x="264" y="1238"/>
                </a:lnTo>
                <a:lnTo>
                  <a:pt x="269" y="0"/>
                </a:lnTo>
                <a:lnTo>
                  <a:pt x="274" y="1451"/>
                </a:lnTo>
                <a:lnTo>
                  <a:pt x="285" y="1539"/>
                </a:lnTo>
                <a:lnTo>
                  <a:pt x="290" y="1301"/>
                </a:lnTo>
                <a:lnTo>
                  <a:pt x="295" y="513"/>
                </a:lnTo>
                <a:lnTo>
                  <a:pt x="305" y="1876"/>
                </a:lnTo>
                <a:lnTo>
                  <a:pt x="311" y="1456"/>
                </a:lnTo>
                <a:lnTo>
                  <a:pt x="316" y="710"/>
                </a:lnTo>
                <a:lnTo>
                  <a:pt x="321" y="1524"/>
                </a:lnTo>
                <a:lnTo>
                  <a:pt x="331" y="1658"/>
                </a:lnTo>
                <a:lnTo>
                  <a:pt x="337" y="1285"/>
                </a:lnTo>
                <a:lnTo>
                  <a:pt x="342" y="1119"/>
                </a:lnTo>
                <a:lnTo>
                  <a:pt x="347" y="1316"/>
                </a:lnTo>
                <a:lnTo>
                  <a:pt x="357" y="549"/>
                </a:lnTo>
                <a:lnTo>
                  <a:pt x="362" y="461"/>
                </a:lnTo>
                <a:lnTo>
                  <a:pt x="368" y="1373"/>
                </a:lnTo>
                <a:lnTo>
                  <a:pt x="378" y="1373"/>
                </a:lnTo>
                <a:lnTo>
                  <a:pt x="383" y="1897"/>
                </a:lnTo>
                <a:lnTo>
                  <a:pt x="388" y="1741"/>
                </a:lnTo>
                <a:lnTo>
                  <a:pt x="394" y="1456"/>
                </a:lnTo>
                <a:lnTo>
                  <a:pt x="404" y="1083"/>
                </a:lnTo>
                <a:lnTo>
                  <a:pt x="409" y="1316"/>
                </a:lnTo>
                <a:lnTo>
                  <a:pt x="414" y="1866"/>
                </a:lnTo>
                <a:lnTo>
                  <a:pt x="419" y="1099"/>
                </a:lnTo>
                <a:lnTo>
                  <a:pt x="430" y="1814"/>
                </a:lnTo>
                <a:lnTo>
                  <a:pt x="435" y="1363"/>
                </a:lnTo>
                <a:lnTo>
                  <a:pt x="440" y="1150"/>
                </a:lnTo>
                <a:lnTo>
                  <a:pt x="451" y="1648"/>
                </a:lnTo>
                <a:lnTo>
                  <a:pt x="456" y="368"/>
                </a:lnTo>
                <a:lnTo>
                  <a:pt x="461" y="1441"/>
                </a:lnTo>
                <a:lnTo>
                  <a:pt x="466" y="679"/>
                </a:lnTo>
                <a:lnTo>
                  <a:pt x="476" y="1549"/>
                </a:lnTo>
                <a:lnTo>
                  <a:pt x="482" y="1534"/>
                </a:lnTo>
                <a:lnTo>
                  <a:pt x="487" y="1866"/>
                </a:lnTo>
                <a:lnTo>
                  <a:pt x="497" y="1384"/>
                </a:lnTo>
                <a:lnTo>
                  <a:pt x="502" y="637"/>
                </a:lnTo>
                <a:lnTo>
                  <a:pt x="508" y="1669"/>
                </a:lnTo>
                <a:lnTo>
                  <a:pt x="513" y="1373"/>
                </a:lnTo>
                <a:lnTo>
                  <a:pt x="523" y="1778"/>
                </a:lnTo>
                <a:lnTo>
                  <a:pt x="528" y="1404"/>
                </a:lnTo>
                <a:lnTo>
                  <a:pt x="534" y="1845"/>
                </a:lnTo>
                <a:lnTo>
                  <a:pt x="539" y="1378"/>
                </a:lnTo>
                <a:lnTo>
                  <a:pt x="549" y="1254"/>
                </a:lnTo>
                <a:lnTo>
                  <a:pt x="554" y="1477"/>
                </a:lnTo>
                <a:lnTo>
                  <a:pt x="559" y="891"/>
                </a:lnTo>
                <a:lnTo>
                  <a:pt x="570" y="1565"/>
                </a:lnTo>
                <a:lnTo>
                  <a:pt x="575" y="1119"/>
                </a:lnTo>
                <a:lnTo>
                  <a:pt x="580" y="1446"/>
                </a:lnTo>
                <a:lnTo>
                  <a:pt x="585" y="575"/>
                </a:lnTo>
                <a:lnTo>
                  <a:pt x="596" y="1586"/>
                </a:lnTo>
                <a:lnTo>
                  <a:pt x="601" y="1824"/>
                </a:lnTo>
                <a:lnTo>
                  <a:pt x="606" y="902"/>
                </a:lnTo>
                <a:lnTo>
                  <a:pt x="616" y="1316"/>
                </a:lnTo>
                <a:lnTo>
                  <a:pt x="622" y="1715"/>
                </a:lnTo>
                <a:lnTo>
                  <a:pt x="627" y="1700"/>
                </a:lnTo>
                <a:lnTo>
                  <a:pt x="632" y="1171"/>
                </a:lnTo>
                <a:lnTo>
                  <a:pt x="642" y="855"/>
                </a:lnTo>
                <a:lnTo>
                  <a:pt x="648" y="1327"/>
                </a:lnTo>
                <a:lnTo>
                  <a:pt x="653" y="917"/>
                </a:lnTo>
                <a:lnTo>
                  <a:pt x="658" y="1124"/>
                </a:lnTo>
                <a:lnTo>
                  <a:pt x="668" y="1047"/>
                </a:lnTo>
                <a:lnTo>
                  <a:pt x="673" y="1435"/>
                </a:lnTo>
                <a:lnTo>
                  <a:pt x="679" y="1441"/>
                </a:lnTo>
                <a:lnTo>
                  <a:pt x="689" y="176"/>
                </a:lnTo>
                <a:lnTo>
                  <a:pt x="694" y="979"/>
                </a:lnTo>
                <a:lnTo>
                  <a:pt x="699" y="1171"/>
                </a:lnTo>
                <a:lnTo>
                  <a:pt x="705" y="1684"/>
                </a:lnTo>
                <a:lnTo>
                  <a:pt x="715" y="1036"/>
                </a:lnTo>
                <a:lnTo>
                  <a:pt x="720" y="1912"/>
                </a:lnTo>
                <a:lnTo>
                  <a:pt x="725" y="1363"/>
                </a:lnTo>
                <a:lnTo>
                  <a:pt x="730" y="1000"/>
                </a:lnTo>
                <a:lnTo>
                  <a:pt x="741" y="1192"/>
                </a:lnTo>
                <a:lnTo>
                  <a:pt x="746" y="1824"/>
                </a:lnTo>
                <a:lnTo>
                  <a:pt x="751" y="1596"/>
                </a:lnTo>
                <a:lnTo>
                  <a:pt x="762" y="1052"/>
                </a:lnTo>
                <a:lnTo>
                  <a:pt x="767" y="1612"/>
                </a:lnTo>
                <a:lnTo>
                  <a:pt x="772" y="1638"/>
                </a:lnTo>
                <a:lnTo>
                  <a:pt x="777" y="1855"/>
                </a:lnTo>
                <a:lnTo>
                  <a:pt x="787" y="1778"/>
                </a:lnTo>
                <a:lnTo>
                  <a:pt x="793" y="1161"/>
                </a:lnTo>
                <a:lnTo>
                  <a:pt x="798" y="1036"/>
                </a:lnTo>
                <a:lnTo>
                  <a:pt x="808" y="1425"/>
                </a:lnTo>
                <a:lnTo>
                  <a:pt x="813" y="1653"/>
                </a:lnTo>
                <a:lnTo>
                  <a:pt x="819" y="1254"/>
                </a:lnTo>
                <a:lnTo>
                  <a:pt x="824" y="1518"/>
                </a:lnTo>
                <a:lnTo>
                  <a:pt x="834" y="1306"/>
                </a:lnTo>
                <a:lnTo>
                  <a:pt x="839" y="14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454560" y="2890800"/>
            <a:ext cx="1333440" cy="2732040"/>
          </a:xfrm>
          <a:custGeom>
            <a:avLst/>
            <a:gdLst/>
            <a:ahLst/>
            <a:rect l="l" t="t" r="r" b="b"/>
            <a:pathLst>
              <a:path w="840" h="1721">
                <a:moveTo>
                  <a:pt x="0" y="1219"/>
                </a:moveTo>
                <a:lnTo>
                  <a:pt x="5" y="1390"/>
                </a:lnTo>
                <a:lnTo>
                  <a:pt x="11" y="1576"/>
                </a:lnTo>
                <a:lnTo>
                  <a:pt x="21" y="1307"/>
                </a:lnTo>
                <a:lnTo>
                  <a:pt x="26" y="1649"/>
                </a:lnTo>
                <a:lnTo>
                  <a:pt x="31" y="1711"/>
                </a:lnTo>
                <a:lnTo>
                  <a:pt x="42" y="1462"/>
                </a:lnTo>
                <a:lnTo>
                  <a:pt x="47" y="1374"/>
                </a:lnTo>
                <a:lnTo>
                  <a:pt x="52" y="1612"/>
                </a:lnTo>
                <a:lnTo>
                  <a:pt x="57" y="799"/>
                </a:lnTo>
                <a:lnTo>
                  <a:pt x="68" y="949"/>
                </a:lnTo>
                <a:lnTo>
                  <a:pt x="73" y="726"/>
                </a:lnTo>
                <a:lnTo>
                  <a:pt x="78" y="1125"/>
                </a:lnTo>
                <a:lnTo>
                  <a:pt x="88" y="970"/>
                </a:lnTo>
                <a:lnTo>
                  <a:pt x="94" y="1348"/>
                </a:lnTo>
                <a:lnTo>
                  <a:pt x="99" y="1612"/>
                </a:lnTo>
                <a:lnTo>
                  <a:pt x="104" y="1659"/>
                </a:lnTo>
                <a:lnTo>
                  <a:pt x="114" y="1421"/>
                </a:lnTo>
                <a:lnTo>
                  <a:pt x="120" y="1286"/>
                </a:lnTo>
                <a:lnTo>
                  <a:pt x="125" y="1089"/>
                </a:lnTo>
                <a:lnTo>
                  <a:pt x="130" y="602"/>
                </a:lnTo>
                <a:lnTo>
                  <a:pt x="140" y="1358"/>
                </a:lnTo>
                <a:lnTo>
                  <a:pt x="145" y="1587"/>
                </a:lnTo>
                <a:lnTo>
                  <a:pt x="151" y="711"/>
                </a:lnTo>
                <a:lnTo>
                  <a:pt x="161" y="949"/>
                </a:lnTo>
                <a:lnTo>
                  <a:pt x="166" y="768"/>
                </a:lnTo>
                <a:lnTo>
                  <a:pt x="171" y="1229"/>
                </a:lnTo>
                <a:lnTo>
                  <a:pt x="177" y="1602"/>
                </a:lnTo>
                <a:lnTo>
                  <a:pt x="187" y="1193"/>
                </a:lnTo>
                <a:lnTo>
                  <a:pt x="192" y="638"/>
                </a:lnTo>
                <a:lnTo>
                  <a:pt x="197" y="1711"/>
                </a:lnTo>
                <a:lnTo>
                  <a:pt x="202" y="1136"/>
                </a:lnTo>
                <a:lnTo>
                  <a:pt x="213" y="819"/>
                </a:lnTo>
                <a:lnTo>
                  <a:pt x="218" y="1540"/>
                </a:lnTo>
                <a:lnTo>
                  <a:pt x="223" y="1524"/>
                </a:lnTo>
                <a:lnTo>
                  <a:pt x="234" y="674"/>
                </a:lnTo>
                <a:lnTo>
                  <a:pt x="239" y="576"/>
                </a:lnTo>
                <a:lnTo>
                  <a:pt x="244" y="1701"/>
                </a:lnTo>
                <a:lnTo>
                  <a:pt x="249" y="1415"/>
                </a:lnTo>
                <a:lnTo>
                  <a:pt x="259" y="0"/>
                </a:lnTo>
                <a:lnTo>
                  <a:pt x="265" y="1364"/>
                </a:lnTo>
                <a:lnTo>
                  <a:pt x="270" y="996"/>
                </a:lnTo>
                <a:lnTo>
                  <a:pt x="280" y="975"/>
                </a:lnTo>
                <a:lnTo>
                  <a:pt x="285" y="1395"/>
                </a:lnTo>
                <a:lnTo>
                  <a:pt x="291" y="1198"/>
                </a:lnTo>
                <a:lnTo>
                  <a:pt x="296" y="643"/>
                </a:lnTo>
                <a:lnTo>
                  <a:pt x="306" y="1561"/>
                </a:lnTo>
                <a:lnTo>
                  <a:pt x="311" y="1716"/>
                </a:lnTo>
                <a:lnTo>
                  <a:pt x="316" y="234"/>
                </a:lnTo>
                <a:lnTo>
                  <a:pt x="322" y="1099"/>
                </a:lnTo>
                <a:lnTo>
                  <a:pt x="332" y="1104"/>
                </a:lnTo>
                <a:lnTo>
                  <a:pt x="337" y="799"/>
                </a:lnTo>
                <a:lnTo>
                  <a:pt x="342" y="975"/>
                </a:lnTo>
                <a:lnTo>
                  <a:pt x="353" y="270"/>
                </a:lnTo>
                <a:lnTo>
                  <a:pt x="358" y="446"/>
                </a:lnTo>
                <a:lnTo>
                  <a:pt x="363" y="1550"/>
                </a:lnTo>
                <a:lnTo>
                  <a:pt x="368" y="1213"/>
                </a:lnTo>
                <a:lnTo>
                  <a:pt x="379" y="1680"/>
                </a:lnTo>
                <a:lnTo>
                  <a:pt x="384" y="1047"/>
                </a:lnTo>
                <a:lnTo>
                  <a:pt x="389" y="1115"/>
                </a:lnTo>
                <a:lnTo>
                  <a:pt x="399" y="840"/>
                </a:lnTo>
                <a:lnTo>
                  <a:pt x="405" y="1597"/>
                </a:lnTo>
                <a:lnTo>
                  <a:pt x="410" y="1260"/>
                </a:lnTo>
                <a:lnTo>
                  <a:pt x="415" y="1457"/>
                </a:lnTo>
                <a:lnTo>
                  <a:pt x="425" y="1701"/>
                </a:lnTo>
                <a:lnTo>
                  <a:pt x="431" y="1224"/>
                </a:lnTo>
                <a:lnTo>
                  <a:pt x="436" y="1296"/>
                </a:lnTo>
                <a:lnTo>
                  <a:pt x="441" y="337"/>
                </a:lnTo>
                <a:lnTo>
                  <a:pt x="451" y="799"/>
                </a:lnTo>
                <a:lnTo>
                  <a:pt x="456" y="799"/>
                </a:lnTo>
                <a:lnTo>
                  <a:pt x="462" y="1478"/>
                </a:lnTo>
                <a:lnTo>
                  <a:pt x="472" y="1276"/>
                </a:lnTo>
                <a:lnTo>
                  <a:pt x="477" y="669"/>
                </a:lnTo>
                <a:lnTo>
                  <a:pt x="482" y="794"/>
                </a:lnTo>
                <a:lnTo>
                  <a:pt x="488" y="1576"/>
                </a:lnTo>
                <a:lnTo>
                  <a:pt x="498" y="933"/>
                </a:lnTo>
                <a:lnTo>
                  <a:pt x="503" y="1198"/>
                </a:lnTo>
                <a:lnTo>
                  <a:pt x="508" y="1644"/>
                </a:lnTo>
                <a:lnTo>
                  <a:pt x="513" y="296"/>
                </a:lnTo>
                <a:lnTo>
                  <a:pt x="524" y="1286"/>
                </a:lnTo>
                <a:lnTo>
                  <a:pt x="529" y="1721"/>
                </a:lnTo>
                <a:lnTo>
                  <a:pt x="534" y="1301"/>
                </a:lnTo>
                <a:lnTo>
                  <a:pt x="545" y="1151"/>
                </a:lnTo>
                <a:lnTo>
                  <a:pt x="550" y="990"/>
                </a:lnTo>
                <a:lnTo>
                  <a:pt x="555" y="1405"/>
                </a:lnTo>
                <a:lnTo>
                  <a:pt x="560" y="1504"/>
                </a:lnTo>
                <a:lnTo>
                  <a:pt x="570" y="638"/>
                </a:lnTo>
                <a:lnTo>
                  <a:pt x="576" y="840"/>
                </a:lnTo>
                <a:lnTo>
                  <a:pt x="581" y="887"/>
                </a:lnTo>
                <a:lnTo>
                  <a:pt x="591" y="462"/>
                </a:lnTo>
                <a:lnTo>
                  <a:pt x="596" y="1685"/>
                </a:lnTo>
                <a:lnTo>
                  <a:pt x="602" y="1421"/>
                </a:lnTo>
                <a:lnTo>
                  <a:pt x="607" y="996"/>
                </a:lnTo>
                <a:lnTo>
                  <a:pt x="617" y="664"/>
                </a:lnTo>
                <a:lnTo>
                  <a:pt x="622" y="913"/>
                </a:lnTo>
                <a:lnTo>
                  <a:pt x="627" y="866"/>
                </a:lnTo>
                <a:lnTo>
                  <a:pt x="633" y="908"/>
                </a:lnTo>
                <a:lnTo>
                  <a:pt x="643" y="1322"/>
                </a:lnTo>
                <a:lnTo>
                  <a:pt x="648" y="1675"/>
                </a:lnTo>
                <a:lnTo>
                  <a:pt x="653" y="1607"/>
                </a:lnTo>
                <a:lnTo>
                  <a:pt x="664" y="1063"/>
                </a:lnTo>
                <a:lnTo>
                  <a:pt x="669" y="913"/>
                </a:lnTo>
                <a:lnTo>
                  <a:pt x="674" y="1623"/>
                </a:lnTo>
                <a:lnTo>
                  <a:pt x="679" y="1177"/>
                </a:lnTo>
                <a:lnTo>
                  <a:pt x="690" y="1374"/>
                </a:lnTo>
                <a:lnTo>
                  <a:pt x="695" y="1467"/>
                </a:lnTo>
                <a:lnTo>
                  <a:pt x="700" y="182"/>
                </a:lnTo>
                <a:lnTo>
                  <a:pt x="710" y="534"/>
                </a:lnTo>
                <a:lnTo>
                  <a:pt x="716" y="1011"/>
                </a:lnTo>
                <a:lnTo>
                  <a:pt x="721" y="1374"/>
                </a:lnTo>
                <a:lnTo>
                  <a:pt x="726" y="1555"/>
                </a:lnTo>
                <a:lnTo>
                  <a:pt x="736" y="550"/>
                </a:lnTo>
                <a:lnTo>
                  <a:pt x="742" y="1317"/>
                </a:lnTo>
                <a:lnTo>
                  <a:pt x="747" y="1612"/>
                </a:lnTo>
                <a:lnTo>
                  <a:pt x="752" y="514"/>
                </a:lnTo>
                <a:lnTo>
                  <a:pt x="762" y="1566"/>
                </a:lnTo>
                <a:lnTo>
                  <a:pt x="767" y="1545"/>
                </a:lnTo>
                <a:lnTo>
                  <a:pt x="773" y="1441"/>
                </a:lnTo>
                <a:lnTo>
                  <a:pt x="783" y="1623"/>
                </a:lnTo>
                <a:lnTo>
                  <a:pt x="788" y="788"/>
                </a:lnTo>
                <a:lnTo>
                  <a:pt x="793" y="1524"/>
                </a:lnTo>
                <a:lnTo>
                  <a:pt x="799" y="711"/>
                </a:lnTo>
                <a:lnTo>
                  <a:pt x="809" y="887"/>
                </a:lnTo>
                <a:lnTo>
                  <a:pt x="814" y="1436"/>
                </a:lnTo>
                <a:lnTo>
                  <a:pt x="819" y="1327"/>
                </a:lnTo>
                <a:lnTo>
                  <a:pt x="824" y="1182"/>
                </a:lnTo>
                <a:lnTo>
                  <a:pt x="835" y="1664"/>
                </a:lnTo>
                <a:lnTo>
                  <a:pt x="840" y="41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4788000" y="2448000"/>
            <a:ext cx="1333440" cy="3159000"/>
          </a:xfrm>
          <a:custGeom>
            <a:avLst/>
            <a:gdLst/>
            <a:ahLst/>
            <a:rect l="l" t="t" r="r" b="b"/>
            <a:pathLst>
              <a:path w="840" h="1990">
                <a:moveTo>
                  <a:pt x="0" y="694"/>
                </a:moveTo>
                <a:lnTo>
                  <a:pt x="5" y="1549"/>
                </a:lnTo>
                <a:lnTo>
                  <a:pt x="16" y="1456"/>
                </a:lnTo>
                <a:lnTo>
                  <a:pt x="21" y="1819"/>
                </a:lnTo>
                <a:lnTo>
                  <a:pt x="26" y="1124"/>
                </a:lnTo>
                <a:lnTo>
                  <a:pt x="31" y="1477"/>
                </a:lnTo>
                <a:lnTo>
                  <a:pt x="41" y="1161"/>
                </a:lnTo>
                <a:lnTo>
                  <a:pt x="47" y="1606"/>
                </a:lnTo>
                <a:lnTo>
                  <a:pt x="52" y="1321"/>
                </a:lnTo>
                <a:lnTo>
                  <a:pt x="62" y="1441"/>
                </a:lnTo>
                <a:lnTo>
                  <a:pt x="67" y="1150"/>
                </a:lnTo>
                <a:lnTo>
                  <a:pt x="73" y="927"/>
                </a:lnTo>
                <a:lnTo>
                  <a:pt x="78" y="1565"/>
                </a:lnTo>
                <a:lnTo>
                  <a:pt x="88" y="1959"/>
                </a:lnTo>
                <a:lnTo>
                  <a:pt x="93" y="1441"/>
                </a:lnTo>
                <a:lnTo>
                  <a:pt x="98" y="1062"/>
                </a:lnTo>
                <a:lnTo>
                  <a:pt x="104" y="1591"/>
                </a:lnTo>
                <a:lnTo>
                  <a:pt x="114" y="1928"/>
                </a:lnTo>
                <a:lnTo>
                  <a:pt x="119" y="1876"/>
                </a:lnTo>
                <a:lnTo>
                  <a:pt x="124" y="1000"/>
                </a:lnTo>
                <a:lnTo>
                  <a:pt x="135" y="1290"/>
                </a:lnTo>
                <a:lnTo>
                  <a:pt x="140" y="855"/>
                </a:lnTo>
                <a:lnTo>
                  <a:pt x="145" y="1663"/>
                </a:lnTo>
                <a:lnTo>
                  <a:pt x="150" y="1093"/>
                </a:lnTo>
                <a:lnTo>
                  <a:pt x="161" y="1228"/>
                </a:lnTo>
                <a:lnTo>
                  <a:pt x="166" y="1301"/>
                </a:lnTo>
                <a:lnTo>
                  <a:pt x="171" y="1430"/>
                </a:lnTo>
                <a:lnTo>
                  <a:pt x="181" y="1586"/>
                </a:lnTo>
                <a:lnTo>
                  <a:pt x="187" y="616"/>
                </a:lnTo>
                <a:lnTo>
                  <a:pt x="192" y="1192"/>
                </a:lnTo>
                <a:lnTo>
                  <a:pt x="197" y="1005"/>
                </a:lnTo>
                <a:lnTo>
                  <a:pt x="207" y="1777"/>
                </a:lnTo>
                <a:lnTo>
                  <a:pt x="213" y="1731"/>
                </a:lnTo>
                <a:lnTo>
                  <a:pt x="218" y="1337"/>
                </a:lnTo>
                <a:lnTo>
                  <a:pt x="223" y="1850"/>
                </a:lnTo>
                <a:lnTo>
                  <a:pt x="233" y="1580"/>
                </a:lnTo>
                <a:lnTo>
                  <a:pt x="238" y="881"/>
                </a:lnTo>
                <a:lnTo>
                  <a:pt x="244" y="1752"/>
                </a:lnTo>
                <a:lnTo>
                  <a:pt x="254" y="1342"/>
                </a:lnTo>
                <a:lnTo>
                  <a:pt x="259" y="1772"/>
                </a:lnTo>
                <a:lnTo>
                  <a:pt x="264" y="1477"/>
                </a:lnTo>
                <a:lnTo>
                  <a:pt x="270" y="1798"/>
                </a:lnTo>
                <a:lnTo>
                  <a:pt x="280" y="1000"/>
                </a:lnTo>
                <a:lnTo>
                  <a:pt x="285" y="368"/>
                </a:lnTo>
                <a:lnTo>
                  <a:pt x="290" y="1917"/>
                </a:lnTo>
                <a:lnTo>
                  <a:pt x="301" y="1980"/>
                </a:lnTo>
                <a:lnTo>
                  <a:pt x="306" y="1238"/>
                </a:lnTo>
                <a:lnTo>
                  <a:pt x="311" y="829"/>
                </a:lnTo>
                <a:lnTo>
                  <a:pt x="316" y="1534"/>
                </a:lnTo>
                <a:lnTo>
                  <a:pt x="327" y="1715"/>
                </a:lnTo>
                <a:lnTo>
                  <a:pt x="332" y="1860"/>
                </a:lnTo>
                <a:lnTo>
                  <a:pt x="337" y="1301"/>
                </a:lnTo>
                <a:lnTo>
                  <a:pt x="342" y="1472"/>
                </a:lnTo>
                <a:lnTo>
                  <a:pt x="352" y="819"/>
                </a:lnTo>
                <a:lnTo>
                  <a:pt x="358" y="1378"/>
                </a:lnTo>
                <a:lnTo>
                  <a:pt x="363" y="1726"/>
                </a:lnTo>
                <a:lnTo>
                  <a:pt x="373" y="1518"/>
                </a:lnTo>
                <a:lnTo>
                  <a:pt x="378" y="1798"/>
                </a:lnTo>
                <a:lnTo>
                  <a:pt x="384" y="1015"/>
                </a:lnTo>
                <a:lnTo>
                  <a:pt x="389" y="1902"/>
                </a:lnTo>
                <a:lnTo>
                  <a:pt x="399" y="544"/>
                </a:lnTo>
                <a:lnTo>
                  <a:pt x="404" y="1866"/>
                </a:lnTo>
                <a:lnTo>
                  <a:pt x="409" y="1814"/>
                </a:lnTo>
                <a:lnTo>
                  <a:pt x="415" y="1352"/>
                </a:lnTo>
                <a:lnTo>
                  <a:pt x="425" y="176"/>
                </a:lnTo>
                <a:lnTo>
                  <a:pt x="430" y="710"/>
                </a:lnTo>
                <a:lnTo>
                  <a:pt x="435" y="1031"/>
                </a:lnTo>
                <a:lnTo>
                  <a:pt x="446" y="1762"/>
                </a:lnTo>
                <a:lnTo>
                  <a:pt x="451" y="1352"/>
                </a:lnTo>
                <a:lnTo>
                  <a:pt x="456" y="461"/>
                </a:lnTo>
                <a:lnTo>
                  <a:pt x="461" y="1694"/>
                </a:lnTo>
                <a:lnTo>
                  <a:pt x="472" y="1529"/>
                </a:lnTo>
                <a:lnTo>
                  <a:pt x="477" y="1845"/>
                </a:lnTo>
                <a:lnTo>
                  <a:pt x="482" y="1777"/>
                </a:lnTo>
                <a:lnTo>
                  <a:pt x="492" y="1928"/>
                </a:lnTo>
                <a:lnTo>
                  <a:pt x="498" y="1658"/>
                </a:lnTo>
                <a:lnTo>
                  <a:pt x="503" y="1871"/>
                </a:lnTo>
                <a:lnTo>
                  <a:pt x="508" y="1036"/>
                </a:lnTo>
                <a:lnTo>
                  <a:pt x="518" y="876"/>
                </a:lnTo>
                <a:lnTo>
                  <a:pt x="523" y="1539"/>
                </a:lnTo>
                <a:lnTo>
                  <a:pt x="529" y="1259"/>
                </a:lnTo>
                <a:lnTo>
                  <a:pt x="534" y="1741"/>
                </a:lnTo>
                <a:lnTo>
                  <a:pt x="544" y="1202"/>
                </a:lnTo>
                <a:lnTo>
                  <a:pt x="549" y="901"/>
                </a:lnTo>
                <a:lnTo>
                  <a:pt x="555" y="1264"/>
                </a:lnTo>
                <a:lnTo>
                  <a:pt x="565" y="1824"/>
                </a:lnTo>
                <a:lnTo>
                  <a:pt x="570" y="1451"/>
                </a:lnTo>
                <a:lnTo>
                  <a:pt x="575" y="1741"/>
                </a:lnTo>
                <a:lnTo>
                  <a:pt x="581" y="1404"/>
                </a:lnTo>
                <a:lnTo>
                  <a:pt x="591" y="1653"/>
                </a:lnTo>
                <a:lnTo>
                  <a:pt x="596" y="1104"/>
                </a:lnTo>
                <a:lnTo>
                  <a:pt x="601" y="730"/>
                </a:lnTo>
                <a:lnTo>
                  <a:pt x="612" y="1275"/>
                </a:lnTo>
                <a:lnTo>
                  <a:pt x="617" y="1606"/>
                </a:lnTo>
                <a:lnTo>
                  <a:pt x="622" y="751"/>
                </a:lnTo>
                <a:lnTo>
                  <a:pt x="627" y="865"/>
                </a:lnTo>
                <a:lnTo>
                  <a:pt x="638" y="1891"/>
                </a:lnTo>
                <a:lnTo>
                  <a:pt x="643" y="1886"/>
                </a:lnTo>
                <a:lnTo>
                  <a:pt x="648" y="1933"/>
                </a:lnTo>
                <a:lnTo>
                  <a:pt x="653" y="1757"/>
                </a:lnTo>
                <a:lnTo>
                  <a:pt x="663" y="1565"/>
                </a:lnTo>
                <a:lnTo>
                  <a:pt x="669" y="1492"/>
                </a:lnTo>
                <a:lnTo>
                  <a:pt x="674" y="1389"/>
                </a:lnTo>
                <a:lnTo>
                  <a:pt x="684" y="1814"/>
                </a:lnTo>
                <a:lnTo>
                  <a:pt x="689" y="1710"/>
                </a:lnTo>
                <a:lnTo>
                  <a:pt x="695" y="679"/>
                </a:lnTo>
                <a:lnTo>
                  <a:pt x="700" y="855"/>
                </a:lnTo>
                <a:lnTo>
                  <a:pt x="710" y="1155"/>
                </a:lnTo>
                <a:lnTo>
                  <a:pt x="715" y="1803"/>
                </a:lnTo>
                <a:lnTo>
                  <a:pt x="720" y="1617"/>
                </a:lnTo>
                <a:lnTo>
                  <a:pt x="726" y="1617"/>
                </a:lnTo>
                <a:lnTo>
                  <a:pt x="736" y="1990"/>
                </a:lnTo>
                <a:lnTo>
                  <a:pt x="741" y="912"/>
                </a:lnTo>
                <a:lnTo>
                  <a:pt x="746" y="1788"/>
                </a:lnTo>
                <a:lnTo>
                  <a:pt x="757" y="1871"/>
                </a:lnTo>
                <a:lnTo>
                  <a:pt x="762" y="1031"/>
                </a:lnTo>
                <a:lnTo>
                  <a:pt x="767" y="1974"/>
                </a:lnTo>
                <a:lnTo>
                  <a:pt x="772" y="1757"/>
                </a:lnTo>
                <a:lnTo>
                  <a:pt x="783" y="839"/>
                </a:lnTo>
                <a:lnTo>
                  <a:pt x="788" y="1632"/>
                </a:lnTo>
                <a:lnTo>
                  <a:pt x="793" y="1876"/>
                </a:lnTo>
                <a:lnTo>
                  <a:pt x="803" y="1980"/>
                </a:lnTo>
                <a:lnTo>
                  <a:pt x="809" y="1124"/>
                </a:lnTo>
                <a:lnTo>
                  <a:pt x="814" y="927"/>
                </a:lnTo>
                <a:lnTo>
                  <a:pt x="819" y="1689"/>
                </a:lnTo>
                <a:lnTo>
                  <a:pt x="829" y="1819"/>
                </a:lnTo>
                <a:lnTo>
                  <a:pt x="834" y="798"/>
                </a:lnTo>
                <a:lnTo>
                  <a:pt x="84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6121440" y="2448000"/>
            <a:ext cx="1332000" cy="3174840"/>
          </a:xfrm>
          <a:custGeom>
            <a:avLst/>
            <a:gdLst/>
            <a:ahLst/>
            <a:rect l="l" t="t" r="r" b="b"/>
            <a:pathLst>
              <a:path w="839" h="2000">
                <a:moveTo>
                  <a:pt x="0" y="0"/>
                </a:moveTo>
                <a:lnTo>
                  <a:pt x="5" y="1316"/>
                </a:lnTo>
                <a:lnTo>
                  <a:pt x="15" y="1192"/>
                </a:lnTo>
                <a:lnTo>
                  <a:pt x="20" y="1280"/>
                </a:lnTo>
                <a:lnTo>
                  <a:pt x="26" y="1321"/>
                </a:lnTo>
                <a:lnTo>
                  <a:pt x="36" y="1715"/>
                </a:lnTo>
                <a:lnTo>
                  <a:pt x="41" y="1435"/>
                </a:lnTo>
                <a:lnTo>
                  <a:pt x="46" y="1295"/>
                </a:lnTo>
                <a:lnTo>
                  <a:pt x="51" y="1912"/>
                </a:lnTo>
                <a:lnTo>
                  <a:pt x="62" y="1814"/>
                </a:lnTo>
                <a:lnTo>
                  <a:pt x="67" y="1560"/>
                </a:lnTo>
                <a:lnTo>
                  <a:pt x="72" y="1933"/>
                </a:lnTo>
                <a:lnTo>
                  <a:pt x="83" y="1135"/>
                </a:lnTo>
                <a:lnTo>
                  <a:pt x="88" y="1731"/>
                </a:lnTo>
                <a:lnTo>
                  <a:pt x="93" y="1352"/>
                </a:lnTo>
                <a:lnTo>
                  <a:pt x="98" y="1689"/>
                </a:lnTo>
                <a:lnTo>
                  <a:pt x="109" y="1923"/>
                </a:lnTo>
                <a:lnTo>
                  <a:pt x="114" y="1891"/>
                </a:lnTo>
                <a:lnTo>
                  <a:pt x="119" y="1612"/>
                </a:lnTo>
                <a:lnTo>
                  <a:pt x="124" y="1829"/>
                </a:lnTo>
                <a:lnTo>
                  <a:pt x="134" y="1990"/>
                </a:lnTo>
                <a:lnTo>
                  <a:pt x="140" y="1767"/>
                </a:lnTo>
                <a:lnTo>
                  <a:pt x="145" y="1368"/>
                </a:lnTo>
                <a:lnTo>
                  <a:pt x="155" y="2000"/>
                </a:lnTo>
                <a:lnTo>
                  <a:pt x="160" y="1674"/>
                </a:lnTo>
                <a:lnTo>
                  <a:pt x="166" y="1166"/>
                </a:lnTo>
                <a:lnTo>
                  <a:pt x="171" y="1985"/>
                </a:lnTo>
                <a:lnTo>
                  <a:pt x="181" y="1866"/>
                </a:lnTo>
                <a:lnTo>
                  <a:pt x="186" y="1928"/>
                </a:lnTo>
                <a:lnTo>
                  <a:pt x="191" y="1580"/>
                </a:lnTo>
                <a:lnTo>
                  <a:pt x="197" y="793"/>
                </a:lnTo>
                <a:lnTo>
                  <a:pt x="207" y="943"/>
                </a:lnTo>
                <a:lnTo>
                  <a:pt x="212" y="1798"/>
                </a:lnTo>
                <a:lnTo>
                  <a:pt x="217" y="1404"/>
                </a:lnTo>
                <a:lnTo>
                  <a:pt x="228" y="1726"/>
                </a:lnTo>
                <a:lnTo>
                  <a:pt x="233" y="1461"/>
                </a:lnTo>
                <a:lnTo>
                  <a:pt x="238" y="1104"/>
                </a:lnTo>
                <a:lnTo>
                  <a:pt x="243" y="1679"/>
                </a:lnTo>
                <a:lnTo>
                  <a:pt x="254" y="1606"/>
                </a:lnTo>
                <a:lnTo>
                  <a:pt x="259" y="1850"/>
                </a:lnTo>
                <a:lnTo>
                  <a:pt x="264" y="1187"/>
                </a:lnTo>
                <a:lnTo>
                  <a:pt x="274" y="1876"/>
                </a:lnTo>
                <a:lnTo>
                  <a:pt x="280" y="1980"/>
                </a:lnTo>
                <a:lnTo>
                  <a:pt x="285" y="741"/>
                </a:lnTo>
                <a:lnTo>
                  <a:pt x="290" y="1938"/>
                </a:lnTo>
                <a:lnTo>
                  <a:pt x="300" y="1669"/>
                </a:lnTo>
                <a:lnTo>
                  <a:pt x="305" y="1814"/>
                </a:lnTo>
                <a:lnTo>
                  <a:pt x="311" y="1653"/>
                </a:lnTo>
                <a:lnTo>
                  <a:pt x="316" y="1425"/>
                </a:lnTo>
                <a:lnTo>
                  <a:pt x="326" y="787"/>
                </a:lnTo>
                <a:lnTo>
                  <a:pt x="331" y="1710"/>
                </a:lnTo>
                <a:lnTo>
                  <a:pt x="337" y="1363"/>
                </a:lnTo>
                <a:lnTo>
                  <a:pt x="347" y="1539"/>
                </a:lnTo>
                <a:lnTo>
                  <a:pt x="352" y="1653"/>
                </a:lnTo>
                <a:lnTo>
                  <a:pt x="357" y="1736"/>
                </a:lnTo>
                <a:lnTo>
                  <a:pt x="362" y="1777"/>
                </a:lnTo>
                <a:lnTo>
                  <a:pt x="373" y="1938"/>
                </a:lnTo>
                <a:lnTo>
                  <a:pt x="378" y="637"/>
                </a:lnTo>
                <a:lnTo>
                  <a:pt x="383" y="1871"/>
                </a:lnTo>
                <a:lnTo>
                  <a:pt x="394" y="1010"/>
                </a:lnTo>
                <a:lnTo>
                  <a:pt x="399" y="1679"/>
                </a:lnTo>
                <a:lnTo>
                  <a:pt x="404" y="419"/>
                </a:lnTo>
                <a:lnTo>
                  <a:pt x="409" y="1373"/>
                </a:lnTo>
                <a:lnTo>
                  <a:pt x="420" y="1015"/>
                </a:lnTo>
                <a:lnTo>
                  <a:pt x="425" y="1212"/>
                </a:lnTo>
                <a:lnTo>
                  <a:pt x="430" y="1617"/>
                </a:lnTo>
                <a:lnTo>
                  <a:pt x="435" y="1809"/>
                </a:lnTo>
                <a:lnTo>
                  <a:pt x="445" y="1834"/>
                </a:lnTo>
                <a:lnTo>
                  <a:pt x="451" y="528"/>
                </a:lnTo>
                <a:lnTo>
                  <a:pt x="456" y="1389"/>
                </a:lnTo>
                <a:lnTo>
                  <a:pt x="466" y="1923"/>
                </a:lnTo>
                <a:lnTo>
                  <a:pt x="471" y="974"/>
                </a:lnTo>
                <a:lnTo>
                  <a:pt x="477" y="1441"/>
                </a:lnTo>
                <a:lnTo>
                  <a:pt x="482" y="969"/>
                </a:lnTo>
                <a:lnTo>
                  <a:pt x="492" y="1788"/>
                </a:lnTo>
                <a:lnTo>
                  <a:pt x="497" y="891"/>
                </a:lnTo>
                <a:lnTo>
                  <a:pt x="502" y="1669"/>
                </a:lnTo>
                <a:lnTo>
                  <a:pt x="508" y="943"/>
                </a:lnTo>
                <a:lnTo>
                  <a:pt x="518" y="1591"/>
                </a:lnTo>
                <a:lnTo>
                  <a:pt x="523" y="1176"/>
                </a:lnTo>
                <a:lnTo>
                  <a:pt x="528" y="1741"/>
                </a:lnTo>
                <a:lnTo>
                  <a:pt x="539" y="1347"/>
                </a:lnTo>
                <a:lnTo>
                  <a:pt x="544" y="1477"/>
                </a:lnTo>
                <a:lnTo>
                  <a:pt x="549" y="1155"/>
                </a:lnTo>
                <a:lnTo>
                  <a:pt x="554" y="1803"/>
                </a:lnTo>
                <a:lnTo>
                  <a:pt x="565" y="1648"/>
                </a:lnTo>
                <a:lnTo>
                  <a:pt x="570" y="1223"/>
                </a:lnTo>
                <a:lnTo>
                  <a:pt x="575" y="331"/>
                </a:lnTo>
                <a:lnTo>
                  <a:pt x="585" y="1948"/>
                </a:lnTo>
                <a:lnTo>
                  <a:pt x="591" y="1518"/>
                </a:lnTo>
                <a:lnTo>
                  <a:pt x="596" y="1062"/>
                </a:lnTo>
                <a:lnTo>
                  <a:pt x="601" y="2000"/>
                </a:lnTo>
                <a:lnTo>
                  <a:pt x="611" y="1601"/>
                </a:lnTo>
                <a:lnTo>
                  <a:pt x="616" y="1280"/>
                </a:lnTo>
                <a:lnTo>
                  <a:pt x="622" y="1969"/>
                </a:lnTo>
                <a:lnTo>
                  <a:pt x="627" y="1555"/>
                </a:lnTo>
                <a:lnTo>
                  <a:pt x="637" y="1990"/>
                </a:lnTo>
                <a:lnTo>
                  <a:pt x="642" y="1684"/>
                </a:lnTo>
                <a:lnTo>
                  <a:pt x="648" y="1850"/>
                </a:lnTo>
                <a:lnTo>
                  <a:pt x="658" y="1917"/>
                </a:lnTo>
                <a:lnTo>
                  <a:pt x="663" y="1466"/>
                </a:lnTo>
                <a:lnTo>
                  <a:pt x="668" y="1689"/>
                </a:lnTo>
                <a:lnTo>
                  <a:pt x="673" y="394"/>
                </a:lnTo>
                <a:lnTo>
                  <a:pt x="684" y="1917"/>
                </a:lnTo>
                <a:lnTo>
                  <a:pt x="689" y="1409"/>
                </a:lnTo>
                <a:lnTo>
                  <a:pt x="694" y="1990"/>
                </a:lnTo>
                <a:lnTo>
                  <a:pt x="705" y="1529"/>
                </a:lnTo>
                <a:lnTo>
                  <a:pt x="710" y="1549"/>
                </a:lnTo>
                <a:lnTo>
                  <a:pt x="715" y="1492"/>
                </a:lnTo>
                <a:lnTo>
                  <a:pt x="720" y="1788"/>
                </a:lnTo>
                <a:lnTo>
                  <a:pt x="730" y="1140"/>
                </a:lnTo>
                <a:lnTo>
                  <a:pt x="736" y="1933"/>
                </a:lnTo>
                <a:lnTo>
                  <a:pt x="741" y="1627"/>
                </a:lnTo>
                <a:lnTo>
                  <a:pt x="746" y="1938"/>
                </a:lnTo>
                <a:lnTo>
                  <a:pt x="756" y="1938"/>
                </a:lnTo>
                <a:lnTo>
                  <a:pt x="762" y="1622"/>
                </a:lnTo>
                <a:lnTo>
                  <a:pt x="767" y="606"/>
                </a:lnTo>
                <a:lnTo>
                  <a:pt x="777" y="1741"/>
                </a:lnTo>
                <a:lnTo>
                  <a:pt x="782" y="886"/>
                </a:lnTo>
                <a:lnTo>
                  <a:pt x="788" y="482"/>
                </a:lnTo>
                <a:lnTo>
                  <a:pt x="793" y="1363"/>
                </a:lnTo>
                <a:lnTo>
                  <a:pt x="803" y="1938"/>
                </a:lnTo>
                <a:lnTo>
                  <a:pt x="808" y="1726"/>
                </a:lnTo>
                <a:lnTo>
                  <a:pt x="813" y="1358"/>
                </a:lnTo>
                <a:lnTo>
                  <a:pt x="819" y="1451"/>
                </a:lnTo>
                <a:lnTo>
                  <a:pt x="829" y="1803"/>
                </a:lnTo>
                <a:lnTo>
                  <a:pt x="834" y="1669"/>
                </a:lnTo>
                <a:lnTo>
                  <a:pt x="839" y="66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2087640" y="2833560"/>
            <a:ext cx="5330880" cy="2756160"/>
            <a:chOff x="2087640" y="2833560"/>
            <a:chExt cx="5330880" cy="2756160"/>
          </a:xfrm>
        </p:grpSpPr>
        <p:sp>
          <p:nvSpPr>
            <p:cNvPr id="4097" name=""/>
            <p:cNvSpPr/>
            <p:nvPr/>
          </p:nvSpPr>
          <p:spPr>
            <a:xfrm>
              <a:off x="2087640" y="5235480"/>
              <a:ext cx="1332000" cy="354240"/>
            </a:xfrm>
            <a:custGeom>
              <a:avLst/>
              <a:gdLst/>
              <a:ahLst/>
              <a:rect l="l" t="t" r="r" b="b"/>
              <a:pathLst>
                <a:path w="839" h="223">
                  <a:moveTo>
                    <a:pt x="0" y="223"/>
                  </a:moveTo>
                  <a:lnTo>
                    <a:pt x="5" y="223"/>
                  </a:lnTo>
                  <a:lnTo>
                    <a:pt x="10" y="223"/>
                  </a:lnTo>
                  <a:lnTo>
                    <a:pt x="20" y="223"/>
                  </a:lnTo>
                  <a:lnTo>
                    <a:pt x="26" y="223"/>
                  </a:lnTo>
                  <a:lnTo>
                    <a:pt x="31" y="218"/>
                  </a:lnTo>
                  <a:lnTo>
                    <a:pt x="36" y="213"/>
                  </a:lnTo>
                  <a:lnTo>
                    <a:pt x="46" y="213"/>
                  </a:lnTo>
                  <a:lnTo>
                    <a:pt x="51" y="213"/>
                  </a:lnTo>
                  <a:lnTo>
                    <a:pt x="57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7" y="208"/>
                  </a:lnTo>
                  <a:lnTo>
                    <a:pt x="83" y="208"/>
                  </a:lnTo>
                  <a:lnTo>
                    <a:pt x="93" y="203"/>
                  </a:lnTo>
                  <a:lnTo>
                    <a:pt x="98" y="203"/>
                  </a:lnTo>
                  <a:lnTo>
                    <a:pt x="103" y="203"/>
                  </a:lnTo>
                  <a:lnTo>
                    <a:pt x="108" y="203"/>
                  </a:lnTo>
                  <a:lnTo>
                    <a:pt x="119" y="203"/>
                  </a:lnTo>
                  <a:lnTo>
                    <a:pt x="124" y="197"/>
                  </a:lnTo>
                  <a:lnTo>
                    <a:pt x="129" y="192"/>
                  </a:lnTo>
                  <a:lnTo>
                    <a:pt x="140" y="187"/>
                  </a:lnTo>
                  <a:lnTo>
                    <a:pt x="145" y="187"/>
                  </a:lnTo>
                  <a:lnTo>
                    <a:pt x="150" y="182"/>
                  </a:lnTo>
                  <a:lnTo>
                    <a:pt x="155" y="182"/>
                  </a:lnTo>
                  <a:lnTo>
                    <a:pt x="165" y="177"/>
                  </a:lnTo>
                  <a:lnTo>
                    <a:pt x="171" y="177"/>
                  </a:lnTo>
                  <a:lnTo>
                    <a:pt x="176" y="177"/>
                  </a:lnTo>
                  <a:lnTo>
                    <a:pt x="186" y="177"/>
                  </a:lnTo>
                  <a:lnTo>
                    <a:pt x="191" y="171"/>
                  </a:lnTo>
                  <a:lnTo>
                    <a:pt x="197" y="166"/>
                  </a:lnTo>
                  <a:lnTo>
                    <a:pt x="202" y="166"/>
                  </a:lnTo>
                  <a:lnTo>
                    <a:pt x="212" y="161"/>
                  </a:lnTo>
                  <a:lnTo>
                    <a:pt x="217" y="161"/>
                  </a:lnTo>
                  <a:lnTo>
                    <a:pt x="223" y="161"/>
                  </a:lnTo>
                  <a:lnTo>
                    <a:pt x="228" y="161"/>
                  </a:lnTo>
                  <a:lnTo>
                    <a:pt x="238" y="161"/>
                  </a:lnTo>
                  <a:lnTo>
                    <a:pt x="243" y="161"/>
                  </a:lnTo>
                  <a:lnTo>
                    <a:pt x="248" y="156"/>
                  </a:lnTo>
                  <a:lnTo>
                    <a:pt x="259" y="156"/>
                  </a:lnTo>
                  <a:lnTo>
                    <a:pt x="264" y="156"/>
                  </a:lnTo>
                  <a:lnTo>
                    <a:pt x="269" y="156"/>
                  </a:lnTo>
                  <a:lnTo>
                    <a:pt x="274" y="151"/>
                  </a:lnTo>
                  <a:lnTo>
                    <a:pt x="285" y="151"/>
                  </a:lnTo>
                  <a:lnTo>
                    <a:pt x="290" y="151"/>
                  </a:lnTo>
                  <a:lnTo>
                    <a:pt x="295" y="151"/>
                  </a:lnTo>
                  <a:lnTo>
                    <a:pt x="305" y="146"/>
                  </a:lnTo>
                  <a:lnTo>
                    <a:pt x="311" y="146"/>
                  </a:lnTo>
                  <a:lnTo>
                    <a:pt x="316" y="146"/>
                  </a:lnTo>
                  <a:lnTo>
                    <a:pt x="321" y="140"/>
                  </a:lnTo>
                  <a:lnTo>
                    <a:pt x="331" y="140"/>
                  </a:lnTo>
                  <a:lnTo>
                    <a:pt x="337" y="140"/>
                  </a:lnTo>
                  <a:lnTo>
                    <a:pt x="342" y="135"/>
                  </a:lnTo>
                  <a:lnTo>
                    <a:pt x="347" y="135"/>
                  </a:lnTo>
                  <a:lnTo>
                    <a:pt x="357" y="135"/>
                  </a:lnTo>
                  <a:lnTo>
                    <a:pt x="362" y="130"/>
                  </a:lnTo>
                  <a:lnTo>
                    <a:pt x="368" y="125"/>
                  </a:lnTo>
                  <a:lnTo>
                    <a:pt x="378" y="125"/>
                  </a:lnTo>
                  <a:lnTo>
                    <a:pt x="383" y="125"/>
                  </a:lnTo>
                  <a:lnTo>
                    <a:pt x="388" y="125"/>
                  </a:lnTo>
                  <a:lnTo>
                    <a:pt x="394" y="114"/>
                  </a:lnTo>
                  <a:lnTo>
                    <a:pt x="404" y="114"/>
                  </a:lnTo>
                  <a:lnTo>
                    <a:pt x="409" y="114"/>
                  </a:lnTo>
                  <a:lnTo>
                    <a:pt x="414" y="114"/>
                  </a:lnTo>
                  <a:lnTo>
                    <a:pt x="419" y="114"/>
                  </a:lnTo>
                  <a:lnTo>
                    <a:pt x="430" y="114"/>
                  </a:lnTo>
                  <a:lnTo>
                    <a:pt x="435" y="109"/>
                  </a:lnTo>
                  <a:lnTo>
                    <a:pt x="440" y="109"/>
                  </a:lnTo>
                  <a:lnTo>
                    <a:pt x="451" y="104"/>
                  </a:lnTo>
                  <a:lnTo>
                    <a:pt x="456" y="99"/>
                  </a:lnTo>
                  <a:lnTo>
                    <a:pt x="461" y="99"/>
                  </a:lnTo>
                  <a:lnTo>
                    <a:pt x="466" y="99"/>
                  </a:lnTo>
                  <a:lnTo>
                    <a:pt x="476" y="99"/>
                  </a:lnTo>
                  <a:lnTo>
                    <a:pt x="482" y="99"/>
                  </a:lnTo>
                  <a:lnTo>
                    <a:pt x="487" y="94"/>
                  </a:lnTo>
                  <a:lnTo>
                    <a:pt x="497" y="94"/>
                  </a:lnTo>
                  <a:lnTo>
                    <a:pt x="502" y="94"/>
                  </a:lnTo>
                  <a:lnTo>
                    <a:pt x="508" y="89"/>
                  </a:lnTo>
                  <a:lnTo>
                    <a:pt x="513" y="89"/>
                  </a:lnTo>
                  <a:lnTo>
                    <a:pt x="523" y="89"/>
                  </a:lnTo>
                  <a:lnTo>
                    <a:pt x="528" y="89"/>
                  </a:lnTo>
                  <a:lnTo>
                    <a:pt x="534" y="89"/>
                  </a:lnTo>
                  <a:lnTo>
                    <a:pt x="539" y="83"/>
                  </a:lnTo>
                  <a:lnTo>
                    <a:pt x="549" y="78"/>
                  </a:lnTo>
                  <a:lnTo>
                    <a:pt x="554" y="78"/>
                  </a:lnTo>
                  <a:lnTo>
                    <a:pt x="559" y="78"/>
                  </a:lnTo>
                  <a:lnTo>
                    <a:pt x="570" y="73"/>
                  </a:lnTo>
                  <a:lnTo>
                    <a:pt x="575" y="73"/>
                  </a:lnTo>
                  <a:lnTo>
                    <a:pt x="580" y="73"/>
                  </a:lnTo>
                  <a:lnTo>
                    <a:pt x="585" y="73"/>
                  </a:lnTo>
                  <a:lnTo>
                    <a:pt x="596" y="68"/>
                  </a:lnTo>
                  <a:lnTo>
                    <a:pt x="601" y="68"/>
                  </a:lnTo>
                  <a:lnTo>
                    <a:pt x="606" y="63"/>
                  </a:lnTo>
                  <a:lnTo>
                    <a:pt x="616" y="57"/>
                  </a:lnTo>
                  <a:lnTo>
                    <a:pt x="622" y="57"/>
                  </a:lnTo>
                  <a:lnTo>
                    <a:pt x="627" y="52"/>
                  </a:lnTo>
                  <a:lnTo>
                    <a:pt x="632" y="52"/>
                  </a:lnTo>
                  <a:lnTo>
                    <a:pt x="642" y="52"/>
                  </a:lnTo>
                  <a:lnTo>
                    <a:pt x="648" y="52"/>
                  </a:lnTo>
                  <a:lnTo>
                    <a:pt x="653" y="47"/>
                  </a:lnTo>
                  <a:lnTo>
                    <a:pt x="658" y="47"/>
                  </a:lnTo>
                  <a:lnTo>
                    <a:pt x="668" y="42"/>
                  </a:lnTo>
                  <a:lnTo>
                    <a:pt x="673" y="42"/>
                  </a:lnTo>
                  <a:lnTo>
                    <a:pt x="679" y="42"/>
                  </a:lnTo>
                  <a:lnTo>
                    <a:pt x="689" y="37"/>
                  </a:lnTo>
                  <a:lnTo>
                    <a:pt x="694" y="37"/>
                  </a:lnTo>
                  <a:lnTo>
                    <a:pt x="699" y="37"/>
                  </a:lnTo>
                  <a:lnTo>
                    <a:pt x="705" y="37"/>
                  </a:lnTo>
                  <a:lnTo>
                    <a:pt x="715" y="32"/>
                  </a:lnTo>
                  <a:lnTo>
                    <a:pt x="720" y="26"/>
                  </a:lnTo>
                  <a:lnTo>
                    <a:pt x="725" y="26"/>
                  </a:lnTo>
                  <a:lnTo>
                    <a:pt x="730" y="26"/>
                  </a:lnTo>
                  <a:lnTo>
                    <a:pt x="741" y="26"/>
                  </a:lnTo>
                  <a:lnTo>
                    <a:pt x="746" y="26"/>
                  </a:lnTo>
                  <a:lnTo>
                    <a:pt x="751" y="26"/>
                  </a:lnTo>
                  <a:lnTo>
                    <a:pt x="762" y="26"/>
                  </a:lnTo>
                  <a:lnTo>
                    <a:pt x="767" y="21"/>
                  </a:lnTo>
                  <a:lnTo>
                    <a:pt x="772" y="21"/>
                  </a:lnTo>
                  <a:lnTo>
                    <a:pt x="777" y="21"/>
                  </a:lnTo>
                  <a:lnTo>
                    <a:pt x="787" y="11"/>
                  </a:lnTo>
                  <a:lnTo>
                    <a:pt x="793" y="11"/>
                  </a:lnTo>
                  <a:lnTo>
                    <a:pt x="798" y="11"/>
                  </a:lnTo>
                  <a:lnTo>
                    <a:pt x="808" y="11"/>
                  </a:lnTo>
                  <a:lnTo>
                    <a:pt x="813" y="11"/>
                  </a:lnTo>
                  <a:lnTo>
                    <a:pt x="819" y="6"/>
                  </a:lnTo>
                  <a:lnTo>
                    <a:pt x="824" y="6"/>
                  </a:lnTo>
                  <a:lnTo>
                    <a:pt x="834" y="0"/>
                  </a:lnTo>
                  <a:lnTo>
                    <a:pt x="8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419640" y="4842000"/>
              <a:ext cx="1333440" cy="393480"/>
            </a:xfrm>
            <a:custGeom>
              <a:avLst/>
              <a:gdLst/>
              <a:ahLst/>
              <a:rect l="l" t="t" r="r" b="b"/>
              <a:pathLst>
                <a:path w="840" h="248">
                  <a:moveTo>
                    <a:pt x="0" y="248"/>
                  </a:moveTo>
                  <a:lnTo>
                    <a:pt x="5" y="248"/>
                  </a:lnTo>
                  <a:lnTo>
                    <a:pt x="11" y="243"/>
                  </a:lnTo>
                  <a:lnTo>
                    <a:pt x="21" y="243"/>
                  </a:lnTo>
                  <a:lnTo>
                    <a:pt x="26" y="238"/>
                  </a:lnTo>
                  <a:lnTo>
                    <a:pt x="31" y="233"/>
                  </a:lnTo>
                  <a:lnTo>
                    <a:pt x="42" y="228"/>
                  </a:lnTo>
                  <a:lnTo>
                    <a:pt x="47" y="228"/>
                  </a:lnTo>
                  <a:lnTo>
                    <a:pt x="52" y="228"/>
                  </a:lnTo>
                  <a:lnTo>
                    <a:pt x="57" y="228"/>
                  </a:lnTo>
                  <a:lnTo>
                    <a:pt x="68" y="223"/>
                  </a:lnTo>
                  <a:lnTo>
                    <a:pt x="73" y="217"/>
                  </a:lnTo>
                  <a:lnTo>
                    <a:pt x="78" y="217"/>
                  </a:lnTo>
                  <a:lnTo>
                    <a:pt x="88" y="212"/>
                  </a:lnTo>
                  <a:lnTo>
                    <a:pt x="94" y="212"/>
                  </a:lnTo>
                  <a:lnTo>
                    <a:pt x="99" y="212"/>
                  </a:lnTo>
                  <a:lnTo>
                    <a:pt x="104" y="212"/>
                  </a:lnTo>
                  <a:lnTo>
                    <a:pt x="114" y="212"/>
                  </a:lnTo>
                  <a:lnTo>
                    <a:pt x="120" y="212"/>
                  </a:lnTo>
                  <a:lnTo>
                    <a:pt x="125" y="212"/>
                  </a:lnTo>
                  <a:lnTo>
                    <a:pt x="130" y="212"/>
                  </a:lnTo>
                  <a:lnTo>
                    <a:pt x="140" y="207"/>
                  </a:lnTo>
                  <a:lnTo>
                    <a:pt x="145" y="207"/>
                  </a:lnTo>
                  <a:lnTo>
                    <a:pt x="151" y="207"/>
                  </a:lnTo>
                  <a:lnTo>
                    <a:pt x="161" y="202"/>
                  </a:lnTo>
                  <a:lnTo>
                    <a:pt x="166" y="202"/>
                  </a:lnTo>
                  <a:lnTo>
                    <a:pt x="171" y="202"/>
                  </a:lnTo>
                  <a:lnTo>
                    <a:pt x="177" y="197"/>
                  </a:lnTo>
                  <a:lnTo>
                    <a:pt x="187" y="197"/>
                  </a:lnTo>
                  <a:lnTo>
                    <a:pt x="192" y="197"/>
                  </a:lnTo>
                  <a:lnTo>
                    <a:pt x="197" y="197"/>
                  </a:lnTo>
                  <a:lnTo>
                    <a:pt x="202" y="191"/>
                  </a:lnTo>
                  <a:lnTo>
                    <a:pt x="213" y="186"/>
                  </a:lnTo>
                  <a:lnTo>
                    <a:pt x="218" y="186"/>
                  </a:lnTo>
                  <a:lnTo>
                    <a:pt x="223" y="186"/>
                  </a:lnTo>
                  <a:lnTo>
                    <a:pt x="234" y="181"/>
                  </a:lnTo>
                  <a:lnTo>
                    <a:pt x="239" y="181"/>
                  </a:lnTo>
                  <a:lnTo>
                    <a:pt x="244" y="181"/>
                  </a:lnTo>
                  <a:lnTo>
                    <a:pt x="249" y="171"/>
                  </a:lnTo>
                  <a:lnTo>
                    <a:pt x="259" y="171"/>
                  </a:lnTo>
                  <a:lnTo>
                    <a:pt x="265" y="171"/>
                  </a:lnTo>
                  <a:lnTo>
                    <a:pt x="270" y="165"/>
                  </a:lnTo>
                  <a:lnTo>
                    <a:pt x="280" y="165"/>
                  </a:lnTo>
                  <a:lnTo>
                    <a:pt x="285" y="160"/>
                  </a:lnTo>
                  <a:lnTo>
                    <a:pt x="291" y="160"/>
                  </a:lnTo>
                  <a:lnTo>
                    <a:pt x="296" y="160"/>
                  </a:lnTo>
                  <a:lnTo>
                    <a:pt x="306" y="155"/>
                  </a:lnTo>
                  <a:lnTo>
                    <a:pt x="311" y="155"/>
                  </a:lnTo>
                  <a:lnTo>
                    <a:pt x="316" y="155"/>
                  </a:lnTo>
                  <a:lnTo>
                    <a:pt x="322" y="150"/>
                  </a:lnTo>
                  <a:lnTo>
                    <a:pt x="332" y="150"/>
                  </a:lnTo>
                  <a:lnTo>
                    <a:pt x="337" y="145"/>
                  </a:lnTo>
                  <a:lnTo>
                    <a:pt x="342" y="145"/>
                  </a:lnTo>
                  <a:lnTo>
                    <a:pt x="353" y="145"/>
                  </a:lnTo>
                  <a:lnTo>
                    <a:pt x="358" y="140"/>
                  </a:lnTo>
                  <a:lnTo>
                    <a:pt x="363" y="140"/>
                  </a:lnTo>
                  <a:lnTo>
                    <a:pt x="368" y="140"/>
                  </a:lnTo>
                  <a:lnTo>
                    <a:pt x="379" y="140"/>
                  </a:lnTo>
                  <a:lnTo>
                    <a:pt x="384" y="140"/>
                  </a:lnTo>
                  <a:lnTo>
                    <a:pt x="389" y="134"/>
                  </a:lnTo>
                  <a:lnTo>
                    <a:pt x="399" y="129"/>
                  </a:lnTo>
                  <a:lnTo>
                    <a:pt x="405" y="124"/>
                  </a:lnTo>
                  <a:lnTo>
                    <a:pt x="410" y="124"/>
                  </a:lnTo>
                  <a:lnTo>
                    <a:pt x="415" y="124"/>
                  </a:lnTo>
                  <a:lnTo>
                    <a:pt x="425" y="124"/>
                  </a:lnTo>
                  <a:lnTo>
                    <a:pt x="431" y="124"/>
                  </a:lnTo>
                  <a:lnTo>
                    <a:pt x="436" y="124"/>
                  </a:lnTo>
                  <a:lnTo>
                    <a:pt x="441" y="124"/>
                  </a:lnTo>
                  <a:lnTo>
                    <a:pt x="451" y="124"/>
                  </a:lnTo>
                  <a:lnTo>
                    <a:pt x="456" y="119"/>
                  </a:lnTo>
                  <a:lnTo>
                    <a:pt x="462" y="114"/>
                  </a:lnTo>
                  <a:lnTo>
                    <a:pt x="472" y="114"/>
                  </a:lnTo>
                  <a:lnTo>
                    <a:pt x="477" y="108"/>
                  </a:lnTo>
                  <a:lnTo>
                    <a:pt x="482" y="108"/>
                  </a:lnTo>
                  <a:lnTo>
                    <a:pt x="488" y="103"/>
                  </a:lnTo>
                  <a:lnTo>
                    <a:pt x="498" y="98"/>
                  </a:lnTo>
                  <a:lnTo>
                    <a:pt x="503" y="98"/>
                  </a:lnTo>
                  <a:lnTo>
                    <a:pt x="508" y="98"/>
                  </a:lnTo>
                  <a:lnTo>
                    <a:pt x="513" y="93"/>
                  </a:lnTo>
                  <a:lnTo>
                    <a:pt x="524" y="93"/>
                  </a:lnTo>
                  <a:lnTo>
                    <a:pt x="529" y="88"/>
                  </a:lnTo>
                  <a:lnTo>
                    <a:pt x="534" y="88"/>
                  </a:lnTo>
                  <a:lnTo>
                    <a:pt x="545" y="88"/>
                  </a:lnTo>
                  <a:lnTo>
                    <a:pt x="550" y="83"/>
                  </a:lnTo>
                  <a:lnTo>
                    <a:pt x="555" y="83"/>
                  </a:lnTo>
                  <a:lnTo>
                    <a:pt x="560" y="77"/>
                  </a:lnTo>
                  <a:lnTo>
                    <a:pt x="570" y="77"/>
                  </a:lnTo>
                  <a:lnTo>
                    <a:pt x="576" y="77"/>
                  </a:lnTo>
                  <a:lnTo>
                    <a:pt x="581" y="77"/>
                  </a:lnTo>
                  <a:lnTo>
                    <a:pt x="591" y="77"/>
                  </a:lnTo>
                  <a:lnTo>
                    <a:pt x="596" y="72"/>
                  </a:lnTo>
                  <a:lnTo>
                    <a:pt x="602" y="72"/>
                  </a:lnTo>
                  <a:lnTo>
                    <a:pt x="607" y="67"/>
                  </a:lnTo>
                  <a:lnTo>
                    <a:pt x="617" y="67"/>
                  </a:lnTo>
                  <a:lnTo>
                    <a:pt x="622" y="67"/>
                  </a:lnTo>
                  <a:lnTo>
                    <a:pt x="627" y="62"/>
                  </a:lnTo>
                  <a:lnTo>
                    <a:pt x="633" y="62"/>
                  </a:lnTo>
                  <a:lnTo>
                    <a:pt x="643" y="57"/>
                  </a:lnTo>
                  <a:lnTo>
                    <a:pt x="648" y="57"/>
                  </a:lnTo>
                  <a:lnTo>
                    <a:pt x="653" y="57"/>
                  </a:lnTo>
                  <a:lnTo>
                    <a:pt x="664" y="51"/>
                  </a:lnTo>
                  <a:lnTo>
                    <a:pt x="669" y="51"/>
                  </a:lnTo>
                  <a:lnTo>
                    <a:pt x="674" y="51"/>
                  </a:lnTo>
                  <a:lnTo>
                    <a:pt x="679" y="46"/>
                  </a:lnTo>
                  <a:lnTo>
                    <a:pt x="690" y="36"/>
                  </a:lnTo>
                  <a:lnTo>
                    <a:pt x="695" y="36"/>
                  </a:lnTo>
                  <a:lnTo>
                    <a:pt x="700" y="36"/>
                  </a:lnTo>
                  <a:lnTo>
                    <a:pt x="710" y="36"/>
                  </a:lnTo>
                  <a:lnTo>
                    <a:pt x="716" y="36"/>
                  </a:lnTo>
                  <a:lnTo>
                    <a:pt x="721" y="31"/>
                  </a:lnTo>
                  <a:lnTo>
                    <a:pt x="726" y="26"/>
                  </a:lnTo>
                  <a:lnTo>
                    <a:pt x="736" y="26"/>
                  </a:lnTo>
                  <a:lnTo>
                    <a:pt x="742" y="26"/>
                  </a:lnTo>
                  <a:lnTo>
                    <a:pt x="747" y="26"/>
                  </a:lnTo>
                  <a:lnTo>
                    <a:pt x="752" y="20"/>
                  </a:lnTo>
                  <a:lnTo>
                    <a:pt x="762" y="20"/>
                  </a:lnTo>
                  <a:lnTo>
                    <a:pt x="767" y="15"/>
                  </a:lnTo>
                  <a:lnTo>
                    <a:pt x="773" y="15"/>
                  </a:lnTo>
                  <a:lnTo>
                    <a:pt x="783" y="15"/>
                  </a:lnTo>
                  <a:lnTo>
                    <a:pt x="788" y="10"/>
                  </a:lnTo>
                  <a:lnTo>
                    <a:pt x="793" y="10"/>
                  </a:lnTo>
                  <a:lnTo>
                    <a:pt x="799" y="10"/>
                  </a:lnTo>
                  <a:lnTo>
                    <a:pt x="809" y="10"/>
                  </a:lnTo>
                  <a:lnTo>
                    <a:pt x="814" y="5"/>
                  </a:lnTo>
                  <a:lnTo>
                    <a:pt x="819" y="5"/>
                  </a:lnTo>
                  <a:lnTo>
                    <a:pt x="824" y="0"/>
                  </a:lnTo>
                  <a:lnTo>
                    <a:pt x="835" y="0"/>
                  </a:lnTo>
                  <a:lnTo>
                    <a:pt x="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4753080" y="4306680"/>
              <a:ext cx="1333440" cy="535320"/>
            </a:xfrm>
            <a:custGeom>
              <a:avLst/>
              <a:gdLst/>
              <a:ahLst/>
              <a:rect l="l" t="t" r="r" b="b"/>
              <a:pathLst>
                <a:path w="840" h="337">
                  <a:moveTo>
                    <a:pt x="0" y="337"/>
                  </a:moveTo>
                  <a:lnTo>
                    <a:pt x="5" y="337"/>
                  </a:lnTo>
                  <a:lnTo>
                    <a:pt x="16" y="331"/>
                  </a:lnTo>
                  <a:lnTo>
                    <a:pt x="21" y="331"/>
                  </a:lnTo>
                  <a:lnTo>
                    <a:pt x="26" y="326"/>
                  </a:lnTo>
                  <a:lnTo>
                    <a:pt x="31" y="326"/>
                  </a:lnTo>
                  <a:lnTo>
                    <a:pt x="41" y="326"/>
                  </a:lnTo>
                  <a:lnTo>
                    <a:pt x="47" y="321"/>
                  </a:lnTo>
                  <a:lnTo>
                    <a:pt x="52" y="316"/>
                  </a:lnTo>
                  <a:lnTo>
                    <a:pt x="62" y="311"/>
                  </a:lnTo>
                  <a:lnTo>
                    <a:pt x="67" y="306"/>
                  </a:lnTo>
                  <a:lnTo>
                    <a:pt x="73" y="306"/>
                  </a:lnTo>
                  <a:lnTo>
                    <a:pt x="78" y="300"/>
                  </a:lnTo>
                  <a:lnTo>
                    <a:pt x="88" y="300"/>
                  </a:lnTo>
                  <a:lnTo>
                    <a:pt x="93" y="300"/>
                  </a:lnTo>
                  <a:lnTo>
                    <a:pt x="98" y="300"/>
                  </a:lnTo>
                  <a:lnTo>
                    <a:pt x="104" y="290"/>
                  </a:lnTo>
                  <a:lnTo>
                    <a:pt x="114" y="285"/>
                  </a:lnTo>
                  <a:lnTo>
                    <a:pt x="119" y="285"/>
                  </a:lnTo>
                  <a:lnTo>
                    <a:pt x="124" y="285"/>
                  </a:lnTo>
                  <a:lnTo>
                    <a:pt x="135" y="285"/>
                  </a:lnTo>
                  <a:lnTo>
                    <a:pt x="140" y="285"/>
                  </a:lnTo>
                  <a:lnTo>
                    <a:pt x="145" y="280"/>
                  </a:lnTo>
                  <a:lnTo>
                    <a:pt x="150" y="280"/>
                  </a:lnTo>
                  <a:lnTo>
                    <a:pt x="161" y="280"/>
                  </a:lnTo>
                  <a:lnTo>
                    <a:pt x="166" y="274"/>
                  </a:lnTo>
                  <a:lnTo>
                    <a:pt x="171" y="274"/>
                  </a:lnTo>
                  <a:lnTo>
                    <a:pt x="181" y="269"/>
                  </a:lnTo>
                  <a:lnTo>
                    <a:pt x="187" y="269"/>
                  </a:lnTo>
                  <a:lnTo>
                    <a:pt x="192" y="269"/>
                  </a:lnTo>
                  <a:lnTo>
                    <a:pt x="197" y="269"/>
                  </a:lnTo>
                  <a:lnTo>
                    <a:pt x="207" y="269"/>
                  </a:lnTo>
                  <a:lnTo>
                    <a:pt x="213" y="264"/>
                  </a:lnTo>
                  <a:lnTo>
                    <a:pt x="218" y="264"/>
                  </a:lnTo>
                  <a:lnTo>
                    <a:pt x="223" y="259"/>
                  </a:lnTo>
                  <a:lnTo>
                    <a:pt x="233" y="259"/>
                  </a:lnTo>
                  <a:lnTo>
                    <a:pt x="238" y="259"/>
                  </a:lnTo>
                  <a:lnTo>
                    <a:pt x="244" y="259"/>
                  </a:lnTo>
                  <a:lnTo>
                    <a:pt x="254" y="249"/>
                  </a:lnTo>
                  <a:lnTo>
                    <a:pt x="259" y="249"/>
                  </a:lnTo>
                  <a:lnTo>
                    <a:pt x="264" y="249"/>
                  </a:lnTo>
                  <a:lnTo>
                    <a:pt x="270" y="243"/>
                  </a:lnTo>
                  <a:lnTo>
                    <a:pt x="280" y="238"/>
                  </a:lnTo>
                  <a:lnTo>
                    <a:pt x="285" y="238"/>
                  </a:lnTo>
                  <a:lnTo>
                    <a:pt x="290" y="233"/>
                  </a:lnTo>
                  <a:lnTo>
                    <a:pt x="301" y="223"/>
                  </a:lnTo>
                  <a:lnTo>
                    <a:pt x="306" y="223"/>
                  </a:lnTo>
                  <a:lnTo>
                    <a:pt x="311" y="217"/>
                  </a:lnTo>
                  <a:lnTo>
                    <a:pt x="316" y="217"/>
                  </a:lnTo>
                  <a:lnTo>
                    <a:pt x="327" y="217"/>
                  </a:lnTo>
                  <a:lnTo>
                    <a:pt x="332" y="212"/>
                  </a:lnTo>
                  <a:lnTo>
                    <a:pt x="337" y="212"/>
                  </a:lnTo>
                  <a:lnTo>
                    <a:pt x="342" y="212"/>
                  </a:lnTo>
                  <a:lnTo>
                    <a:pt x="352" y="212"/>
                  </a:lnTo>
                  <a:lnTo>
                    <a:pt x="358" y="212"/>
                  </a:lnTo>
                  <a:lnTo>
                    <a:pt x="363" y="212"/>
                  </a:lnTo>
                  <a:lnTo>
                    <a:pt x="373" y="212"/>
                  </a:lnTo>
                  <a:lnTo>
                    <a:pt x="378" y="202"/>
                  </a:lnTo>
                  <a:lnTo>
                    <a:pt x="384" y="202"/>
                  </a:lnTo>
                  <a:lnTo>
                    <a:pt x="389" y="197"/>
                  </a:lnTo>
                  <a:lnTo>
                    <a:pt x="399" y="197"/>
                  </a:lnTo>
                  <a:lnTo>
                    <a:pt x="404" y="197"/>
                  </a:lnTo>
                  <a:lnTo>
                    <a:pt x="409" y="191"/>
                  </a:lnTo>
                  <a:lnTo>
                    <a:pt x="415" y="186"/>
                  </a:lnTo>
                  <a:lnTo>
                    <a:pt x="425" y="186"/>
                  </a:lnTo>
                  <a:lnTo>
                    <a:pt x="430" y="181"/>
                  </a:lnTo>
                  <a:lnTo>
                    <a:pt x="435" y="181"/>
                  </a:lnTo>
                  <a:lnTo>
                    <a:pt x="446" y="176"/>
                  </a:lnTo>
                  <a:lnTo>
                    <a:pt x="451" y="176"/>
                  </a:lnTo>
                  <a:lnTo>
                    <a:pt x="456" y="171"/>
                  </a:lnTo>
                  <a:lnTo>
                    <a:pt x="461" y="171"/>
                  </a:lnTo>
                  <a:lnTo>
                    <a:pt x="472" y="166"/>
                  </a:lnTo>
                  <a:lnTo>
                    <a:pt x="477" y="160"/>
                  </a:lnTo>
                  <a:lnTo>
                    <a:pt x="482" y="160"/>
                  </a:lnTo>
                  <a:lnTo>
                    <a:pt x="492" y="160"/>
                  </a:lnTo>
                  <a:lnTo>
                    <a:pt x="498" y="155"/>
                  </a:lnTo>
                  <a:lnTo>
                    <a:pt x="503" y="150"/>
                  </a:lnTo>
                  <a:lnTo>
                    <a:pt x="508" y="150"/>
                  </a:lnTo>
                  <a:lnTo>
                    <a:pt x="518" y="150"/>
                  </a:lnTo>
                  <a:lnTo>
                    <a:pt x="523" y="150"/>
                  </a:lnTo>
                  <a:lnTo>
                    <a:pt x="529" y="145"/>
                  </a:lnTo>
                  <a:lnTo>
                    <a:pt x="534" y="145"/>
                  </a:lnTo>
                  <a:lnTo>
                    <a:pt x="544" y="134"/>
                  </a:lnTo>
                  <a:lnTo>
                    <a:pt x="549" y="134"/>
                  </a:lnTo>
                  <a:lnTo>
                    <a:pt x="555" y="134"/>
                  </a:lnTo>
                  <a:lnTo>
                    <a:pt x="565" y="129"/>
                  </a:lnTo>
                  <a:lnTo>
                    <a:pt x="570" y="129"/>
                  </a:lnTo>
                  <a:lnTo>
                    <a:pt x="575" y="129"/>
                  </a:lnTo>
                  <a:lnTo>
                    <a:pt x="581" y="124"/>
                  </a:lnTo>
                  <a:lnTo>
                    <a:pt x="591" y="124"/>
                  </a:lnTo>
                  <a:lnTo>
                    <a:pt x="596" y="124"/>
                  </a:lnTo>
                  <a:lnTo>
                    <a:pt x="601" y="109"/>
                  </a:lnTo>
                  <a:lnTo>
                    <a:pt x="612" y="109"/>
                  </a:lnTo>
                  <a:lnTo>
                    <a:pt x="617" y="103"/>
                  </a:lnTo>
                  <a:lnTo>
                    <a:pt x="622" y="98"/>
                  </a:lnTo>
                  <a:lnTo>
                    <a:pt x="627" y="98"/>
                  </a:lnTo>
                  <a:lnTo>
                    <a:pt x="638" y="88"/>
                  </a:lnTo>
                  <a:lnTo>
                    <a:pt x="643" y="88"/>
                  </a:lnTo>
                  <a:lnTo>
                    <a:pt x="648" y="88"/>
                  </a:lnTo>
                  <a:lnTo>
                    <a:pt x="653" y="88"/>
                  </a:lnTo>
                  <a:lnTo>
                    <a:pt x="663" y="83"/>
                  </a:lnTo>
                  <a:lnTo>
                    <a:pt x="669" y="83"/>
                  </a:lnTo>
                  <a:lnTo>
                    <a:pt x="674" y="83"/>
                  </a:lnTo>
                  <a:lnTo>
                    <a:pt x="684" y="83"/>
                  </a:lnTo>
                  <a:lnTo>
                    <a:pt x="689" y="77"/>
                  </a:lnTo>
                  <a:lnTo>
                    <a:pt x="695" y="72"/>
                  </a:lnTo>
                  <a:lnTo>
                    <a:pt x="700" y="67"/>
                  </a:lnTo>
                  <a:lnTo>
                    <a:pt x="710" y="67"/>
                  </a:lnTo>
                  <a:lnTo>
                    <a:pt x="715" y="67"/>
                  </a:lnTo>
                  <a:lnTo>
                    <a:pt x="720" y="62"/>
                  </a:lnTo>
                  <a:lnTo>
                    <a:pt x="726" y="62"/>
                  </a:lnTo>
                  <a:lnTo>
                    <a:pt x="736" y="62"/>
                  </a:lnTo>
                  <a:lnTo>
                    <a:pt x="741" y="57"/>
                  </a:lnTo>
                  <a:lnTo>
                    <a:pt x="746" y="57"/>
                  </a:lnTo>
                  <a:lnTo>
                    <a:pt x="757" y="46"/>
                  </a:lnTo>
                  <a:lnTo>
                    <a:pt x="762" y="46"/>
                  </a:lnTo>
                  <a:lnTo>
                    <a:pt x="767" y="36"/>
                  </a:lnTo>
                  <a:lnTo>
                    <a:pt x="772" y="36"/>
                  </a:lnTo>
                  <a:lnTo>
                    <a:pt x="783" y="36"/>
                  </a:lnTo>
                  <a:lnTo>
                    <a:pt x="788" y="31"/>
                  </a:lnTo>
                  <a:lnTo>
                    <a:pt x="793" y="20"/>
                  </a:lnTo>
                  <a:lnTo>
                    <a:pt x="803" y="20"/>
                  </a:lnTo>
                  <a:lnTo>
                    <a:pt x="809" y="20"/>
                  </a:lnTo>
                  <a:lnTo>
                    <a:pt x="814" y="15"/>
                  </a:lnTo>
                  <a:lnTo>
                    <a:pt x="819" y="15"/>
                  </a:lnTo>
                  <a:lnTo>
                    <a:pt x="829" y="10"/>
                  </a:lnTo>
                  <a:lnTo>
                    <a:pt x="834" y="0"/>
                  </a:lnTo>
                  <a:lnTo>
                    <a:pt x="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086520" y="2833560"/>
              <a:ext cx="1332000" cy="1473120"/>
            </a:xfrm>
            <a:custGeom>
              <a:avLst/>
              <a:gdLst/>
              <a:ahLst/>
              <a:rect l="l" t="t" r="r" b="b"/>
              <a:pathLst>
                <a:path w="839" h="928">
                  <a:moveTo>
                    <a:pt x="0" y="928"/>
                  </a:moveTo>
                  <a:lnTo>
                    <a:pt x="5" y="928"/>
                  </a:lnTo>
                  <a:lnTo>
                    <a:pt x="15" y="928"/>
                  </a:lnTo>
                  <a:lnTo>
                    <a:pt x="20" y="923"/>
                  </a:lnTo>
                  <a:lnTo>
                    <a:pt x="26" y="923"/>
                  </a:lnTo>
                  <a:lnTo>
                    <a:pt x="36" y="923"/>
                  </a:lnTo>
                  <a:lnTo>
                    <a:pt x="41" y="912"/>
                  </a:lnTo>
                  <a:lnTo>
                    <a:pt x="46" y="907"/>
                  </a:lnTo>
                  <a:lnTo>
                    <a:pt x="51" y="902"/>
                  </a:lnTo>
                  <a:lnTo>
                    <a:pt x="62" y="902"/>
                  </a:lnTo>
                  <a:lnTo>
                    <a:pt x="67" y="902"/>
                  </a:lnTo>
                  <a:lnTo>
                    <a:pt x="72" y="897"/>
                  </a:lnTo>
                  <a:lnTo>
                    <a:pt x="83" y="891"/>
                  </a:lnTo>
                  <a:lnTo>
                    <a:pt x="88" y="891"/>
                  </a:lnTo>
                  <a:lnTo>
                    <a:pt x="93" y="886"/>
                  </a:lnTo>
                  <a:lnTo>
                    <a:pt x="98" y="881"/>
                  </a:lnTo>
                  <a:lnTo>
                    <a:pt x="109" y="876"/>
                  </a:lnTo>
                  <a:lnTo>
                    <a:pt x="114" y="876"/>
                  </a:lnTo>
                  <a:lnTo>
                    <a:pt x="119" y="871"/>
                  </a:lnTo>
                  <a:lnTo>
                    <a:pt x="124" y="871"/>
                  </a:lnTo>
                  <a:lnTo>
                    <a:pt x="134" y="860"/>
                  </a:lnTo>
                  <a:lnTo>
                    <a:pt x="140" y="860"/>
                  </a:lnTo>
                  <a:lnTo>
                    <a:pt x="145" y="860"/>
                  </a:lnTo>
                  <a:lnTo>
                    <a:pt x="155" y="860"/>
                  </a:lnTo>
                  <a:lnTo>
                    <a:pt x="160" y="855"/>
                  </a:lnTo>
                  <a:lnTo>
                    <a:pt x="166" y="855"/>
                  </a:lnTo>
                  <a:lnTo>
                    <a:pt x="171" y="840"/>
                  </a:lnTo>
                  <a:lnTo>
                    <a:pt x="181" y="840"/>
                  </a:lnTo>
                  <a:lnTo>
                    <a:pt x="186" y="834"/>
                  </a:lnTo>
                  <a:lnTo>
                    <a:pt x="191" y="829"/>
                  </a:lnTo>
                  <a:lnTo>
                    <a:pt x="197" y="824"/>
                  </a:lnTo>
                  <a:lnTo>
                    <a:pt x="207" y="814"/>
                  </a:lnTo>
                  <a:lnTo>
                    <a:pt x="212" y="814"/>
                  </a:lnTo>
                  <a:lnTo>
                    <a:pt x="217" y="814"/>
                  </a:lnTo>
                  <a:lnTo>
                    <a:pt x="228" y="814"/>
                  </a:lnTo>
                  <a:lnTo>
                    <a:pt x="233" y="814"/>
                  </a:lnTo>
                  <a:lnTo>
                    <a:pt x="238" y="809"/>
                  </a:lnTo>
                  <a:lnTo>
                    <a:pt x="243" y="803"/>
                  </a:lnTo>
                  <a:lnTo>
                    <a:pt x="254" y="803"/>
                  </a:lnTo>
                  <a:lnTo>
                    <a:pt x="259" y="798"/>
                  </a:lnTo>
                  <a:lnTo>
                    <a:pt x="264" y="798"/>
                  </a:lnTo>
                  <a:lnTo>
                    <a:pt x="274" y="793"/>
                  </a:lnTo>
                  <a:lnTo>
                    <a:pt x="280" y="783"/>
                  </a:lnTo>
                  <a:lnTo>
                    <a:pt x="285" y="772"/>
                  </a:lnTo>
                  <a:lnTo>
                    <a:pt x="290" y="767"/>
                  </a:lnTo>
                  <a:lnTo>
                    <a:pt x="300" y="767"/>
                  </a:lnTo>
                  <a:lnTo>
                    <a:pt x="305" y="767"/>
                  </a:lnTo>
                  <a:lnTo>
                    <a:pt x="311" y="751"/>
                  </a:lnTo>
                  <a:lnTo>
                    <a:pt x="316" y="751"/>
                  </a:lnTo>
                  <a:lnTo>
                    <a:pt x="326" y="746"/>
                  </a:lnTo>
                  <a:lnTo>
                    <a:pt x="331" y="741"/>
                  </a:lnTo>
                  <a:lnTo>
                    <a:pt x="337" y="741"/>
                  </a:lnTo>
                  <a:lnTo>
                    <a:pt x="347" y="741"/>
                  </a:lnTo>
                  <a:lnTo>
                    <a:pt x="352" y="736"/>
                  </a:lnTo>
                  <a:lnTo>
                    <a:pt x="357" y="736"/>
                  </a:lnTo>
                  <a:lnTo>
                    <a:pt x="362" y="726"/>
                  </a:lnTo>
                  <a:lnTo>
                    <a:pt x="373" y="726"/>
                  </a:lnTo>
                  <a:lnTo>
                    <a:pt x="378" y="726"/>
                  </a:lnTo>
                  <a:lnTo>
                    <a:pt x="383" y="715"/>
                  </a:lnTo>
                  <a:lnTo>
                    <a:pt x="394" y="710"/>
                  </a:lnTo>
                  <a:lnTo>
                    <a:pt x="399" y="705"/>
                  </a:lnTo>
                  <a:lnTo>
                    <a:pt x="404" y="689"/>
                  </a:lnTo>
                  <a:lnTo>
                    <a:pt x="409" y="684"/>
                  </a:lnTo>
                  <a:lnTo>
                    <a:pt x="420" y="679"/>
                  </a:lnTo>
                  <a:lnTo>
                    <a:pt x="425" y="679"/>
                  </a:lnTo>
                  <a:lnTo>
                    <a:pt x="430" y="679"/>
                  </a:lnTo>
                  <a:lnTo>
                    <a:pt x="435" y="679"/>
                  </a:lnTo>
                  <a:lnTo>
                    <a:pt x="445" y="663"/>
                  </a:lnTo>
                  <a:lnTo>
                    <a:pt x="451" y="663"/>
                  </a:lnTo>
                  <a:lnTo>
                    <a:pt x="456" y="658"/>
                  </a:lnTo>
                  <a:lnTo>
                    <a:pt x="466" y="653"/>
                  </a:lnTo>
                  <a:lnTo>
                    <a:pt x="471" y="653"/>
                  </a:lnTo>
                  <a:lnTo>
                    <a:pt x="477" y="648"/>
                  </a:lnTo>
                  <a:lnTo>
                    <a:pt x="482" y="637"/>
                  </a:lnTo>
                  <a:lnTo>
                    <a:pt x="492" y="627"/>
                  </a:lnTo>
                  <a:lnTo>
                    <a:pt x="497" y="622"/>
                  </a:lnTo>
                  <a:lnTo>
                    <a:pt x="502" y="617"/>
                  </a:lnTo>
                  <a:lnTo>
                    <a:pt x="508" y="617"/>
                  </a:lnTo>
                  <a:lnTo>
                    <a:pt x="518" y="612"/>
                  </a:lnTo>
                  <a:lnTo>
                    <a:pt x="523" y="601"/>
                  </a:lnTo>
                  <a:lnTo>
                    <a:pt x="528" y="591"/>
                  </a:lnTo>
                  <a:lnTo>
                    <a:pt x="539" y="591"/>
                  </a:lnTo>
                  <a:lnTo>
                    <a:pt x="544" y="591"/>
                  </a:lnTo>
                  <a:lnTo>
                    <a:pt x="549" y="575"/>
                  </a:lnTo>
                  <a:lnTo>
                    <a:pt x="554" y="565"/>
                  </a:lnTo>
                  <a:lnTo>
                    <a:pt x="565" y="565"/>
                  </a:lnTo>
                  <a:lnTo>
                    <a:pt x="570" y="555"/>
                  </a:lnTo>
                  <a:lnTo>
                    <a:pt x="575" y="549"/>
                  </a:lnTo>
                  <a:lnTo>
                    <a:pt x="585" y="534"/>
                  </a:lnTo>
                  <a:lnTo>
                    <a:pt x="591" y="534"/>
                  </a:lnTo>
                  <a:lnTo>
                    <a:pt x="596" y="529"/>
                  </a:lnTo>
                  <a:lnTo>
                    <a:pt x="601" y="529"/>
                  </a:lnTo>
                  <a:lnTo>
                    <a:pt x="611" y="523"/>
                  </a:lnTo>
                  <a:lnTo>
                    <a:pt x="616" y="503"/>
                  </a:lnTo>
                  <a:lnTo>
                    <a:pt x="622" y="487"/>
                  </a:lnTo>
                  <a:lnTo>
                    <a:pt x="627" y="477"/>
                  </a:lnTo>
                  <a:lnTo>
                    <a:pt x="637" y="477"/>
                  </a:lnTo>
                  <a:lnTo>
                    <a:pt x="642" y="466"/>
                  </a:lnTo>
                  <a:lnTo>
                    <a:pt x="648" y="461"/>
                  </a:lnTo>
                  <a:lnTo>
                    <a:pt x="658" y="461"/>
                  </a:lnTo>
                  <a:lnTo>
                    <a:pt x="663" y="446"/>
                  </a:lnTo>
                  <a:lnTo>
                    <a:pt x="668" y="441"/>
                  </a:lnTo>
                  <a:lnTo>
                    <a:pt x="673" y="430"/>
                  </a:lnTo>
                  <a:lnTo>
                    <a:pt x="684" y="415"/>
                  </a:lnTo>
                  <a:lnTo>
                    <a:pt x="689" y="399"/>
                  </a:lnTo>
                  <a:lnTo>
                    <a:pt x="694" y="399"/>
                  </a:lnTo>
                  <a:lnTo>
                    <a:pt x="705" y="373"/>
                  </a:lnTo>
                  <a:lnTo>
                    <a:pt x="710" y="373"/>
                  </a:lnTo>
                  <a:lnTo>
                    <a:pt x="715" y="352"/>
                  </a:lnTo>
                  <a:lnTo>
                    <a:pt x="720" y="352"/>
                  </a:lnTo>
                  <a:lnTo>
                    <a:pt x="730" y="342"/>
                  </a:lnTo>
                  <a:lnTo>
                    <a:pt x="736" y="337"/>
                  </a:lnTo>
                  <a:lnTo>
                    <a:pt x="741" y="311"/>
                  </a:lnTo>
                  <a:lnTo>
                    <a:pt x="746" y="285"/>
                  </a:lnTo>
                  <a:lnTo>
                    <a:pt x="756" y="285"/>
                  </a:lnTo>
                  <a:lnTo>
                    <a:pt x="762" y="280"/>
                  </a:lnTo>
                  <a:lnTo>
                    <a:pt x="767" y="264"/>
                  </a:lnTo>
                  <a:lnTo>
                    <a:pt x="777" y="249"/>
                  </a:lnTo>
                  <a:lnTo>
                    <a:pt x="782" y="218"/>
                  </a:lnTo>
                  <a:lnTo>
                    <a:pt x="788" y="197"/>
                  </a:lnTo>
                  <a:lnTo>
                    <a:pt x="793" y="197"/>
                  </a:lnTo>
                  <a:lnTo>
                    <a:pt x="803" y="192"/>
                  </a:lnTo>
                  <a:lnTo>
                    <a:pt x="808" y="155"/>
                  </a:lnTo>
                  <a:lnTo>
                    <a:pt x="813" y="130"/>
                  </a:lnTo>
                  <a:lnTo>
                    <a:pt x="819" y="104"/>
                  </a:lnTo>
                  <a:lnTo>
                    <a:pt x="829" y="67"/>
                  </a:lnTo>
                  <a:lnTo>
                    <a:pt x="834" y="15"/>
                  </a:lnTo>
                  <a:lnTo>
                    <a:pt x="8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1" name=""/>
          <p:cNvSpPr/>
          <p:nvPr/>
        </p:nvSpPr>
        <p:spPr>
          <a:xfrm>
            <a:off x="2590920" y="220968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Un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231120" y="60958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03" name=""/>
          <p:cNvGraphicFramePr/>
          <p:nvPr/>
        </p:nvGraphicFramePr>
        <p:xfrm>
          <a:off x="990720" y="304920"/>
          <a:ext cx="685800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6858000" cy="1189080"/>
                  </a:xfrm>
                  <a:prstGeom prst="rect">
                    <a:avLst/>
                  </a:prstGeom>
                  <a:ln w="381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"/>
          <p:cNvSpPr/>
          <p:nvPr/>
        </p:nvSpPr>
        <p:spPr>
          <a:xfrm>
            <a:off x="2077920" y="6283440"/>
            <a:ext cx="6303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 flipV="1">
            <a:off x="2077920" y="6217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2004480" y="6308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 flipV="1">
            <a:off x="3124080" y="6217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2901240" y="63086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 flipV="1">
            <a:off x="4176720" y="6217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3953880" y="63086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 flipV="1">
            <a:off x="5230800" y="6217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5007960" y="63086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 flipV="1">
            <a:off x="6275520" y="6217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6052680" y="63086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 flipV="1">
            <a:off x="7327800" y="6217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7104960" y="63086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2077920" y="6283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1896840" y="6135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2077920" y="5641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1674360" y="54943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2077920" y="50086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674360" y="4861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2077920" y="43671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674360" y="421956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2077920" y="37339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74360" y="35845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 flipV="1">
            <a:off x="2077920" y="3489120"/>
            <a:ext cx="1800" cy="279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2122560" y="3273480"/>
            <a:ext cx="1332000" cy="3035160"/>
          </a:xfrm>
          <a:custGeom>
            <a:avLst/>
            <a:gdLst/>
            <a:ahLst/>
            <a:rect l="l" t="t" r="r" b="b"/>
            <a:pathLst>
              <a:path w="839" h="1912">
                <a:moveTo>
                  <a:pt x="0" y="1643"/>
                </a:moveTo>
                <a:lnTo>
                  <a:pt x="5" y="1715"/>
                </a:lnTo>
                <a:lnTo>
                  <a:pt x="10" y="1565"/>
                </a:lnTo>
                <a:lnTo>
                  <a:pt x="20" y="1249"/>
                </a:lnTo>
                <a:lnTo>
                  <a:pt x="26" y="1700"/>
                </a:lnTo>
                <a:lnTo>
                  <a:pt x="31" y="943"/>
                </a:lnTo>
                <a:lnTo>
                  <a:pt x="36" y="1456"/>
                </a:lnTo>
                <a:lnTo>
                  <a:pt x="46" y="1228"/>
                </a:lnTo>
                <a:lnTo>
                  <a:pt x="51" y="1187"/>
                </a:lnTo>
                <a:lnTo>
                  <a:pt x="57" y="969"/>
                </a:lnTo>
                <a:lnTo>
                  <a:pt x="67" y="1394"/>
                </a:lnTo>
                <a:lnTo>
                  <a:pt x="72" y="1762"/>
                </a:lnTo>
                <a:lnTo>
                  <a:pt x="77" y="1435"/>
                </a:lnTo>
                <a:lnTo>
                  <a:pt x="83" y="1555"/>
                </a:lnTo>
                <a:lnTo>
                  <a:pt x="93" y="1467"/>
                </a:lnTo>
                <a:lnTo>
                  <a:pt x="98" y="1741"/>
                </a:lnTo>
                <a:lnTo>
                  <a:pt x="103" y="1819"/>
                </a:lnTo>
                <a:lnTo>
                  <a:pt x="108" y="1622"/>
                </a:lnTo>
                <a:lnTo>
                  <a:pt x="119" y="1767"/>
                </a:lnTo>
                <a:lnTo>
                  <a:pt x="124" y="1321"/>
                </a:lnTo>
                <a:lnTo>
                  <a:pt x="129" y="1166"/>
                </a:lnTo>
                <a:lnTo>
                  <a:pt x="140" y="1803"/>
                </a:lnTo>
                <a:lnTo>
                  <a:pt x="145" y="1316"/>
                </a:lnTo>
                <a:lnTo>
                  <a:pt x="150" y="1866"/>
                </a:lnTo>
                <a:lnTo>
                  <a:pt x="155" y="1410"/>
                </a:lnTo>
                <a:lnTo>
                  <a:pt x="165" y="617"/>
                </a:lnTo>
                <a:lnTo>
                  <a:pt x="171" y="1228"/>
                </a:lnTo>
                <a:lnTo>
                  <a:pt x="176" y="1581"/>
                </a:lnTo>
                <a:lnTo>
                  <a:pt x="186" y="1508"/>
                </a:lnTo>
                <a:lnTo>
                  <a:pt x="191" y="990"/>
                </a:lnTo>
                <a:lnTo>
                  <a:pt x="197" y="1508"/>
                </a:lnTo>
                <a:lnTo>
                  <a:pt x="202" y="1653"/>
                </a:lnTo>
                <a:lnTo>
                  <a:pt x="212" y="1788"/>
                </a:lnTo>
                <a:lnTo>
                  <a:pt x="217" y="1192"/>
                </a:lnTo>
                <a:lnTo>
                  <a:pt x="223" y="1321"/>
                </a:lnTo>
                <a:lnTo>
                  <a:pt x="228" y="1467"/>
                </a:lnTo>
                <a:lnTo>
                  <a:pt x="238" y="1653"/>
                </a:lnTo>
                <a:lnTo>
                  <a:pt x="243" y="1498"/>
                </a:lnTo>
                <a:lnTo>
                  <a:pt x="248" y="1238"/>
                </a:lnTo>
                <a:lnTo>
                  <a:pt x="259" y="1430"/>
                </a:lnTo>
                <a:lnTo>
                  <a:pt x="264" y="1238"/>
                </a:lnTo>
                <a:lnTo>
                  <a:pt x="269" y="0"/>
                </a:lnTo>
                <a:lnTo>
                  <a:pt x="274" y="1451"/>
                </a:lnTo>
                <a:lnTo>
                  <a:pt x="285" y="1539"/>
                </a:lnTo>
                <a:lnTo>
                  <a:pt x="290" y="1301"/>
                </a:lnTo>
                <a:lnTo>
                  <a:pt x="295" y="513"/>
                </a:lnTo>
                <a:lnTo>
                  <a:pt x="305" y="1876"/>
                </a:lnTo>
                <a:lnTo>
                  <a:pt x="311" y="1456"/>
                </a:lnTo>
                <a:lnTo>
                  <a:pt x="316" y="710"/>
                </a:lnTo>
                <a:lnTo>
                  <a:pt x="321" y="1524"/>
                </a:lnTo>
                <a:lnTo>
                  <a:pt x="331" y="1658"/>
                </a:lnTo>
                <a:lnTo>
                  <a:pt x="337" y="1285"/>
                </a:lnTo>
                <a:lnTo>
                  <a:pt x="342" y="1119"/>
                </a:lnTo>
                <a:lnTo>
                  <a:pt x="347" y="1316"/>
                </a:lnTo>
                <a:lnTo>
                  <a:pt x="357" y="549"/>
                </a:lnTo>
                <a:lnTo>
                  <a:pt x="362" y="461"/>
                </a:lnTo>
                <a:lnTo>
                  <a:pt x="368" y="1373"/>
                </a:lnTo>
                <a:lnTo>
                  <a:pt x="378" y="1373"/>
                </a:lnTo>
                <a:lnTo>
                  <a:pt x="383" y="1897"/>
                </a:lnTo>
                <a:lnTo>
                  <a:pt x="388" y="1741"/>
                </a:lnTo>
                <a:lnTo>
                  <a:pt x="394" y="1456"/>
                </a:lnTo>
                <a:lnTo>
                  <a:pt x="404" y="1083"/>
                </a:lnTo>
                <a:lnTo>
                  <a:pt x="409" y="1316"/>
                </a:lnTo>
                <a:lnTo>
                  <a:pt x="414" y="1866"/>
                </a:lnTo>
                <a:lnTo>
                  <a:pt x="419" y="1099"/>
                </a:lnTo>
                <a:lnTo>
                  <a:pt x="430" y="1814"/>
                </a:lnTo>
                <a:lnTo>
                  <a:pt x="435" y="1363"/>
                </a:lnTo>
                <a:lnTo>
                  <a:pt x="440" y="1150"/>
                </a:lnTo>
                <a:lnTo>
                  <a:pt x="451" y="1648"/>
                </a:lnTo>
                <a:lnTo>
                  <a:pt x="456" y="368"/>
                </a:lnTo>
                <a:lnTo>
                  <a:pt x="461" y="1441"/>
                </a:lnTo>
                <a:lnTo>
                  <a:pt x="466" y="679"/>
                </a:lnTo>
                <a:lnTo>
                  <a:pt x="476" y="1549"/>
                </a:lnTo>
                <a:lnTo>
                  <a:pt x="482" y="1534"/>
                </a:lnTo>
                <a:lnTo>
                  <a:pt x="487" y="1866"/>
                </a:lnTo>
                <a:lnTo>
                  <a:pt x="497" y="1384"/>
                </a:lnTo>
                <a:lnTo>
                  <a:pt x="502" y="637"/>
                </a:lnTo>
                <a:lnTo>
                  <a:pt x="508" y="1669"/>
                </a:lnTo>
                <a:lnTo>
                  <a:pt x="513" y="1373"/>
                </a:lnTo>
                <a:lnTo>
                  <a:pt x="523" y="1778"/>
                </a:lnTo>
                <a:lnTo>
                  <a:pt x="528" y="1404"/>
                </a:lnTo>
                <a:lnTo>
                  <a:pt x="534" y="1845"/>
                </a:lnTo>
                <a:lnTo>
                  <a:pt x="539" y="1378"/>
                </a:lnTo>
                <a:lnTo>
                  <a:pt x="549" y="1254"/>
                </a:lnTo>
                <a:lnTo>
                  <a:pt x="554" y="1477"/>
                </a:lnTo>
                <a:lnTo>
                  <a:pt x="559" y="891"/>
                </a:lnTo>
                <a:lnTo>
                  <a:pt x="570" y="1565"/>
                </a:lnTo>
                <a:lnTo>
                  <a:pt x="575" y="1119"/>
                </a:lnTo>
                <a:lnTo>
                  <a:pt x="580" y="1446"/>
                </a:lnTo>
                <a:lnTo>
                  <a:pt x="585" y="575"/>
                </a:lnTo>
                <a:lnTo>
                  <a:pt x="596" y="1586"/>
                </a:lnTo>
                <a:lnTo>
                  <a:pt x="601" y="1824"/>
                </a:lnTo>
                <a:lnTo>
                  <a:pt x="606" y="902"/>
                </a:lnTo>
                <a:lnTo>
                  <a:pt x="616" y="1316"/>
                </a:lnTo>
                <a:lnTo>
                  <a:pt x="622" y="1715"/>
                </a:lnTo>
                <a:lnTo>
                  <a:pt x="627" y="1700"/>
                </a:lnTo>
                <a:lnTo>
                  <a:pt x="632" y="1171"/>
                </a:lnTo>
                <a:lnTo>
                  <a:pt x="642" y="855"/>
                </a:lnTo>
                <a:lnTo>
                  <a:pt x="648" y="1327"/>
                </a:lnTo>
                <a:lnTo>
                  <a:pt x="653" y="917"/>
                </a:lnTo>
                <a:lnTo>
                  <a:pt x="658" y="1124"/>
                </a:lnTo>
                <a:lnTo>
                  <a:pt x="668" y="1047"/>
                </a:lnTo>
                <a:lnTo>
                  <a:pt x="673" y="1435"/>
                </a:lnTo>
                <a:lnTo>
                  <a:pt x="679" y="1441"/>
                </a:lnTo>
                <a:lnTo>
                  <a:pt x="689" y="176"/>
                </a:lnTo>
                <a:lnTo>
                  <a:pt x="694" y="979"/>
                </a:lnTo>
                <a:lnTo>
                  <a:pt x="699" y="1171"/>
                </a:lnTo>
                <a:lnTo>
                  <a:pt x="705" y="1684"/>
                </a:lnTo>
                <a:lnTo>
                  <a:pt x="715" y="1036"/>
                </a:lnTo>
                <a:lnTo>
                  <a:pt x="720" y="1912"/>
                </a:lnTo>
                <a:lnTo>
                  <a:pt x="725" y="1363"/>
                </a:lnTo>
                <a:lnTo>
                  <a:pt x="730" y="1000"/>
                </a:lnTo>
                <a:lnTo>
                  <a:pt x="741" y="1192"/>
                </a:lnTo>
                <a:lnTo>
                  <a:pt x="746" y="1824"/>
                </a:lnTo>
                <a:lnTo>
                  <a:pt x="751" y="1596"/>
                </a:lnTo>
                <a:lnTo>
                  <a:pt x="762" y="1052"/>
                </a:lnTo>
                <a:lnTo>
                  <a:pt x="767" y="1612"/>
                </a:lnTo>
                <a:lnTo>
                  <a:pt x="772" y="1638"/>
                </a:lnTo>
                <a:lnTo>
                  <a:pt x="777" y="1855"/>
                </a:lnTo>
                <a:lnTo>
                  <a:pt x="787" y="1778"/>
                </a:lnTo>
                <a:lnTo>
                  <a:pt x="793" y="1161"/>
                </a:lnTo>
                <a:lnTo>
                  <a:pt x="798" y="1036"/>
                </a:lnTo>
                <a:lnTo>
                  <a:pt x="808" y="1425"/>
                </a:lnTo>
                <a:lnTo>
                  <a:pt x="813" y="1653"/>
                </a:lnTo>
                <a:lnTo>
                  <a:pt x="819" y="1254"/>
                </a:lnTo>
                <a:lnTo>
                  <a:pt x="824" y="1518"/>
                </a:lnTo>
                <a:lnTo>
                  <a:pt x="834" y="1306"/>
                </a:lnTo>
                <a:lnTo>
                  <a:pt x="839" y="141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3454560" y="3576600"/>
            <a:ext cx="1333440" cy="2732040"/>
          </a:xfrm>
          <a:custGeom>
            <a:avLst/>
            <a:gdLst/>
            <a:ahLst/>
            <a:rect l="l" t="t" r="r" b="b"/>
            <a:pathLst>
              <a:path w="840" h="1721">
                <a:moveTo>
                  <a:pt x="0" y="1219"/>
                </a:moveTo>
                <a:lnTo>
                  <a:pt x="5" y="1390"/>
                </a:lnTo>
                <a:lnTo>
                  <a:pt x="11" y="1576"/>
                </a:lnTo>
                <a:lnTo>
                  <a:pt x="21" y="1307"/>
                </a:lnTo>
                <a:lnTo>
                  <a:pt x="26" y="1649"/>
                </a:lnTo>
                <a:lnTo>
                  <a:pt x="31" y="1711"/>
                </a:lnTo>
                <a:lnTo>
                  <a:pt x="42" y="1462"/>
                </a:lnTo>
                <a:lnTo>
                  <a:pt x="47" y="1374"/>
                </a:lnTo>
                <a:lnTo>
                  <a:pt x="52" y="1612"/>
                </a:lnTo>
                <a:lnTo>
                  <a:pt x="57" y="799"/>
                </a:lnTo>
                <a:lnTo>
                  <a:pt x="68" y="949"/>
                </a:lnTo>
                <a:lnTo>
                  <a:pt x="73" y="726"/>
                </a:lnTo>
                <a:lnTo>
                  <a:pt x="78" y="1125"/>
                </a:lnTo>
                <a:lnTo>
                  <a:pt x="88" y="970"/>
                </a:lnTo>
                <a:lnTo>
                  <a:pt x="94" y="1348"/>
                </a:lnTo>
                <a:lnTo>
                  <a:pt x="99" y="1612"/>
                </a:lnTo>
                <a:lnTo>
                  <a:pt x="104" y="1659"/>
                </a:lnTo>
                <a:lnTo>
                  <a:pt x="114" y="1421"/>
                </a:lnTo>
                <a:lnTo>
                  <a:pt x="120" y="1286"/>
                </a:lnTo>
                <a:lnTo>
                  <a:pt x="125" y="1089"/>
                </a:lnTo>
                <a:lnTo>
                  <a:pt x="130" y="602"/>
                </a:lnTo>
                <a:lnTo>
                  <a:pt x="140" y="1358"/>
                </a:lnTo>
                <a:lnTo>
                  <a:pt x="145" y="1587"/>
                </a:lnTo>
                <a:lnTo>
                  <a:pt x="151" y="711"/>
                </a:lnTo>
                <a:lnTo>
                  <a:pt x="161" y="949"/>
                </a:lnTo>
                <a:lnTo>
                  <a:pt x="166" y="768"/>
                </a:lnTo>
                <a:lnTo>
                  <a:pt x="171" y="1229"/>
                </a:lnTo>
                <a:lnTo>
                  <a:pt x="177" y="1602"/>
                </a:lnTo>
                <a:lnTo>
                  <a:pt x="187" y="1193"/>
                </a:lnTo>
                <a:lnTo>
                  <a:pt x="192" y="638"/>
                </a:lnTo>
                <a:lnTo>
                  <a:pt x="197" y="1711"/>
                </a:lnTo>
                <a:lnTo>
                  <a:pt x="202" y="1136"/>
                </a:lnTo>
                <a:lnTo>
                  <a:pt x="213" y="819"/>
                </a:lnTo>
                <a:lnTo>
                  <a:pt x="218" y="1540"/>
                </a:lnTo>
                <a:lnTo>
                  <a:pt x="223" y="1524"/>
                </a:lnTo>
                <a:lnTo>
                  <a:pt x="234" y="674"/>
                </a:lnTo>
                <a:lnTo>
                  <a:pt x="239" y="576"/>
                </a:lnTo>
                <a:lnTo>
                  <a:pt x="244" y="1701"/>
                </a:lnTo>
                <a:lnTo>
                  <a:pt x="249" y="1415"/>
                </a:lnTo>
                <a:lnTo>
                  <a:pt x="259" y="0"/>
                </a:lnTo>
                <a:lnTo>
                  <a:pt x="265" y="1364"/>
                </a:lnTo>
                <a:lnTo>
                  <a:pt x="270" y="996"/>
                </a:lnTo>
                <a:lnTo>
                  <a:pt x="280" y="975"/>
                </a:lnTo>
                <a:lnTo>
                  <a:pt x="285" y="1395"/>
                </a:lnTo>
                <a:lnTo>
                  <a:pt x="291" y="1198"/>
                </a:lnTo>
                <a:lnTo>
                  <a:pt x="296" y="643"/>
                </a:lnTo>
                <a:lnTo>
                  <a:pt x="306" y="1561"/>
                </a:lnTo>
                <a:lnTo>
                  <a:pt x="311" y="1716"/>
                </a:lnTo>
                <a:lnTo>
                  <a:pt x="316" y="234"/>
                </a:lnTo>
                <a:lnTo>
                  <a:pt x="322" y="1099"/>
                </a:lnTo>
                <a:lnTo>
                  <a:pt x="332" y="1104"/>
                </a:lnTo>
                <a:lnTo>
                  <a:pt x="337" y="799"/>
                </a:lnTo>
                <a:lnTo>
                  <a:pt x="342" y="975"/>
                </a:lnTo>
                <a:lnTo>
                  <a:pt x="353" y="270"/>
                </a:lnTo>
                <a:lnTo>
                  <a:pt x="358" y="446"/>
                </a:lnTo>
                <a:lnTo>
                  <a:pt x="363" y="1550"/>
                </a:lnTo>
                <a:lnTo>
                  <a:pt x="368" y="1213"/>
                </a:lnTo>
                <a:lnTo>
                  <a:pt x="379" y="1680"/>
                </a:lnTo>
                <a:lnTo>
                  <a:pt x="384" y="1047"/>
                </a:lnTo>
                <a:lnTo>
                  <a:pt x="389" y="1115"/>
                </a:lnTo>
                <a:lnTo>
                  <a:pt x="399" y="840"/>
                </a:lnTo>
                <a:lnTo>
                  <a:pt x="405" y="1597"/>
                </a:lnTo>
                <a:lnTo>
                  <a:pt x="410" y="1260"/>
                </a:lnTo>
                <a:lnTo>
                  <a:pt x="415" y="1457"/>
                </a:lnTo>
                <a:lnTo>
                  <a:pt x="425" y="1701"/>
                </a:lnTo>
                <a:lnTo>
                  <a:pt x="431" y="1224"/>
                </a:lnTo>
                <a:lnTo>
                  <a:pt x="436" y="1296"/>
                </a:lnTo>
                <a:lnTo>
                  <a:pt x="441" y="337"/>
                </a:lnTo>
                <a:lnTo>
                  <a:pt x="451" y="799"/>
                </a:lnTo>
                <a:lnTo>
                  <a:pt x="456" y="799"/>
                </a:lnTo>
                <a:lnTo>
                  <a:pt x="462" y="1478"/>
                </a:lnTo>
                <a:lnTo>
                  <a:pt x="472" y="1276"/>
                </a:lnTo>
                <a:lnTo>
                  <a:pt x="477" y="669"/>
                </a:lnTo>
                <a:lnTo>
                  <a:pt x="482" y="794"/>
                </a:lnTo>
                <a:lnTo>
                  <a:pt x="488" y="1576"/>
                </a:lnTo>
                <a:lnTo>
                  <a:pt x="498" y="933"/>
                </a:lnTo>
                <a:lnTo>
                  <a:pt x="503" y="1198"/>
                </a:lnTo>
                <a:lnTo>
                  <a:pt x="508" y="1644"/>
                </a:lnTo>
                <a:lnTo>
                  <a:pt x="513" y="296"/>
                </a:lnTo>
                <a:lnTo>
                  <a:pt x="524" y="1286"/>
                </a:lnTo>
                <a:lnTo>
                  <a:pt x="529" y="1721"/>
                </a:lnTo>
                <a:lnTo>
                  <a:pt x="534" y="1301"/>
                </a:lnTo>
                <a:lnTo>
                  <a:pt x="545" y="1151"/>
                </a:lnTo>
                <a:lnTo>
                  <a:pt x="550" y="990"/>
                </a:lnTo>
                <a:lnTo>
                  <a:pt x="555" y="1405"/>
                </a:lnTo>
                <a:lnTo>
                  <a:pt x="560" y="1504"/>
                </a:lnTo>
                <a:lnTo>
                  <a:pt x="570" y="638"/>
                </a:lnTo>
                <a:lnTo>
                  <a:pt x="576" y="840"/>
                </a:lnTo>
                <a:lnTo>
                  <a:pt x="581" y="887"/>
                </a:lnTo>
                <a:lnTo>
                  <a:pt x="591" y="462"/>
                </a:lnTo>
                <a:lnTo>
                  <a:pt x="596" y="1685"/>
                </a:lnTo>
                <a:lnTo>
                  <a:pt x="602" y="1421"/>
                </a:lnTo>
                <a:lnTo>
                  <a:pt x="607" y="996"/>
                </a:lnTo>
                <a:lnTo>
                  <a:pt x="617" y="664"/>
                </a:lnTo>
                <a:lnTo>
                  <a:pt x="622" y="913"/>
                </a:lnTo>
                <a:lnTo>
                  <a:pt x="627" y="866"/>
                </a:lnTo>
                <a:lnTo>
                  <a:pt x="633" y="908"/>
                </a:lnTo>
                <a:lnTo>
                  <a:pt x="643" y="1322"/>
                </a:lnTo>
                <a:lnTo>
                  <a:pt x="648" y="1675"/>
                </a:lnTo>
                <a:lnTo>
                  <a:pt x="653" y="1607"/>
                </a:lnTo>
                <a:lnTo>
                  <a:pt x="664" y="1063"/>
                </a:lnTo>
                <a:lnTo>
                  <a:pt x="669" y="913"/>
                </a:lnTo>
                <a:lnTo>
                  <a:pt x="674" y="1623"/>
                </a:lnTo>
                <a:lnTo>
                  <a:pt x="679" y="1177"/>
                </a:lnTo>
                <a:lnTo>
                  <a:pt x="690" y="1374"/>
                </a:lnTo>
                <a:lnTo>
                  <a:pt x="695" y="1467"/>
                </a:lnTo>
                <a:lnTo>
                  <a:pt x="700" y="182"/>
                </a:lnTo>
                <a:lnTo>
                  <a:pt x="710" y="534"/>
                </a:lnTo>
                <a:lnTo>
                  <a:pt x="716" y="1011"/>
                </a:lnTo>
                <a:lnTo>
                  <a:pt x="721" y="1374"/>
                </a:lnTo>
                <a:lnTo>
                  <a:pt x="726" y="1555"/>
                </a:lnTo>
                <a:lnTo>
                  <a:pt x="736" y="550"/>
                </a:lnTo>
                <a:lnTo>
                  <a:pt x="742" y="1317"/>
                </a:lnTo>
                <a:lnTo>
                  <a:pt x="747" y="1612"/>
                </a:lnTo>
                <a:lnTo>
                  <a:pt x="752" y="514"/>
                </a:lnTo>
                <a:lnTo>
                  <a:pt x="762" y="1566"/>
                </a:lnTo>
                <a:lnTo>
                  <a:pt x="767" y="1545"/>
                </a:lnTo>
                <a:lnTo>
                  <a:pt x="773" y="1441"/>
                </a:lnTo>
                <a:lnTo>
                  <a:pt x="783" y="1623"/>
                </a:lnTo>
                <a:lnTo>
                  <a:pt x="788" y="788"/>
                </a:lnTo>
                <a:lnTo>
                  <a:pt x="793" y="1524"/>
                </a:lnTo>
                <a:lnTo>
                  <a:pt x="799" y="711"/>
                </a:lnTo>
                <a:lnTo>
                  <a:pt x="809" y="887"/>
                </a:lnTo>
                <a:lnTo>
                  <a:pt x="814" y="1436"/>
                </a:lnTo>
                <a:lnTo>
                  <a:pt x="819" y="1327"/>
                </a:lnTo>
                <a:lnTo>
                  <a:pt x="824" y="1182"/>
                </a:lnTo>
                <a:lnTo>
                  <a:pt x="835" y="1664"/>
                </a:lnTo>
                <a:lnTo>
                  <a:pt x="840" y="41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4788000" y="3133800"/>
            <a:ext cx="1333440" cy="3159000"/>
          </a:xfrm>
          <a:custGeom>
            <a:avLst/>
            <a:gdLst/>
            <a:ahLst/>
            <a:rect l="l" t="t" r="r" b="b"/>
            <a:pathLst>
              <a:path w="840" h="1990">
                <a:moveTo>
                  <a:pt x="0" y="694"/>
                </a:moveTo>
                <a:lnTo>
                  <a:pt x="5" y="1549"/>
                </a:lnTo>
                <a:lnTo>
                  <a:pt x="16" y="1456"/>
                </a:lnTo>
                <a:lnTo>
                  <a:pt x="21" y="1819"/>
                </a:lnTo>
                <a:lnTo>
                  <a:pt x="26" y="1124"/>
                </a:lnTo>
                <a:lnTo>
                  <a:pt x="31" y="1477"/>
                </a:lnTo>
                <a:lnTo>
                  <a:pt x="41" y="1161"/>
                </a:lnTo>
                <a:lnTo>
                  <a:pt x="47" y="1606"/>
                </a:lnTo>
                <a:lnTo>
                  <a:pt x="52" y="1321"/>
                </a:lnTo>
                <a:lnTo>
                  <a:pt x="62" y="1441"/>
                </a:lnTo>
                <a:lnTo>
                  <a:pt x="67" y="1150"/>
                </a:lnTo>
                <a:lnTo>
                  <a:pt x="73" y="927"/>
                </a:lnTo>
                <a:lnTo>
                  <a:pt x="78" y="1565"/>
                </a:lnTo>
                <a:lnTo>
                  <a:pt x="88" y="1959"/>
                </a:lnTo>
                <a:lnTo>
                  <a:pt x="93" y="1441"/>
                </a:lnTo>
                <a:lnTo>
                  <a:pt x="98" y="1062"/>
                </a:lnTo>
                <a:lnTo>
                  <a:pt x="104" y="1591"/>
                </a:lnTo>
                <a:lnTo>
                  <a:pt x="114" y="1928"/>
                </a:lnTo>
                <a:lnTo>
                  <a:pt x="119" y="1876"/>
                </a:lnTo>
                <a:lnTo>
                  <a:pt x="124" y="1000"/>
                </a:lnTo>
                <a:lnTo>
                  <a:pt x="135" y="1290"/>
                </a:lnTo>
                <a:lnTo>
                  <a:pt x="140" y="855"/>
                </a:lnTo>
                <a:lnTo>
                  <a:pt x="145" y="1663"/>
                </a:lnTo>
                <a:lnTo>
                  <a:pt x="150" y="1093"/>
                </a:lnTo>
                <a:lnTo>
                  <a:pt x="161" y="1228"/>
                </a:lnTo>
                <a:lnTo>
                  <a:pt x="166" y="1301"/>
                </a:lnTo>
                <a:lnTo>
                  <a:pt x="171" y="1430"/>
                </a:lnTo>
                <a:lnTo>
                  <a:pt x="181" y="1586"/>
                </a:lnTo>
                <a:lnTo>
                  <a:pt x="187" y="616"/>
                </a:lnTo>
                <a:lnTo>
                  <a:pt x="192" y="1192"/>
                </a:lnTo>
                <a:lnTo>
                  <a:pt x="197" y="1005"/>
                </a:lnTo>
                <a:lnTo>
                  <a:pt x="207" y="1777"/>
                </a:lnTo>
                <a:lnTo>
                  <a:pt x="213" y="1731"/>
                </a:lnTo>
                <a:lnTo>
                  <a:pt x="218" y="1337"/>
                </a:lnTo>
                <a:lnTo>
                  <a:pt x="223" y="1850"/>
                </a:lnTo>
                <a:lnTo>
                  <a:pt x="233" y="1580"/>
                </a:lnTo>
                <a:lnTo>
                  <a:pt x="238" y="881"/>
                </a:lnTo>
                <a:lnTo>
                  <a:pt x="244" y="1752"/>
                </a:lnTo>
                <a:lnTo>
                  <a:pt x="254" y="1342"/>
                </a:lnTo>
                <a:lnTo>
                  <a:pt x="259" y="1772"/>
                </a:lnTo>
                <a:lnTo>
                  <a:pt x="264" y="1477"/>
                </a:lnTo>
                <a:lnTo>
                  <a:pt x="270" y="1798"/>
                </a:lnTo>
                <a:lnTo>
                  <a:pt x="280" y="1000"/>
                </a:lnTo>
                <a:lnTo>
                  <a:pt x="285" y="368"/>
                </a:lnTo>
                <a:lnTo>
                  <a:pt x="290" y="1917"/>
                </a:lnTo>
                <a:lnTo>
                  <a:pt x="301" y="1980"/>
                </a:lnTo>
                <a:lnTo>
                  <a:pt x="306" y="1238"/>
                </a:lnTo>
                <a:lnTo>
                  <a:pt x="311" y="829"/>
                </a:lnTo>
                <a:lnTo>
                  <a:pt x="316" y="1534"/>
                </a:lnTo>
                <a:lnTo>
                  <a:pt x="327" y="1715"/>
                </a:lnTo>
                <a:lnTo>
                  <a:pt x="332" y="1860"/>
                </a:lnTo>
                <a:lnTo>
                  <a:pt x="337" y="1301"/>
                </a:lnTo>
                <a:lnTo>
                  <a:pt x="342" y="1472"/>
                </a:lnTo>
                <a:lnTo>
                  <a:pt x="352" y="819"/>
                </a:lnTo>
                <a:lnTo>
                  <a:pt x="358" y="1378"/>
                </a:lnTo>
                <a:lnTo>
                  <a:pt x="363" y="1726"/>
                </a:lnTo>
                <a:lnTo>
                  <a:pt x="373" y="1518"/>
                </a:lnTo>
                <a:lnTo>
                  <a:pt x="378" y="1798"/>
                </a:lnTo>
                <a:lnTo>
                  <a:pt x="384" y="1015"/>
                </a:lnTo>
                <a:lnTo>
                  <a:pt x="389" y="1902"/>
                </a:lnTo>
                <a:lnTo>
                  <a:pt x="399" y="544"/>
                </a:lnTo>
                <a:lnTo>
                  <a:pt x="404" y="1866"/>
                </a:lnTo>
                <a:lnTo>
                  <a:pt x="409" y="1814"/>
                </a:lnTo>
                <a:lnTo>
                  <a:pt x="415" y="1352"/>
                </a:lnTo>
                <a:lnTo>
                  <a:pt x="425" y="176"/>
                </a:lnTo>
                <a:lnTo>
                  <a:pt x="430" y="710"/>
                </a:lnTo>
                <a:lnTo>
                  <a:pt x="435" y="1031"/>
                </a:lnTo>
                <a:lnTo>
                  <a:pt x="446" y="1762"/>
                </a:lnTo>
                <a:lnTo>
                  <a:pt x="451" y="1352"/>
                </a:lnTo>
                <a:lnTo>
                  <a:pt x="456" y="461"/>
                </a:lnTo>
                <a:lnTo>
                  <a:pt x="461" y="1694"/>
                </a:lnTo>
                <a:lnTo>
                  <a:pt x="472" y="1529"/>
                </a:lnTo>
                <a:lnTo>
                  <a:pt x="477" y="1845"/>
                </a:lnTo>
                <a:lnTo>
                  <a:pt x="482" y="1777"/>
                </a:lnTo>
                <a:lnTo>
                  <a:pt x="492" y="1928"/>
                </a:lnTo>
                <a:lnTo>
                  <a:pt x="498" y="1658"/>
                </a:lnTo>
                <a:lnTo>
                  <a:pt x="503" y="1871"/>
                </a:lnTo>
                <a:lnTo>
                  <a:pt x="508" y="1036"/>
                </a:lnTo>
                <a:lnTo>
                  <a:pt x="518" y="876"/>
                </a:lnTo>
                <a:lnTo>
                  <a:pt x="523" y="1539"/>
                </a:lnTo>
                <a:lnTo>
                  <a:pt x="529" y="1259"/>
                </a:lnTo>
                <a:lnTo>
                  <a:pt x="534" y="1741"/>
                </a:lnTo>
                <a:lnTo>
                  <a:pt x="544" y="1202"/>
                </a:lnTo>
                <a:lnTo>
                  <a:pt x="549" y="901"/>
                </a:lnTo>
                <a:lnTo>
                  <a:pt x="555" y="1264"/>
                </a:lnTo>
                <a:lnTo>
                  <a:pt x="565" y="1824"/>
                </a:lnTo>
                <a:lnTo>
                  <a:pt x="570" y="1451"/>
                </a:lnTo>
                <a:lnTo>
                  <a:pt x="575" y="1741"/>
                </a:lnTo>
                <a:lnTo>
                  <a:pt x="581" y="1404"/>
                </a:lnTo>
                <a:lnTo>
                  <a:pt x="591" y="1653"/>
                </a:lnTo>
                <a:lnTo>
                  <a:pt x="596" y="1104"/>
                </a:lnTo>
                <a:lnTo>
                  <a:pt x="601" y="730"/>
                </a:lnTo>
                <a:lnTo>
                  <a:pt x="612" y="1275"/>
                </a:lnTo>
                <a:lnTo>
                  <a:pt x="617" y="1606"/>
                </a:lnTo>
                <a:lnTo>
                  <a:pt x="622" y="751"/>
                </a:lnTo>
                <a:lnTo>
                  <a:pt x="627" y="865"/>
                </a:lnTo>
                <a:lnTo>
                  <a:pt x="638" y="1891"/>
                </a:lnTo>
                <a:lnTo>
                  <a:pt x="643" y="1886"/>
                </a:lnTo>
                <a:lnTo>
                  <a:pt x="648" y="1933"/>
                </a:lnTo>
                <a:lnTo>
                  <a:pt x="653" y="1757"/>
                </a:lnTo>
                <a:lnTo>
                  <a:pt x="663" y="1565"/>
                </a:lnTo>
                <a:lnTo>
                  <a:pt x="669" y="1492"/>
                </a:lnTo>
                <a:lnTo>
                  <a:pt x="674" y="1389"/>
                </a:lnTo>
                <a:lnTo>
                  <a:pt x="684" y="1814"/>
                </a:lnTo>
                <a:lnTo>
                  <a:pt x="689" y="1710"/>
                </a:lnTo>
                <a:lnTo>
                  <a:pt x="695" y="679"/>
                </a:lnTo>
                <a:lnTo>
                  <a:pt x="700" y="855"/>
                </a:lnTo>
                <a:lnTo>
                  <a:pt x="710" y="1155"/>
                </a:lnTo>
                <a:lnTo>
                  <a:pt x="715" y="1803"/>
                </a:lnTo>
                <a:lnTo>
                  <a:pt x="720" y="1617"/>
                </a:lnTo>
                <a:lnTo>
                  <a:pt x="726" y="1617"/>
                </a:lnTo>
                <a:lnTo>
                  <a:pt x="736" y="1990"/>
                </a:lnTo>
                <a:lnTo>
                  <a:pt x="741" y="912"/>
                </a:lnTo>
                <a:lnTo>
                  <a:pt x="746" y="1788"/>
                </a:lnTo>
                <a:lnTo>
                  <a:pt x="757" y="1871"/>
                </a:lnTo>
                <a:lnTo>
                  <a:pt x="762" y="1031"/>
                </a:lnTo>
                <a:lnTo>
                  <a:pt x="767" y="1974"/>
                </a:lnTo>
                <a:lnTo>
                  <a:pt x="772" y="1757"/>
                </a:lnTo>
                <a:lnTo>
                  <a:pt x="783" y="839"/>
                </a:lnTo>
                <a:lnTo>
                  <a:pt x="788" y="1632"/>
                </a:lnTo>
                <a:lnTo>
                  <a:pt x="793" y="1876"/>
                </a:lnTo>
                <a:lnTo>
                  <a:pt x="803" y="1980"/>
                </a:lnTo>
                <a:lnTo>
                  <a:pt x="809" y="1124"/>
                </a:lnTo>
                <a:lnTo>
                  <a:pt x="814" y="927"/>
                </a:lnTo>
                <a:lnTo>
                  <a:pt x="819" y="1689"/>
                </a:lnTo>
                <a:lnTo>
                  <a:pt x="829" y="1819"/>
                </a:lnTo>
                <a:lnTo>
                  <a:pt x="834" y="798"/>
                </a:lnTo>
                <a:lnTo>
                  <a:pt x="84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121440" y="3133800"/>
            <a:ext cx="1332000" cy="3174840"/>
          </a:xfrm>
          <a:custGeom>
            <a:avLst/>
            <a:gdLst/>
            <a:ahLst/>
            <a:rect l="l" t="t" r="r" b="b"/>
            <a:pathLst>
              <a:path w="839" h="2000">
                <a:moveTo>
                  <a:pt x="0" y="0"/>
                </a:moveTo>
                <a:lnTo>
                  <a:pt x="5" y="1316"/>
                </a:lnTo>
                <a:lnTo>
                  <a:pt x="15" y="1192"/>
                </a:lnTo>
                <a:lnTo>
                  <a:pt x="20" y="1280"/>
                </a:lnTo>
                <a:lnTo>
                  <a:pt x="26" y="1321"/>
                </a:lnTo>
                <a:lnTo>
                  <a:pt x="36" y="1715"/>
                </a:lnTo>
                <a:lnTo>
                  <a:pt x="41" y="1435"/>
                </a:lnTo>
                <a:lnTo>
                  <a:pt x="46" y="1295"/>
                </a:lnTo>
                <a:lnTo>
                  <a:pt x="51" y="1912"/>
                </a:lnTo>
                <a:lnTo>
                  <a:pt x="62" y="1814"/>
                </a:lnTo>
                <a:lnTo>
                  <a:pt x="67" y="1560"/>
                </a:lnTo>
                <a:lnTo>
                  <a:pt x="72" y="1933"/>
                </a:lnTo>
                <a:lnTo>
                  <a:pt x="83" y="1135"/>
                </a:lnTo>
                <a:lnTo>
                  <a:pt x="88" y="1731"/>
                </a:lnTo>
                <a:lnTo>
                  <a:pt x="93" y="1352"/>
                </a:lnTo>
                <a:lnTo>
                  <a:pt x="98" y="1689"/>
                </a:lnTo>
                <a:lnTo>
                  <a:pt x="109" y="1923"/>
                </a:lnTo>
                <a:lnTo>
                  <a:pt x="114" y="1891"/>
                </a:lnTo>
                <a:lnTo>
                  <a:pt x="119" y="1612"/>
                </a:lnTo>
                <a:lnTo>
                  <a:pt x="124" y="1829"/>
                </a:lnTo>
                <a:lnTo>
                  <a:pt x="134" y="1990"/>
                </a:lnTo>
                <a:lnTo>
                  <a:pt x="140" y="1767"/>
                </a:lnTo>
                <a:lnTo>
                  <a:pt x="145" y="1368"/>
                </a:lnTo>
                <a:lnTo>
                  <a:pt x="155" y="2000"/>
                </a:lnTo>
                <a:lnTo>
                  <a:pt x="160" y="1674"/>
                </a:lnTo>
                <a:lnTo>
                  <a:pt x="166" y="1166"/>
                </a:lnTo>
                <a:lnTo>
                  <a:pt x="171" y="1985"/>
                </a:lnTo>
                <a:lnTo>
                  <a:pt x="181" y="1866"/>
                </a:lnTo>
                <a:lnTo>
                  <a:pt x="186" y="1928"/>
                </a:lnTo>
                <a:lnTo>
                  <a:pt x="191" y="1580"/>
                </a:lnTo>
                <a:lnTo>
                  <a:pt x="197" y="793"/>
                </a:lnTo>
                <a:lnTo>
                  <a:pt x="207" y="943"/>
                </a:lnTo>
                <a:lnTo>
                  <a:pt x="212" y="1798"/>
                </a:lnTo>
                <a:lnTo>
                  <a:pt x="217" y="1404"/>
                </a:lnTo>
                <a:lnTo>
                  <a:pt x="228" y="1726"/>
                </a:lnTo>
                <a:lnTo>
                  <a:pt x="233" y="1461"/>
                </a:lnTo>
                <a:lnTo>
                  <a:pt x="238" y="1104"/>
                </a:lnTo>
                <a:lnTo>
                  <a:pt x="243" y="1679"/>
                </a:lnTo>
                <a:lnTo>
                  <a:pt x="254" y="1606"/>
                </a:lnTo>
                <a:lnTo>
                  <a:pt x="259" y="1850"/>
                </a:lnTo>
                <a:lnTo>
                  <a:pt x="264" y="1187"/>
                </a:lnTo>
                <a:lnTo>
                  <a:pt x="274" y="1876"/>
                </a:lnTo>
                <a:lnTo>
                  <a:pt x="280" y="1980"/>
                </a:lnTo>
                <a:lnTo>
                  <a:pt x="285" y="741"/>
                </a:lnTo>
                <a:lnTo>
                  <a:pt x="290" y="1938"/>
                </a:lnTo>
                <a:lnTo>
                  <a:pt x="300" y="1669"/>
                </a:lnTo>
                <a:lnTo>
                  <a:pt x="305" y="1814"/>
                </a:lnTo>
                <a:lnTo>
                  <a:pt x="311" y="1653"/>
                </a:lnTo>
                <a:lnTo>
                  <a:pt x="316" y="1425"/>
                </a:lnTo>
                <a:lnTo>
                  <a:pt x="326" y="787"/>
                </a:lnTo>
                <a:lnTo>
                  <a:pt x="331" y="1710"/>
                </a:lnTo>
                <a:lnTo>
                  <a:pt x="337" y="1363"/>
                </a:lnTo>
                <a:lnTo>
                  <a:pt x="347" y="1539"/>
                </a:lnTo>
                <a:lnTo>
                  <a:pt x="352" y="1653"/>
                </a:lnTo>
                <a:lnTo>
                  <a:pt x="357" y="1736"/>
                </a:lnTo>
                <a:lnTo>
                  <a:pt x="362" y="1777"/>
                </a:lnTo>
                <a:lnTo>
                  <a:pt x="373" y="1938"/>
                </a:lnTo>
                <a:lnTo>
                  <a:pt x="378" y="637"/>
                </a:lnTo>
                <a:lnTo>
                  <a:pt x="383" y="1871"/>
                </a:lnTo>
                <a:lnTo>
                  <a:pt x="394" y="1010"/>
                </a:lnTo>
                <a:lnTo>
                  <a:pt x="399" y="1679"/>
                </a:lnTo>
                <a:lnTo>
                  <a:pt x="404" y="419"/>
                </a:lnTo>
                <a:lnTo>
                  <a:pt x="409" y="1373"/>
                </a:lnTo>
                <a:lnTo>
                  <a:pt x="420" y="1015"/>
                </a:lnTo>
                <a:lnTo>
                  <a:pt x="425" y="1212"/>
                </a:lnTo>
                <a:lnTo>
                  <a:pt x="430" y="1617"/>
                </a:lnTo>
                <a:lnTo>
                  <a:pt x="435" y="1809"/>
                </a:lnTo>
                <a:lnTo>
                  <a:pt x="445" y="1834"/>
                </a:lnTo>
                <a:lnTo>
                  <a:pt x="451" y="528"/>
                </a:lnTo>
                <a:lnTo>
                  <a:pt x="456" y="1389"/>
                </a:lnTo>
                <a:lnTo>
                  <a:pt x="466" y="1923"/>
                </a:lnTo>
                <a:lnTo>
                  <a:pt x="471" y="974"/>
                </a:lnTo>
                <a:lnTo>
                  <a:pt x="477" y="1441"/>
                </a:lnTo>
                <a:lnTo>
                  <a:pt x="482" y="969"/>
                </a:lnTo>
                <a:lnTo>
                  <a:pt x="492" y="1788"/>
                </a:lnTo>
                <a:lnTo>
                  <a:pt x="497" y="891"/>
                </a:lnTo>
                <a:lnTo>
                  <a:pt x="502" y="1669"/>
                </a:lnTo>
                <a:lnTo>
                  <a:pt x="508" y="943"/>
                </a:lnTo>
                <a:lnTo>
                  <a:pt x="518" y="1591"/>
                </a:lnTo>
                <a:lnTo>
                  <a:pt x="523" y="1176"/>
                </a:lnTo>
                <a:lnTo>
                  <a:pt x="528" y="1741"/>
                </a:lnTo>
                <a:lnTo>
                  <a:pt x="539" y="1347"/>
                </a:lnTo>
                <a:lnTo>
                  <a:pt x="544" y="1477"/>
                </a:lnTo>
                <a:lnTo>
                  <a:pt x="549" y="1155"/>
                </a:lnTo>
                <a:lnTo>
                  <a:pt x="554" y="1803"/>
                </a:lnTo>
                <a:lnTo>
                  <a:pt x="565" y="1648"/>
                </a:lnTo>
                <a:lnTo>
                  <a:pt x="570" y="1223"/>
                </a:lnTo>
                <a:lnTo>
                  <a:pt x="575" y="331"/>
                </a:lnTo>
                <a:lnTo>
                  <a:pt x="585" y="1948"/>
                </a:lnTo>
                <a:lnTo>
                  <a:pt x="591" y="1518"/>
                </a:lnTo>
                <a:lnTo>
                  <a:pt x="596" y="1062"/>
                </a:lnTo>
                <a:lnTo>
                  <a:pt x="601" y="2000"/>
                </a:lnTo>
                <a:lnTo>
                  <a:pt x="611" y="1601"/>
                </a:lnTo>
                <a:lnTo>
                  <a:pt x="616" y="1280"/>
                </a:lnTo>
                <a:lnTo>
                  <a:pt x="622" y="1969"/>
                </a:lnTo>
                <a:lnTo>
                  <a:pt x="627" y="1555"/>
                </a:lnTo>
                <a:lnTo>
                  <a:pt x="637" y="1990"/>
                </a:lnTo>
                <a:lnTo>
                  <a:pt x="642" y="1684"/>
                </a:lnTo>
                <a:lnTo>
                  <a:pt x="648" y="1850"/>
                </a:lnTo>
                <a:lnTo>
                  <a:pt x="658" y="1917"/>
                </a:lnTo>
                <a:lnTo>
                  <a:pt x="663" y="1466"/>
                </a:lnTo>
                <a:lnTo>
                  <a:pt x="668" y="1689"/>
                </a:lnTo>
                <a:lnTo>
                  <a:pt x="673" y="394"/>
                </a:lnTo>
                <a:lnTo>
                  <a:pt x="684" y="1917"/>
                </a:lnTo>
                <a:lnTo>
                  <a:pt x="689" y="1409"/>
                </a:lnTo>
                <a:lnTo>
                  <a:pt x="694" y="1990"/>
                </a:lnTo>
                <a:lnTo>
                  <a:pt x="705" y="1529"/>
                </a:lnTo>
                <a:lnTo>
                  <a:pt x="710" y="1549"/>
                </a:lnTo>
                <a:lnTo>
                  <a:pt x="715" y="1492"/>
                </a:lnTo>
                <a:lnTo>
                  <a:pt x="720" y="1788"/>
                </a:lnTo>
                <a:lnTo>
                  <a:pt x="730" y="1140"/>
                </a:lnTo>
                <a:lnTo>
                  <a:pt x="736" y="1933"/>
                </a:lnTo>
                <a:lnTo>
                  <a:pt x="741" y="1627"/>
                </a:lnTo>
                <a:lnTo>
                  <a:pt x="746" y="1938"/>
                </a:lnTo>
                <a:lnTo>
                  <a:pt x="756" y="1938"/>
                </a:lnTo>
                <a:lnTo>
                  <a:pt x="762" y="1622"/>
                </a:lnTo>
                <a:lnTo>
                  <a:pt x="767" y="606"/>
                </a:lnTo>
                <a:lnTo>
                  <a:pt x="777" y="1741"/>
                </a:lnTo>
                <a:lnTo>
                  <a:pt x="782" y="886"/>
                </a:lnTo>
                <a:lnTo>
                  <a:pt x="788" y="482"/>
                </a:lnTo>
                <a:lnTo>
                  <a:pt x="793" y="1363"/>
                </a:lnTo>
                <a:lnTo>
                  <a:pt x="803" y="1938"/>
                </a:lnTo>
                <a:lnTo>
                  <a:pt x="808" y="1726"/>
                </a:lnTo>
                <a:lnTo>
                  <a:pt x="813" y="1358"/>
                </a:lnTo>
                <a:lnTo>
                  <a:pt x="819" y="1451"/>
                </a:lnTo>
                <a:lnTo>
                  <a:pt x="829" y="1803"/>
                </a:lnTo>
                <a:lnTo>
                  <a:pt x="834" y="1669"/>
                </a:lnTo>
                <a:lnTo>
                  <a:pt x="839" y="66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3" name=""/>
          <p:cNvGraphicFramePr/>
          <p:nvPr/>
        </p:nvGraphicFramePr>
        <p:xfrm>
          <a:off x="609480" y="277920"/>
          <a:ext cx="510552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7920"/>
                    <a:ext cx="5105520" cy="1931760"/>
                  </a:xfrm>
                  <a:prstGeom prst="rect">
                    <a:avLst/>
                  </a:prstGeom>
                  <a:ln w="381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5" name=""/>
          <p:cNvSpPr/>
          <p:nvPr/>
        </p:nvSpPr>
        <p:spPr>
          <a:xfrm>
            <a:off x="2057040" y="259092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ergy 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6" name=""/>
          <p:cNvGraphicFramePr/>
          <p:nvPr/>
        </p:nvGraphicFramePr>
        <p:xfrm>
          <a:off x="1042920" y="639720"/>
          <a:ext cx="738036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39720"/>
                    <a:ext cx="7380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8" name=""/>
          <p:cNvSpPr/>
          <p:nvPr/>
        </p:nvSpPr>
        <p:spPr>
          <a:xfrm>
            <a:off x="2516760" y="603396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tens, Derrida, Gross &amp; Mezard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762120" y="5500800"/>
            <a:ext cx="54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 statistical physics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0" name="" descr=""/>
          <p:cNvPicPr/>
          <p:nvPr/>
        </p:nvPicPr>
        <p:blipFill>
          <a:blip r:embed="rId1"/>
          <a:stretch/>
        </p:blipFill>
        <p:spPr>
          <a:xfrm>
            <a:off x="3886200" y="-152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141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4276800" y="61786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 flipV="1">
            <a:off x="427680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4276800" y="26146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42267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49197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486972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 flipV="1">
            <a:off x="556884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55191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V="1">
            <a:off x="621972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617004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68691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681948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752004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7420680" y="620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4276800" y="56610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4276800" y="57103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4276800" y="5759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4276800" y="5816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276800" y="58910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276800" y="5964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4276800" y="606420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4276800" y="5661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3939480" y="5560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413676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4276800" y="5356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276800" y="51753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276800" y="5051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276800" y="49528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4276800" y="48704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4276800" y="4803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4276800" y="47466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276800" y="46893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4276800" y="46483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4276800" y="4648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939480" y="4549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4136760" y="4483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4276800" y="4335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4276800" y="41623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4276800" y="4030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276800" y="3932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276800" y="3849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4276800" y="3784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4276800" y="37260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4276800" y="3676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276800" y="36273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276800" y="3627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3939480" y="3529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136760" y="34624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276800" y="33228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276800" y="31417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276800" y="30178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276800" y="29192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276800" y="283680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276800" y="27716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76800" y="27050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76800" y="26557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4276800" y="26146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276800" y="26146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939480" y="2516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136760" y="2451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V="1">
            <a:off x="4276800" y="2614680"/>
            <a:ext cx="1440" cy="35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4589640" y="3932280"/>
            <a:ext cx="2520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4565520" y="3906720"/>
            <a:ext cx="7488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4911840" y="393228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4886280" y="3906720"/>
            <a:ext cx="74520" cy="748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5240160" y="3956040"/>
            <a:ext cx="2412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5214960" y="393228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560920" y="4508640"/>
            <a:ext cx="255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5537160" y="448308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5889600" y="5092560"/>
            <a:ext cx="255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586584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6211800" y="5092560"/>
            <a:ext cx="237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618660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6540480" y="5289480"/>
            <a:ext cx="255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6515280" y="5265720"/>
            <a:ext cx="7452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861240" y="5560920"/>
            <a:ext cx="2520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837480" y="553716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7153200" y="6105600"/>
            <a:ext cx="152640" cy="14904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24760" y="4716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3429000" y="5257800"/>
            <a:ext cx="3581280" cy="8380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23" name=""/>
          <p:cNvGraphicFramePr/>
          <p:nvPr/>
        </p:nvGraphicFramePr>
        <p:xfrm>
          <a:off x="228600" y="4505400"/>
          <a:ext cx="3127320" cy="12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05400"/>
                    <a:ext cx="3127320" cy="1209600"/>
                  </a:xfrm>
                  <a:prstGeom prst="rect">
                    <a:avLst/>
                  </a:prstGeom>
                  <a:ln w="1908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"/>
          <p:cNvSpPr/>
          <p:nvPr/>
        </p:nvSpPr>
        <p:spPr>
          <a:xfrm flipV="1">
            <a:off x="4276800" y="5028840"/>
            <a:ext cx="0" cy="114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4276800" y="61786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V="1">
            <a:off x="427680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42267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49197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486972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556884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551916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6219720" y="61369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617004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flipV="1">
            <a:off x="686916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819480" y="62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 flipV="1">
            <a:off x="7520040" y="61369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420680" y="620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276800" y="56610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276800" y="57103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276800" y="5759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276800" y="5816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276800" y="58910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4276800" y="5964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4276800" y="606420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4276800" y="5661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939480" y="5560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4136760" y="54957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276800" y="5356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4276800" y="51753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4276800" y="5051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889600" y="5092560"/>
            <a:ext cx="255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86584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11800" y="5092560"/>
            <a:ext cx="2376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6186600" y="5067360"/>
            <a:ext cx="7452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6540480" y="5289480"/>
            <a:ext cx="2556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6515280" y="5265720"/>
            <a:ext cx="74520" cy="730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6861240" y="5560920"/>
            <a:ext cx="25200" cy="2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6837480" y="5537160"/>
            <a:ext cx="73080" cy="745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153200" y="6105600"/>
            <a:ext cx="152640" cy="14904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3429000" y="5257800"/>
            <a:ext cx="3581280" cy="8380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2" name=""/>
          <p:cNvGraphicFramePr/>
          <p:nvPr/>
        </p:nvGraphicFramePr>
        <p:xfrm>
          <a:off x="228600" y="4505400"/>
          <a:ext cx="31273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05400"/>
                    <a:ext cx="3127320" cy="1209600"/>
                  </a:xfrm>
                  <a:prstGeom prst="rect">
                    <a:avLst/>
                  </a:prstGeom>
                  <a:ln w="1908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4" name=""/>
          <p:cNvGraphicFramePr/>
          <p:nvPr/>
        </p:nvGraphicFramePr>
        <p:xfrm>
          <a:off x="1295280" y="380880"/>
          <a:ext cx="545940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0880"/>
                    <a:ext cx="5459400" cy="2584440"/>
                  </a:xfrm>
                  <a:prstGeom prst="rect">
                    <a:avLst/>
                  </a:prstGeom>
                  <a:ln w="1908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hould anyone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problems in biology and advanced technologies are even ha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an’t do this “simple” problem, what hope is there for scalability of computational methods to large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some other reason for optim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83400" y="0"/>
            <a:ext cx="3360600" cy="5029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0" b="10861"/>
          <a:stretch/>
        </p:blipFill>
        <p:spPr>
          <a:xfrm>
            <a:off x="304920" y="3886200"/>
            <a:ext cx="6095880" cy="2971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4876920" cy="3774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rcRect l="35943" t="8076" r="28123" b="37433"/>
          <a:stretch/>
        </p:blipFill>
        <p:spPr>
          <a:xfrm>
            <a:off x="685800" y="9144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rcRect l="35943" t="8076" r="28123" b="37433"/>
          <a:stretch/>
        </p:blipFill>
        <p:spPr>
          <a:xfrm>
            <a:off x="3048120" y="9144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rcRect l="35943" t="8076" r="28123" b="37433"/>
          <a:stretch/>
        </p:blipFill>
        <p:spPr>
          <a:xfrm>
            <a:off x="1828800" y="1522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rcRect l="35943" t="8076" r="28123" b="37433"/>
          <a:stretch/>
        </p:blipFill>
        <p:spPr>
          <a:xfrm>
            <a:off x="1905120" y="21337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rcRect l="35943" t="8076" r="28123" b="37433"/>
          <a:stretch/>
        </p:blipFill>
        <p:spPr>
          <a:xfrm>
            <a:off x="4419720" y="3049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rcRect l="35943" t="8076" r="28123" b="37433"/>
          <a:stretch/>
        </p:blipFill>
        <p:spPr>
          <a:xfrm>
            <a:off x="4495680" y="22096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rcRect l="35943" t="8076" r="28123" b="37433"/>
          <a:stretch/>
        </p:blipFill>
        <p:spPr>
          <a:xfrm>
            <a:off x="6095880" y="22860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rcRect l="35943" t="8076" r="28123" b="37433"/>
          <a:stretch/>
        </p:blipFill>
        <p:spPr>
          <a:xfrm>
            <a:off x="5943600" y="28195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rcRect l="35943" t="8076" r="28123" b="37433"/>
          <a:stretch/>
        </p:blipFill>
        <p:spPr>
          <a:xfrm>
            <a:off x="4495680" y="365760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rcRect l="35943" t="8076" r="28123" b="37433"/>
          <a:stretch/>
        </p:blipFill>
        <p:spPr>
          <a:xfrm>
            <a:off x="3124080" y="28954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rcRect l="35943" t="8076" r="28123" b="37433"/>
          <a:stretch/>
        </p:blipFill>
        <p:spPr>
          <a:xfrm>
            <a:off x="1752480" y="35812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rcRect l="35943" t="8076" r="28123" b="37433"/>
          <a:stretch/>
        </p:blipFill>
        <p:spPr>
          <a:xfrm>
            <a:off x="685800" y="46483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rcRect l="35943" t="8076" r="28123" b="37433"/>
          <a:stretch/>
        </p:blipFill>
        <p:spPr>
          <a:xfrm>
            <a:off x="533520" y="28195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rcRect l="35943" t="8076" r="28123" b="37433"/>
          <a:stretch/>
        </p:blipFill>
        <p:spPr>
          <a:xfrm>
            <a:off x="152280" y="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rcRect l="35943" t="8076" r="28123" b="37433"/>
          <a:stretch/>
        </p:blipFill>
        <p:spPr>
          <a:xfrm>
            <a:off x="320040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rcRect l="35943" t="8076" r="28123" b="37433"/>
          <a:stretch/>
        </p:blipFill>
        <p:spPr>
          <a:xfrm>
            <a:off x="6172200" y="16765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rcRect l="35943" t="8076" r="28123" b="37433"/>
          <a:stretch/>
        </p:blipFill>
        <p:spPr>
          <a:xfrm>
            <a:off x="7391520" y="4572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rcRect l="35943" t="8076" r="28123" b="37433"/>
          <a:stretch/>
        </p:blipFill>
        <p:spPr>
          <a:xfrm>
            <a:off x="7391520" y="22096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rcRect l="35943" t="8076" r="28123" b="37433"/>
          <a:stretch/>
        </p:blipFill>
        <p:spPr>
          <a:xfrm>
            <a:off x="7391520" y="419112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3"/>
          <a:srcRect l="35943" t="8076" r="28123" b="37433"/>
          <a:stretch/>
        </p:blipFill>
        <p:spPr>
          <a:xfrm>
            <a:off x="5867280" y="441972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4"/>
          <a:srcRect l="35943" t="8076" r="28123" b="37433"/>
          <a:stretch/>
        </p:blipFill>
        <p:spPr>
          <a:xfrm>
            <a:off x="3200400" y="48006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79320" y="4648320"/>
            <a:ext cx="6109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Is there any hop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8" name=""/>
          <p:cNvGraphicFramePr/>
          <p:nvPr/>
        </p:nvGraphicFramePr>
        <p:xfrm>
          <a:off x="4724280" y="103320"/>
          <a:ext cx="243864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3320"/>
                    <a:ext cx="243864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0" name=""/>
          <p:cNvGraphicFramePr/>
          <p:nvPr/>
        </p:nvGraphicFramePr>
        <p:xfrm>
          <a:off x="4602240" y="1947960"/>
          <a:ext cx="332244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2240" y="1947960"/>
                    <a:ext cx="332244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2" name=""/>
          <p:cNvSpPr/>
          <p:nvPr/>
        </p:nvSpPr>
        <p:spPr>
          <a:xfrm>
            <a:off x="2057400" y="38088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y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194920" y="187164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gener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1828800" y="48769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entral computational problems in biology and advanced technologies can be written this way and are formally “hard” (NP/coNP hard or undecid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"/>
          <p:cNvSpPr/>
          <p:nvPr/>
        </p:nvSpPr>
        <p:spPr>
          <a:xfrm>
            <a:off x="4940280" y="4645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5011560" y="-360"/>
            <a:ext cx="2747880" cy="2286000"/>
            <a:chOff x="5011560" y="-360"/>
            <a:chExt cx="2747880" cy="2286000"/>
          </a:xfrm>
        </p:grpSpPr>
        <p:sp>
          <p:nvSpPr>
            <p:cNvPr id="4277" name=""/>
            <p:cNvSpPr/>
            <p:nvPr/>
          </p:nvSpPr>
          <p:spPr>
            <a:xfrm flipV="1">
              <a:off x="5011560" y="573840"/>
              <a:ext cx="279000" cy="42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011560" y="1003680"/>
              <a:ext cx="279000" cy="43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V="1">
              <a:off x="5362200" y="126936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5362200" y="144108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V="1">
              <a:off x="5362200" y="22932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362200" y="57384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V="1">
              <a:off x="5713200" y="1726920"/>
              <a:ext cx="285480" cy="58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713200" y="1785240"/>
              <a:ext cx="28548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V="1">
              <a:off x="5713200" y="115452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713200" y="126936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V="1">
              <a:off x="5713200" y="57384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713200" y="74520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713200" y="-360"/>
              <a:ext cx="285480" cy="22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713200" y="229320"/>
              <a:ext cx="28548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V="1">
              <a:off x="6070320" y="1999440"/>
              <a:ext cx="2793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70320" y="2013480"/>
              <a:ext cx="279360" cy="136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V="1">
              <a:off x="6070320" y="1690920"/>
              <a:ext cx="27936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070320" y="1726920"/>
              <a:ext cx="27936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V="1">
              <a:off x="6070320" y="1391040"/>
              <a:ext cx="27936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070320" y="1441080"/>
              <a:ext cx="279360" cy="9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V="1">
              <a:off x="6070320" y="774000"/>
              <a:ext cx="279360" cy="85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070320" y="860040"/>
              <a:ext cx="279360" cy="71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V="1">
              <a:off x="6070320" y="472680"/>
              <a:ext cx="279360" cy="10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070320" y="573840"/>
              <a:ext cx="27936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6070320" y="164160"/>
              <a:ext cx="279360" cy="12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070320" y="287280"/>
              <a:ext cx="279360" cy="34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421320" y="2150280"/>
              <a:ext cx="27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421320" y="2150280"/>
              <a:ext cx="279000" cy="78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421320" y="1834920"/>
              <a:ext cx="27900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421320" y="1848600"/>
              <a:ext cx="2790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V="1">
              <a:off x="6421320" y="1519200"/>
              <a:ext cx="27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421320" y="1540440"/>
              <a:ext cx="27900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V="1">
              <a:off x="6421320" y="136152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421320" y="1391040"/>
              <a:ext cx="27900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6421320" y="88848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421320" y="932040"/>
              <a:ext cx="27900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6421320" y="73080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421320" y="774000"/>
              <a:ext cx="27900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V="1">
              <a:off x="6421320" y="573480"/>
              <a:ext cx="2790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421320" y="62316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V="1">
              <a:off x="6421320" y="258120"/>
              <a:ext cx="2790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421320" y="321840"/>
              <a:ext cx="279000" cy="15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V="1">
              <a:off x="6772320" y="22219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772320" y="2229120"/>
              <a:ext cx="28548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772320" y="190656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772320" y="1913760"/>
              <a:ext cx="2854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6772320" y="15847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772320" y="15984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V="1">
              <a:off x="6772320" y="142704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772320" y="1441080"/>
              <a:ext cx="2854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V="1">
              <a:off x="6772320" y="945720"/>
              <a:ext cx="285480" cy="21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772320" y="967680"/>
              <a:ext cx="285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6772320" y="787680"/>
              <a:ext cx="2854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772320" y="81036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V="1">
              <a:off x="6772320" y="6228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72320" y="6523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6772320" y="3078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772320" y="3373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122960" y="226512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7122960" y="226512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7122960" y="222228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122960" y="22222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7122960" y="194292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7122960" y="194292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 flipV="1">
              <a:off x="7122960" y="1618560"/>
              <a:ext cx="2858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7122960" y="162756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122960" y="146160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122960" y="146160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V="1">
              <a:off x="7122960" y="97488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122960" y="988560"/>
              <a:ext cx="2858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V="1">
              <a:off x="7122960" y="81684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122960" y="82404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V="1">
              <a:off x="7122960" y="33048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122960" y="34416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480080" y="224280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480080" y="2242800"/>
              <a:ext cx="27936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480080" y="196344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480080" y="1963440"/>
              <a:ext cx="279360" cy="7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7480080" y="16340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480080" y="16412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480080" y="147672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480080" y="147672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V="1">
              <a:off x="7480080" y="988560"/>
              <a:ext cx="2793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480080" y="9968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7480080" y="3438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480080" y="351000"/>
              <a:ext cx="2793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3" name=""/>
          <p:cNvSpPr/>
          <p:nvPr/>
        </p:nvSpPr>
        <p:spPr>
          <a:xfrm>
            <a:off x="4930920" y="1803240"/>
            <a:ext cx="3571560" cy="312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V="1">
            <a:off x="4930920" y="1803240"/>
            <a:ext cx="1440" cy="312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930920" y="493092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 flipV="1">
            <a:off x="4930920" y="1803240"/>
            <a:ext cx="1440" cy="312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 flipV="1">
            <a:off x="4930920" y="4889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881600" y="5045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5573880" y="4889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5524560" y="5045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 flipV="1">
            <a:off x="6222960" y="4889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6173640" y="5045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6873840" y="4889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6824520" y="5045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7523280" y="4889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7473960" y="5045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8174160" y="4889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8075880" y="50450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4930920" y="4641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4478400" y="4446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4930920" y="4075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4330440" y="38782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4930920" y="3506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4330440" y="331164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4930920" y="29383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4330440" y="27432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4930920" y="23716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4330440" y="217656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4478400" y="16160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4930920" y="1803240"/>
            <a:ext cx="1440" cy="312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5253120" y="4411440"/>
            <a:ext cx="144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186520" y="457668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5186520" y="4346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5573880" y="4411440"/>
            <a:ext cx="144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5506920" y="457668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506920" y="4346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5902200" y="4486320"/>
            <a:ext cx="1800" cy="155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5837400" y="457668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5837400" y="44197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6222960" y="4559040"/>
            <a:ext cx="1800" cy="82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6157800" y="457668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6157800" y="44942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6553080" y="456840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6486480" y="457668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6486480" y="45021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V="1">
            <a:off x="6873840" y="4633920"/>
            <a:ext cx="1800" cy="79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6807240" y="4576680"/>
            <a:ext cx="139680" cy="1396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6807240" y="45687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194600" y="463392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7137360" y="457668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7515360" y="463392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7458120" y="457668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7845480" y="4633920"/>
            <a:ext cx="237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7786800" y="457668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4412520" y="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6" name=""/>
          <p:cNvGraphicFramePr/>
          <p:nvPr/>
        </p:nvGraphicFramePr>
        <p:xfrm>
          <a:off x="1371600" y="3048120"/>
          <a:ext cx="243828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243828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8" name=""/>
          <p:cNvGraphicFramePr/>
          <p:nvPr/>
        </p:nvGraphicFramePr>
        <p:xfrm>
          <a:off x="5486400" y="5562720"/>
          <a:ext cx="25272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5562720"/>
                    <a:ext cx="252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0" name=""/>
          <p:cNvSpPr/>
          <p:nvPr/>
        </p:nvSpPr>
        <p:spPr>
          <a:xfrm>
            <a:off x="1452960" y="231156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5794920" y="601992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2" name=""/>
          <p:cNvGraphicFramePr/>
          <p:nvPr/>
        </p:nvGraphicFramePr>
        <p:xfrm>
          <a:off x="457200" y="1523880"/>
          <a:ext cx="2057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2057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4" name=""/>
          <p:cNvGraphicFramePr/>
          <p:nvPr/>
        </p:nvGraphicFramePr>
        <p:xfrm>
          <a:off x="7543800" y="152280"/>
          <a:ext cx="1279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52280"/>
                    <a:ext cx="1279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6" name=""/>
          <p:cNvGraphicFramePr/>
          <p:nvPr/>
        </p:nvGraphicFramePr>
        <p:xfrm>
          <a:off x="453960" y="2666880"/>
          <a:ext cx="539928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960" y="2666880"/>
                    <a:ext cx="53992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8" name=""/>
          <p:cNvGraphicFramePr/>
          <p:nvPr/>
        </p:nvGraphicFramePr>
        <p:xfrm>
          <a:off x="457200" y="4046400"/>
          <a:ext cx="4768920" cy="13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046400"/>
                    <a:ext cx="4768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0" name=""/>
          <p:cNvSpPr/>
          <p:nvPr/>
        </p:nvSpPr>
        <p:spPr>
          <a:xfrm>
            <a:off x="685800" y="22860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Various levels of parano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3198240" y="152388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xplicitly modeled uncertai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5715000" y="259092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6553080" y="3429000"/>
            <a:ext cx="213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heck for fragilities to model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34" name=""/>
          <p:cNvGraphicFramePr/>
          <p:nvPr/>
        </p:nvGraphicFramePr>
        <p:xfrm>
          <a:off x="838080" y="5910120"/>
          <a:ext cx="3962520" cy="64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5910120"/>
                    <a:ext cx="3962520" cy="6429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"/>
          <p:cNvSpPr/>
          <p:nvPr/>
        </p:nvSpPr>
        <p:spPr>
          <a:xfrm>
            <a:off x="233640" y="31384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5261400" y="603396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962520" y="2300400"/>
            <a:ext cx="4495680" cy="2971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3948840" y="5413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7447680" y="54244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2728800" y="21366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2745000" y="467676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4040280" y="220824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127400" y="435780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7556400" y="435780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1983240" y="3049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In gene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"/>
          <p:cNvSpPr/>
          <p:nvPr/>
        </p:nvSpPr>
        <p:spPr>
          <a:xfrm>
            <a:off x="233640" y="31384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5261400" y="603396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3962520" y="2300400"/>
            <a:ext cx="4495680" cy="2971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3948840" y="5413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7447680" y="54244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2728800" y="21366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2745000" y="467676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4039920" y="23623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4127040" y="45115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7556040" y="45115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7392600" y="2117880"/>
            <a:ext cx="103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4952880" y="303120"/>
            <a:ext cx="390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f robust systems are intrinsically hard to verify and understa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04920" y="2728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hiller"/>
                <a:ea typeface="Arial"/>
              </a:rPr>
              <a:t>Nightmare?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4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"/>
          <p:cNvSpPr/>
          <p:nvPr/>
        </p:nvSpPr>
        <p:spPr>
          <a:xfrm>
            <a:off x="4952880" y="303120"/>
            <a:ext cx="390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f robust systems are intrinsically hard to verify and understa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304920" y="2728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hiller"/>
                <a:ea typeface="Arial"/>
              </a:rPr>
              <a:t>Nightmare?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609480" y="205740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We might accumulate more complete parts lists but never “understand” how it all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We might build increasingly complex and incomprehensible systems which will eventually fail completely yet cryptic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533520" y="4800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hing in the orthodox views of complexity says this won’t happen (apparent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tunately, there is some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llustrate the “good news” in our simple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4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"/>
          <p:cNvSpPr/>
          <p:nvPr/>
        </p:nvSpPr>
        <p:spPr>
          <a:xfrm>
            <a:off x="4788000" y="5238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5" name=""/>
          <p:cNvGrpSpPr/>
          <p:nvPr/>
        </p:nvGrpSpPr>
        <p:grpSpPr>
          <a:xfrm>
            <a:off x="4859280" y="-360"/>
            <a:ext cx="2747520" cy="2286000"/>
            <a:chOff x="4859280" y="-360"/>
            <a:chExt cx="2747520" cy="2286000"/>
          </a:xfrm>
        </p:grpSpPr>
        <p:sp>
          <p:nvSpPr>
            <p:cNvPr id="4466" name=""/>
            <p:cNvSpPr/>
            <p:nvPr/>
          </p:nvSpPr>
          <p:spPr>
            <a:xfrm flipV="1">
              <a:off x="4859280" y="573840"/>
              <a:ext cx="279000" cy="42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4859280" y="1003680"/>
              <a:ext cx="279000" cy="43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V="1">
              <a:off x="5209920" y="126936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5209920" y="144108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V="1">
              <a:off x="5209920" y="22932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5209920" y="57384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V="1">
              <a:off x="5560920" y="1726920"/>
              <a:ext cx="285480" cy="58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560920" y="1785240"/>
              <a:ext cx="28548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flipV="1">
              <a:off x="5560920" y="115452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5560920" y="126936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5560920" y="57384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5560920" y="74520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5560920" y="-360"/>
              <a:ext cx="285480" cy="22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5560920" y="229320"/>
              <a:ext cx="28548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5917680" y="1999440"/>
              <a:ext cx="2793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917680" y="2013480"/>
              <a:ext cx="279360" cy="136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flipV="1">
              <a:off x="5917680" y="1690920"/>
              <a:ext cx="27936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917680" y="1726920"/>
              <a:ext cx="27936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 flipV="1">
              <a:off x="5917680" y="1391040"/>
              <a:ext cx="27936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5917680" y="1441080"/>
              <a:ext cx="279360" cy="9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flipV="1">
              <a:off x="5917680" y="774000"/>
              <a:ext cx="279360" cy="85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5917680" y="860040"/>
              <a:ext cx="279360" cy="71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flipV="1">
              <a:off x="5917680" y="472680"/>
              <a:ext cx="279360" cy="10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917680" y="573840"/>
              <a:ext cx="27936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flipV="1">
              <a:off x="5917680" y="164160"/>
              <a:ext cx="279360" cy="12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917680" y="287280"/>
              <a:ext cx="279360" cy="34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6268680" y="2150280"/>
              <a:ext cx="27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6268680" y="2150280"/>
              <a:ext cx="279000" cy="78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 flipV="1">
              <a:off x="6268680" y="1834920"/>
              <a:ext cx="27900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268680" y="1848600"/>
              <a:ext cx="2790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V="1">
              <a:off x="6268680" y="1519200"/>
              <a:ext cx="27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6268680" y="1540440"/>
              <a:ext cx="27900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V="1">
              <a:off x="6268680" y="136152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6268680" y="1391040"/>
              <a:ext cx="27900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V="1">
              <a:off x="6268680" y="88848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268680" y="932040"/>
              <a:ext cx="27900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V="1">
              <a:off x="6268680" y="73080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268680" y="774000"/>
              <a:ext cx="27900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 flipV="1">
              <a:off x="6268680" y="573480"/>
              <a:ext cx="2790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268680" y="62316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 flipV="1">
              <a:off x="6268680" y="258120"/>
              <a:ext cx="2790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268680" y="321840"/>
              <a:ext cx="279000" cy="15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 flipV="1">
              <a:off x="6619680" y="22219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619680" y="2229120"/>
              <a:ext cx="28548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V="1">
              <a:off x="6619680" y="190656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19680" y="1913760"/>
              <a:ext cx="2854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V="1">
              <a:off x="6619680" y="15847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619680" y="15984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V="1">
              <a:off x="6619680" y="142704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19680" y="1441080"/>
              <a:ext cx="2854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V="1">
              <a:off x="6619680" y="945720"/>
              <a:ext cx="285480" cy="21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19680" y="967680"/>
              <a:ext cx="285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V="1">
              <a:off x="6619680" y="787680"/>
              <a:ext cx="2854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6619680" y="81036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V="1">
              <a:off x="6619680" y="6228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619680" y="6523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V="1">
              <a:off x="6619680" y="30780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619680" y="3373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970320" y="226512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970320" y="226512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970320" y="222228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970320" y="22222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970320" y="194292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970320" y="194292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V="1">
              <a:off x="6970320" y="1618560"/>
              <a:ext cx="2858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970320" y="162756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970320" y="146160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970320" y="146160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V="1">
              <a:off x="6970320" y="97488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970320" y="988560"/>
              <a:ext cx="2858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V="1">
              <a:off x="6970320" y="81684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970320" y="82404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V="1">
              <a:off x="6970320" y="33048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970320" y="34416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327440" y="224280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327440" y="2242800"/>
              <a:ext cx="27936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7327440" y="196344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7327440" y="1963440"/>
              <a:ext cx="279360" cy="7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>
              <a:off x="7327440" y="16340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7327440" y="16412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7327440" y="147672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327440" y="147672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V="1">
              <a:off x="7327440" y="988560"/>
              <a:ext cx="2793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7327440" y="99684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7327440" y="3438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7327440" y="351000"/>
              <a:ext cx="2793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2" name=""/>
          <p:cNvSpPr/>
          <p:nvPr/>
        </p:nvSpPr>
        <p:spPr>
          <a:xfrm>
            <a:off x="4778280" y="2397240"/>
            <a:ext cx="3571920" cy="3127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4778280" y="239724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4778280" y="2397240"/>
            <a:ext cx="3571920" cy="3127320"/>
          </a:xfrm>
          <a:custGeom>
            <a:avLst/>
            <a:gdLst/>
            <a:ahLst/>
            <a:rect l="l" t="t" r="r" b="b"/>
            <a:pathLst>
              <a:path w="434" h="380">
                <a:moveTo>
                  <a:pt x="0" y="380"/>
                </a:moveTo>
                <a:lnTo>
                  <a:pt x="434" y="38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4778280" y="552456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 flipV="1">
            <a:off x="477828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77828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472932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 flipV="1">
            <a:off x="542124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542124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537228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 flipV="1">
            <a:off x="6070680" y="5482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6070680" y="240516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602136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 flipV="1">
            <a:off x="6721560" y="5482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6721560" y="240516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67224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737064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737064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732168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 flipV="1">
            <a:off x="802152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802152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923600" y="56386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4778280" y="5235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 flipH="1">
            <a:off x="8308440" y="52354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4325760" y="5040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778280" y="46688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 flipH="1">
            <a:off x="8308440" y="46688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178160" y="447192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4778280" y="41004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 flipH="1">
            <a:off x="8308440" y="41004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4178160" y="39052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4778280" y="3532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 flipH="1">
            <a:off x="8308440" y="3532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4178160" y="333684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4778280" y="2965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 flipH="1">
            <a:off x="8308440" y="29653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4178160" y="27702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4778280" y="24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 flipH="1">
            <a:off x="8308440" y="24051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4325760" y="2209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4778280" y="239724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4778280" y="2397240"/>
            <a:ext cx="3571920" cy="3127320"/>
          </a:xfrm>
          <a:custGeom>
            <a:avLst/>
            <a:gdLst/>
            <a:ahLst/>
            <a:rect l="l" t="t" r="r" b="b"/>
            <a:pathLst>
              <a:path w="434" h="380">
                <a:moveTo>
                  <a:pt x="0" y="380"/>
                </a:moveTo>
                <a:lnTo>
                  <a:pt x="434" y="38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V="1">
            <a:off x="5100480" y="5005080"/>
            <a:ext cx="180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5033880" y="5170320"/>
            <a:ext cx="139680" cy="14004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5033880" y="494028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 flipV="1">
            <a:off x="5421240" y="5005080"/>
            <a:ext cx="180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5354640" y="5170320"/>
            <a:ext cx="139680" cy="14004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5354640" y="494028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V="1">
            <a:off x="5749920" y="5079960"/>
            <a:ext cx="1440" cy="155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5684760" y="5170320"/>
            <a:ext cx="139680" cy="14004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5684760" y="50133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6070680" y="5152680"/>
            <a:ext cx="1440" cy="82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6005520" y="5170320"/>
            <a:ext cx="139680" cy="14004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6005520" y="508788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6400800" y="51620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6334200" y="5170320"/>
            <a:ext cx="139680" cy="14004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6334200" y="50958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 flipV="1">
            <a:off x="6721560" y="5227560"/>
            <a:ext cx="1440" cy="79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6654960" y="5170320"/>
            <a:ext cx="139680" cy="1400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6654960" y="51624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7042320" y="522756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6985080" y="5170320"/>
            <a:ext cx="139680" cy="14004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7362720" y="5227560"/>
            <a:ext cx="255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7305840" y="5170320"/>
            <a:ext cx="139680" cy="14004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7693200" y="5227560"/>
            <a:ext cx="237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7634160" y="5170320"/>
            <a:ext cx="139680" cy="14004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4260240" y="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2" name=""/>
          <p:cNvGraphicFramePr/>
          <p:nvPr/>
        </p:nvGraphicFramePr>
        <p:xfrm>
          <a:off x="1434960" y="2819520"/>
          <a:ext cx="243864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2819520"/>
                    <a:ext cx="243864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4" name=""/>
          <p:cNvGraphicFramePr/>
          <p:nvPr/>
        </p:nvGraphicFramePr>
        <p:xfrm>
          <a:off x="5931000" y="6172200"/>
          <a:ext cx="25272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1000" y="6172200"/>
                    <a:ext cx="252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6" name=""/>
          <p:cNvGraphicFramePr/>
          <p:nvPr/>
        </p:nvGraphicFramePr>
        <p:xfrm>
          <a:off x="304920" y="685800"/>
          <a:ext cx="310644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685800"/>
                    <a:ext cx="31064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8" name=""/>
          <p:cNvSpPr/>
          <p:nvPr/>
        </p:nvSpPr>
        <p:spPr>
          <a:xfrm>
            <a:off x="5103720" y="2390760"/>
            <a:ext cx="3249720" cy="258444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9" name=""/>
          <p:cNvGraphicFramePr/>
          <p:nvPr/>
        </p:nvGraphicFramePr>
        <p:xfrm>
          <a:off x="457200" y="4800600"/>
          <a:ext cx="311472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4800600"/>
                    <a:ext cx="31147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"/>
          <p:cNvSpPr/>
          <p:nvPr/>
        </p:nvSpPr>
        <p:spPr>
          <a:xfrm>
            <a:off x="4811760" y="2416320"/>
            <a:ext cx="43322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4788000" y="5238720"/>
            <a:ext cx="43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4778280" y="2397240"/>
            <a:ext cx="3571920" cy="3127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4778280" y="239724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4778280" y="5524560"/>
            <a:ext cx="436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 flipV="1">
            <a:off x="477828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477828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472932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 flipV="1">
            <a:off x="542124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542124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537228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 flipV="1">
            <a:off x="6070680" y="5482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6070680" y="240516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602136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 flipV="1">
            <a:off x="6721560" y="54828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6721560" y="240516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667224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 flipV="1">
            <a:off x="737064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737064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7321680" y="5638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 flipV="1">
            <a:off x="8021520" y="54828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8021520" y="240516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7923600" y="56386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4778280" y="5235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 flipH="1">
            <a:off x="8308440" y="52354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4325760" y="5040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4778280" y="46688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8308440" y="46688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4178160" y="447192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4778280" y="41004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 flipH="1">
            <a:off x="8308440" y="41004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4178160" y="39052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4778280" y="3532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 flipH="1">
            <a:off x="8308440" y="3532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4178160" y="333684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4778280" y="2965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 flipH="1">
            <a:off x="8308440" y="29653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4178160" y="27702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4778280" y="24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 flipH="1">
            <a:off x="8308440" y="24051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4325760" y="22096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4778280" y="239724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 flipV="1">
            <a:off x="4778280" y="2396880"/>
            <a:ext cx="180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6" name=""/>
          <p:cNvGraphicFramePr/>
          <p:nvPr/>
        </p:nvGraphicFramePr>
        <p:xfrm>
          <a:off x="5931000" y="6172200"/>
          <a:ext cx="25272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1000" y="6172200"/>
                    <a:ext cx="252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8" name=""/>
          <p:cNvGraphicFramePr/>
          <p:nvPr/>
        </p:nvGraphicFramePr>
        <p:xfrm>
          <a:off x="304920" y="685800"/>
          <a:ext cx="310644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85800"/>
                    <a:ext cx="31064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0" name=""/>
          <p:cNvSpPr/>
          <p:nvPr/>
        </p:nvSpPr>
        <p:spPr>
          <a:xfrm>
            <a:off x="5103720" y="2390760"/>
            <a:ext cx="4040280" cy="263844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81" name=""/>
          <p:cNvGraphicFramePr/>
          <p:nvPr/>
        </p:nvGraphicFramePr>
        <p:xfrm>
          <a:off x="457200" y="4800600"/>
          <a:ext cx="3114720" cy="96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800600"/>
                    <a:ext cx="31147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3" name=""/>
          <p:cNvSpPr/>
          <p:nvPr/>
        </p:nvSpPr>
        <p:spPr>
          <a:xfrm>
            <a:off x="457200" y="251460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exist example instances in all the regions permitted by the theor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"/>
          <p:cNvSpPr/>
          <p:nvPr/>
        </p:nvSpPr>
        <p:spPr>
          <a:xfrm>
            <a:off x="619200" y="2481120"/>
            <a:ext cx="3571920" cy="311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619200" y="56008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 flipV="1">
            <a:off x="61920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61920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5691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 flipV="1">
            <a:off x="12621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12621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121212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 flipV="1">
            <a:off x="191124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191124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8615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 flipV="1">
            <a:off x="256212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256212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251244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32115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32115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316188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386244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386244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3763080" y="5624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619200" y="5254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 flipH="1">
            <a:off x="4167360" y="5254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619200" y="52959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H="1">
            <a:off x="4167360" y="5295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619200" y="5345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 flipH="1">
            <a:off x="4167360" y="5345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619200" y="54021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 flipH="1">
            <a:off x="4167360" y="54021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619200" y="5460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 flipH="1">
            <a:off x="4167360" y="5460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619200" y="55339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 flipH="1">
            <a:off x="4167360" y="55339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619200" y="5254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 flipH="1">
            <a:off x="4149360" y="52545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152280" y="5156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376920" y="5038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619200" y="4975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 flipH="1">
            <a:off x="4167360" y="4975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619200" y="48099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 flipH="1">
            <a:off x="4167360" y="48099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619200" y="4695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 flipH="1">
            <a:off x="4167360" y="4695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619200" y="4605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 flipH="1">
            <a:off x="4167360" y="4605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619200" y="4538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 flipH="1">
            <a:off x="4167360" y="45385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619200" y="44737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 flipH="1">
            <a:off x="4167360" y="4473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619200" y="44146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 flipH="1">
            <a:off x="4167360" y="44146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619200" y="43736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 flipH="1">
            <a:off x="4167360" y="43736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619200" y="43340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 flipH="1">
            <a:off x="4167360" y="43340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619200" y="4334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 flipH="1">
            <a:off x="4149360" y="4334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152280" y="4233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376920" y="41180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619200" y="40528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 flipH="1">
            <a:off x="4167360" y="4052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619200" y="38894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 flipH="1">
            <a:off x="4167360" y="38894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619200" y="3773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 flipH="1">
            <a:off x="4167360" y="3773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619200" y="3683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 flipH="1">
            <a:off x="4167360" y="3683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619200" y="3608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 flipH="1">
            <a:off x="4167360" y="36082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619200" y="3543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 flipH="1">
            <a:off x="4167360" y="3543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619200" y="3494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H="1">
            <a:off x="4167360" y="3494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619200" y="3444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4167360" y="3444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619200" y="34034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 flipH="1">
            <a:off x="4167360" y="34034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619200" y="34034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H="1">
            <a:off x="4149360" y="3403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52280" y="3305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376920" y="31878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619200" y="3124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 flipH="1">
            <a:off x="4167360" y="3124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619200" y="2959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H="1">
            <a:off x="4167360" y="2959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619200" y="2843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H="1">
            <a:off x="4167360" y="2843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619200" y="2752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 flipH="1">
            <a:off x="4167360" y="2752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619200" y="2679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4167360" y="2679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619200" y="26226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 flipH="1">
            <a:off x="4167360" y="2622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619200" y="25639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 flipH="1">
            <a:off x="4167360" y="25639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619200" y="2522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 flipH="1">
            <a:off x="4167360" y="2522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619200" y="2481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 flipH="1">
            <a:off x="4167360" y="24811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619200" y="24811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 flipH="1">
            <a:off x="4149360" y="24811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52280" y="2382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377280" y="226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932040" y="3478320"/>
            <a:ext cx="2520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74800" y="3419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254240" y="347832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1195560" y="3419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1582560" y="3633840"/>
            <a:ext cx="2412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1525680" y="35766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1903320" y="3905280"/>
            <a:ext cx="2556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1846440" y="38480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2232000" y="3954600"/>
            <a:ext cx="2556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2174760" y="38973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2554200" y="500868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2495520" y="49500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2882880" y="5591160"/>
            <a:ext cx="255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2825640" y="55339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3203640" y="559116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3146400" y="55339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541680" y="5591160"/>
            <a:ext cx="1800" cy="9720"/>
          </a:xfrm>
          <a:prstGeom prst="line">
            <a:avLst/>
          </a:prstGeom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3475080" y="552600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3475080" y="553392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2365200" y="19051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mi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941400" y="2486160"/>
            <a:ext cx="3249720" cy="963360"/>
          </a:xfrm>
          <a:custGeom>
            <a:avLst/>
            <a:gdLst/>
            <a:ahLst/>
            <a:rect l="l" t="t" r="r" b="b"/>
            <a:pathLst>
              <a:path w="2047" h="607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6"/>
                </a:lnTo>
                <a:lnTo>
                  <a:pt x="10" y="6"/>
                </a:lnTo>
                <a:lnTo>
                  <a:pt x="10" y="11"/>
                </a:lnTo>
                <a:lnTo>
                  <a:pt x="10" y="11"/>
                </a:lnTo>
                <a:lnTo>
                  <a:pt x="15" y="16"/>
                </a:lnTo>
                <a:lnTo>
                  <a:pt x="15" y="16"/>
                </a:lnTo>
                <a:lnTo>
                  <a:pt x="20" y="21"/>
                </a:lnTo>
                <a:lnTo>
                  <a:pt x="20" y="21"/>
                </a:lnTo>
                <a:lnTo>
                  <a:pt x="20" y="26"/>
                </a:lnTo>
                <a:lnTo>
                  <a:pt x="26" y="26"/>
                </a:lnTo>
                <a:lnTo>
                  <a:pt x="26" y="26"/>
                </a:lnTo>
                <a:lnTo>
                  <a:pt x="26" y="31"/>
                </a:lnTo>
                <a:lnTo>
                  <a:pt x="31" y="31"/>
                </a:lnTo>
                <a:lnTo>
                  <a:pt x="31" y="37"/>
                </a:lnTo>
                <a:lnTo>
                  <a:pt x="36" y="37"/>
                </a:lnTo>
                <a:lnTo>
                  <a:pt x="36" y="42"/>
                </a:lnTo>
                <a:lnTo>
                  <a:pt x="36" y="42"/>
                </a:lnTo>
                <a:lnTo>
                  <a:pt x="41" y="42"/>
                </a:lnTo>
                <a:lnTo>
                  <a:pt x="41" y="47"/>
                </a:lnTo>
                <a:lnTo>
                  <a:pt x="46" y="47"/>
                </a:lnTo>
                <a:lnTo>
                  <a:pt x="46" y="52"/>
                </a:lnTo>
                <a:lnTo>
                  <a:pt x="46" y="52"/>
                </a:lnTo>
                <a:lnTo>
                  <a:pt x="51" y="52"/>
                </a:lnTo>
                <a:lnTo>
                  <a:pt x="51" y="57"/>
                </a:lnTo>
                <a:lnTo>
                  <a:pt x="57" y="57"/>
                </a:lnTo>
                <a:lnTo>
                  <a:pt x="57" y="63"/>
                </a:lnTo>
                <a:lnTo>
                  <a:pt x="57" y="63"/>
                </a:lnTo>
                <a:lnTo>
                  <a:pt x="62" y="63"/>
                </a:lnTo>
                <a:lnTo>
                  <a:pt x="62" y="68"/>
                </a:lnTo>
                <a:lnTo>
                  <a:pt x="67" y="68"/>
                </a:lnTo>
                <a:lnTo>
                  <a:pt x="67" y="68"/>
                </a:lnTo>
                <a:lnTo>
                  <a:pt x="67" y="73"/>
                </a:lnTo>
                <a:lnTo>
                  <a:pt x="72" y="73"/>
                </a:lnTo>
                <a:lnTo>
                  <a:pt x="72" y="78"/>
                </a:lnTo>
                <a:lnTo>
                  <a:pt x="77" y="78"/>
                </a:lnTo>
                <a:lnTo>
                  <a:pt x="77" y="78"/>
                </a:lnTo>
                <a:lnTo>
                  <a:pt x="77" y="83"/>
                </a:lnTo>
                <a:lnTo>
                  <a:pt x="83" y="83"/>
                </a:lnTo>
                <a:lnTo>
                  <a:pt x="83" y="83"/>
                </a:lnTo>
                <a:lnTo>
                  <a:pt x="88" y="89"/>
                </a:lnTo>
                <a:lnTo>
                  <a:pt x="88" y="89"/>
                </a:lnTo>
                <a:lnTo>
                  <a:pt x="88" y="89"/>
                </a:lnTo>
                <a:lnTo>
                  <a:pt x="93" y="94"/>
                </a:lnTo>
                <a:lnTo>
                  <a:pt x="93" y="94"/>
                </a:lnTo>
                <a:lnTo>
                  <a:pt x="93" y="94"/>
                </a:lnTo>
                <a:lnTo>
                  <a:pt x="98" y="99"/>
                </a:lnTo>
                <a:lnTo>
                  <a:pt x="98" y="99"/>
                </a:lnTo>
                <a:lnTo>
                  <a:pt x="103" y="99"/>
                </a:lnTo>
                <a:lnTo>
                  <a:pt x="103" y="104"/>
                </a:lnTo>
                <a:lnTo>
                  <a:pt x="103" y="104"/>
                </a:lnTo>
                <a:lnTo>
                  <a:pt x="108" y="104"/>
                </a:lnTo>
                <a:lnTo>
                  <a:pt x="108" y="109"/>
                </a:lnTo>
                <a:lnTo>
                  <a:pt x="114" y="109"/>
                </a:lnTo>
                <a:lnTo>
                  <a:pt x="114" y="109"/>
                </a:lnTo>
                <a:lnTo>
                  <a:pt x="114" y="114"/>
                </a:lnTo>
                <a:lnTo>
                  <a:pt x="119" y="114"/>
                </a:lnTo>
                <a:lnTo>
                  <a:pt x="119" y="114"/>
                </a:lnTo>
                <a:lnTo>
                  <a:pt x="124" y="114"/>
                </a:lnTo>
                <a:lnTo>
                  <a:pt x="124" y="120"/>
                </a:lnTo>
                <a:lnTo>
                  <a:pt x="124" y="120"/>
                </a:lnTo>
                <a:lnTo>
                  <a:pt x="129" y="120"/>
                </a:lnTo>
                <a:lnTo>
                  <a:pt x="129" y="125"/>
                </a:lnTo>
                <a:lnTo>
                  <a:pt x="134" y="125"/>
                </a:lnTo>
                <a:lnTo>
                  <a:pt x="134" y="125"/>
                </a:lnTo>
                <a:lnTo>
                  <a:pt x="134" y="130"/>
                </a:lnTo>
                <a:lnTo>
                  <a:pt x="140" y="130"/>
                </a:lnTo>
                <a:lnTo>
                  <a:pt x="140" y="130"/>
                </a:lnTo>
                <a:lnTo>
                  <a:pt x="145" y="130"/>
                </a:lnTo>
                <a:lnTo>
                  <a:pt x="145" y="135"/>
                </a:lnTo>
                <a:lnTo>
                  <a:pt x="145" y="135"/>
                </a:lnTo>
                <a:lnTo>
                  <a:pt x="150" y="135"/>
                </a:lnTo>
                <a:lnTo>
                  <a:pt x="150" y="140"/>
                </a:lnTo>
                <a:lnTo>
                  <a:pt x="155" y="140"/>
                </a:lnTo>
                <a:lnTo>
                  <a:pt x="155" y="140"/>
                </a:lnTo>
                <a:lnTo>
                  <a:pt x="155" y="140"/>
                </a:lnTo>
                <a:lnTo>
                  <a:pt x="160" y="146"/>
                </a:lnTo>
                <a:lnTo>
                  <a:pt x="160" y="146"/>
                </a:lnTo>
                <a:lnTo>
                  <a:pt x="165" y="146"/>
                </a:lnTo>
                <a:lnTo>
                  <a:pt x="165" y="146"/>
                </a:lnTo>
                <a:lnTo>
                  <a:pt x="165" y="151"/>
                </a:lnTo>
                <a:lnTo>
                  <a:pt x="171" y="151"/>
                </a:lnTo>
                <a:lnTo>
                  <a:pt x="171" y="151"/>
                </a:lnTo>
                <a:lnTo>
                  <a:pt x="171" y="156"/>
                </a:lnTo>
                <a:lnTo>
                  <a:pt x="176" y="156"/>
                </a:lnTo>
                <a:lnTo>
                  <a:pt x="176" y="156"/>
                </a:lnTo>
                <a:lnTo>
                  <a:pt x="181" y="156"/>
                </a:lnTo>
                <a:lnTo>
                  <a:pt x="181" y="161"/>
                </a:lnTo>
                <a:lnTo>
                  <a:pt x="181" y="161"/>
                </a:lnTo>
                <a:lnTo>
                  <a:pt x="186" y="161"/>
                </a:lnTo>
                <a:lnTo>
                  <a:pt x="186" y="161"/>
                </a:lnTo>
                <a:lnTo>
                  <a:pt x="191" y="166"/>
                </a:lnTo>
                <a:lnTo>
                  <a:pt x="191" y="166"/>
                </a:lnTo>
                <a:lnTo>
                  <a:pt x="191" y="166"/>
                </a:lnTo>
                <a:lnTo>
                  <a:pt x="197" y="166"/>
                </a:lnTo>
                <a:lnTo>
                  <a:pt x="197" y="171"/>
                </a:lnTo>
                <a:lnTo>
                  <a:pt x="202" y="171"/>
                </a:lnTo>
                <a:lnTo>
                  <a:pt x="202" y="171"/>
                </a:lnTo>
                <a:lnTo>
                  <a:pt x="202" y="171"/>
                </a:lnTo>
                <a:lnTo>
                  <a:pt x="207" y="177"/>
                </a:lnTo>
                <a:lnTo>
                  <a:pt x="207" y="177"/>
                </a:lnTo>
                <a:lnTo>
                  <a:pt x="212" y="177"/>
                </a:lnTo>
                <a:lnTo>
                  <a:pt x="212" y="177"/>
                </a:lnTo>
                <a:lnTo>
                  <a:pt x="212" y="182"/>
                </a:lnTo>
                <a:lnTo>
                  <a:pt x="217" y="182"/>
                </a:lnTo>
                <a:lnTo>
                  <a:pt x="217" y="182"/>
                </a:lnTo>
                <a:lnTo>
                  <a:pt x="223" y="182"/>
                </a:lnTo>
                <a:lnTo>
                  <a:pt x="223" y="187"/>
                </a:lnTo>
                <a:lnTo>
                  <a:pt x="223" y="187"/>
                </a:lnTo>
                <a:lnTo>
                  <a:pt x="228" y="187"/>
                </a:lnTo>
                <a:lnTo>
                  <a:pt x="228" y="187"/>
                </a:lnTo>
                <a:lnTo>
                  <a:pt x="233" y="187"/>
                </a:lnTo>
                <a:lnTo>
                  <a:pt x="233" y="192"/>
                </a:lnTo>
                <a:lnTo>
                  <a:pt x="233" y="192"/>
                </a:lnTo>
                <a:lnTo>
                  <a:pt x="238" y="192"/>
                </a:lnTo>
                <a:lnTo>
                  <a:pt x="238" y="192"/>
                </a:lnTo>
                <a:lnTo>
                  <a:pt x="243" y="197"/>
                </a:lnTo>
                <a:lnTo>
                  <a:pt x="243" y="197"/>
                </a:lnTo>
                <a:lnTo>
                  <a:pt x="243" y="197"/>
                </a:lnTo>
                <a:lnTo>
                  <a:pt x="248" y="197"/>
                </a:lnTo>
                <a:lnTo>
                  <a:pt x="248" y="197"/>
                </a:lnTo>
                <a:lnTo>
                  <a:pt x="248" y="203"/>
                </a:lnTo>
                <a:lnTo>
                  <a:pt x="254" y="203"/>
                </a:lnTo>
                <a:lnTo>
                  <a:pt x="254" y="203"/>
                </a:lnTo>
                <a:lnTo>
                  <a:pt x="259" y="203"/>
                </a:lnTo>
                <a:lnTo>
                  <a:pt x="259" y="208"/>
                </a:lnTo>
                <a:lnTo>
                  <a:pt x="259" y="208"/>
                </a:lnTo>
                <a:lnTo>
                  <a:pt x="264" y="208"/>
                </a:lnTo>
                <a:lnTo>
                  <a:pt x="264" y="208"/>
                </a:lnTo>
                <a:lnTo>
                  <a:pt x="269" y="208"/>
                </a:lnTo>
                <a:lnTo>
                  <a:pt x="269" y="213"/>
                </a:lnTo>
                <a:lnTo>
                  <a:pt x="269" y="213"/>
                </a:lnTo>
                <a:lnTo>
                  <a:pt x="274" y="213"/>
                </a:lnTo>
                <a:lnTo>
                  <a:pt x="274" y="213"/>
                </a:lnTo>
                <a:lnTo>
                  <a:pt x="280" y="213"/>
                </a:lnTo>
                <a:lnTo>
                  <a:pt x="280" y="218"/>
                </a:lnTo>
                <a:lnTo>
                  <a:pt x="280" y="218"/>
                </a:lnTo>
                <a:lnTo>
                  <a:pt x="285" y="218"/>
                </a:lnTo>
                <a:lnTo>
                  <a:pt x="285" y="218"/>
                </a:lnTo>
                <a:lnTo>
                  <a:pt x="290" y="218"/>
                </a:lnTo>
                <a:lnTo>
                  <a:pt x="290" y="223"/>
                </a:lnTo>
                <a:lnTo>
                  <a:pt x="290" y="223"/>
                </a:lnTo>
                <a:lnTo>
                  <a:pt x="295" y="223"/>
                </a:lnTo>
                <a:lnTo>
                  <a:pt x="295" y="223"/>
                </a:lnTo>
                <a:lnTo>
                  <a:pt x="300" y="223"/>
                </a:lnTo>
                <a:lnTo>
                  <a:pt x="300" y="228"/>
                </a:lnTo>
                <a:lnTo>
                  <a:pt x="300" y="228"/>
                </a:lnTo>
                <a:lnTo>
                  <a:pt x="305" y="228"/>
                </a:lnTo>
                <a:lnTo>
                  <a:pt x="305" y="228"/>
                </a:lnTo>
                <a:lnTo>
                  <a:pt x="311" y="228"/>
                </a:lnTo>
                <a:lnTo>
                  <a:pt x="311" y="234"/>
                </a:lnTo>
                <a:lnTo>
                  <a:pt x="311" y="234"/>
                </a:lnTo>
                <a:lnTo>
                  <a:pt x="316" y="234"/>
                </a:lnTo>
                <a:lnTo>
                  <a:pt x="316" y="234"/>
                </a:lnTo>
                <a:lnTo>
                  <a:pt x="321" y="234"/>
                </a:lnTo>
                <a:lnTo>
                  <a:pt x="321" y="239"/>
                </a:lnTo>
                <a:lnTo>
                  <a:pt x="321" y="239"/>
                </a:lnTo>
                <a:lnTo>
                  <a:pt x="326" y="239"/>
                </a:lnTo>
                <a:lnTo>
                  <a:pt x="326" y="239"/>
                </a:lnTo>
                <a:lnTo>
                  <a:pt x="326" y="239"/>
                </a:lnTo>
                <a:lnTo>
                  <a:pt x="331" y="244"/>
                </a:lnTo>
                <a:lnTo>
                  <a:pt x="331" y="244"/>
                </a:lnTo>
                <a:lnTo>
                  <a:pt x="337" y="244"/>
                </a:lnTo>
                <a:lnTo>
                  <a:pt x="337" y="244"/>
                </a:lnTo>
                <a:lnTo>
                  <a:pt x="337" y="244"/>
                </a:lnTo>
                <a:lnTo>
                  <a:pt x="342" y="244"/>
                </a:lnTo>
                <a:lnTo>
                  <a:pt x="342" y="249"/>
                </a:lnTo>
                <a:lnTo>
                  <a:pt x="347" y="249"/>
                </a:lnTo>
                <a:lnTo>
                  <a:pt x="347" y="249"/>
                </a:lnTo>
                <a:lnTo>
                  <a:pt x="347" y="249"/>
                </a:lnTo>
                <a:lnTo>
                  <a:pt x="352" y="249"/>
                </a:lnTo>
                <a:lnTo>
                  <a:pt x="352" y="254"/>
                </a:lnTo>
                <a:lnTo>
                  <a:pt x="357" y="254"/>
                </a:lnTo>
                <a:lnTo>
                  <a:pt x="357" y="254"/>
                </a:lnTo>
                <a:lnTo>
                  <a:pt x="357" y="254"/>
                </a:lnTo>
                <a:lnTo>
                  <a:pt x="362" y="254"/>
                </a:lnTo>
                <a:lnTo>
                  <a:pt x="362" y="254"/>
                </a:lnTo>
                <a:lnTo>
                  <a:pt x="368" y="260"/>
                </a:lnTo>
                <a:lnTo>
                  <a:pt x="368" y="260"/>
                </a:lnTo>
                <a:lnTo>
                  <a:pt x="368" y="260"/>
                </a:lnTo>
                <a:lnTo>
                  <a:pt x="373" y="260"/>
                </a:lnTo>
                <a:lnTo>
                  <a:pt x="373" y="260"/>
                </a:lnTo>
                <a:lnTo>
                  <a:pt x="378" y="265"/>
                </a:lnTo>
                <a:lnTo>
                  <a:pt x="378" y="265"/>
                </a:lnTo>
                <a:lnTo>
                  <a:pt x="378" y="265"/>
                </a:lnTo>
                <a:lnTo>
                  <a:pt x="383" y="265"/>
                </a:lnTo>
                <a:lnTo>
                  <a:pt x="383" y="265"/>
                </a:lnTo>
                <a:lnTo>
                  <a:pt x="388" y="265"/>
                </a:lnTo>
                <a:lnTo>
                  <a:pt x="388" y="270"/>
                </a:lnTo>
                <a:lnTo>
                  <a:pt x="388" y="270"/>
                </a:lnTo>
                <a:lnTo>
                  <a:pt x="394" y="270"/>
                </a:lnTo>
                <a:lnTo>
                  <a:pt x="394" y="270"/>
                </a:lnTo>
                <a:lnTo>
                  <a:pt x="394" y="270"/>
                </a:lnTo>
                <a:lnTo>
                  <a:pt x="399" y="270"/>
                </a:lnTo>
                <a:lnTo>
                  <a:pt x="399" y="275"/>
                </a:lnTo>
                <a:lnTo>
                  <a:pt x="404" y="275"/>
                </a:lnTo>
                <a:lnTo>
                  <a:pt x="404" y="275"/>
                </a:lnTo>
                <a:lnTo>
                  <a:pt x="404" y="275"/>
                </a:lnTo>
                <a:lnTo>
                  <a:pt x="409" y="275"/>
                </a:lnTo>
                <a:lnTo>
                  <a:pt x="409" y="275"/>
                </a:lnTo>
                <a:lnTo>
                  <a:pt x="414" y="280"/>
                </a:lnTo>
                <a:lnTo>
                  <a:pt x="414" y="280"/>
                </a:lnTo>
                <a:lnTo>
                  <a:pt x="414" y="280"/>
                </a:lnTo>
                <a:lnTo>
                  <a:pt x="419" y="280"/>
                </a:lnTo>
                <a:lnTo>
                  <a:pt x="419" y="280"/>
                </a:lnTo>
                <a:lnTo>
                  <a:pt x="425" y="280"/>
                </a:lnTo>
                <a:lnTo>
                  <a:pt x="425" y="280"/>
                </a:lnTo>
                <a:lnTo>
                  <a:pt x="425" y="285"/>
                </a:lnTo>
                <a:lnTo>
                  <a:pt x="430" y="285"/>
                </a:lnTo>
                <a:lnTo>
                  <a:pt x="430" y="285"/>
                </a:lnTo>
                <a:lnTo>
                  <a:pt x="435" y="285"/>
                </a:lnTo>
                <a:lnTo>
                  <a:pt x="435" y="285"/>
                </a:lnTo>
                <a:lnTo>
                  <a:pt x="435" y="285"/>
                </a:lnTo>
                <a:lnTo>
                  <a:pt x="440" y="291"/>
                </a:lnTo>
                <a:lnTo>
                  <a:pt x="440" y="291"/>
                </a:lnTo>
                <a:lnTo>
                  <a:pt x="445" y="291"/>
                </a:lnTo>
                <a:lnTo>
                  <a:pt x="445" y="291"/>
                </a:lnTo>
                <a:lnTo>
                  <a:pt x="445" y="291"/>
                </a:lnTo>
                <a:lnTo>
                  <a:pt x="451" y="291"/>
                </a:lnTo>
                <a:lnTo>
                  <a:pt x="451" y="291"/>
                </a:lnTo>
                <a:lnTo>
                  <a:pt x="456" y="296"/>
                </a:lnTo>
                <a:lnTo>
                  <a:pt x="456" y="296"/>
                </a:lnTo>
                <a:lnTo>
                  <a:pt x="456" y="296"/>
                </a:lnTo>
                <a:lnTo>
                  <a:pt x="461" y="296"/>
                </a:lnTo>
                <a:lnTo>
                  <a:pt x="461" y="296"/>
                </a:lnTo>
                <a:lnTo>
                  <a:pt x="466" y="296"/>
                </a:lnTo>
                <a:lnTo>
                  <a:pt x="466" y="301"/>
                </a:lnTo>
                <a:lnTo>
                  <a:pt x="466" y="301"/>
                </a:lnTo>
                <a:lnTo>
                  <a:pt x="471" y="301"/>
                </a:lnTo>
                <a:lnTo>
                  <a:pt x="471" y="301"/>
                </a:lnTo>
                <a:lnTo>
                  <a:pt x="471" y="301"/>
                </a:lnTo>
                <a:lnTo>
                  <a:pt x="477" y="301"/>
                </a:lnTo>
                <a:lnTo>
                  <a:pt x="477" y="301"/>
                </a:lnTo>
                <a:lnTo>
                  <a:pt x="482" y="306"/>
                </a:lnTo>
                <a:lnTo>
                  <a:pt x="482" y="306"/>
                </a:lnTo>
                <a:lnTo>
                  <a:pt x="482" y="306"/>
                </a:lnTo>
                <a:lnTo>
                  <a:pt x="487" y="306"/>
                </a:lnTo>
                <a:lnTo>
                  <a:pt x="487" y="306"/>
                </a:lnTo>
                <a:lnTo>
                  <a:pt x="492" y="306"/>
                </a:lnTo>
                <a:lnTo>
                  <a:pt x="492" y="306"/>
                </a:lnTo>
                <a:lnTo>
                  <a:pt x="492" y="311"/>
                </a:lnTo>
                <a:lnTo>
                  <a:pt x="497" y="311"/>
                </a:lnTo>
                <a:lnTo>
                  <a:pt x="497" y="311"/>
                </a:lnTo>
                <a:lnTo>
                  <a:pt x="502" y="311"/>
                </a:lnTo>
                <a:lnTo>
                  <a:pt x="502" y="311"/>
                </a:lnTo>
                <a:lnTo>
                  <a:pt x="502" y="311"/>
                </a:lnTo>
                <a:lnTo>
                  <a:pt x="508" y="311"/>
                </a:lnTo>
                <a:lnTo>
                  <a:pt x="508" y="317"/>
                </a:lnTo>
                <a:lnTo>
                  <a:pt x="513" y="317"/>
                </a:lnTo>
                <a:lnTo>
                  <a:pt x="513" y="317"/>
                </a:lnTo>
                <a:lnTo>
                  <a:pt x="513" y="317"/>
                </a:lnTo>
                <a:lnTo>
                  <a:pt x="518" y="317"/>
                </a:lnTo>
                <a:lnTo>
                  <a:pt x="518" y="317"/>
                </a:lnTo>
                <a:lnTo>
                  <a:pt x="523" y="317"/>
                </a:lnTo>
                <a:lnTo>
                  <a:pt x="523" y="322"/>
                </a:lnTo>
                <a:lnTo>
                  <a:pt x="523" y="322"/>
                </a:lnTo>
                <a:lnTo>
                  <a:pt x="528" y="322"/>
                </a:lnTo>
                <a:lnTo>
                  <a:pt x="528" y="322"/>
                </a:lnTo>
                <a:lnTo>
                  <a:pt x="534" y="322"/>
                </a:lnTo>
                <a:lnTo>
                  <a:pt x="534" y="322"/>
                </a:lnTo>
                <a:lnTo>
                  <a:pt x="534" y="322"/>
                </a:lnTo>
                <a:lnTo>
                  <a:pt x="539" y="327"/>
                </a:lnTo>
                <a:lnTo>
                  <a:pt x="539" y="327"/>
                </a:lnTo>
                <a:lnTo>
                  <a:pt x="544" y="327"/>
                </a:lnTo>
                <a:lnTo>
                  <a:pt x="544" y="327"/>
                </a:lnTo>
                <a:lnTo>
                  <a:pt x="544" y="327"/>
                </a:lnTo>
                <a:lnTo>
                  <a:pt x="549" y="327"/>
                </a:lnTo>
                <a:lnTo>
                  <a:pt x="549" y="327"/>
                </a:lnTo>
                <a:lnTo>
                  <a:pt x="549" y="327"/>
                </a:lnTo>
                <a:lnTo>
                  <a:pt x="554" y="332"/>
                </a:lnTo>
                <a:lnTo>
                  <a:pt x="554" y="332"/>
                </a:lnTo>
                <a:lnTo>
                  <a:pt x="559" y="332"/>
                </a:lnTo>
                <a:lnTo>
                  <a:pt x="559" y="332"/>
                </a:lnTo>
                <a:lnTo>
                  <a:pt x="559" y="332"/>
                </a:lnTo>
                <a:lnTo>
                  <a:pt x="565" y="332"/>
                </a:lnTo>
                <a:lnTo>
                  <a:pt x="565" y="332"/>
                </a:lnTo>
                <a:lnTo>
                  <a:pt x="570" y="332"/>
                </a:lnTo>
                <a:lnTo>
                  <a:pt x="570" y="337"/>
                </a:lnTo>
                <a:lnTo>
                  <a:pt x="570" y="337"/>
                </a:lnTo>
                <a:lnTo>
                  <a:pt x="575" y="337"/>
                </a:lnTo>
                <a:lnTo>
                  <a:pt x="575" y="337"/>
                </a:lnTo>
                <a:lnTo>
                  <a:pt x="580" y="337"/>
                </a:lnTo>
                <a:lnTo>
                  <a:pt x="580" y="337"/>
                </a:lnTo>
                <a:lnTo>
                  <a:pt x="580" y="337"/>
                </a:lnTo>
                <a:lnTo>
                  <a:pt x="585" y="342"/>
                </a:lnTo>
                <a:lnTo>
                  <a:pt x="585" y="342"/>
                </a:lnTo>
                <a:lnTo>
                  <a:pt x="591" y="342"/>
                </a:lnTo>
                <a:lnTo>
                  <a:pt x="591" y="342"/>
                </a:lnTo>
                <a:lnTo>
                  <a:pt x="591" y="342"/>
                </a:lnTo>
                <a:lnTo>
                  <a:pt x="596" y="342"/>
                </a:lnTo>
                <a:lnTo>
                  <a:pt x="596" y="342"/>
                </a:lnTo>
                <a:lnTo>
                  <a:pt x="601" y="342"/>
                </a:lnTo>
                <a:lnTo>
                  <a:pt x="601" y="348"/>
                </a:lnTo>
                <a:lnTo>
                  <a:pt x="601" y="348"/>
                </a:lnTo>
                <a:lnTo>
                  <a:pt x="606" y="348"/>
                </a:lnTo>
                <a:lnTo>
                  <a:pt x="606" y="348"/>
                </a:lnTo>
                <a:lnTo>
                  <a:pt x="611" y="348"/>
                </a:lnTo>
                <a:lnTo>
                  <a:pt x="611" y="348"/>
                </a:lnTo>
                <a:lnTo>
                  <a:pt x="611" y="348"/>
                </a:lnTo>
                <a:lnTo>
                  <a:pt x="616" y="348"/>
                </a:lnTo>
                <a:lnTo>
                  <a:pt x="616" y="348"/>
                </a:lnTo>
                <a:lnTo>
                  <a:pt x="622" y="353"/>
                </a:lnTo>
                <a:lnTo>
                  <a:pt x="622" y="353"/>
                </a:lnTo>
                <a:lnTo>
                  <a:pt x="622" y="353"/>
                </a:lnTo>
                <a:lnTo>
                  <a:pt x="627" y="353"/>
                </a:lnTo>
                <a:lnTo>
                  <a:pt x="627" y="353"/>
                </a:lnTo>
                <a:lnTo>
                  <a:pt x="627" y="353"/>
                </a:lnTo>
                <a:lnTo>
                  <a:pt x="632" y="353"/>
                </a:lnTo>
                <a:lnTo>
                  <a:pt x="632" y="353"/>
                </a:lnTo>
                <a:lnTo>
                  <a:pt x="637" y="358"/>
                </a:lnTo>
                <a:lnTo>
                  <a:pt x="637" y="358"/>
                </a:lnTo>
                <a:lnTo>
                  <a:pt x="637" y="358"/>
                </a:lnTo>
                <a:lnTo>
                  <a:pt x="642" y="358"/>
                </a:lnTo>
                <a:lnTo>
                  <a:pt x="642" y="358"/>
                </a:lnTo>
                <a:lnTo>
                  <a:pt x="648" y="358"/>
                </a:lnTo>
                <a:lnTo>
                  <a:pt x="648" y="358"/>
                </a:lnTo>
                <a:lnTo>
                  <a:pt x="648" y="358"/>
                </a:lnTo>
                <a:lnTo>
                  <a:pt x="653" y="363"/>
                </a:lnTo>
                <a:lnTo>
                  <a:pt x="653" y="363"/>
                </a:lnTo>
                <a:lnTo>
                  <a:pt x="658" y="363"/>
                </a:lnTo>
                <a:lnTo>
                  <a:pt x="658" y="363"/>
                </a:lnTo>
                <a:lnTo>
                  <a:pt x="658" y="363"/>
                </a:lnTo>
                <a:lnTo>
                  <a:pt x="663" y="363"/>
                </a:lnTo>
                <a:lnTo>
                  <a:pt x="663" y="363"/>
                </a:lnTo>
                <a:lnTo>
                  <a:pt x="668" y="363"/>
                </a:lnTo>
                <a:lnTo>
                  <a:pt x="668" y="363"/>
                </a:lnTo>
                <a:lnTo>
                  <a:pt x="668" y="368"/>
                </a:lnTo>
                <a:lnTo>
                  <a:pt x="674" y="368"/>
                </a:lnTo>
                <a:lnTo>
                  <a:pt x="674" y="368"/>
                </a:lnTo>
                <a:lnTo>
                  <a:pt x="679" y="368"/>
                </a:lnTo>
                <a:lnTo>
                  <a:pt x="679" y="368"/>
                </a:lnTo>
                <a:lnTo>
                  <a:pt x="679" y="368"/>
                </a:lnTo>
                <a:lnTo>
                  <a:pt x="684" y="368"/>
                </a:lnTo>
                <a:lnTo>
                  <a:pt x="684" y="368"/>
                </a:lnTo>
                <a:lnTo>
                  <a:pt x="689" y="368"/>
                </a:lnTo>
                <a:lnTo>
                  <a:pt x="689" y="374"/>
                </a:lnTo>
                <a:lnTo>
                  <a:pt x="689" y="374"/>
                </a:lnTo>
                <a:lnTo>
                  <a:pt x="694" y="374"/>
                </a:lnTo>
                <a:lnTo>
                  <a:pt x="694" y="374"/>
                </a:lnTo>
                <a:lnTo>
                  <a:pt x="694" y="374"/>
                </a:lnTo>
                <a:lnTo>
                  <a:pt x="699" y="374"/>
                </a:lnTo>
                <a:lnTo>
                  <a:pt x="699" y="374"/>
                </a:lnTo>
                <a:lnTo>
                  <a:pt x="705" y="374"/>
                </a:lnTo>
                <a:lnTo>
                  <a:pt x="705" y="374"/>
                </a:lnTo>
                <a:lnTo>
                  <a:pt x="705" y="379"/>
                </a:lnTo>
                <a:lnTo>
                  <a:pt x="710" y="379"/>
                </a:lnTo>
                <a:lnTo>
                  <a:pt x="710" y="379"/>
                </a:lnTo>
                <a:lnTo>
                  <a:pt x="715" y="379"/>
                </a:lnTo>
                <a:lnTo>
                  <a:pt x="715" y="379"/>
                </a:lnTo>
                <a:lnTo>
                  <a:pt x="715" y="379"/>
                </a:lnTo>
                <a:lnTo>
                  <a:pt x="720" y="379"/>
                </a:lnTo>
                <a:lnTo>
                  <a:pt x="720" y="379"/>
                </a:lnTo>
                <a:lnTo>
                  <a:pt x="725" y="379"/>
                </a:lnTo>
                <a:lnTo>
                  <a:pt x="725" y="384"/>
                </a:lnTo>
                <a:lnTo>
                  <a:pt x="725" y="384"/>
                </a:lnTo>
                <a:lnTo>
                  <a:pt x="731" y="384"/>
                </a:lnTo>
                <a:lnTo>
                  <a:pt x="731" y="384"/>
                </a:lnTo>
                <a:lnTo>
                  <a:pt x="736" y="384"/>
                </a:lnTo>
                <a:lnTo>
                  <a:pt x="736" y="384"/>
                </a:lnTo>
                <a:lnTo>
                  <a:pt x="736" y="384"/>
                </a:lnTo>
                <a:lnTo>
                  <a:pt x="741" y="384"/>
                </a:lnTo>
                <a:lnTo>
                  <a:pt x="741" y="384"/>
                </a:lnTo>
                <a:lnTo>
                  <a:pt x="746" y="384"/>
                </a:lnTo>
                <a:lnTo>
                  <a:pt x="746" y="389"/>
                </a:lnTo>
                <a:lnTo>
                  <a:pt x="746" y="389"/>
                </a:lnTo>
                <a:lnTo>
                  <a:pt x="751" y="389"/>
                </a:lnTo>
                <a:lnTo>
                  <a:pt x="751" y="389"/>
                </a:lnTo>
                <a:lnTo>
                  <a:pt x="756" y="389"/>
                </a:lnTo>
                <a:lnTo>
                  <a:pt x="756" y="389"/>
                </a:lnTo>
                <a:lnTo>
                  <a:pt x="756" y="389"/>
                </a:lnTo>
                <a:lnTo>
                  <a:pt x="762" y="389"/>
                </a:lnTo>
                <a:lnTo>
                  <a:pt x="762" y="389"/>
                </a:lnTo>
                <a:lnTo>
                  <a:pt x="767" y="394"/>
                </a:lnTo>
                <a:lnTo>
                  <a:pt x="767" y="394"/>
                </a:lnTo>
                <a:lnTo>
                  <a:pt x="767" y="394"/>
                </a:lnTo>
                <a:lnTo>
                  <a:pt x="772" y="394"/>
                </a:lnTo>
                <a:lnTo>
                  <a:pt x="772" y="394"/>
                </a:lnTo>
                <a:lnTo>
                  <a:pt x="772" y="394"/>
                </a:lnTo>
                <a:lnTo>
                  <a:pt x="777" y="394"/>
                </a:lnTo>
                <a:lnTo>
                  <a:pt x="777" y="394"/>
                </a:lnTo>
                <a:lnTo>
                  <a:pt x="782" y="394"/>
                </a:lnTo>
                <a:lnTo>
                  <a:pt x="782" y="394"/>
                </a:lnTo>
                <a:lnTo>
                  <a:pt x="782" y="399"/>
                </a:lnTo>
                <a:lnTo>
                  <a:pt x="788" y="399"/>
                </a:lnTo>
                <a:lnTo>
                  <a:pt x="788" y="399"/>
                </a:lnTo>
                <a:lnTo>
                  <a:pt x="793" y="399"/>
                </a:lnTo>
                <a:lnTo>
                  <a:pt x="793" y="399"/>
                </a:lnTo>
                <a:lnTo>
                  <a:pt x="793" y="399"/>
                </a:lnTo>
                <a:lnTo>
                  <a:pt x="798" y="399"/>
                </a:lnTo>
                <a:lnTo>
                  <a:pt x="798" y="399"/>
                </a:lnTo>
                <a:lnTo>
                  <a:pt x="803" y="399"/>
                </a:lnTo>
                <a:lnTo>
                  <a:pt x="803" y="399"/>
                </a:lnTo>
                <a:lnTo>
                  <a:pt x="803" y="405"/>
                </a:lnTo>
                <a:lnTo>
                  <a:pt x="808" y="405"/>
                </a:lnTo>
                <a:lnTo>
                  <a:pt x="808" y="405"/>
                </a:lnTo>
                <a:lnTo>
                  <a:pt x="813" y="405"/>
                </a:lnTo>
                <a:lnTo>
                  <a:pt x="813" y="405"/>
                </a:lnTo>
                <a:lnTo>
                  <a:pt x="813" y="405"/>
                </a:lnTo>
                <a:lnTo>
                  <a:pt x="819" y="405"/>
                </a:lnTo>
                <a:lnTo>
                  <a:pt x="819" y="405"/>
                </a:lnTo>
                <a:lnTo>
                  <a:pt x="824" y="405"/>
                </a:lnTo>
                <a:lnTo>
                  <a:pt x="824" y="405"/>
                </a:lnTo>
                <a:lnTo>
                  <a:pt x="824" y="410"/>
                </a:lnTo>
                <a:lnTo>
                  <a:pt x="829" y="410"/>
                </a:lnTo>
                <a:lnTo>
                  <a:pt x="829" y="410"/>
                </a:lnTo>
                <a:lnTo>
                  <a:pt x="834" y="410"/>
                </a:lnTo>
                <a:lnTo>
                  <a:pt x="834" y="410"/>
                </a:lnTo>
                <a:lnTo>
                  <a:pt x="834" y="410"/>
                </a:lnTo>
                <a:lnTo>
                  <a:pt x="839" y="410"/>
                </a:lnTo>
                <a:lnTo>
                  <a:pt x="839" y="410"/>
                </a:lnTo>
                <a:lnTo>
                  <a:pt x="845" y="410"/>
                </a:lnTo>
                <a:lnTo>
                  <a:pt x="845" y="410"/>
                </a:lnTo>
                <a:lnTo>
                  <a:pt x="845" y="415"/>
                </a:lnTo>
                <a:lnTo>
                  <a:pt x="850" y="415"/>
                </a:lnTo>
                <a:lnTo>
                  <a:pt x="850" y="415"/>
                </a:lnTo>
                <a:lnTo>
                  <a:pt x="850" y="415"/>
                </a:lnTo>
                <a:lnTo>
                  <a:pt x="855" y="415"/>
                </a:lnTo>
                <a:lnTo>
                  <a:pt x="855" y="415"/>
                </a:lnTo>
                <a:lnTo>
                  <a:pt x="860" y="415"/>
                </a:lnTo>
                <a:lnTo>
                  <a:pt x="860" y="415"/>
                </a:lnTo>
                <a:lnTo>
                  <a:pt x="860" y="415"/>
                </a:lnTo>
                <a:lnTo>
                  <a:pt x="865" y="415"/>
                </a:lnTo>
                <a:lnTo>
                  <a:pt x="865" y="415"/>
                </a:lnTo>
                <a:lnTo>
                  <a:pt x="871" y="420"/>
                </a:lnTo>
                <a:lnTo>
                  <a:pt x="871" y="420"/>
                </a:lnTo>
                <a:lnTo>
                  <a:pt x="871" y="420"/>
                </a:lnTo>
                <a:lnTo>
                  <a:pt x="876" y="420"/>
                </a:lnTo>
                <a:lnTo>
                  <a:pt x="876" y="420"/>
                </a:lnTo>
                <a:lnTo>
                  <a:pt x="881" y="420"/>
                </a:lnTo>
                <a:lnTo>
                  <a:pt x="881" y="420"/>
                </a:lnTo>
                <a:lnTo>
                  <a:pt x="881" y="420"/>
                </a:lnTo>
                <a:lnTo>
                  <a:pt x="886" y="420"/>
                </a:lnTo>
                <a:lnTo>
                  <a:pt x="886" y="420"/>
                </a:lnTo>
                <a:lnTo>
                  <a:pt x="891" y="420"/>
                </a:lnTo>
                <a:lnTo>
                  <a:pt x="891" y="425"/>
                </a:lnTo>
                <a:lnTo>
                  <a:pt x="891" y="425"/>
                </a:lnTo>
                <a:lnTo>
                  <a:pt x="896" y="425"/>
                </a:lnTo>
                <a:lnTo>
                  <a:pt x="896" y="425"/>
                </a:lnTo>
                <a:lnTo>
                  <a:pt x="902" y="425"/>
                </a:lnTo>
                <a:lnTo>
                  <a:pt x="902" y="425"/>
                </a:lnTo>
                <a:lnTo>
                  <a:pt x="902" y="425"/>
                </a:lnTo>
                <a:lnTo>
                  <a:pt x="907" y="425"/>
                </a:lnTo>
                <a:lnTo>
                  <a:pt x="907" y="425"/>
                </a:lnTo>
                <a:lnTo>
                  <a:pt x="912" y="425"/>
                </a:lnTo>
                <a:lnTo>
                  <a:pt x="912" y="425"/>
                </a:lnTo>
                <a:lnTo>
                  <a:pt x="912" y="431"/>
                </a:lnTo>
                <a:lnTo>
                  <a:pt x="917" y="431"/>
                </a:lnTo>
                <a:lnTo>
                  <a:pt x="917" y="431"/>
                </a:lnTo>
                <a:lnTo>
                  <a:pt x="922" y="431"/>
                </a:lnTo>
                <a:lnTo>
                  <a:pt x="922" y="431"/>
                </a:lnTo>
                <a:lnTo>
                  <a:pt x="922" y="431"/>
                </a:lnTo>
                <a:lnTo>
                  <a:pt x="928" y="431"/>
                </a:lnTo>
                <a:lnTo>
                  <a:pt x="928" y="431"/>
                </a:lnTo>
                <a:lnTo>
                  <a:pt x="928" y="431"/>
                </a:lnTo>
                <a:lnTo>
                  <a:pt x="933" y="431"/>
                </a:lnTo>
                <a:lnTo>
                  <a:pt x="933" y="431"/>
                </a:lnTo>
                <a:lnTo>
                  <a:pt x="938" y="436"/>
                </a:lnTo>
                <a:lnTo>
                  <a:pt x="938" y="436"/>
                </a:lnTo>
                <a:lnTo>
                  <a:pt x="938" y="436"/>
                </a:lnTo>
                <a:lnTo>
                  <a:pt x="943" y="436"/>
                </a:lnTo>
                <a:lnTo>
                  <a:pt x="943" y="436"/>
                </a:lnTo>
                <a:lnTo>
                  <a:pt x="948" y="436"/>
                </a:lnTo>
                <a:lnTo>
                  <a:pt x="948" y="436"/>
                </a:lnTo>
                <a:lnTo>
                  <a:pt x="948" y="436"/>
                </a:lnTo>
                <a:lnTo>
                  <a:pt x="953" y="436"/>
                </a:lnTo>
                <a:lnTo>
                  <a:pt x="953" y="436"/>
                </a:lnTo>
                <a:lnTo>
                  <a:pt x="959" y="436"/>
                </a:lnTo>
                <a:lnTo>
                  <a:pt x="959" y="436"/>
                </a:lnTo>
                <a:lnTo>
                  <a:pt x="959" y="441"/>
                </a:lnTo>
                <a:lnTo>
                  <a:pt x="964" y="441"/>
                </a:lnTo>
                <a:lnTo>
                  <a:pt x="964" y="441"/>
                </a:lnTo>
                <a:lnTo>
                  <a:pt x="969" y="441"/>
                </a:lnTo>
                <a:lnTo>
                  <a:pt x="969" y="441"/>
                </a:lnTo>
                <a:lnTo>
                  <a:pt x="969" y="441"/>
                </a:lnTo>
                <a:lnTo>
                  <a:pt x="974" y="441"/>
                </a:lnTo>
                <a:lnTo>
                  <a:pt x="974" y="441"/>
                </a:lnTo>
                <a:lnTo>
                  <a:pt x="979" y="441"/>
                </a:lnTo>
                <a:lnTo>
                  <a:pt x="979" y="441"/>
                </a:lnTo>
                <a:lnTo>
                  <a:pt x="979" y="441"/>
                </a:lnTo>
                <a:lnTo>
                  <a:pt x="985" y="441"/>
                </a:lnTo>
                <a:lnTo>
                  <a:pt x="985" y="446"/>
                </a:lnTo>
                <a:lnTo>
                  <a:pt x="990" y="446"/>
                </a:lnTo>
                <a:lnTo>
                  <a:pt x="990" y="446"/>
                </a:lnTo>
                <a:lnTo>
                  <a:pt x="990" y="446"/>
                </a:lnTo>
                <a:lnTo>
                  <a:pt x="995" y="446"/>
                </a:lnTo>
                <a:lnTo>
                  <a:pt x="995" y="446"/>
                </a:lnTo>
                <a:lnTo>
                  <a:pt x="995" y="446"/>
                </a:lnTo>
                <a:lnTo>
                  <a:pt x="1000" y="446"/>
                </a:lnTo>
                <a:lnTo>
                  <a:pt x="1000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10" y="451"/>
                </a:lnTo>
                <a:lnTo>
                  <a:pt x="1010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21" y="451"/>
                </a:lnTo>
                <a:lnTo>
                  <a:pt x="1021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31" y="451"/>
                </a:lnTo>
                <a:lnTo>
                  <a:pt x="1031" y="451"/>
                </a:lnTo>
                <a:lnTo>
                  <a:pt x="1036" y="456"/>
                </a:lnTo>
                <a:lnTo>
                  <a:pt x="1036" y="456"/>
                </a:lnTo>
                <a:lnTo>
                  <a:pt x="1036" y="456"/>
                </a:lnTo>
                <a:lnTo>
                  <a:pt x="1042" y="456"/>
                </a:lnTo>
                <a:lnTo>
                  <a:pt x="1042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52" y="456"/>
                </a:lnTo>
                <a:lnTo>
                  <a:pt x="1052" y="456"/>
                </a:lnTo>
                <a:lnTo>
                  <a:pt x="1057" y="456"/>
                </a:lnTo>
                <a:lnTo>
                  <a:pt x="1057" y="456"/>
                </a:lnTo>
                <a:lnTo>
                  <a:pt x="1057" y="462"/>
                </a:lnTo>
                <a:lnTo>
                  <a:pt x="1062" y="462"/>
                </a:lnTo>
                <a:lnTo>
                  <a:pt x="1062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8" y="462"/>
                </a:lnTo>
                <a:lnTo>
                  <a:pt x="1078" y="462"/>
                </a:lnTo>
                <a:lnTo>
                  <a:pt x="1083" y="462"/>
                </a:lnTo>
                <a:lnTo>
                  <a:pt x="1083" y="462"/>
                </a:lnTo>
                <a:lnTo>
                  <a:pt x="1083" y="467"/>
                </a:lnTo>
                <a:lnTo>
                  <a:pt x="1088" y="467"/>
                </a:lnTo>
                <a:lnTo>
                  <a:pt x="1088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9" y="467"/>
                </a:lnTo>
                <a:lnTo>
                  <a:pt x="1099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9" y="467"/>
                </a:lnTo>
                <a:lnTo>
                  <a:pt x="1109" y="467"/>
                </a:lnTo>
                <a:lnTo>
                  <a:pt x="1114" y="472"/>
                </a:lnTo>
                <a:lnTo>
                  <a:pt x="1114" y="472"/>
                </a:lnTo>
                <a:lnTo>
                  <a:pt x="1114" y="472"/>
                </a:lnTo>
                <a:lnTo>
                  <a:pt x="1119" y="472"/>
                </a:lnTo>
                <a:lnTo>
                  <a:pt x="1119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30" y="472"/>
                </a:lnTo>
                <a:lnTo>
                  <a:pt x="1130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40" y="472"/>
                </a:lnTo>
                <a:lnTo>
                  <a:pt x="1140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6" y="477"/>
                </a:lnTo>
                <a:lnTo>
                  <a:pt x="1156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6" y="477"/>
                </a:lnTo>
                <a:lnTo>
                  <a:pt x="1166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6" y="482"/>
                </a:lnTo>
                <a:lnTo>
                  <a:pt x="1176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7" y="482"/>
                </a:lnTo>
                <a:lnTo>
                  <a:pt x="1187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7" y="488"/>
                </a:lnTo>
                <a:lnTo>
                  <a:pt x="1197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7" y="488"/>
                </a:lnTo>
                <a:lnTo>
                  <a:pt x="1207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23" y="488"/>
                </a:lnTo>
                <a:lnTo>
                  <a:pt x="1223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33" y="493"/>
                </a:lnTo>
                <a:lnTo>
                  <a:pt x="1233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44" y="493"/>
                </a:lnTo>
                <a:lnTo>
                  <a:pt x="1244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54" y="493"/>
                </a:lnTo>
                <a:lnTo>
                  <a:pt x="1254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64" y="498"/>
                </a:lnTo>
                <a:lnTo>
                  <a:pt x="1264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5" y="498"/>
                </a:lnTo>
                <a:lnTo>
                  <a:pt x="1275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5" y="503"/>
                </a:lnTo>
                <a:lnTo>
                  <a:pt x="1285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6" y="503"/>
                </a:lnTo>
                <a:lnTo>
                  <a:pt x="1296" y="503"/>
                </a:lnTo>
                <a:lnTo>
                  <a:pt x="1296" y="503"/>
                </a:lnTo>
                <a:lnTo>
                  <a:pt x="1301" y="503"/>
                </a:lnTo>
                <a:lnTo>
                  <a:pt x="1301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11" y="503"/>
                </a:lnTo>
                <a:lnTo>
                  <a:pt x="1311" y="503"/>
                </a:lnTo>
                <a:lnTo>
                  <a:pt x="1316" y="508"/>
                </a:lnTo>
                <a:lnTo>
                  <a:pt x="1316" y="508"/>
                </a:lnTo>
                <a:lnTo>
                  <a:pt x="1316" y="508"/>
                </a:lnTo>
                <a:lnTo>
                  <a:pt x="1322" y="508"/>
                </a:lnTo>
                <a:lnTo>
                  <a:pt x="1322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32" y="508"/>
                </a:lnTo>
                <a:lnTo>
                  <a:pt x="1332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42" y="508"/>
                </a:lnTo>
                <a:lnTo>
                  <a:pt x="1342" y="508"/>
                </a:lnTo>
                <a:lnTo>
                  <a:pt x="1347" y="508"/>
                </a:lnTo>
                <a:lnTo>
                  <a:pt x="1347" y="513"/>
                </a:lnTo>
                <a:lnTo>
                  <a:pt x="1347" y="513"/>
                </a:lnTo>
                <a:lnTo>
                  <a:pt x="1353" y="513"/>
                </a:lnTo>
                <a:lnTo>
                  <a:pt x="1353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63" y="513"/>
                </a:lnTo>
                <a:lnTo>
                  <a:pt x="1363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9" y="519"/>
                </a:lnTo>
                <a:lnTo>
                  <a:pt x="1379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9" y="519"/>
                </a:lnTo>
                <a:lnTo>
                  <a:pt x="1389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9" y="519"/>
                </a:lnTo>
                <a:lnTo>
                  <a:pt x="1399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10" y="519"/>
                </a:lnTo>
                <a:lnTo>
                  <a:pt x="1410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20" y="524"/>
                </a:lnTo>
                <a:lnTo>
                  <a:pt x="1420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30" y="524"/>
                </a:lnTo>
                <a:lnTo>
                  <a:pt x="1430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41" y="524"/>
                </a:lnTo>
                <a:lnTo>
                  <a:pt x="1441" y="524"/>
                </a:lnTo>
                <a:lnTo>
                  <a:pt x="1446" y="524"/>
                </a:lnTo>
                <a:lnTo>
                  <a:pt x="1446" y="529"/>
                </a:lnTo>
                <a:lnTo>
                  <a:pt x="1446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6" y="529"/>
                </a:lnTo>
                <a:lnTo>
                  <a:pt x="1456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7" y="529"/>
                </a:lnTo>
                <a:lnTo>
                  <a:pt x="1467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7" y="529"/>
                </a:lnTo>
                <a:lnTo>
                  <a:pt x="1477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7" y="534"/>
                </a:lnTo>
                <a:lnTo>
                  <a:pt x="1487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8" y="534"/>
                </a:lnTo>
                <a:lnTo>
                  <a:pt x="1498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8" y="534"/>
                </a:lnTo>
                <a:lnTo>
                  <a:pt x="1508" y="534"/>
                </a:lnTo>
                <a:lnTo>
                  <a:pt x="1513" y="534"/>
                </a:lnTo>
                <a:lnTo>
                  <a:pt x="1513" y="539"/>
                </a:lnTo>
                <a:lnTo>
                  <a:pt x="1513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24" y="539"/>
                </a:lnTo>
                <a:lnTo>
                  <a:pt x="1524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34" y="539"/>
                </a:lnTo>
                <a:lnTo>
                  <a:pt x="1534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44" y="539"/>
                </a:lnTo>
                <a:lnTo>
                  <a:pt x="1544" y="539"/>
                </a:lnTo>
                <a:lnTo>
                  <a:pt x="1550" y="539"/>
                </a:lnTo>
                <a:lnTo>
                  <a:pt x="1550" y="545"/>
                </a:lnTo>
                <a:lnTo>
                  <a:pt x="1550" y="545"/>
                </a:lnTo>
                <a:lnTo>
                  <a:pt x="1555" y="545"/>
                </a:lnTo>
                <a:lnTo>
                  <a:pt x="1555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5" y="545"/>
                </a:lnTo>
                <a:lnTo>
                  <a:pt x="1565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6" y="545"/>
                </a:lnTo>
                <a:lnTo>
                  <a:pt x="1576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6" y="545"/>
                </a:lnTo>
                <a:lnTo>
                  <a:pt x="1586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6" y="550"/>
                </a:lnTo>
                <a:lnTo>
                  <a:pt x="1596" y="550"/>
                </a:lnTo>
                <a:lnTo>
                  <a:pt x="1596" y="550"/>
                </a:lnTo>
                <a:lnTo>
                  <a:pt x="1601" y="550"/>
                </a:lnTo>
                <a:lnTo>
                  <a:pt x="1601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12" y="550"/>
                </a:lnTo>
                <a:lnTo>
                  <a:pt x="1612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22" y="550"/>
                </a:lnTo>
                <a:lnTo>
                  <a:pt x="1622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33" y="555"/>
                </a:lnTo>
                <a:lnTo>
                  <a:pt x="1633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43" y="555"/>
                </a:lnTo>
                <a:lnTo>
                  <a:pt x="1643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53" y="555"/>
                </a:lnTo>
                <a:lnTo>
                  <a:pt x="1653" y="555"/>
                </a:lnTo>
                <a:lnTo>
                  <a:pt x="1658" y="555"/>
                </a:lnTo>
                <a:lnTo>
                  <a:pt x="1658" y="555"/>
                </a:lnTo>
                <a:lnTo>
                  <a:pt x="1658" y="560"/>
                </a:lnTo>
                <a:lnTo>
                  <a:pt x="1664" y="560"/>
                </a:lnTo>
                <a:lnTo>
                  <a:pt x="1664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9" y="560"/>
                </a:lnTo>
                <a:lnTo>
                  <a:pt x="1679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90" y="560"/>
                </a:lnTo>
                <a:lnTo>
                  <a:pt x="1690" y="560"/>
                </a:lnTo>
                <a:lnTo>
                  <a:pt x="1695" y="560"/>
                </a:lnTo>
                <a:lnTo>
                  <a:pt x="1695" y="560"/>
                </a:lnTo>
                <a:lnTo>
                  <a:pt x="1695" y="560"/>
                </a:lnTo>
                <a:lnTo>
                  <a:pt x="1700" y="565"/>
                </a:lnTo>
                <a:lnTo>
                  <a:pt x="1700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10" y="565"/>
                </a:lnTo>
                <a:lnTo>
                  <a:pt x="1710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21" y="565"/>
                </a:lnTo>
                <a:lnTo>
                  <a:pt x="1721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31" y="565"/>
                </a:lnTo>
                <a:lnTo>
                  <a:pt x="1731" y="565"/>
                </a:lnTo>
                <a:lnTo>
                  <a:pt x="1736" y="565"/>
                </a:lnTo>
                <a:lnTo>
                  <a:pt x="1736" y="565"/>
                </a:lnTo>
                <a:lnTo>
                  <a:pt x="1736" y="571"/>
                </a:lnTo>
                <a:lnTo>
                  <a:pt x="1741" y="571"/>
                </a:lnTo>
                <a:lnTo>
                  <a:pt x="1741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7" y="571"/>
                </a:lnTo>
                <a:lnTo>
                  <a:pt x="1757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7" y="571"/>
                </a:lnTo>
                <a:lnTo>
                  <a:pt x="1767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8" y="571"/>
                </a:lnTo>
                <a:lnTo>
                  <a:pt x="1778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8" y="576"/>
                </a:lnTo>
                <a:lnTo>
                  <a:pt x="1788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8" y="576"/>
                </a:lnTo>
                <a:lnTo>
                  <a:pt x="1798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9" y="576"/>
                </a:lnTo>
                <a:lnTo>
                  <a:pt x="1809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9" y="576"/>
                </a:lnTo>
                <a:lnTo>
                  <a:pt x="1819" y="581"/>
                </a:lnTo>
                <a:lnTo>
                  <a:pt x="1819" y="581"/>
                </a:lnTo>
                <a:lnTo>
                  <a:pt x="1824" y="581"/>
                </a:lnTo>
                <a:lnTo>
                  <a:pt x="1824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5" y="581"/>
                </a:lnTo>
                <a:lnTo>
                  <a:pt x="1835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5" y="581"/>
                </a:lnTo>
                <a:lnTo>
                  <a:pt x="1845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5" y="581"/>
                </a:lnTo>
                <a:lnTo>
                  <a:pt x="1855" y="581"/>
                </a:lnTo>
                <a:lnTo>
                  <a:pt x="1861" y="581"/>
                </a:lnTo>
                <a:lnTo>
                  <a:pt x="1861" y="586"/>
                </a:lnTo>
                <a:lnTo>
                  <a:pt x="1861" y="586"/>
                </a:lnTo>
                <a:lnTo>
                  <a:pt x="1866" y="586"/>
                </a:lnTo>
                <a:lnTo>
                  <a:pt x="1866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6" y="586"/>
                </a:lnTo>
                <a:lnTo>
                  <a:pt x="1876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7" y="586"/>
                </a:lnTo>
                <a:lnTo>
                  <a:pt x="1887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7" y="586"/>
                </a:lnTo>
                <a:lnTo>
                  <a:pt x="1897" y="586"/>
                </a:lnTo>
                <a:lnTo>
                  <a:pt x="1897" y="586"/>
                </a:lnTo>
                <a:lnTo>
                  <a:pt x="1902" y="586"/>
                </a:lnTo>
                <a:lnTo>
                  <a:pt x="1902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12" y="591"/>
                </a:lnTo>
                <a:lnTo>
                  <a:pt x="1912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23" y="591"/>
                </a:lnTo>
                <a:lnTo>
                  <a:pt x="1923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33" y="591"/>
                </a:lnTo>
                <a:lnTo>
                  <a:pt x="1933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44" y="591"/>
                </a:lnTo>
                <a:lnTo>
                  <a:pt x="1944" y="591"/>
                </a:lnTo>
                <a:lnTo>
                  <a:pt x="1949" y="596"/>
                </a:lnTo>
                <a:lnTo>
                  <a:pt x="1949" y="596"/>
                </a:lnTo>
                <a:lnTo>
                  <a:pt x="1949" y="596"/>
                </a:lnTo>
                <a:lnTo>
                  <a:pt x="1954" y="596"/>
                </a:lnTo>
                <a:lnTo>
                  <a:pt x="1954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64" y="596"/>
                </a:lnTo>
                <a:lnTo>
                  <a:pt x="1964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80" y="596"/>
                </a:lnTo>
                <a:lnTo>
                  <a:pt x="1980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90" y="596"/>
                </a:lnTo>
                <a:lnTo>
                  <a:pt x="1990" y="602"/>
                </a:lnTo>
                <a:lnTo>
                  <a:pt x="1995" y="602"/>
                </a:lnTo>
                <a:lnTo>
                  <a:pt x="1995" y="602"/>
                </a:lnTo>
                <a:lnTo>
                  <a:pt x="1995" y="602"/>
                </a:lnTo>
                <a:lnTo>
                  <a:pt x="2001" y="602"/>
                </a:lnTo>
                <a:lnTo>
                  <a:pt x="2001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11" y="602"/>
                </a:lnTo>
                <a:lnTo>
                  <a:pt x="2011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21" y="602"/>
                </a:lnTo>
                <a:lnTo>
                  <a:pt x="2021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32" y="602"/>
                </a:lnTo>
                <a:lnTo>
                  <a:pt x="2032" y="602"/>
                </a:lnTo>
                <a:lnTo>
                  <a:pt x="2037" y="602"/>
                </a:lnTo>
                <a:lnTo>
                  <a:pt x="2037" y="607"/>
                </a:lnTo>
                <a:lnTo>
                  <a:pt x="2037" y="607"/>
                </a:lnTo>
                <a:lnTo>
                  <a:pt x="2042" y="607"/>
                </a:lnTo>
                <a:lnTo>
                  <a:pt x="2042" y="607"/>
                </a:lnTo>
                <a:lnTo>
                  <a:pt x="2047" y="607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5626080" y="5316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5" name=""/>
          <p:cNvGrpSpPr/>
          <p:nvPr/>
        </p:nvGrpSpPr>
        <p:grpSpPr>
          <a:xfrm>
            <a:off x="5697360" y="77400"/>
            <a:ext cx="2747880" cy="2286000"/>
            <a:chOff x="5697360" y="77400"/>
            <a:chExt cx="2747880" cy="2286000"/>
          </a:xfrm>
        </p:grpSpPr>
        <p:sp>
          <p:nvSpPr>
            <p:cNvPr id="4816" name=""/>
            <p:cNvSpPr/>
            <p:nvPr/>
          </p:nvSpPr>
          <p:spPr>
            <a:xfrm flipV="1">
              <a:off x="5697360" y="651600"/>
              <a:ext cx="279000" cy="42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697360" y="1081440"/>
              <a:ext cx="279000" cy="43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 flipV="1">
              <a:off x="6048000" y="134712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6048000" y="151884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flipV="1">
              <a:off x="6048000" y="30708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6048000" y="65160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V="1">
              <a:off x="6399000" y="1804680"/>
              <a:ext cx="285480" cy="58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399000" y="1863000"/>
              <a:ext cx="28548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V="1">
              <a:off x="6399000" y="123228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399000" y="134712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6399000" y="65160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6399000" y="82296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flipV="1">
              <a:off x="6399000" y="77400"/>
              <a:ext cx="285480" cy="22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6399000" y="307080"/>
              <a:ext cx="28548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6756120" y="2077200"/>
              <a:ext cx="2793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6756120" y="2091240"/>
              <a:ext cx="279360" cy="136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6756120" y="1768680"/>
              <a:ext cx="27936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6756120" y="1804680"/>
              <a:ext cx="27936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V="1">
              <a:off x="6756120" y="1468800"/>
              <a:ext cx="27936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756120" y="1518840"/>
              <a:ext cx="279360" cy="9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6756120" y="851760"/>
              <a:ext cx="279360" cy="85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6756120" y="937800"/>
              <a:ext cx="279360" cy="71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6756120" y="550440"/>
              <a:ext cx="279360" cy="10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6756120" y="651600"/>
              <a:ext cx="27936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V="1">
              <a:off x="6756120" y="241920"/>
              <a:ext cx="279360" cy="12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756120" y="365040"/>
              <a:ext cx="279360" cy="34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7107120" y="2228040"/>
              <a:ext cx="27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7107120" y="2228040"/>
              <a:ext cx="279000" cy="78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V="1">
              <a:off x="7107120" y="1912680"/>
              <a:ext cx="27900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7107120" y="1926360"/>
              <a:ext cx="2790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7107120" y="1596960"/>
              <a:ext cx="27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7107120" y="1618200"/>
              <a:ext cx="27900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V="1">
              <a:off x="7107120" y="143928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7107120" y="1468800"/>
              <a:ext cx="27900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V="1">
              <a:off x="7107120" y="96624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7107120" y="1009800"/>
              <a:ext cx="27900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7107120" y="80856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7107120" y="851760"/>
              <a:ext cx="27900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V="1">
              <a:off x="7107120" y="651240"/>
              <a:ext cx="2790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107120" y="70092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V="1">
              <a:off x="7107120" y="335880"/>
              <a:ext cx="2790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7107120" y="399600"/>
              <a:ext cx="279000" cy="15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V="1">
              <a:off x="7458120" y="229968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7458120" y="2306880"/>
              <a:ext cx="28548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V="1">
              <a:off x="7458120" y="19843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458120" y="1991520"/>
              <a:ext cx="2854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7458120" y="166248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7458120" y="16761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7458120" y="150480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7458120" y="1518840"/>
              <a:ext cx="2854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7458120" y="1023480"/>
              <a:ext cx="285480" cy="21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7458120" y="1045440"/>
              <a:ext cx="285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7458120" y="865440"/>
              <a:ext cx="2854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7458120" y="8881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7458120" y="7005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458120" y="73008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flipV="1">
              <a:off x="7458120" y="3855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458120" y="41508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7808760" y="234288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7808760" y="23428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808760" y="230004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7808760" y="230004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7808760" y="202068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7808760" y="20206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7808760" y="1696320"/>
              <a:ext cx="2858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7808760" y="170532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808760" y="153936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7808760" y="153936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V="1">
              <a:off x="7808760" y="105264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808760" y="1066320"/>
              <a:ext cx="2858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V="1">
              <a:off x="7808760" y="89460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7808760" y="90180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7808760" y="40824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7808760" y="42192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8165880" y="232056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8165880" y="2320560"/>
              <a:ext cx="27936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8165880" y="204120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8165880" y="2041200"/>
              <a:ext cx="279360" cy="7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8165880" y="17118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8165880" y="17190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8165880" y="155448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8165880" y="155448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8165880" y="1066320"/>
              <a:ext cx="2793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8165880" y="10746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8165880" y="42156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8165880" y="428760"/>
              <a:ext cx="2793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2" name=""/>
          <p:cNvSpPr/>
          <p:nvPr/>
        </p:nvSpPr>
        <p:spPr>
          <a:xfrm>
            <a:off x="5616720" y="2475000"/>
            <a:ext cx="3571560" cy="3127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5616720" y="247500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5616720" y="2475000"/>
            <a:ext cx="3571560" cy="3127320"/>
          </a:xfrm>
          <a:custGeom>
            <a:avLst/>
            <a:gdLst/>
            <a:ahLst/>
            <a:rect l="l" t="t" r="r" b="b"/>
            <a:pathLst>
              <a:path w="434" h="380">
                <a:moveTo>
                  <a:pt x="0" y="380"/>
                </a:moveTo>
                <a:lnTo>
                  <a:pt x="434" y="38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 flipV="1">
            <a:off x="5616720" y="2474640"/>
            <a:ext cx="144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5616720" y="560232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 flipV="1">
            <a:off x="5616720" y="2474640"/>
            <a:ext cx="144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V="1">
            <a:off x="5616720" y="55605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5616720" y="2482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5567400" y="5716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 flipV="1">
            <a:off x="6259680" y="55605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6259680" y="2482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6210360" y="5716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V="1">
            <a:off x="6908760" y="55605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6908760" y="2482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6859440" y="5716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 flipV="1">
            <a:off x="7559640" y="55605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7559640" y="24829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7510320" y="5716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 flipV="1">
            <a:off x="8209080" y="55605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8209080" y="2482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8159760" y="5716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 flipV="1">
            <a:off x="8859960" y="55605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8859960" y="24829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8761680" y="5716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5616720" y="53132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 flipH="1">
            <a:off x="9147240" y="53132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5164200" y="51181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5616720" y="47466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 flipH="1">
            <a:off x="9147240" y="47466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5016240" y="45496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5616720" y="41781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 flipH="1">
            <a:off x="9147240" y="41781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5016240" y="398304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5616720" y="36100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 flipH="1">
            <a:off x="9147240" y="36100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5016240" y="34146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5616720" y="3043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 flipH="1">
            <a:off x="9147240" y="304308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016240" y="284796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5616720" y="24829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 flipH="1">
            <a:off x="9147240" y="24829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164200" y="2287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5616720" y="247500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5616720" y="2475000"/>
            <a:ext cx="3571560" cy="3127320"/>
          </a:xfrm>
          <a:custGeom>
            <a:avLst/>
            <a:gdLst/>
            <a:ahLst/>
            <a:rect l="l" t="t" r="r" b="b"/>
            <a:pathLst>
              <a:path w="434" h="380">
                <a:moveTo>
                  <a:pt x="0" y="380"/>
                </a:moveTo>
                <a:lnTo>
                  <a:pt x="434" y="38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 flipV="1">
            <a:off x="5616720" y="2474640"/>
            <a:ext cx="1440" cy="31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 flipV="1">
            <a:off x="5938920" y="5082840"/>
            <a:ext cx="144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5872320" y="524844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5872320" y="50180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 flipV="1">
            <a:off x="6259680" y="5082840"/>
            <a:ext cx="1440" cy="230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6192720" y="524844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6192720" y="50180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 flipV="1">
            <a:off x="6588000" y="5157720"/>
            <a:ext cx="1800" cy="155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6523200" y="524844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6523200" y="50911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V="1">
            <a:off x="6908760" y="5230440"/>
            <a:ext cx="1800" cy="82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6843600" y="524844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6843600" y="5165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 flipV="1">
            <a:off x="7238880" y="523980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7172280" y="5248440"/>
            <a:ext cx="139680" cy="139680"/>
          </a:xfrm>
          <a:prstGeom prst="ellipse">
            <a:avLst/>
          </a:prstGeom>
          <a:solidFill>
            <a:srgbClr val="3333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7172280" y="51735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 flipV="1">
            <a:off x="7559640" y="5305320"/>
            <a:ext cx="1800" cy="79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7493040" y="5248440"/>
            <a:ext cx="139680" cy="1396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7493040" y="5240160"/>
            <a:ext cx="139680" cy="14004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7880400" y="530532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7823160" y="52484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8201160" y="530532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8143920" y="52484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8531280" y="5305320"/>
            <a:ext cx="237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8472600" y="524844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5098320" y="777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72" name=""/>
          <p:cNvGraphicFramePr/>
          <p:nvPr/>
        </p:nvGraphicFramePr>
        <p:xfrm>
          <a:off x="6769080" y="6249960"/>
          <a:ext cx="252720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6249960"/>
                    <a:ext cx="252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4" name=""/>
          <p:cNvGraphicFramePr/>
          <p:nvPr/>
        </p:nvGraphicFramePr>
        <p:xfrm>
          <a:off x="380880" y="304920"/>
          <a:ext cx="2667240" cy="9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04920"/>
                    <a:ext cx="26672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6" name=""/>
          <p:cNvSpPr/>
          <p:nvPr/>
        </p:nvSpPr>
        <p:spPr>
          <a:xfrm>
            <a:off x="5942160" y="2468520"/>
            <a:ext cx="3249360" cy="258444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"/>
          <p:cNvSpPr/>
          <p:nvPr/>
        </p:nvSpPr>
        <p:spPr>
          <a:xfrm>
            <a:off x="619200" y="2481120"/>
            <a:ext cx="3571920" cy="311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619200" y="56008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 flipV="1">
            <a:off x="61920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61920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5691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 flipV="1">
            <a:off x="12621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12621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121212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91124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191124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8615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 flipV="1">
            <a:off x="256212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256212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251244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 flipV="1">
            <a:off x="32115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32115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316188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 flipV="1">
            <a:off x="386244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386244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763080" y="5624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619200" y="5254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4167360" y="5254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619200" y="52959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 flipH="1">
            <a:off x="4167360" y="5295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619200" y="5345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 flipH="1">
            <a:off x="4167360" y="5345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619200" y="54021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 flipH="1">
            <a:off x="4167360" y="54021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619200" y="5460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 flipH="1">
            <a:off x="4167360" y="5460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619200" y="55339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 flipH="1">
            <a:off x="4167360" y="55339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619200" y="5254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 flipH="1">
            <a:off x="4149360" y="52545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152280" y="5156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376920" y="5038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619200" y="4975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 flipH="1">
            <a:off x="4167360" y="4975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619200" y="48099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 flipH="1">
            <a:off x="4167360" y="48099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619200" y="4695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 flipH="1">
            <a:off x="4167360" y="4695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619200" y="4605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 flipH="1">
            <a:off x="4167360" y="4605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619200" y="4538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H="1">
            <a:off x="4167360" y="45385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619200" y="44737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 flipH="1">
            <a:off x="4167360" y="4473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619200" y="44146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 flipH="1">
            <a:off x="4167360" y="44146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9200" y="43736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>
            <a:off x="4167360" y="43736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619200" y="43340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 flipH="1">
            <a:off x="4167360" y="43340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619200" y="4334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 flipH="1">
            <a:off x="4149360" y="4334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152280" y="4233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376920" y="41180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619200" y="40528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 flipH="1">
            <a:off x="4167360" y="4052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9200" y="38894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>
            <a:off x="4167360" y="38894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619200" y="3773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 flipH="1">
            <a:off x="4167360" y="3773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619200" y="3683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4167360" y="3683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619200" y="3608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H="1">
            <a:off x="4167360" y="36082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619200" y="3543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 flipH="1">
            <a:off x="4167360" y="3543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619200" y="3494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>
            <a:off x="4167360" y="3494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619200" y="3444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 flipH="1">
            <a:off x="4167360" y="3444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619200" y="34034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 flipH="1">
            <a:off x="4167360" y="34034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619200" y="34034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H="1">
            <a:off x="4149360" y="3403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152280" y="3305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376920" y="31878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619200" y="3124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4167360" y="3124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619200" y="2959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 flipH="1">
            <a:off x="4167360" y="2959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619200" y="2843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 flipH="1">
            <a:off x="4167360" y="2843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619200" y="2752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 flipH="1">
            <a:off x="4167360" y="2752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619200" y="2679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 flipH="1">
            <a:off x="4167360" y="2679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619200" y="26226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 flipH="1">
            <a:off x="4167360" y="2622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619200" y="25639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 flipH="1">
            <a:off x="4167360" y="25639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619200" y="2522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 flipH="1">
            <a:off x="4167360" y="2522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619200" y="2481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 flipH="1">
            <a:off x="4167360" y="24811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619200" y="24811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 flipH="1">
            <a:off x="4149360" y="24811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152280" y="2382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377280" y="226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932040" y="3478320"/>
            <a:ext cx="2520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874800" y="3419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1254240" y="347832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195560" y="34196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1582560" y="3633840"/>
            <a:ext cx="2412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1525680" y="35766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903320" y="3905280"/>
            <a:ext cx="2556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1846440" y="384804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2232000" y="3954600"/>
            <a:ext cx="25560" cy="25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2174760" y="389736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2554200" y="5008680"/>
            <a:ext cx="2376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2495520" y="495000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2882880" y="5591160"/>
            <a:ext cx="255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2825640" y="55339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3203640" y="559116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3146400" y="5533920"/>
            <a:ext cx="139680" cy="1396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3541680" y="5591160"/>
            <a:ext cx="1800" cy="9720"/>
          </a:xfrm>
          <a:prstGeom prst="line">
            <a:avLst/>
          </a:prstGeom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475080" y="552600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3475080" y="553392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2365200" y="19051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mi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941400" y="2486160"/>
            <a:ext cx="3249720" cy="963360"/>
          </a:xfrm>
          <a:custGeom>
            <a:avLst/>
            <a:gdLst/>
            <a:ahLst/>
            <a:rect l="l" t="t" r="r" b="b"/>
            <a:pathLst>
              <a:path w="2047" h="607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6"/>
                </a:lnTo>
                <a:lnTo>
                  <a:pt x="10" y="6"/>
                </a:lnTo>
                <a:lnTo>
                  <a:pt x="10" y="11"/>
                </a:lnTo>
                <a:lnTo>
                  <a:pt x="10" y="11"/>
                </a:lnTo>
                <a:lnTo>
                  <a:pt x="15" y="16"/>
                </a:lnTo>
                <a:lnTo>
                  <a:pt x="15" y="16"/>
                </a:lnTo>
                <a:lnTo>
                  <a:pt x="20" y="21"/>
                </a:lnTo>
                <a:lnTo>
                  <a:pt x="20" y="21"/>
                </a:lnTo>
                <a:lnTo>
                  <a:pt x="20" y="26"/>
                </a:lnTo>
                <a:lnTo>
                  <a:pt x="26" y="26"/>
                </a:lnTo>
                <a:lnTo>
                  <a:pt x="26" y="26"/>
                </a:lnTo>
                <a:lnTo>
                  <a:pt x="26" y="31"/>
                </a:lnTo>
                <a:lnTo>
                  <a:pt x="31" y="31"/>
                </a:lnTo>
                <a:lnTo>
                  <a:pt x="31" y="37"/>
                </a:lnTo>
                <a:lnTo>
                  <a:pt x="36" y="37"/>
                </a:lnTo>
                <a:lnTo>
                  <a:pt x="36" y="42"/>
                </a:lnTo>
                <a:lnTo>
                  <a:pt x="36" y="42"/>
                </a:lnTo>
                <a:lnTo>
                  <a:pt x="41" y="42"/>
                </a:lnTo>
                <a:lnTo>
                  <a:pt x="41" y="47"/>
                </a:lnTo>
                <a:lnTo>
                  <a:pt x="46" y="47"/>
                </a:lnTo>
                <a:lnTo>
                  <a:pt x="46" y="52"/>
                </a:lnTo>
                <a:lnTo>
                  <a:pt x="46" y="52"/>
                </a:lnTo>
                <a:lnTo>
                  <a:pt x="51" y="52"/>
                </a:lnTo>
                <a:lnTo>
                  <a:pt x="51" y="57"/>
                </a:lnTo>
                <a:lnTo>
                  <a:pt x="57" y="57"/>
                </a:lnTo>
                <a:lnTo>
                  <a:pt x="57" y="63"/>
                </a:lnTo>
                <a:lnTo>
                  <a:pt x="57" y="63"/>
                </a:lnTo>
                <a:lnTo>
                  <a:pt x="62" y="63"/>
                </a:lnTo>
                <a:lnTo>
                  <a:pt x="62" y="68"/>
                </a:lnTo>
                <a:lnTo>
                  <a:pt x="67" y="68"/>
                </a:lnTo>
                <a:lnTo>
                  <a:pt x="67" y="68"/>
                </a:lnTo>
                <a:lnTo>
                  <a:pt x="67" y="73"/>
                </a:lnTo>
                <a:lnTo>
                  <a:pt x="72" y="73"/>
                </a:lnTo>
                <a:lnTo>
                  <a:pt x="72" y="78"/>
                </a:lnTo>
                <a:lnTo>
                  <a:pt x="77" y="78"/>
                </a:lnTo>
                <a:lnTo>
                  <a:pt x="77" y="78"/>
                </a:lnTo>
                <a:lnTo>
                  <a:pt x="77" y="83"/>
                </a:lnTo>
                <a:lnTo>
                  <a:pt x="83" y="83"/>
                </a:lnTo>
                <a:lnTo>
                  <a:pt x="83" y="83"/>
                </a:lnTo>
                <a:lnTo>
                  <a:pt x="88" y="89"/>
                </a:lnTo>
                <a:lnTo>
                  <a:pt x="88" y="89"/>
                </a:lnTo>
                <a:lnTo>
                  <a:pt x="88" y="89"/>
                </a:lnTo>
                <a:lnTo>
                  <a:pt x="93" y="94"/>
                </a:lnTo>
                <a:lnTo>
                  <a:pt x="93" y="94"/>
                </a:lnTo>
                <a:lnTo>
                  <a:pt x="93" y="94"/>
                </a:lnTo>
                <a:lnTo>
                  <a:pt x="98" y="99"/>
                </a:lnTo>
                <a:lnTo>
                  <a:pt x="98" y="99"/>
                </a:lnTo>
                <a:lnTo>
                  <a:pt x="103" y="99"/>
                </a:lnTo>
                <a:lnTo>
                  <a:pt x="103" y="104"/>
                </a:lnTo>
                <a:lnTo>
                  <a:pt x="103" y="104"/>
                </a:lnTo>
                <a:lnTo>
                  <a:pt x="108" y="104"/>
                </a:lnTo>
                <a:lnTo>
                  <a:pt x="108" y="109"/>
                </a:lnTo>
                <a:lnTo>
                  <a:pt x="114" y="109"/>
                </a:lnTo>
                <a:lnTo>
                  <a:pt x="114" y="109"/>
                </a:lnTo>
                <a:lnTo>
                  <a:pt x="114" y="114"/>
                </a:lnTo>
                <a:lnTo>
                  <a:pt x="119" y="114"/>
                </a:lnTo>
                <a:lnTo>
                  <a:pt x="119" y="114"/>
                </a:lnTo>
                <a:lnTo>
                  <a:pt x="124" y="114"/>
                </a:lnTo>
                <a:lnTo>
                  <a:pt x="124" y="120"/>
                </a:lnTo>
                <a:lnTo>
                  <a:pt x="124" y="120"/>
                </a:lnTo>
                <a:lnTo>
                  <a:pt x="129" y="120"/>
                </a:lnTo>
                <a:lnTo>
                  <a:pt x="129" y="125"/>
                </a:lnTo>
                <a:lnTo>
                  <a:pt x="134" y="125"/>
                </a:lnTo>
                <a:lnTo>
                  <a:pt x="134" y="125"/>
                </a:lnTo>
                <a:lnTo>
                  <a:pt x="134" y="130"/>
                </a:lnTo>
                <a:lnTo>
                  <a:pt x="140" y="130"/>
                </a:lnTo>
                <a:lnTo>
                  <a:pt x="140" y="130"/>
                </a:lnTo>
                <a:lnTo>
                  <a:pt x="145" y="130"/>
                </a:lnTo>
                <a:lnTo>
                  <a:pt x="145" y="135"/>
                </a:lnTo>
                <a:lnTo>
                  <a:pt x="145" y="135"/>
                </a:lnTo>
                <a:lnTo>
                  <a:pt x="150" y="135"/>
                </a:lnTo>
                <a:lnTo>
                  <a:pt x="150" y="140"/>
                </a:lnTo>
                <a:lnTo>
                  <a:pt x="155" y="140"/>
                </a:lnTo>
                <a:lnTo>
                  <a:pt x="155" y="140"/>
                </a:lnTo>
                <a:lnTo>
                  <a:pt x="155" y="140"/>
                </a:lnTo>
                <a:lnTo>
                  <a:pt x="160" y="146"/>
                </a:lnTo>
                <a:lnTo>
                  <a:pt x="160" y="146"/>
                </a:lnTo>
                <a:lnTo>
                  <a:pt x="165" y="146"/>
                </a:lnTo>
                <a:lnTo>
                  <a:pt x="165" y="146"/>
                </a:lnTo>
                <a:lnTo>
                  <a:pt x="165" y="151"/>
                </a:lnTo>
                <a:lnTo>
                  <a:pt x="171" y="151"/>
                </a:lnTo>
                <a:lnTo>
                  <a:pt x="171" y="151"/>
                </a:lnTo>
                <a:lnTo>
                  <a:pt x="171" y="156"/>
                </a:lnTo>
                <a:lnTo>
                  <a:pt x="176" y="156"/>
                </a:lnTo>
                <a:lnTo>
                  <a:pt x="176" y="156"/>
                </a:lnTo>
                <a:lnTo>
                  <a:pt x="181" y="156"/>
                </a:lnTo>
                <a:lnTo>
                  <a:pt x="181" y="161"/>
                </a:lnTo>
                <a:lnTo>
                  <a:pt x="181" y="161"/>
                </a:lnTo>
                <a:lnTo>
                  <a:pt x="186" y="161"/>
                </a:lnTo>
                <a:lnTo>
                  <a:pt x="186" y="161"/>
                </a:lnTo>
                <a:lnTo>
                  <a:pt x="191" y="166"/>
                </a:lnTo>
                <a:lnTo>
                  <a:pt x="191" y="166"/>
                </a:lnTo>
                <a:lnTo>
                  <a:pt x="191" y="166"/>
                </a:lnTo>
                <a:lnTo>
                  <a:pt x="197" y="166"/>
                </a:lnTo>
                <a:lnTo>
                  <a:pt x="197" y="171"/>
                </a:lnTo>
                <a:lnTo>
                  <a:pt x="202" y="171"/>
                </a:lnTo>
                <a:lnTo>
                  <a:pt x="202" y="171"/>
                </a:lnTo>
                <a:lnTo>
                  <a:pt x="202" y="171"/>
                </a:lnTo>
                <a:lnTo>
                  <a:pt x="207" y="177"/>
                </a:lnTo>
                <a:lnTo>
                  <a:pt x="207" y="177"/>
                </a:lnTo>
                <a:lnTo>
                  <a:pt x="212" y="177"/>
                </a:lnTo>
                <a:lnTo>
                  <a:pt x="212" y="177"/>
                </a:lnTo>
                <a:lnTo>
                  <a:pt x="212" y="182"/>
                </a:lnTo>
                <a:lnTo>
                  <a:pt x="217" y="182"/>
                </a:lnTo>
                <a:lnTo>
                  <a:pt x="217" y="182"/>
                </a:lnTo>
                <a:lnTo>
                  <a:pt x="223" y="182"/>
                </a:lnTo>
                <a:lnTo>
                  <a:pt x="223" y="187"/>
                </a:lnTo>
                <a:lnTo>
                  <a:pt x="223" y="187"/>
                </a:lnTo>
                <a:lnTo>
                  <a:pt x="228" y="187"/>
                </a:lnTo>
                <a:lnTo>
                  <a:pt x="228" y="187"/>
                </a:lnTo>
                <a:lnTo>
                  <a:pt x="233" y="187"/>
                </a:lnTo>
                <a:lnTo>
                  <a:pt x="233" y="192"/>
                </a:lnTo>
                <a:lnTo>
                  <a:pt x="233" y="192"/>
                </a:lnTo>
                <a:lnTo>
                  <a:pt x="238" y="192"/>
                </a:lnTo>
                <a:lnTo>
                  <a:pt x="238" y="192"/>
                </a:lnTo>
                <a:lnTo>
                  <a:pt x="243" y="197"/>
                </a:lnTo>
                <a:lnTo>
                  <a:pt x="243" y="197"/>
                </a:lnTo>
                <a:lnTo>
                  <a:pt x="243" y="197"/>
                </a:lnTo>
                <a:lnTo>
                  <a:pt x="248" y="197"/>
                </a:lnTo>
                <a:lnTo>
                  <a:pt x="248" y="197"/>
                </a:lnTo>
                <a:lnTo>
                  <a:pt x="248" y="203"/>
                </a:lnTo>
                <a:lnTo>
                  <a:pt x="254" y="203"/>
                </a:lnTo>
                <a:lnTo>
                  <a:pt x="254" y="203"/>
                </a:lnTo>
                <a:lnTo>
                  <a:pt x="259" y="203"/>
                </a:lnTo>
                <a:lnTo>
                  <a:pt x="259" y="208"/>
                </a:lnTo>
                <a:lnTo>
                  <a:pt x="259" y="208"/>
                </a:lnTo>
                <a:lnTo>
                  <a:pt x="264" y="208"/>
                </a:lnTo>
                <a:lnTo>
                  <a:pt x="264" y="208"/>
                </a:lnTo>
                <a:lnTo>
                  <a:pt x="269" y="208"/>
                </a:lnTo>
                <a:lnTo>
                  <a:pt x="269" y="213"/>
                </a:lnTo>
                <a:lnTo>
                  <a:pt x="269" y="213"/>
                </a:lnTo>
                <a:lnTo>
                  <a:pt x="274" y="213"/>
                </a:lnTo>
                <a:lnTo>
                  <a:pt x="274" y="213"/>
                </a:lnTo>
                <a:lnTo>
                  <a:pt x="280" y="213"/>
                </a:lnTo>
                <a:lnTo>
                  <a:pt x="280" y="218"/>
                </a:lnTo>
                <a:lnTo>
                  <a:pt x="280" y="218"/>
                </a:lnTo>
                <a:lnTo>
                  <a:pt x="285" y="218"/>
                </a:lnTo>
                <a:lnTo>
                  <a:pt x="285" y="218"/>
                </a:lnTo>
                <a:lnTo>
                  <a:pt x="290" y="218"/>
                </a:lnTo>
                <a:lnTo>
                  <a:pt x="290" y="223"/>
                </a:lnTo>
                <a:lnTo>
                  <a:pt x="290" y="223"/>
                </a:lnTo>
                <a:lnTo>
                  <a:pt x="295" y="223"/>
                </a:lnTo>
                <a:lnTo>
                  <a:pt x="295" y="223"/>
                </a:lnTo>
                <a:lnTo>
                  <a:pt x="300" y="223"/>
                </a:lnTo>
                <a:lnTo>
                  <a:pt x="300" y="228"/>
                </a:lnTo>
                <a:lnTo>
                  <a:pt x="300" y="228"/>
                </a:lnTo>
                <a:lnTo>
                  <a:pt x="305" y="228"/>
                </a:lnTo>
                <a:lnTo>
                  <a:pt x="305" y="228"/>
                </a:lnTo>
                <a:lnTo>
                  <a:pt x="311" y="228"/>
                </a:lnTo>
                <a:lnTo>
                  <a:pt x="311" y="234"/>
                </a:lnTo>
                <a:lnTo>
                  <a:pt x="311" y="234"/>
                </a:lnTo>
                <a:lnTo>
                  <a:pt x="316" y="234"/>
                </a:lnTo>
                <a:lnTo>
                  <a:pt x="316" y="234"/>
                </a:lnTo>
                <a:lnTo>
                  <a:pt x="321" y="234"/>
                </a:lnTo>
                <a:lnTo>
                  <a:pt x="321" y="239"/>
                </a:lnTo>
                <a:lnTo>
                  <a:pt x="321" y="239"/>
                </a:lnTo>
                <a:lnTo>
                  <a:pt x="326" y="239"/>
                </a:lnTo>
                <a:lnTo>
                  <a:pt x="326" y="239"/>
                </a:lnTo>
                <a:lnTo>
                  <a:pt x="326" y="239"/>
                </a:lnTo>
                <a:lnTo>
                  <a:pt x="331" y="244"/>
                </a:lnTo>
                <a:lnTo>
                  <a:pt x="331" y="244"/>
                </a:lnTo>
                <a:lnTo>
                  <a:pt x="337" y="244"/>
                </a:lnTo>
                <a:lnTo>
                  <a:pt x="337" y="244"/>
                </a:lnTo>
                <a:lnTo>
                  <a:pt x="337" y="244"/>
                </a:lnTo>
                <a:lnTo>
                  <a:pt x="342" y="244"/>
                </a:lnTo>
                <a:lnTo>
                  <a:pt x="342" y="249"/>
                </a:lnTo>
                <a:lnTo>
                  <a:pt x="347" y="249"/>
                </a:lnTo>
                <a:lnTo>
                  <a:pt x="347" y="249"/>
                </a:lnTo>
                <a:lnTo>
                  <a:pt x="347" y="249"/>
                </a:lnTo>
                <a:lnTo>
                  <a:pt x="352" y="249"/>
                </a:lnTo>
                <a:lnTo>
                  <a:pt x="352" y="254"/>
                </a:lnTo>
                <a:lnTo>
                  <a:pt x="357" y="254"/>
                </a:lnTo>
                <a:lnTo>
                  <a:pt x="357" y="254"/>
                </a:lnTo>
                <a:lnTo>
                  <a:pt x="357" y="254"/>
                </a:lnTo>
                <a:lnTo>
                  <a:pt x="362" y="254"/>
                </a:lnTo>
                <a:lnTo>
                  <a:pt x="362" y="254"/>
                </a:lnTo>
                <a:lnTo>
                  <a:pt x="368" y="260"/>
                </a:lnTo>
                <a:lnTo>
                  <a:pt x="368" y="260"/>
                </a:lnTo>
                <a:lnTo>
                  <a:pt x="368" y="260"/>
                </a:lnTo>
                <a:lnTo>
                  <a:pt x="373" y="260"/>
                </a:lnTo>
                <a:lnTo>
                  <a:pt x="373" y="260"/>
                </a:lnTo>
                <a:lnTo>
                  <a:pt x="378" y="265"/>
                </a:lnTo>
                <a:lnTo>
                  <a:pt x="378" y="265"/>
                </a:lnTo>
                <a:lnTo>
                  <a:pt x="378" y="265"/>
                </a:lnTo>
                <a:lnTo>
                  <a:pt x="383" y="265"/>
                </a:lnTo>
                <a:lnTo>
                  <a:pt x="383" y="265"/>
                </a:lnTo>
                <a:lnTo>
                  <a:pt x="388" y="265"/>
                </a:lnTo>
                <a:lnTo>
                  <a:pt x="388" y="270"/>
                </a:lnTo>
                <a:lnTo>
                  <a:pt x="388" y="270"/>
                </a:lnTo>
                <a:lnTo>
                  <a:pt x="394" y="270"/>
                </a:lnTo>
                <a:lnTo>
                  <a:pt x="394" y="270"/>
                </a:lnTo>
                <a:lnTo>
                  <a:pt x="394" y="270"/>
                </a:lnTo>
                <a:lnTo>
                  <a:pt x="399" y="270"/>
                </a:lnTo>
                <a:lnTo>
                  <a:pt x="399" y="275"/>
                </a:lnTo>
                <a:lnTo>
                  <a:pt x="404" y="275"/>
                </a:lnTo>
                <a:lnTo>
                  <a:pt x="404" y="275"/>
                </a:lnTo>
                <a:lnTo>
                  <a:pt x="404" y="275"/>
                </a:lnTo>
                <a:lnTo>
                  <a:pt x="409" y="275"/>
                </a:lnTo>
                <a:lnTo>
                  <a:pt x="409" y="275"/>
                </a:lnTo>
                <a:lnTo>
                  <a:pt x="414" y="280"/>
                </a:lnTo>
                <a:lnTo>
                  <a:pt x="414" y="280"/>
                </a:lnTo>
                <a:lnTo>
                  <a:pt x="414" y="280"/>
                </a:lnTo>
                <a:lnTo>
                  <a:pt x="419" y="280"/>
                </a:lnTo>
                <a:lnTo>
                  <a:pt x="419" y="280"/>
                </a:lnTo>
                <a:lnTo>
                  <a:pt x="425" y="280"/>
                </a:lnTo>
                <a:lnTo>
                  <a:pt x="425" y="280"/>
                </a:lnTo>
                <a:lnTo>
                  <a:pt x="425" y="285"/>
                </a:lnTo>
                <a:lnTo>
                  <a:pt x="430" y="285"/>
                </a:lnTo>
                <a:lnTo>
                  <a:pt x="430" y="285"/>
                </a:lnTo>
                <a:lnTo>
                  <a:pt x="435" y="285"/>
                </a:lnTo>
                <a:lnTo>
                  <a:pt x="435" y="285"/>
                </a:lnTo>
                <a:lnTo>
                  <a:pt x="435" y="285"/>
                </a:lnTo>
                <a:lnTo>
                  <a:pt x="440" y="291"/>
                </a:lnTo>
                <a:lnTo>
                  <a:pt x="440" y="291"/>
                </a:lnTo>
                <a:lnTo>
                  <a:pt x="445" y="291"/>
                </a:lnTo>
                <a:lnTo>
                  <a:pt x="445" y="291"/>
                </a:lnTo>
                <a:lnTo>
                  <a:pt x="445" y="291"/>
                </a:lnTo>
                <a:lnTo>
                  <a:pt x="451" y="291"/>
                </a:lnTo>
                <a:lnTo>
                  <a:pt x="451" y="291"/>
                </a:lnTo>
                <a:lnTo>
                  <a:pt x="456" y="296"/>
                </a:lnTo>
                <a:lnTo>
                  <a:pt x="456" y="296"/>
                </a:lnTo>
                <a:lnTo>
                  <a:pt x="456" y="296"/>
                </a:lnTo>
                <a:lnTo>
                  <a:pt x="461" y="296"/>
                </a:lnTo>
                <a:lnTo>
                  <a:pt x="461" y="296"/>
                </a:lnTo>
                <a:lnTo>
                  <a:pt x="466" y="296"/>
                </a:lnTo>
                <a:lnTo>
                  <a:pt x="466" y="301"/>
                </a:lnTo>
                <a:lnTo>
                  <a:pt x="466" y="301"/>
                </a:lnTo>
                <a:lnTo>
                  <a:pt x="471" y="301"/>
                </a:lnTo>
                <a:lnTo>
                  <a:pt x="471" y="301"/>
                </a:lnTo>
                <a:lnTo>
                  <a:pt x="471" y="301"/>
                </a:lnTo>
                <a:lnTo>
                  <a:pt x="477" y="301"/>
                </a:lnTo>
                <a:lnTo>
                  <a:pt x="477" y="301"/>
                </a:lnTo>
                <a:lnTo>
                  <a:pt x="482" y="306"/>
                </a:lnTo>
                <a:lnTo>
                  <a:pt x="482" y="306"/>
                </a:lnTo>
                <a:lnTo>
                  <a:pt x="482" y="306"/>
                </a:lnTo>
                <a:lnTo>
                  <a:pt x="487" y="306"/>
                </a:lnTo>
                <a:lnTo>
                  <a:pt x="487" y="306"/>
                </a:lnTo>
                <a:lnTo>
                  <a:pt x="492" y="306"/>
                </a:lnTo>
                <a:lnTo>
                  <a:pt x="492" y="306"/>
                </a:lnTo>
                <a:lnTo>
                  <a:pt x="492" y="311"/>
                </a:lnTo>
                <a:lnTo>
                  <a:pt x="497" y="311"/>
                </a:lnTo>
                <a:lnTo>
                  <a:pt x="497" y="311"/>
                </a:lnTo>
                <a:lnTo>
                  <a:pt x="502" y="311"/>
                </a:lnTo>
                <a:lnTo>
                  <a:pt x="502" y="311"/>
                </a:lnTo>
                <a:lnTo>
                  <a:pt x="502" y="311"/>
                </a:lnTo>
                <a:lnTo>
                  <a:pt x="508" y="311"/>
                </a:lnTo>
                <a:lnTo>
                  <a:pt x="508" y="317"/>
                </a:lnTo>
                <a:lnTo>
                  <a:pt x="513" y="317"/>
                </a:lnTo>
                <a:lnTo>
                  <a:pt x="513" y="317"/>
                </a:lnTo>
                <a:lnTo>
                  <a:pt x="513" y="317"/>
                </a:lnTo>
                <a:lnTo>
                  <a:pt x="518" y="317"/>
                </a:lnTo>
                <a:lnTo>
                  <a:pt x="518" y="317"/>
                </a:lnTo>
                <a:lnTo>
                  <a:pt x="523" y="317"/>
                </a:lnTo>
                <a:lnTo>
                  <a:pt x="523" y="322"/>
                </a:lnTo>
                <a:lnTo>
                  <a:pt x="523" y="322"/>
                </a:lnTo>
                <a:lnTo>
                  <a:pt x="528" y="322"/>
                </a:lnTo>
                <a:lnTo>
                  <a:pt x="528" y="322"/>
                </a:lnTo>
                <a:lnTo>
                  <a:pt x="534" y="322"/>
                </a:lnTo>
                <a:lnTo>
                  <a:pt x="534" y="322"/>
                </a:lnTo>
                <a:lnTo>
                  <a:pt x="534" y="322"/>
                </a:lnTo>
                <a:lnTo>
                  <a:pt x="539" y="327"/>
                </a:lnTo>
                <a:lnTo>
                  <a:pt x="539" y="327"/>
                </a:lnTo>
                <a:lnTo>
                  <a:pt x="544" y="327"/>
                </a:lnTo>
                <a:lnTo>
                  <a:pt x="544" y="327"/>
                </a:lnTo>
                <a:lnTo>
                  <a:pt x="544" y="327"/>
                </a:lnTo>
                <a:lnTo>
                  <a:pt x="549" y="327"/>
                </a:lnTo>
                <a:lnTo>
                  <a:pt x="549" y="327"/>
                </a:lnTo>
                <a:lnTo>
                  <a:pt x="549" y="327"/>
                </a:lnTo>
                <a:lnTo>
                  <a:pt x="554" y="332"/>
                </a:lnTo>
                <a:lnTo>
                  <a:pt x="554" y="332"/>
                </a:lnTo>
                <a:lnTo>
                  <a:pt x="559" y="332"/>
                </a:lnTo>
                <a:lnTo>
                  <a:pt x="559" y="332"/>
                </a:lnTo>
                <a:lnTo>
                  <a:pt x="559" y="332"/>
                </a:lnTo>
                <a:lnTo>
                  <a:pt x="565" y="332"/>
                </a:lnTo>
                <a:lnTo>
                  <a:pt x="565" y="332"/>
                </a:lnTo>
                <a:lnTo>
                  <a:pt x="570" y="332"/>
                </a:lnTo>
                <a:lnTo>
                  <a:pt x="570" y="337"/>
                </a:lnTo>
                <a:lnTo>
                  <a:pt x="570" y="337"/>
                </a:lnTo>
                <a:lnTo>
                  <a:pt x="575" y="337"/>
                </a:lnTo>
                <a:lnTo>
                  <a:pt x="575" y="337"/>
                </a:lnTo>
                <a:lnTo>
                  <a:pt x="580" y="337"/>
                </a:lnTo>
                <a:lnTo>
                  <a:pt x="580" y="337"/>
                </a:lnTo>
                <a:lnTo>
                  <a:pt x="580" y="337"/>
                </a:lnTo>
                <a:lnTo>
                  <a:pt x="585" y="342"/>
                </a:lnTo>
                <a:lnTo>
                  <a:pt x="585" y="342"/>
                </a:lnTo>
                <a:lnTo>
                  <a:pt x="591" y="342"/>
                </a:lnTo>
                <a:lnTo>
                  <a:pt x="591" y="342"/>
                </a:lnTo>
                <a:lnTo>
                  <a:pt x="591" y="342"/>
                </a:lnTo>
                <a:lnTo>
                  <a:pt x="596" y="342"/>
                </a:lnTo>
                <a:lnTo>
                  <a:pt x="596" y="342"/>
                </a:lnTo>
                <a:lnTo>
                  <a:pt x="601" y="342"/>
                </a:lnTo>
                <a:lnTo>
                  <a:pt x="601" y="348"/>
                </a:lnTo>
                <a:lnTo>
                  <a:pt x="601" y="348"/>
                </a:lnTo>
                <a:lnTo>
                  <a:pt x="606" y="348"/>
                </a:lnTo>
                <a:lnTo>
                  <a:pt x="606" y="348"/>
                </a:lnTo>
                <a:lnTo>
                  <a:pt x="611" y="348"/>
                </a:lnTo>
                <a:lnTo>
                  <a:pt x="611" y="348"/>
                </a:lnTo>
                <a:lnTo>
                  <a:pt x="611" y="348"/>
                </a:lnTo>
                <a:lnTo>
                  <a:pt x="616" y="348"/>
                </a:lnTo>
                <a:lnTo>
                  <a:pt x="616" y="348"/>
                </a:lnTo>
                <a:lnTo>
                  <a:pt x="622" y="353"/>
                </a:lnTo>
                <a:lnTo>
                  <a:pt x="622" y="353"/>
                </a:lnTo>
                <a:lnTo>
                  <a:pt x="622" y="353"/>
                </a:lnTo>
                <a:lnTo>
                  <a:pt x="627" y="353"/>
                </a:lnTo>
                <a:lnTo>
                  <a:pt x="627" y="353"/>
                </a:lnTo>
                <a:lnTo>
                  <a:pt x="627" y="353"/>
                </a:lnTo>
                <a:lnTo>
                  <a:pt x="632" y="353"/>
                </a:lnTo>
                <a:lnTo>
                  <a:pt x="632" y="353"/>
                </a:lnTo>
                <a:lnTo>
                  <a:pt x="637" y="358"/>
                </a:lnTo>
                <a:lnTo>
                  <a:pt x="637" y="358"/>
                </a:lnTo>
                <a:lnTo>
                  <a:pt x="637" y="358"/>
                </a:lnTo>
                <a:lnTo>
                  <a:pt x="642" y="358"/>
                </a:lnTo>
                <a:lnTo>
                  <a:pt x="642" y="358"/>
                </a:lnTo>
                <a:lnTo>
                  <a:pt x="648" y="358"/>
                </a:lnTo>
                <a:lnTo>
                  <a:pt x="648" y="358"/>
                </a:lnTo>
                <a:lnTo>
                  <a:pt x="648" y="358"/>
                </a:lnTo>
                <a:lnTo>
                  <a:pt x="653" y="363"/>
                </a:lnTo>
                <a:lnTo>
                  <a:pt x="653" y="363"/>
                </a:lnTo>
                <a:lnTo>
                  <a:pt x="658" y="363"/>
                </a:lnTo>
                <a:lnTo>
                  <a:pt x="658" y="363"/>
                </a:lnTo>
                <a:lnTo>
                  <a:pt x="658" y="363"/>
                </a:lnTo>
                <a:lnTo>
                  <a:pt x="663" y="363"/>
                </a:lnTo>
                <a:lnTo>
                  <a:pt x="663" y="363"/>
                </a:lnTo>
                <a:lnTo>
                  <a:pt x="668" y="363"/>
                </a:lnTo>
                <a:lnTo>
                  <a:pt x="668" y="363"/>
                </a:lnTo>
                <a:lnTo>
                  <a:pt x="668" y="368"/>
                </a:lnTo>
                <a:lnTo>
                  <a:pt x="674" y="368"/>
                </a:lnTo>
                <a:lnTo>
                  <a:pt x="674" y="368"/>
                </a:lnTo>
                <a:lnTo>
                  <a:pt x="679" y="368"/>
                </a:lnTo>
                <a:lnTo>
                  <a:pt x="679" y="368"/>
                </a:lnTo>
                <a:lnTo>
                  <a:pt x="679" y="368"/>
                </a:lnTo>
                <a:lnTo>
                  <a:pt x="684" y="368"/>
                </a:lnTo>
                <a:lnTo>
                  <a:pt x="684" y="368"/>
                </a:lnTo>
                <a:lnTo>
                  <a:pt x="689" y="368"/>
                </a:lnTo>
                <a:lnTo>
                  <a:pt x="689" y="374"/>
                </a:lnTo>
                <a:lnTo>
                  <a:pt x="689" y="374"/>
                </a:lnTo>
                <a:lnTo>
                  <a:pt x="694" y="374"/>
                </a:lnTo>
                <a:lnTo>
                  <a:pt x="694" y="374"/>
                </a:lnTo>
                <a:lnTo>
                  <a:pt x="694" y="374"/>
                </a:lnTo>
                <a:lnTo>
                  <a:pt x="699" y="374"/>
                </a:lnTo>
                <a:lnTo>
                  <a:pt x="699" y="374"/>
                </a:lnTo>
                <a:lnTo>
                  <a:pt x="705" y="374"/>
                </a:lnTo>
                <a:lnTo>
                  <a:pt x="705" y="374"/>
                </a:lnTo>
                <a:lnTo>
                  <a:pt x="705" y="379"/>
                </a:lnTo>
                <a:lnTo>
                  <a:pt x="710" y="379"/>
                </a:lnTo>
                <a:lnTo>
                  <a:pt x="710" y="379"/>
                </a:lnTo>
                <a:lnTo>
                  <a:pt x="715" y="379"/>
                </a:lnTo>
                <a:lnTo>
                  <a:pt x="715" y="379"/>
                </a:lnTo>
                <a:lnTo>
                  <a:pt x="715" y="379"/>
                </a:lnTo>
                <a:lnTo>
                  <a:pt x="720" y="379"/>
                </a:lnTo>
                <a:lnTo>
                  <a:pt x="720" y="379"/>
                </a:lnTo>
                <a:lnTo>
                  <a:pt x="725" y="379"/>
                </a:lnTo>
                <a:lnTo>
                  <a:pt x="725" y="384"/>
                </a:lnTo>
                <a:lnTo>
                  <a:pt x="725" y="384"/>
                </a:lnTo>
                <a:lnTo>
                  <a:pt x="731" y="384"/>
                </a:lnTo>
                <a:lnTo>
                  <a:pt x="731" y="384"/>
                </a:lnTo>
                <a:lnTo>
                  <a:pt x="736" y="384"/>
                </a:lnTo>
                <a:lnTo>
                  <a:pt x="736" y="384"/>
                </a:lnTo>
                <a:lnTo>
                  <a:pt x="736" y="384"/>
                </a:lnTo>
                <a:lnTo>
                  <a:pt x="741" y="384"/>
                </a:lnTo>
                <a:lnTo>
                  <a:pt x="741" y="384"/>
                </a:lnTo>
                <a:lnTo>
                  <a:pt x="746" y="384"/>
                </a:lnTo>
                <a:lnTo>
                  <a:pt x="746" y="389"/>
                </a:lnTo>
                <a:lnTo>
                  <a:pt x="746" y="389"/>
                </a:lnTo>
                <a:lnTo>
                  <a:pt x="751" y="389"/>
                </a:lnTo>
                <a:lnTo>
                  <a:pt x="751" y="389"/>
                </a:lnTo>
                <a:lnTo>
                  <a:pt x="756" y="389"/>
                </a:lnTo>
                <a:lnTo>
                  <a:pt x="756" y="389"/>
                </a:lnTo>
                <a:lnTo>
                  <a:pt x="756" y="389"/>
                </a:lnTo>
                <a:lnTo>
                  <a:pt x="762" y="389"/>
                </a:lnTo>
                <a:lnTo>
                  <a:pt x="762" y="389"/>
                </a:lnTo>
                <a:lnTo>
                  <a:pt x="767" y="394"/>
                </a:lnTo>
                <a:lnTo>
                  <a:pt x="767" y="394"/>
                </a:lnTo>
                <a:lnTo>
                  <a:pt x="767" y="394"/>
                </a:lnTo>
                <a:lnTo>
                  <a:pt x="772" y="394"/>
                </a:lnTo>
                <a:lnTo>
                  <a:pt x="772" y="394"/>
                </a:lnTo>
                <a:lnTo>
                  <a:pt x="772" y="394"/>
                </a:lnTo>
                <a:lnTo>
                  <a:pt x="777" y="394"/>
                </a:lnTo>
                <a:lnTo>
                  <a:pt x="777" y="394"/>
                </a:lnTo>
                <a:lnTo>
                  <a:pt x="782" y="394"/>
                </a:lnTo>
                <a:lnTo>
                  <a:pt x="782" y="394"/>
                </a:lnTo>
                <a:lnTo>
                  <a:pt x="782" y="399"/>
                </a:lnTo>
                <a:lnTo>
                  <a:pt x="788" y="399"/>
                </a:lnTo>
                <a:lnTo>
                  <a:pt x="788" y="399"/>
                </a:lnTo>
                <a:lnTo>
                  <a:pt x="793" y="399"/>
                </a:lnTo>
                <a:lnTo>
                  <a:pt x="793" y="399"/>
                </a:lnTo>
                <a:lnTo>
                  <a:pt x="793" y="399"/>
                </a:lnTo>
                <a:lnTo>
                  <a:pt x="798" y="399"/>
                </a:lnTo>
                <a:lnTo>
                  <a:pt x="798" y="399"/>
                </a:lnTo>
                <a:lnTo>
                  <a:pt x="803" y="399"/>
                </a:lnTo>
                <a:lnTo>
                  <a:pt x="803" y="399"/>
                </a:lnTo>
                <a:lnTo>
                  <a:pt x="803" y="405"/>
                </a:lnTo>
                <a:lnTo>
                  <a:pt x="808" y="405"/>
                </a:lnTo>
                <a:lnTo>
                  <a:pt x="808" y="405"/>
                </a:lnTo>
                <a:lnTo>
                  <a:pt x="813" y="405"/>
                </a:lnTo>
                <a:lnTo>
                  <a:pt x="813" y="405"/>
                </a:lnTo>
                <a:lnTo>
                  <a:pt x="813" y="405"/>
                </a:lnTo>
                <a:lnTo>
                  <a:pt x="819" y="405"/>
                </a:lnTo>
                <a:lnTo>
                  <a:pt x="819" y="405"/>
                </a:lnTo>
                <a:lnTo>
                  <a:pt x="824" y="405"/>
                </a:lnTo>
                <a:lnTo>
                  <a:pt x="824" y="405"/>
                </a:lnTo>
                <a:lnTo>
                  <a:pt x="824" y="410"/>
                </a:lnTo>
                <a:lnTo>
                  <a:pt x="829" y="410"/>
                </a:lnTo>
                <a:lnTo>
                  <a:pt x="829" y="410"/>
                </a:lnTo>
                <a:lnTo>
                  <a:pt x="834" y="410"/>
                </a:lnTo>
                <a:lnTo>
                  <a:pt x="834" y="410"/>
                </a:lnTo>
                <a:lnTo>
                  <a:pt x="834" y="410"/>
                </a:lnTo>
                <a:lnTo>
                  <a:pt x="839" y="410"/>
                </a:lnTo>
                <a:lnTo>
                  <a:pt x="839" y="410"/>
                </a:lnTo>
                <a:lnTo>
                  <a:pt x="845" y="410"/>
                </a:lnTo>
                <a:lnTo>
                  <a:pt x="845" y="410"/>
                </a:lnTo>
                <a:lnTo>
                  <a:pt x="845" y="415"/>
                </a:lnTo>
                <a:lnTo>
                  <a:pt x="850" y="415"/>
                </a:lnTo>
                <a:lnTo>
                  <a:pt x="850" y="415"/>
                </a:lnTo>
                <a:lnTo>
                  <a:pt x="850" y="415"/>
                </a:lnTo>
                <a:lnTo>
                  <a:pt x="855" y="415"/>
                </a:lnTo>
                <a:lnTo>
                  <a:pt x="855" y="415"/>
                </a:lnTo>
                <a:lnTo>
                  <a:pt x="860" y="415"/>
                </a:lnTo>
                <a:lnTo>
                  <a:pt x="860" y="415"/>
                </a:lnTo>
                <a:lnTo>
                  <a:pt x="860" y="415"/>
                </a:lnTo>
                <a:lnTo>
                  <a:pt x="865" y="415"/>
                </a:lnTo>
                <a:lnTo>
                  <a:pt x="865" y="415"/>
                </a:lnTo>
                <a:lnTo>
                  <a:pt x="871" y="420"/>
                </a:lnTo>
                <a:lnTo>
                  <a:pt x="871" y="420"/>
                </a:lnTo>
                <a:lnTo>
                  <a:pt x="871" y="420"/>
                </a:lnTo>
                <a:lnTo>
                  <a:pt x="876" y="420"/>
                </a:lnTo>
                <a:lnTo>
                  <a:pt x="876" y="420"/>
                </a:lnTo>
                <a:lnTo>
                  <a:pt x="881" y="420"/>
                </a:lnTo>
                <a:lnTo>
                  <a:pt x="881" y="420"/>
                </a:lnTo>
                <a:lnTo>
                  <a:pt x="881" y="420"/>
                </a:lnTo>
                <a:lnTo>
                  <a:pt x="886" y="420"/>
                </a:lnTo>
                <a:lnTo>
                  <a:pt x="886" y="420"/>
                </a:lnTo>
                <a:lnTo>
                  <a:pt x="891" y="420"/>
                </a:lnTo>
                <a:lnTo>
                  <a:pt x="891" y="425"/>
                </a:lnTo>
                <a:lnTo>
                  <a:pt x="891" y="425"/>
                </a:lnTo>
                <a:lnTo>
                  <a:pt x="896" y="425"/>
                </a:lnTo>
                <a:lnTo>
                  <a:pt x="896" y="425"/>
                </a:lnTo>
                <a:lnTo>
                  <a:pt x="902" y="425"/>
                </a:lnTo>
                <a:lnTo>
                  <a:pt x="902" y="425"/>
                </a:lnTo>
                <a:lnTo>
                  <a:pt x="902" y="425"/>
                </a:lnTo>
                <a:lnTo>
                  <a:pt x="907" y="425"/>
                </a:lnTo>
                <a:lnTo>
                  <a:pt x="907" y="425"/>
                </a:lnTo>
                <a:lnTo>
                  <a:pt x="912" y="425"/>
                </a:lnTo>
                <a:lnTo>
                  <a:pt x="912" y="425"/>
                </a:lnTo>
                <a:lnTo>
                  <a:pt x="912" y="431"/>
                </a:lnTo>
                <a:lnTo>
                  <a:pt x="917" y="431"/>
                </a:lnTo>
                <a:lnTo>
                  <a:pt x="917" y="431"/>
                </a:lnTo>
                <a:lnTo>
                  <a:pt x="922" y="431"/>
                </a:lnTo>
                <a:lnTo>
                  <a:pt x="922" y="431"/>
                </a:lnTo>
                <a:lnTo>
                  <a:pt x="922" y="431"/>
                </a:lnTo>
                <a:lnTo>
                  <a:pt x="928" y="431"/>
                </a:lnTo>
                <a:lnTo>
                  <a:pt x="928" y="431"/>
                </a:lnTo>
                <a:lnTo>
                  <a:pt x="928" y="431"/>
                </a:lnTo>
                <a:lnTo>
                  <a:pt x="933" y="431"/>
                </a:lnTo>
                <a:lnTo>
                  <a:pt x="933" y="431"/>
                </a:lnTo>
                <a:lnTo>
                  <a:pt x="938" y="436"/>
                </a:lnTo>
                <a:lnTo>
                  <a:pt x="938" y="436"/>
                </a:lnTo>
                <a:lnTo>
                  <a:pt x="938" y="436"/>
                </a:lnTo>
                <a:lnTo>
                  <a:pt x="943" y="436"/>
                </a:lnTo>
                <a:lnTo>
                  <a:pt x="943" y="436"/>
                </a:lnTo>
                <a:lnTo>
                  <a:pt x="948" y="436"/>
                </a:lnTo>
                <a:lnTo>
                  <a:pt x="948" y="436"/>
                </a:lnTo>
                <a:lnTo>
                  <a:pt x="948" y="436"/>
                </a:lnTo>
                <a:lnTo>
                  <a:pt x="953" y="436"/>
                </a:lnTo>
                <a:lnTo>
                  <a:pt x="953" y="436"/>
                </a:lnTo>
                <a:lnTo>
                  <a:pt x="959" y="436"/>
                </a:lnTo>
                <a:lnTo>
                  <a:pt x="959" y="436"/>
                </a:lnTo>
                <a:lnTo>
                  <a:pt x="959" y="441"/>
                </a:lnTo>
                <a:lnTo>
                  <a:pt x="964" y="441"/>
                </a:lnTo>
                <a:lnTo>
                  <a:pt x="964" y="441"/>
                </a:lnTo>
                <a:lnTo>
                  <a:pt x="969" y="441"/>
                </a:lnTo>
                <a:lnTo>
                  <a:pt x="969" y="441"/>
                </a:lnTo>
                <a:lnTo>
                  <a:pt x="969" y="441"/>
                </a:lnTo>
                <a:lnTo>
                  <a:pt x="974" y="441"/>
                </a:lnTo>
                <a:lnTo>
                  <a:pt x="974" y="441"/>
                </a:lnTo>
                <a:lnTo>
                  <a:pt x="979" y="441"/>
                </a:lnTo>
                <a:lnTo>
                  <a:pt x="979" y="441"/>
                </a:lnTo>
                <a:lnTo>
                  <a:pt x="979" y="441"/>
                </a:lnTo>
                <a:lnTo>
                  <a:pt x="985" y="441"/>
                </a:lnTo>
                <a:lnTo>
                  <a:pt x="985" y="446"/>
                </a:lnTo>
                <a:lnTo>
                  <a:pt x="990" y="446"/>
                </a:lnTo>
                <a:lnTo>
                  <a:pt x="990" y="446"/>
                </a:lnTo>
                <a:lnTo>
                  <a:pt x="990" y="446"/>
                </a:lnTo>
                <a:lnTo>
                  <a:pt x="995" y="446"/>
                </a:lnTo>
                <a:lnTo>
                  <a:pt x="995" y="446"/>
                </a:lnTo>
                <a:lnTo>
                  <a:pt x="995" y="446"/>
                </a:lnTo>
                <a:lnTo>
                  <a:pt x="1000" y="446"/>
                </a:lnTo>
                <a:lnTo>
                  <a:pt x="1000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10" y="451"/>
                </a:lnTo>
                <a:lnTo>
                  <a:pt x="1010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21" y="451"/>
                </a:lnTo>
                <a:lnTo>
                  <a:pt x="1021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31" y="451"/>
                </a:lnTo>
                <a:lnTo>
                  <a:pt x="1031" y="451"/>
                </a:lnTo>
                <a:lnTo>
                  <a:pt x="1036" y="456"/>
                </a:lnTo>
                <a:lnTo>
                  <a:pt x="1036" y="456"/>
                </a:lnTo>
                <a:lnTo>
                  <a:pt x="1036" y="456"/>
                </a:lnTo>
                <a:lnTo>
                  <a:pt x="1042" y="456"/>
                </a:lnTo>
                <a:lnTo>
                  <a:pt x="1042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52" y="456"/>
                </a:lnTo>
                <a:lnTo>
                  <a:pt x="1052" y="456"/>
                </a:lnTo>
                <a:lnTo>
                  <a:pt x="1057" y="456"/>
                </a:lnTo>
                <a:lnTo>
                  <a:pt x="1057" y="456"/>
                </a:lnTo>
                <a:lnTo>
                  <a:pt x="1057" y="462"/>
                </a:lnTo>
                <a:lnTo>
                  <a:pt x="1062" y="462"/>
                </a:lnTo>
                <a:lnTo>
                  <a:pt x="1062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8" y="462"/>
                </a:lnTo>
                <a:lnTo>
                  <a:pt x="1078" y="462"/>
                </a:lnTo>
                <a:lnTo>
                  <a:pt x="1083" y="462"/>
                </a:lnTo>
                <a:lnTo>
                  <a:pt x="1083" y="462"/>
                </a:lnTo>
                <a:lnTo>
                  <a:pt x="1083" y="467"/>
                </a:lnTo>
                <a:lnTo>
                  <a:pt x="1088" y="467"/>
                </a:lnTo>
                <a:lnTo>
                  <a:pt x="1088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9" y="467"/>
                </a:lnTo>
                <a:lnTo>
                  <a:pt x="1099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9" y="467"/>
                </a:lnTo>
                <a:lnTo>
                  <a:pt x="1109" y="467"/>
                </a:lnTo>
                <a:lnTo>
                  <a:pt x="1114" y="472"/>
                </a:lnTo>
                <a:lnTo>
                  <a:pt x="1114" y="472"/>
                </a:lnTo>
                <a:lnTo>
                  <a:pt x="1114" y="472"/>
                </a:lnTo>
                <a:lnTo>
                  <a:pt x="1119" y="472"/>
                </a:lnTo>
                <a:lnTo>
                  <a:pt x="1119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30" y="472"/>
                </a:lnTo>
                <a:lnTo>
                  <a:pt x="1130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40" y="472"/>
                </a:lnTo>
                <a:lnTo>
                  <a:pt x="1140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6" y="477"/>
                </a:lnTo>
                <a:lnTo>
                  <a:pt x="1156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6" y="477"/>
                </a:lnTo>
                <a:lnTo>
                  <a:pt x="1166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6" y="482"/>
                </a:lnTo>
                <a:lnTo>
                  <a:pt x="1176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7" y="482"/>
                </a:lnTo>
                <a:lnTo>
                  <a:pt x="1187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7" y="488"/>
                </a:lnTo>
                <a:lnTo>
                  <a:pt x="1197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7" y="488"/>
                </a:lnTo>
                <a:lnTo>
                  <a:pt x="1207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23" y="488"/>
                </a:lnTo>
                <a:lnTo>
                  <a:pt x="1223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33" y="493"/>
                </a:lnTo>
                <a:lnTo>
                  <a:pt x="1233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44" y="493"/>
                </a:lnTo>
                <a:lnTo>
                  <a:pt x="1244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54" y="493"/>
                </a:lnTo>
                <a:lnTo>
                  <a:pt x="1254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64" y="498"/>
                </a:lnTo>
                <a:lnTo>
                  <a:pt x="1264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5" y="498"/>
                </a:lnTo>
                <a:lnTo>
                  <a:pt x="1275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5" y="503"/>
                </a:lnTo>
                <a:lnTo>
                  <a:pt x="1285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6" y="503"/>
                </a:lnTo>
                <a:lnTo>
                  <a:pt x="1296" y="503"/>
                </a:lnTo>
                <a:lnTo>
                  <a:pt x="1296" y="503"/>
                </a:lnTo>
                <a:lnTo>
                  <a:pt x="1301" y="503"/>
                </a:lnTo>
                <a:lnTo>
                  <a:pt x="1301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11" y="503"/>
                </a:lnTo>
                <a:lnTo>
                  <a:pt x="1311" y="503"/>
                </a:lnTo>
                <a:lnTo>
                  <a:pt x="1316" y="508"/>
                </a:lnTo>
                <a:lnTo>
                  <a:pt x="1316" y="508"/>
                </a:lnTo>
                <a:lnTo>
                  <a:pt x="1316" y="508"/>
                </a:lnTo>
                <a:lnTo>
                  <a:pt x="1322" y="508"/>
                </a:lnTo>
                <a:lnTo>
                  <a:pt x="1322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32" y="508"/>
                </a:lnTo>
                <a:lnTo>
                  <a:pt x="1332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42" y="508"/>
                </a:lnTo>
                <a:lnTo>
                  <a:pt x="1342" y="508"/>
                </a:lnTo>
                <a:lnTo>
                  <a:pt x="1347" y="508"/>
                </a:lnTo>
                <a:lnTo>
                  <a:pt x="1347" y="513"/>
                </a:lnTo>
                <a:lnTo>
                  <a:pt x="1347" y="513"/>
                </a:lnTo>
                <a:lnTo>
                  <a:pt x="1353" y="513"/>
                </a:lnTo>
                <a:lnTo>
                  <a:pt x="1353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63" y="513"/>
                </a:lnTo>
                <a:lnTo>
                  <a:pt x="1363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9" y="519"/>
                </a:lnTo>
                <a:lnTo>
                  <a:pt x="1379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9" y="519"/>
                </a:lnTo>
                <a:lnTo>
                  <a:pt x="1389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9" y="519"/>
                </a:lnTo>
                <a:lnTo>
                  <a:pt x="1399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10" y="519"/>
                </a:lnTo>
                <a:lnTo>
                  <a:pt x="1410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20" y="524"/>
                </a:lnTo>
                <a:lnTo>
                  <a:pt x="1420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30" y="524"/>
                </a:lnTo>
                <a:lnTo>
                  <a:pt x="1430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41" y="524"/>
                </a:lnTo>
                <a:lnTo>
                  <a:pt x="1441" y="524"/>
                </a:lnTo>
                <a:lnTo>
                  <a:pt x="1446" y="524"/>
                </a:lnTo>
                <a:lnTo>
                  <a:pt x="1446" y="529"/>
                </a:lnTo>
                <a:lnTo>
                  <a:pt x="1446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6" y="529"/>
                </a:lnTo>
                <a:lnTo>
                  <a:pt x="1456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7" y="529"/>
                </a:lnTo>
                <a:lnTo>
                  <a:pt x="1467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7" y="529"/>
                </a:lnTo>
                <a:lnTo>
                  <a:pt x="1477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7" y="534"/>
                </a:lnTo>
                <a:lnTo>
                  <a:pt x="1487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8" y="534"/>
                </a:lnTo>
                <a:lnTo>
                  <a:pt x="1498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8" y="534"/>
                </a:lnTo>
                <a:lnTo>
                  <a:pt x="1508" y="534"/>
                </a:lnTo>
                <a:lnTo>
                  <a:pt x="1513" y="534"/>
                </a:lnTo>
                <a:lnTo>
                  <a:pt x="1513" y="539"/>
                </a:lnTo>
                <a:lnTo>
                  <a:pt x="1513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24" y="539"/>
                </a:lnTo>
                <a:lnTo>
                  <a:pt x="1524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34" y="539"/>
                </a:lnTo>
                <a:lnTo>
                  <a:pt x="1534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44" y="539"/>
                </a:lnTo>
                <a:lnTo>
                  <a:pt x="1544" y="539"/>
                </a:lnTo>
                <a:lnTo>
                  <a:pt x="1550" y="539"/>
                </a:lnTo>
                <a:lnTo>
                  <a:pt x="1550" y="545"/>
                </a:lnTo>
                <a:lnTo>
                  <a:pt x="1550" y="545"/>
                </a:lnTo>
                <a:lnTo>
                  <a:pt x="1555" y="545"/>
                </a:lnTo>
                <a:lnTo>
                  <a:pt x="1555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5" y="545"/>
                </a:lnTo>
                <a:lnTo>
                  <a:pt x="1565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6" y="545"/>
                </a:lnTo>
                <a:lnTo>
                  <a:pt x="1576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6" y="545"/>
                </a:lnTo>
                <a:lnTo>
                  <a:pt x="1586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6" y="550"/>
                </a:lnTo>
                <a:lnTo>
                  <a:pt x="1596" y="550"/>
                </a:lnTo>
                <a:lnTo>
                  <a:pt x="1596" y="550"/>
                </a:lnTo>
                <a:lnTo>
                  <a:pt x="1601" y="550"/>
                </a:lnTo>
                <a:lnTo>
                  <a:pt x="1601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12" y="550"/>
                </a:lnTo>
                <a:lnTo>
                  <a:pt x="1612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22" y="550"/>
                </a:lnTo>
                <a:lnTo>
                  <a:pt x="1622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33" y="555"/>
                </a:lnTo>
                <a:lnTo>
                  <a:pt x="1633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43" y="555"/>
                </a:lnTo>
                <a:lnTo>
                  <a:pt x="1643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53" y="555"/>
                </a:lnTo>
                <a:lnTo>
                  <a:pt x="1653" y="555"/>
                </a:lnTo>
                <a:lnTo>
                  <a:pt x="1658" y="555"/>
                </a:lnTo>
                <a:lnTo>
                  <a:pt x="1658" y="555"/>
                </a:lnTo>
                <a:lnTo>
                  <a:pt x="1658" y="560"/>
                </a:lnTo>
                <a:lnTo>
                  <a:pt x="1664" y="560"/>
                </a:lnTo>
                <a:lnTo>
                  <a:pt x="1664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9" y="560"/>
                </a:lnTo>
                <a:lnTo>
                  <a:pt x="1679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90" y="560"/>
                </a:lnTo>
                <a:lnTo>
                  <a:pt x="1690" y="560"/>
                </a:lnTo>
                <a:lnTo>
                  <a:pt x="1695" y="560"/>
                </a:lnTo>
                <a:lnTo>
                  <a:pt x="1695" y="560"/>
                </a:lnTo>
                <a:lnTo>
                  <a:pt x="1695" y="560"/>
                </a:lnTo>
                <a:lnTo>
                  <a:pt x="1700" y="565"/>
                </a:lnTo>
                <a:lnTo>
                  <a:pt x="1700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10" y="565"/>
                </a:lnTo>
                <a:lnTo>
                  <a:pt x="1710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21" y="565"/>
                </a:lnTo>
                <a:lnTo>
                  <a:pt x="1721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31" y="565"/>
                </a:lnTo>
                <a:lnTo>
                  <a:pt x="1731" y="565"/>
                </a:lnTo>
                <a:lnTo>
                  <a:pt x="1736" y="565"/>
                </a:lnTo>
                <a:lnTo>
                  <a:pt x="1736" y="565"/>
                </a:lnTo>
                <a:lnTo>
                  <a:pt x="1736" y="571"/>
                </a:lnTo>
                <a:lnTo>
                  <a:pt x="1741" y="571"/>
                </a:lnTo>
                <a:lnTo>
                  <a:pt x="1741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7" y="571"/>
                </a:lnTo>
                <a:lnTo>
                  <a:pt x="1757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7" y="571"/>
                </a:lnTo>
                <a:lnTo>
                  <a:pt x="1767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8" y="571"/>
                </a:lnTo>
                <a:lnTo>
                  <a:pt x="1778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8" y="576"/>
                </a:lnTo>
                <a:lnTo>
                  <a:pt x="1788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8" y="576"/>
                </a:lnTo>
                <a:lnTo>
                  <a:pt x="1798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9" y="576"/>
                </a:lnTo>
                <a:lnTo>
                  <a:pt x="1809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9" y="576"/>
                </a:lnTo>
                <a:lnTo>
                  <a:pt x="1819" y="581"/>
                </a:lnTo>
                <a:lnTo>
                  <a:pt x="1819" y="581"/>
                </a:lnTo>
                <a:lnTo>
                  <a:pt x="1824" y="581"/>
                </a:lnTo>
                <a:lnTo>
                  <a:pt x="1824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5" y="581"/>
                </a:lnTo>
                <a:lnTo>
                  <a:pt x="1835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5" y="581"/>
                </a:lnTo>
                <a:lnTo>
                  <a:pt x="1845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5" y="581"/>
                </a:lnTo>
                <a:lnTo>
                  <a:pt x="1855" y="581"/>
                </a:lnTo>
                <a:lnTo>
                  <a:pt x="1861" y="581"/>
                </a:lnTo>
                <a:lnTo>
                  <a:pt x="1861" y="586"/>
                </a:lnTo>
                <a:lnTo>
                  <a:pt x="1861" y="586"/>
                </a:lnTo>
                <a:lnTo>
                  <a:pt x="1866" y="586"/>
                </a:lnTo>
                <a:lnTo>
                  <a:pt x="1866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6" y="586"/>
                </a:lnTo>
                <a:lnTo>
                  <a:pt x="1876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7" y="586"/>
                </a:lnTo>
                <a:lnTo>
                  <a:pt x="1887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7" y="586"/>
                </a:lnTo>
                <a:lnTo>
                  <a:pt x="1897" y="586"/>
                </a:lnTo>
                <a:lnTo>
                  <a:pt x="1897" y="586"/>
                </a:lnTo>
                <a:lnTo>
                  <a:pt x="1902" y="586"/>
                </a:lnTo>
                <a:lnTo>
                  <a:pt x="1902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12" y="591"/>
                </a:lnTo>
                <a:lnTo>
                  <a:pt x="1912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23" y="591"/>
                </a:lnTo>
                <a:lnTo>
                  <a:pt x="1923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33" y="591"/>
                </a:lnTo>
                <a:lnTo>
                  <a:pt x="1933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44" y="591"/>
                </a:lnTo>
                <a:lnTo>
                  <a:pt x="1944" y="591"/>
                </a:lnTo>
                <a:lnTo>
                  <a:pt x="1949" y="596"/>
                </a:lnTo>
                <a:lnTo>
                  <a:pt x="1949" y="596"/>
                </a:lnTo>
                <a:lnTo>
                  <a:pt x="1949" y="596"/>
                </a:lnTo>
                <a:lnTo>
                  <a:pt x="1954" y="596"/>
                </a:lnTo>
                <a:lnTo>
                  <a:pt x="1954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64" y="596"/>
                </a:lnTo>
                <a:lnTo>
                  <a:pt x="1964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80" y="596"/>
                </a:lnTo>
                <a:lnTo>
                  <a:pt x="1980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90" y="596"/>
                </a:lnTo>
                <a:lnTo>
                  <a:pt x="1990" y="602"/>
                </a:lnTo>
                <a:lnTo>
                  <a:pt x="1995" y="602"/>
                </a:lnTo>
                <a:lnTo>
                  <a:pt x="1995" y="602"/>
                </a:lnTo>
                <a:lnTo>
                  <a:pt x="1995" y="602"/>
                </a:lnTo>
                <a:lnTo>
                  <a:pt x="2001" y="602"/>
                </a:lnTo>
                <a:lnTo>
                  <a:pt x="2001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11" y="602"/>
                </a:lnTo>
                <a:lnTo>
                  <a:pt x="2011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21" y="602"/>
                </a:lnTo>
                <a:lnTo>
                  <a:pt x="2021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32" y="602"/>
                </a:lnTo>
                <a:lnTo>
                  <a:pt x="2032" y="602"/>
                </a:lnTo>
                <a:lnTo>
                  <a:pt x="2037" y="602"/>
                </a:lnTo>
                <a:lnTo>
                  <a:pt x="2037" y="607"/>
                </a:lnTo>
                <a:lnTo>
                  <a:pt x="2037" y="607"/>
                </a:lnTo>
                <a:lnTo>
                  <a:pt x="2042" y="607"/>
                </a:lnTo>
                <a:lnTo>
                  <a:pt x="2042" y="607"/>
                </a:lnTo>
                <a:lnTo>
                  <a:pt x="2047" y="607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7" name=""/>
          <p:cNvGrpSpPr/>
          <p:nvPr/>
        </p:nvGrpSpPr>
        <p:grpSpPr>
          <a:xfrm>
            <a:off x="5697360" y="77400"/>
            <a:ext cx="2747880" cy="2286000"/>
            <a:chOff x="5697360" y="77400"/>
            <a:chExt cx="2747880" cy="2286000"/>
          </a:xfrm>
        </p:grpSpPr>
        <p:sp>
          <p:nvSpPr>
            <p:cNvPr id="5108" name=""/>
            <p:cNvSpPr/>
            <p:nvPr/>
          </p:nvSpPr>
          <p:spPr>
            <a:xfrm flipV="1">
              <a:off x="5697360" y="651600"/>
              <a:ext cx="279000" cy="42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697360" y="1081440"/>
              <a:ext cx="279000" cy="437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V="1">
              <a:off x="6048000" y="134712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6048000" y="151884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 flipV="1">
              <a:off x="6048000" y="307080"/>
              <a:ext cx="285480" cy="344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6048000" y="65160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6399000" y="1804680"/>
              <a:ext cx="285480" cy="58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399000" y="1863000"/>
              <a:ext cx="28548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6399000" y="123228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399000" y="134712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6399000" y="651600"/>
              <a:ext cx="285480" cy="171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6399000" y="822960"/>
              <a:ext cx="285480" cy="114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6399000" y="77400"/>
              <a:ext cx="285480" cy="22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399000" y="307080"/>
              <a:ext cx="28548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 flipV="1">
              <a:off x="6756120" y="2077200"/>
              <a:ext cx="2793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6756120" y="2091240"/>
              <a:ext cx="279360" cy="136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6756120" y="1768680"/>
              <a:ext cx="27936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6756120" y="1804680"/>
              <a:ext cx="279360" cy="12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6756120" y="1468800"/>
              <a:ext cx="27936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6756120" y="1518840"/>
              <a:ext cx="279360" cy="9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6756120" y="851760"/>
              <a:ext cx="279360" cy="85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6756120" y="937800"/>
              <a:ext cx="279360" cy="71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6756120" y="550440"/>
              <a:ext cx="279360" cy="10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6756120" y="651600"/>
              <a:ext cx="27936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 flipV="1">
              <a:off x="6756120" y="241920"/>
              <a:ext cx="279360" cy="12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6756120" y="365040"/>
              <a:ext cx="279360" cy="34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107120" y="2228040"/>
              <a:ext cx="2790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7107120" y="2228040"/>
              <a:ext cx="279000" cy="78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 flipV="1">
              <a:off x="7107120" y="1912680"/>
              <a:ext cx="27900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7107120" y="1926360"/>
              <a:ext cx="2790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 flipV="1">
              <a:off x="7107120" y="1596960"/>
              <a:ext cx="2790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7107120" y="1618200"/>
              <a:ext cx="279000" cy="57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 flipV="1">
              <a:off x="7107120" y="143928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7107120" y="1468800"/>
              <a:ext cx="279000" cy="49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V="1">
              <a:off x="7107120" y="96624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7107120" y="1009800"/>
              <a:ext cx="279000" cy="35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V="1">
              <a:off x="7107120" y="808560"/>
              <a:ext cx="2790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7107120" y="851760"/>
              <a:ext cx="27900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 flipV="1">
              <a:off x="7107120" y="651240"/>
              <a:ext cx="279000" cy="49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7107120" y="700920"/>
              <a:ext cx="27900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 flipV="1">
              <a:off x="7107120" y="335880"/>
              <a:ext cx="2790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7107120" y="399600"/>
              <a:ext cx="279000" cy="15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 flipV="1">
              <a:off x="7458120" y="229968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7458120" y="2306880"/>
              <a:ext cx="285480" cy="36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 flipV="1">
              <a:off x="7458120" y="198432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7458120" y="1991520"/>
              <a:ext cx="285480" cy="28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 flipV="1">
              <a:off x="7458120" y="166248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458120" y="16761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V="1">
              <a:off x="7458120" y="150480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7458120" y="1518840"/>
              <a:ext cx="2854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V="1">
              <a:off x="7458120" y="1023480"/>
              <a:ext cx="285480" cy="21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7458120" y="1045440"/>
              <a:ext cx="285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V="1">
              <a:off x="7458120" y="865440"/>
              <a:ext cx="2854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7458120" y="88812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458120" y="7005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458120" y="730080"/>
              <a:ext cx="28548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 flipV="1">
              <a:off x="7458120" y="385560"/>
              <a:ext cx="285480" cy="29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458120" y="415080"/>
              <a:ext cx="28548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7808760" y="234288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808760" y="23428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7808760" y="230004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808760" y="230004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7808760" y="2020680"/>
              <a:ext cx="285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7808760" y="2020680"/>
              <a:ext cx="285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7808760" y="1696320"/>
              <a:ext cx="2858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7808760" y="170532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7808760" y="1539360"/>
              <a:ext cx="2858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7808760" y="153936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 flipV="1">
              <a:off x="7808760" y="105264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7808760" y="1066320"/>
              <a:ext cx="2858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 flipV="1">
              <a:off x="7808760" y="89460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808760" y="901800"/>
              <a:ext cx="285840" cy="14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 flipV="1">
              <a:off x="7808760" y="408240"/>
              <a:ext cx="28584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808760" y="421920"/>
              <a:ext cx="28584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165880" y="232056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8165880" y="2320560"/>
              <a:ext cx="27936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8165880" y="204120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8165880" y="2041200"/>
              <a:ext cx="279360" cy="7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V="1">
              <a:off x="8165880" y="17118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8165880" y="17190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8165880" y="1554480"/>
              <a:ext cx="279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8165880" y="155448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8165880" y="1066320"/>
              <a:ext cx="2793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8165880" y="107460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 flipV="1">
              <a:off x="8165880" y="421560"/>
              <a:ext cx="279360" cy="6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8165880" y="428760"/>
              <a:ext cx="2793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4" name=""/>
          <p:cNvSpPr/>
          <p:nvPr/>
        </p:nvSpPr>
        <p:spPr>
          <a:xfrm>
            <a:off x="5098320" y="777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5181480" y="32767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problems are highly complex and extremely frag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 flipH="1">
            <a:off x="3733920" y="426708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380880" y="152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obust problems are rare and highly struct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 flipH="1">
            <a:off x="838080" y="1828800"/>
            <a:ext cx="533520" cy="7621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6019920" y="5257800"/>
            <a:ext cx="268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ing is HARD at phase bound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5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5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5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209000" y="0"/>
            <a:ext cx="1935000" cy="28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0" t="0" r="72504" b="10861"/>
          <a:stretch/>
        </p:blipFill>
        <p:spPr>
          <a:xfrm>
            <a:off x="0" y="3886200"/>
            <a:ext cx="1676520" cy="297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rcRect l="35943" t="8076" r="28123" b="37433"/>
          <a:stretch/>
        </p:blipFill>
        <p:spPr>
          <a:xfrm>
            <a:off x="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rcRect l="46253" t="0" r="18753" b="10861"/>
          <a:stretch/>
        </p:blipFill>
        <p:spPr>
          <a:xfrm>
            <a:off x="7086600" y="388620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79320" y="4648320"/>
            <a:ext cx="6109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Is there any hop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510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What is the ultimate showstop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"/>
          <p:cNvSpPr/>
          <p:nvPr/>
        </p:nvSpPr>
        <p:spPr>
          <a:xfrm>
            <a:off x="619200" y="2481120"/>
            <a:ext cx="3571920" cy="311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619200" y="5600880"/>
            <a:ext cx="357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 flipV="1">
            <a:off x="61920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61920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5691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 flipV="1">
            <a:off x="12621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12621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21212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 flipV="1">
            <a:off x="191124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191124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86156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 flipV="1">
            <a:off x="2562120" y="555912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562120" y="24811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251244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321156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321156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3161880" y="562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 flipV="1">
            <a:off x="3862440" y="555912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3862440" y="24811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3763080" y="5624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619200" y="5254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4167360" y="5254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619200" y="52959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 flipH="1">
            <a:off x="4167360" y="5295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619200" y="5345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>
            <a:off x="4167360" y="5345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619200" y="54021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 flipH="1">
            <a:off x="4167360" y="54021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619200" y="5460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 flipH="1">
            <a:off x="4167360" y="5460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619200" y="55339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 flipH="1">
            <a:off x="4167360" y="55339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619200" y="5254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 flipH="1">
            <a:off x="4149360" y="52545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152280" y="5156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376920" y="5038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619200" y="4975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 flipH="1">
            <a:off x="4167360" y="4975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619200" y="48099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 flipH="1">
            <a:off x="4167360" y="48099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619200" y="4695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 flipH="1">
            <a:off x="4167360" y="4695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619200" y="4605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 flipH="1">
            <a:off x="4167360" y="4605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619200" y="45385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 flipH="1">
            <a:off x="4167360" y="45385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619200" y="44737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 flipH="1">
            <a:off x="4167360" y="4473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619200" y="44146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 flipH="1">
            <a:off x="4167360" y="44146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619200" y="43736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 flipH="1">
            <a:off x="4167360" y="43736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619200" y="43340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>
            <a:off x="4167360" y="43340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619200" y="4334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 flipH="1">
            <a:off x="4149360" y="4334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152280" y="4233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376920" y="41180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619200" y="40528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H="1">
            <a:off x="4167360" y="4052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619200" y="38894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 flipH="1">
            <a:off x="4167360" y="38894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619200" y="3773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 flipH="1">
            <a:off x="4167360" y="3773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619200" y="3683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4167360" y="3683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619200" y="36082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4167360" y="36082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619200" y="35434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 flipH="1">
            <a:off x="4167360" y="3543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619200" y="349416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4167360" y="34941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619200" y="34448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 flipH="1">
            <a:off x="4167360" y="34448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619200" y="340344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H="1">
            <a:off x="4167360" y="340344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619200" y="34034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 flipH="1">
            <a:off x="4149360" y="3403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152280" y="3305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376920" y="31878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619200" y="312408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 flipH="1">
            <a:off x="4167360" y="3124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619200" y="29592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 flipH="1">
            <a:off x="4167360" y="2959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619200" y="284328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 flipH="1">
            <a:off x="4167360" y="28432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619200" y="275256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 flipH="1">
            <a:off x="4167360" y="27525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619200" y="267984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 flipH="1">
            <a:off x="4167360" y="26798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619200" y="262260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 flipH="1">
            <a:off x="4167360" y="2622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619200" y="25639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 flipH="1">
            <a:off x="4167360" y="25639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619200" y="2522520"/>
            <a:ext cx="1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 flipH="1">
            <a:off x="4167360" y="25225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619200" y="2481120"/>
            <a:ext cx="1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 flipH="1">
            <a:off x="4167360" y="248112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619200" y="24811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 flipH="1">
            <a:off x="4149360" y="24811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152280" y="2382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377280" y="226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619200" y="2481120"/>
            <a:ext cx="35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619200" y="2481120"/>
            <a:ext cx="3571920" cy="3119760"/>
          </a:xfrm>
          <a:custGeom>
            <a:avLst/>
            <a:gdLst/>
            <a:ahLst/>
            <a:rect l="l" t="t" r="r" b="b"/>
            <a:pathLst>
              <a:path w="434" h="379">
                <a:moveTo>
                  <a:pt x="0" y="379"/>
                </a:moveTo>
                <a:lnTo>
                  <a:pt x="434" y="379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 flipV="1">
            <a:off x="619200" y="2481120"/>
            <a:ext cx="1440" cy="311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2882880" y="5591160"/>
            <a:ext cx="2556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3203640" y="5591160"/>
            <a:ext cx="25200" cy="25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3541680" y="5591160"/>
            <a:ext cx="1800" cy="9720"/>
          </a:xfrm>
          <a:prstGeom prst="line">
            <a:avLst/>
          </a:prstGeom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3475080" y="552600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3475080" y="5533920"/>
            <a:ext cx="139680" cy="139680"/>
          </a:xfrm>
          <a:prstGeom prst="ellipse">
            <a:avLst/>
          </a:prstGeom>
          <a:solidFill>
            <a:srgbClr val="cc0099"/>
          </a:solidFill>
          <a:ln w="0">
            <a:solidFill>
              <a:srgbClr val="cc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941400" y="2486160"/>
            <a:ext cx="3249720" cy="963360"/>
          </a:xfrm>
          <a:custGeom>
            <a:avLst/>
            <a:gdLst/>
            <a:ahLst/>
            <a:rect l="l" t="t" r="r" b="b"/>
            <a:pathLst>
              <a:path w="2047" h="607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6"/>
                </a:lnTo>
                <a:lnTo>
                  <a:pt x="10" y="6"/>
                </a:lnTo>
                <a:lnTo>
                  <a:pt x="10" y="11"/>
                </a:lnTo>
                <a:lnTo>
                  <a:pt x="10" y="11"/>
                </a:lnTo>
                <a:lnTo>
                  <a:pt x="15" y="16"/>
                </a:lnTo>
                <a:lnTo>
                  <a:pt x="15" y="16"/>
                </a:lnTo>
                <a:lnTo>
                  <a:pt x="20" y="21"/>
                </a:lnTo>
                <a:lnTo>
                  <a:pt x="20" y="21"/>
                </a:lnTo>
                <a:lnTo>
                  <a:pt x="20" y="26"/>
                </a:lnTo>
                <a:lnTo>
                  <a:pt x="26" y="26"/>
                </a:lnTo>
                <a:lnTo>
                  <a:pt x="26" y="26"/>
                </a:lnTo>
                <a:lnTo>
                  <a:pt x="26" y="31"/>
                </a:lnTo>
                <a:lnTo>
                  <a:pt x="31" y="31"/>
                </a:lnTo>
                <a:lnTo>
                  <a:pt x="31" y="37"/>
                </a:lnTo>
                <a:lnTo>
                  <a:pt x="36" y="37"/>
                </a:lnTo>
                <a:lnTo>
                  <a:pt x="36" y="42"/>
                </a:lnTo>
                <a:lnTo>
                  <a:pt x="36" y="42"/>
                </a:lnTo>
                <a:lnTo>
                  <a:pt x="41" y="42"/>
                </a:lnTo>
                <a:lnTo>
                  <a:pt x="41" y="47"/>
                </a:lnTo>
                <a:lnTo>
                  <a:pt x="46" y="47"/>
                </a:lnTo>
                <a:lnTo>
                  <a:pt x="46" y="52"/>
                </a:lnTo>
                <a:lnTo>
                  <a:pt x="46" y="52"/>
                </a:lnTo>
                <a:lnTo>
                  <a:pt x="51" y="52"/>
                </a:lnTo>
                <a:lnTo>
                  <a:pt x="51" y="57"/>
                </a:lnTo>
                <a:lnTo>
                  <a:pt x="57" y="57"/>
                </a:lnTo>
                <a:lnTo>
                  <a:pt x="57" y="63"/>
                </a:lnTo>
                <a:lnTo>
                  <a:pt x="57" y="63"/>
                </a:lnTo>
                <a:lnTo>
                  <a:pt x="62" y="63"/>
                </a:lnTo>
                <a:lnTo>
                  <a:pt x="62" y="68"/>
                </a:lnTo>
                <a:lnTo>
                  <a:pt x="67" y="68"/>
                </a:lnTo>
                <a:lnTo>
                  <a:pt x="67" y="68"/>
                </a:lnTo>
                <a:lnTo>
                  <a:pt x="67" y="73"/>
                </a:lnTo>
                <a:lnTo>
                  <a:pt x="72" y="73"/>
                </a:lnTo>
                <a:lnTo>
                  <a:pt x="72" y="78"/>
                </a:lnTo>
                <a:lnTo>
                  <a:pt x="77" y="78"/>
                </a:lnTo>
                <a:lnTo>
                  <a:pt x="77" y="78"/>
                </a:lnTo>
                <a:lnTo>
                  <a:pt x="77" y="83"/>
                </a:lnTo>
                <a:lnTo>
                  <a:pt x="83" y="83"/>
                </a:lnTo>
                <a:lnTo>
                  <a:pt x="83" y="83"/>
                </a:lnTo>
                <a:lnTo>
                  <a:pt x="88" y="89"/>
                </a:lnTo>
                <a:lnTo>
                  <a:pt x="88" y="89"/>
                </a:lnTo>
                <a:lnTo>
                  <a:pt x="88" y="89"/>
                </a:lnTo>
                <a:lnTo>
                  <a:pt x="93" y="94"/>
                </a:lnTo>
                <a:lnTo>
                  <a:pt x="93" y="94"/>
                </a:lnTo>
                <a:lnTo>
                  <a:pt x="93" y="94"/>
                </a:lnTo>
                <a:lnTo>
                  <a:pt x="98" y="99"/>
                </a:lnTo>
                <a:lnTo>
                  <a:pt x="98" y="99"/>
                </a:lnTo>
                <a:lnTo>
                  <a:pt x="103" y="99"/>
                </a:lnTo>
                <a:lnTo>
                  <a:pt x="103" y="104"/>
                </a:lnTo>
                <a:lnTo>
                  <a:pt x="103" y="104"/>
                </a:lnTo>
                <a:lnTo>
                  <a:pt x="108" y="104"/>
                </a:lnTo>
                <a:lnTo>
                  <a:pt x="108" y="109"/>
                </a:lnTo>
                <a:lnTo>
                  <a:pt x="114" y="109"/>
                </a:lnTo>
                <a:lnTo>
                  <a:pt x="114" y="109"/>
                </a:lnTo>
                <a:lnTo>
                  <a:pt x="114" y="114"/>
                </a:lnTo>
                <a:lnTo>
                  <a:pt x="119" y="114"/>
                </a:lnTo>
                <a:lnTo>
                  <a:pt x="119" y="114"/>
                </a:lnTo>
                <a:lnTo>
                  <a:pt x="124" y="114"/>
                </a:lnTo>
                <a:lnTo>
                  <a:pt x="124" y="120"/>
                </a:lnTo>
                <a:lnTo>
                  <a:pt x="124" y="120"/>
                </a:lnTo>
                <a:lnTo>
                  <a:pt x="129" y="120"/>
                </a:lnTo>
                <a:lnTo>
                  <a:pt x="129" y="125"/>
                </a:lnTo>
                <a:lnTo>
                  <a:pt x="134" y="125"/>
                </a:lnTo>
                <a:lnTo>
                  <a:pt x="134" y="125"/>
                </a:lnTo>
                <a:lnTo>
                  <a:pt x="134" y="130"/>
                </a:lnTo>
                <a:lnTo>
                  <a:pt x="140" y="130"/>
                </a:lnTo>
                <a:lnTo>
                  <a:pt x="140" y="130"/>
                </a:lnTo>
                <a:lnTo>
                  <a:pt x="145" y="130"/>
                </a:lnTo>
                <a:lnTo>
                  <a:pt x="145" y="135"/>
                </a:lnTo>
                <a:lnTo>
                  <a:pt x="145" y="135"/>
                </a:lnTo>
                <a:lnTo>
                  <a:pt x="150" y="135"/>
                </a:lnTo>
                <a:lnTo>
                  <a:pt x="150" y="140"/>
                </a:lnTo>
                <a:lnTo>
                  <a:pt x="155" y="140"/>
                </a:lnTo>
                <a:lnTo>
                  <a:pt x="155" y="140"/>
                </a:lnTo>
                <a:lnTo>
                  <a:pt x="155" y="140"/>
                </a:lnTo>
                <a:lnTo>
                  <a:pt x="160" y="146"/>
                </a:lnTo>
                <a:lnTo>
                  <a:pt x="160" y="146"/>
                </a:lnTo>
                <a:lnTo>
                  <a:pt x="165" y="146"/>
                </a:lnTo>
                <a:lnTo>
                  <a:pt x="165" y="146"/>
                </a:lnTo>
                <a:lnTo>
                  <a:pt x="165" y="151"/>
                </a:lnTo>
                <a:lnTo>
                  <a:pt x="171" y="151"/>
                </a:lnTo>
                <a:lnTo>
                  <a:pt x="171" y="151"/>
                </a:lnTo>
                <a:lnTo>
                  <a:pt x="171" y="156"/>
                </a:lnTo>
                <a:lnTo>
                  <a:pt x="176" y="156"/>
                </a:lnTo>
                <a:lnTo>
                  <a:pt x="176" y="156"/>
                </a:lnTo>
                <a:lnTo>
                  <a:pt x="181" y="156"/>
                </a:lnTo>
                <a:lnTo>
                  <a:pt x="181" y="161"/>
                </a:lnTo>
                <a:lnTo>
                  <a:pt x="181" y="161"/>
                </a:lnTo>
                <a:lnTo>
                  <a:pt x="186" y="161"/>
                </a:lnTo>
                <a:lnTo>
                  <a:pt x="186" y="161"/>
                </a:lnTo>
                <a:lnTo>
                  <a:pt x="191" y="166"/>
                </a:lnTo>
                <a:lnTo>
                  <a:pt x="191" y="166"/>
                </a:lnTo>
                <a:lnTo>
                  <a:pt x="191" y="166"/>
                </a:lnTo>
                <a:lnTo>
                  <a:pt x="197" y="166"/>
                </a:lnTo>
                <a:lnTo>
                  <a:pt x="197" y="171"/>
                </a:lnTo>
                <a:lnTo>
                  <a:pt x="202" y="171"/>
                </a:lnTo>
                <a:lnTo>
                  <a:pt x="202" y="171"/>
                </a:lnTo>
                <a:lnTo>
                  <a:pt x="202" y="171"/>
                </a:lnTo>
                <a:lnTo>
                  <a:pt x="207" y="177"/>
                </a:lnTo>
                <a:lnTo>
                  <a:pt x="207" y="177"/>
                </a:lnTo>
                <a:lnTo>
                  <a:pt x="212" y="177"/>
                </a:lnTo>
                <a:lnTo>
                  <a:pt x="212" y="177"/>
                </a:lnTo>
                <a:lnTo>
                  <a:pt x="212" y="182"/>
                </a:lnTo>
                <a:lnTo>
                  <a:pt x="217" y="182"/>
                </a:lnTo>
                <a:lnTo>
                  <a:pt x="217" y="182"/>
                </a:lnTo>
                <a:lnTo>
                  <a:pt x="223" y="182"/>
                </a:lnTo>
                <a:lnTo>
                  <a:pt x="223" y="187"/>
                </a:lnTo>
                <a:lnTo>
                  <a:pt x="223" y="187"/>
                </a:lnTo>
                <a:lnTo>
                  <a:pt x="228" y="187"/>
                </a:lnTo>
                <a:lnTo>
                  <a:pt x="228" y="187"/>
                </a:lnTo>
                <a:lnTo>
                  <a:pt x="233" y="187"/>
                </a:lnTo>
                <a:lnTo>
                  <a:pt x="233" y="192"/>
                </a:lnTo>
                <a:lnTo>
                  <a:pt x="233" y="192"/>
                </a:lnTo>
                <a:lnTo>
                  <a:pt x="238" y="192"/>
                </a:lnTo>
                <a:lnTo>
                  <a:pt x="238" y="192"/>
                </a:lnTo>
                <a:lnTo>
                  <a:pt x="243" y="197"/>
                </a:lnTo>
                <a:lnTo>
                  <a:pt x="243" y="197"/>
                </a:lnTo>
                <a:lnTo>
                  <a:pt x="243" y="197"/>
                </a:lnTo>
                <a:lnTo>
                  <a:pt x="248" y="197"/>
                </a:lnTo>
                <a:lnTo>
                  <a:pt x="248" y="197"/>
                </a:lnTo>
                <a:lnTo>
                  <a:pt x="248" y="203"/>
                </a:lnTo>
                <a:lnTo>
                  <a:pt x="254" y="203"/>
                </a:lnTo>
                <a:lnTo>
                  <a:pt x="254" y="203"/>
                </a:lnTo>
                <a:lnTo>
                  <a:pt x="259" y="203"/>
                </a:lnTo>
                <a:lnTo>
                  <a:pt x="259" y="208"/>
                </a:lnTo>
                <a:lnTo>
                  <a:pt x="259" y="208"/>
                </a:lnTo>
                <a:lnTo>
                  <a:pt x="264" y="208"/>
                </a:lnTo>
                <a:lnTo>
                  <a:pt x="264" y="208"/>
                </a:lnTo>
                <a:lnTo>
                  <a:pt x="269" y="208"/>
                </a:lnTo>
                <a:lnTo>
                  <a:pt x="269" y="213"/>
                </a:lnTo>
                <a:lnTo>
                  <a:pt x="269" y="213"/>
                </a:lnTo>
                <a:lnTo>
                  <a:pt x="274" y="213"/>
                </a:lnTo>
                <a:lnTo>
                  <a:pt x="274" y="213"/>
                </a:lnTo>
                <a:lnTo>
                  <a:pt x="280" y="213"/>
                </a:lnTo>
                <a:lnTo>
                  <a:pt x="280" y="218"/>
                </a:lnTo>
                <a:lnTo>
                  <a:pt x="280" y="218"/>
                </a:lnTo>
                <a:lnTo>
                  <a:pt x="285" y="218"/>
                </a:lnTo>
                <a:lnTo>
                  <a:pt x="285" y="218"/>
                </a:lnTo>
                <a:lnTo>
                  <a:pt x="290" y="218"/>
                </a:lnTo>
                <a:lnTo>
                  <a:pt x="290" y="223"/>
                </a:lnTo>
                <a:lnTo>
                  <a:pt x="290" y="223"/>
                </a:lnTo>
                <a:lnTo>
                  <a:pt x="295" y="223"/>
                </a:lnTo>
                <a:lnTo>
                  <a:pt x="295" y="223"/>
                </a:lnTo>
                <a:lnTo>
                  <a:pt x="300" y="223"/>
                </a:lnTo>
                <a:lnTo>
                  <a:pt x="300" y="228"/>
                </a:lnTo>
                <a:lnTo>
                  <a:pt x="300" y="228"/>
                </a:lnTo>
                <a:lnTo>
                  <a:pt x="305" y="228"/>
                </a:lnTo>
                <a:lnTo>
                  <a:pt x="305" y="228"/>
                </a:lnTo>
                <a:lnTo>
                  <a:pt x="311" y="228"/>
                </a:lnTo>
                <a:lnTo>
                  <a:pt x="311" y="234"/>
                </a:lnTo>
                <a:lnTo>
                  <a:pt x="311" y="234"/>
                </a:lnTo>
                <a:lnTo>
                  <a:pt x="316" y="234"/>
                </a:lnTo>
                <a:lnTo>
                  <a:pt x="316" y="234"/>
                </a:lnTo>
                <a:lnTo>
                  <a:pt x="321" y="234"/>
                </a:lnTo>
                <a:lnTo>
                  <a:pt x="321" y="239"/>
                </a:lnTo>
                <a:lnTo>
                  <a:pt x="321" y="239"/>
                </a:lnTo>
                <a:lnTo>
                  <a:pt x="326" y="239"/>
                </a:lnTo>
                <a:lnTo>
                  <a:pt x="326" y="239"/>
                </a:lnTo>
                <a:lnTo>
                  <a:pt x="326" y="239"/>
                </a:lnTo>
                <a:lnTo>
                  <a:pt x="331" y="244"/>
                </a:lnTo>
                <a:lnTo>
                  <a:pt x="331" y="244"/>
                </a:lnTo>
                <a:lnTo>
                  <a:pt x="337" y="244"/>
                </a:lnTo>
                <a:lnTo>
                  <a:pt x="337" y="244"/>
                </a:lnTo>
                <a:lnTo>
                  <a:pt x="337" y="244"/>
                </a:lnTo>
                <a:lnTo>
                  <a:pt x="342" y="244"/>
                </a:lnTo>
                <a:lnTo>
                  <a:pt x="342" y="249"/>
                </a:lnTo>
                <a:lnTo>
                  <a:pt x="347" y="249"/>
                </a:lnTo>
                <a:lnTo>
                  <a:pt x="347" y="249"/>
                </a:lnTo>
                <a:lnTo>
                  <a:pt x="347" y="249"/>
                </a:lnTo>
                <a:lnTo>
                  <a:pt x="352" y="249"/>
                </a:lnTo>
                <a:lnTo>
                  <a:pt x="352" y="254"/>
                </a:lnTo>
                <a:lnTo>
                  <a:pt x="357" y="254"/>
                </a:lnTo>
                <a:lnTo>
                  <a:pt x="357" y="254"/>
                </a:lnTo>
                <a:lnTo>
                  <a:pt x="357" y="254"/>
                </a:lnTo>
                <a:lnTo>
                  <a:pt x="362" y="254"/>
                </a:lnTo>
                <a:lnTo>
                  <a:pt x="362" y="254"/>
                </a:lnTo>
                <a:lnTo>
                  <a:pt x="368" y="260"/>
                </a:lnTo>
                <a:lnTo>
                  <a:pt x="368" y="260"/>
                </a:lnTo>
                <a:lnTo>
                  <a:pt x="368" y="260"/>
                </a:lnTo>
                <a:lnTo>
                  <a:pt x="373" y="260"/>
                </a:lnTo>
                <a:lnTo>
                  <a:pt x="373" y="260"/>
                </a:lnTo>
                <a:lnTo>
                  <a:pt x="378" y="265"/>
                </a:lnTo>
                <a:lnTo>
                  <a:pt x="378" y="265"/>
                </a:lnTo>
                <a:lnTo>
                  <a:pt x="378" y="265"/>
                </a:lnTo>
                <a:lnTo>
                  <a:pt x="383" y="265"/>
                </a:lnTo>
                <a:lnTo>
                  <a:pt x="383" y="265"/>
                </a:lnTo>
                <a:lnTo>
                  <a:pt x="388" y="265"/>
                </a:lnTo>
                <a:lnTo>
                  <a:pt x="388" y="270"/>
                </a:lnTo>
                <a:lnTo>
                  <a:pt x="388" y="270"/>
                </a:lnTo>
                <a:lnTo>
                  <a:pt x="394" y="270"/>
                </a:lnTo>
                <a:lnTo>
                  <a:pt x="394" y="270"/>
                </a:lnTo>
                <a:lnTo>
                  <a:pt x="394" y="270"/>
                </a:lnTo>
                <a:lnTo>
                  <a:pt x="399" y="270"/>
                </a:lnTo>
                <a:lnTo>
                  <a:pt x="399" y="275"/>
                </a:lnTo>
                <a:lnTo>
                  <a:pt x="404" y="275"/>
                </a:lnTo>
                <a:lnTo>
                  <a:pt x="404" y="275"/>
                </a:lnTo>
                <a:lnTo>
                  <a:pt x="404" y="275"/>
                </a:lnTo>
                <a:lnTo>
                  <a:pt x="409" y="275"/>
                </a:lnTo>
                <a:lnTo>
                  <a:pt x="409" y="275"/>
                </a:lnTo>
                <a:lnTo>
                  <a:pt x="414" y="280"/>
                </a:lnTo>
                <a:lnTo>
                  <a:pt x="414" y="280"/>
                </a:lnTo>
                <a:lnTo>
                  <a:pt x="414" y="280"/>
                </a:lnTo>
                <a:lnTo>
                  <a:pt x="419" y="280"/>
                </a:lnTo>
                <a:lnTo>
                  <a:pt x="419" y="280"/>
                </a:lnTo>
                <a:lnTo>
                  <a:pt x="425" y="280"/>
                </a:lnTo>
                <a:lnTo>
                  <a:pt x="425" y="280"/>
                </a:lnTo>
                <a:lnTo>
                  <a:pt x="425" y="285"/>
                </a:lnTo>
                <a:lnTo>
                  <a:pt x="430" y="285"/>
                </a:lnTo>
                <a:lnTo>
                  <a:pt x="430" y="285"/>
                </a:lnTo>
                <a:lnTo>
                  <a:pt x="435" y="285"/>
                </a:lnTo>
                <a:lnTo>
                  <a:pt x="435" y="285"/>
                </a:lnTo>
                <a:lnTo>
                  <a:pt x="435" y="285"/>
                </a:lnTo>
                <a:lnTo>
                  <a:pt x="440" y="291"/>
                </a:lnTo>
                <a:lnTo>
                  <a:pt x="440" y="291"/>
                </a:lnTo>
                <a:lnTo>
                  <a:pt x="445" y="291"/>
                </a:lnTo>
                <a:lnTo>
                  <a:pt x="445" y="291"/>
                </a:lnTo>
                <a:lnTo>
                  <a:pt x="445" y="291"/>
                </a:lnTo>
                <a:lnTo>
                  <a:pt x="451" y="291"/>
                </a:lnTo>
                <a:lnTo>
                  <a:pt x="451" y="291"/>
                </a:lnTo>
                <a:lnTo>
                  <a:pt x="456" y="296"/>
                </a:lnTo>
                <a:lnTo>
                  <a:pt x="456" y="296"/>
                </a:lnTo>
                <a:lnTo>
                  <a:pt x="456" y="296"/>
                </a:lnTo>
                <a:lnTo>
                  <a:pt x="461" y="296"/>
                </a:lnTo>
                <a:lnTo>
                  <a:pt x="461" y="296"/>
                </a:lnTo>
                <a:lnTo>
                  <a:pt x="466" y="296"/>
                </a:lnTo>
                <a:lnTo>
                  <a:pt x="466" y="301"/>
                </a:lnTo>
                <a:lnTo>
                  <a:pt x="466" y="301"/>
                </a:lnTo>
                <a:lnTo>
                  <a:pt x="471" y="301"/>
                </a:lnTo>
                <a:lnTo>
                  <a:pt x="471" y="301"/>
                </a:lnTo>
                <a:lnTo>
                  <a:pt x="471" y="301"/>
                </a:lnTo>
                <a:lnTo>
                  <a:pt x="477" y="301"/>
                </a:lnTo>
                <a:lnTo>
                  <a:pt x="477" y="301"/>
                </a:lnTo>
                <a:lnTo>
                  <a:pt x="482" y="306"/>
                </a:lnTo>
                <a:lnTo>
                  <a:pt x="482" y="306"/>
                </a:lnTo>
                <a:lnTo>
                  <a:pt x="482" y="306"/>
                </a:lnTo>
                <a:lnTo>
                  <a:pt x="487" y="306"/>
                </a:lnTo>
                <a:lnTo>
                  <a:pt x="487" y="306"/>
                </a:lnTo>
                <a:lnTo>
                  <a:pt x="492" y="306"/>
                </a:lnTo>
                <a:lnTo>
                  <a:pt x="492" y="306"/>
                </a:lnTo>
                <a:lnTo>
                  <a:pt x="492" y="311"/>
                </a:lnTo>
                <a:lnTo>
                  <a:pt x="497" y="311"/>
                </a:lnTo>
                <a:lnTo>
                  <a:pt x="497" y="311"/>
                </a:lnTo>
                <a:lnTo>
                  <a:pt x="502" y="311"/>
                </a:lnTo>
                <a:lnTo>
                  <a:pt x="502" y="311"/>
                </a:lnTo>
                <a:lnTo>
                  <a:pt x="502" y="311"/>
                </a:lnTo>
                <a:lnTo>
                  <a:pt x="508" y="311"/>
                </a:lnTo>
                <a:lnTo>
                  <a:pt x="508" y="317"/>
                </a:lnTo>
                <a:lnTo>
                  <a:pt x="513" y="317"/>
                </a:lnTo>
                <a:lnTo>
                  <a:pt x="513" y="317"/>
                </a:lnTo>
                <a:lnTo>
                  <a:pt x="513" y="317"/>
                </a:lnTo>
                <a:lnTo>
                  <a:pt x="518" y="317"/>
                </a:lnTo>
                <a:lnTo>
                  <a:pt x="518" y="317"/>
                </a:lnTo>
                <a:lnTo>
                  <a:pt x="523" y="317"/>
                </a:lnTo>
                <a:lnTo>
                  <a:pt x="523" y="322"/>
                </a:lnTo>
                <a:lnTo>
                  <a:pt x="523" y="322"/>
                </a:lnTo>
                <a:lnTo>
                  <a:pt x="528" y="322"/>
                </a:lnTo>
                <a:lnTo>
                  <a:pt x="528" y="322"/>
                </a:lnTo>
                <a:lnTo>
                  <a:pt x="534" y="322"/>
                </a:lnTo>
                <a:lnTo>
                  <a:pt x="534" y="322"/>
                </a:lnTo>
                <a:lnTo>
                  <a:pt x="534" y="322"/>
                </a:lnTo>
                <a:lnTo>
                  <a:pt x="539" y="327"/>
                </a:lnTo>
                <a:lnTo>
                  <a:pt x="539" y="327"/>
                </a:lnTo>
                <a:lnTo>
                  <a:pt x="544" y="327"/>
                </a:lnTo>
                <a:lnTo>
                  <a:pt x="544" y="327"/>
                </a:lnTo>
                <a:lnTo>
                  <a:pt x="544" y="327"/>
                </a:lnTo>
                <a:lnTo>
                  <a:pt x="549" y="327"/>
                </a:lnTo>
                <a:lnTo>
                  <a:pt x="549" y="327"/>
                </a:lnTo>
                <a:lnTo>
                  <a:pt x="549" y="327"/>
                </a:lnTo>
                <a:lnTo>
                  <a:pt x="554" y="332"/>
                </a:lnTo>
                <a:lnTo>
                  <a:pt x="554" y="332"/>
                </a:lnTo>
                <a:lnTo>
                  <a:pt x="559" y="332"/>
                </a:lnTo>
                <a:lnTo>
                  <a:pt x="559" y="332"/>
                </a:lnTo>
                <a:lnTo>
                  <a:pt x="559" y="332"/>
                </a:lnTo>
                <a:lnTo>
                  <a:pt x="565" y="332"/>
                </a:lnTo>
                <a:lnTo>
                  <a:pt x="565" y="332"/>
                </a:lnTo>
                <a:lnTo>
                  <a:pt x="570" y="332"/>
                </a:lnTo>
                <a:lnTo>
                  <a:pt x="570" y="337"/>
                </a:lnTo>
                <a:lnTo>
                  <a:pt x="570" y="337"/>
                </a:lnTo>
                <a:lnTo>
                  <a:pt x="575" y="337"/>
                </a:lnTo>
                <a:lnTo>
                  <a:pt x="575" y="337"/>
                </a:lnTo>
                <a:lnTo>
                  <a:pt x="580" y="337"/>
                </a:lnTo>
                <a:lnTo>
                  <a:pt x="580" y="337"/>
                </a:lnTo>
                <a:lnTo>
                  <a:pt x="580" y="337"/>
                </a:lnTo>
                <a:lnTo>
                  <a:pt x="585" y="342"/>
                </a:lnTo>
                <a:lnTo>
                  <a:pt x="585" y="342"/>
                </a:lnTo>
                <a:lnTo>
                  <a:pt x="591" y="342"/>
                </a:lnTo>
                <a:lnTo>
                  <a:pt x="591" y="342"/>
                </a:lnTo>
                <a:lnTo>
                  <a:pt x="591" y="342"/>
                </a:lnTo>
                <a:lnTo>
                  <a:pt x="596" y="342"/>
                </a:lnTo>
                <a:lnTo>
                  <a:pt x="596" y="342"/>
                </a:lnTo>
                <a:lnTo>
                  <a:pt x="601" y="342"/>
                </a:lnTo>
                <a:lnTo>
                  <a:pt x="601" y="348"/>
                </a:lnTo>
                <a:lnTo>
                  <a:pt x="601" y="348"/>
                </a:lnTo>
                <a:lnTo>
                  <a:pt x="606" y="348"/>
                </a:lnTo>
                <a:lnTo>
                  <a:pt x="606" y="348"/>
                </a:lnTo>
                <a:lnTo>
                  <a:pt x="611" y="348"/>
                </a:lnTo>
                <a:lnTo>
                  <a:pt x="611" y="348"/>
                </a:lnTo>
                <a:lnTo>
                  <a:pt x="611" y="348"/>
                </a:lnTo>
                <a:lnTo>
                  <a:pt x="616" y="348"/>
                </a:lnTo>
                <a:lnTo>
                  <a:pt x="616" y="348"/>
                </a:lnTo>
                <a:lnTo>
                  <a:pt x="622" y="353"/>
                </a:lnTo>
                <a:lnTo>
                  <a:pt x="622" y="353"/>
                </a:lnTo>
                <a:lnTo>
                  <a:pt x="622" y="353"/>
                </a:lnTo>
                <a:lnTo>
                  <a:pt x="627" y="353"/>
                </a:lnTo>
                <a:lnTo>
                  <a:pt x="627" y="353"/>
                </a:lnTo>
                <a:lnTo>
                  <a:pt x="627" y="353"/>
                </a:lnTo>
                <a:lnTo>
                  <a:pt x="632" y="353"/>
                </a:lnTo>
                <a:lnTo>
                  <a:pt x="632" y="353"/>
                </a:lnTo>
                <a:lnTo>
                  <a:pt x="637" y="358"/>
                </a:lnTo>
                <a:lnTo>
                  <a:pt x="637" y="358"/>
                </a:lnTo>
                <a:lnTo>
                  <a:pt x="637" y="358"/>
                </a:lnTo>
                <a:lnTo>
                  <a:pt x="642" y="358"/>
                </a:lnTo>
                <a:lnTo>
                  <a:pt x="642" y="358"/>
                </a:lnTo>
                <a:lnTo>
                  <a:pt x="648" y="358"/>
                </a:lnTo>
                <a:lnTo>
                  <a:pt x="648" y="358"/>
                </a:lnTo>
                <a:lnTo>
                  <a:pt x="648" y="358"/>
                </a:lnTo>
                <a:lnTo>
                  <a:pt x="653" y="363"/>
                </a:lnTo>
                <a:lnTo>
                  <a:pt x="653" y="363"/>
                </a:lnTo>
                <a:lnTo>
                  <a:pt x="658" y="363"/>
                </a:lnTo>
                <a:lnTo>
                  <a:pt x="658" y="363"/>
                </a:lnTo>
                <a:lnTo>
                  <a:pt x="658" y="363"/>
                </a:lnTo>
                <a:lnTo>
                  <a:pt x="663" y="363"/>
                </a:lnTo>
                <a:lnTo>
                  <a:pt x="663" y="363"/>
                </a:lnTo>
                <a:lnTo>
                  <a:pt x="668" y="363"/>
                </a:lnTo>
                <a:lnTo>
                  <a:pt x="668" y="363"/>
                </a:lnTo>
                <a:lnTo>
                  <a:pt x="668" y="368"/>
                </a:lnTo>
                <a:lnTo>
                  <a:pt x="674" y="368"/>
                </a:lnTo>
                <a:lnTo>
                  <a:pt x="674" y="368"/>
                </a:lnTo>
                <a:lnTo>
                  <a:pt x="679" y="368"/>
                </a:lnTo>
                <a:lnTo>
                  <a:pt x="679" y="368"/>
                </a:lnTo>
                <a:lnTo>
                  <a:pt x="679" y="368"/>
                </a:lnTo>
                <a:lnTo>
                  <a:pt x="684" y="368"/>
                </a:lnTo>
                <a:lnTo>
                  <a:pt x="684" y="368"/>
                </a:lnTo>
                <a:lnTo>
                  <a:pt x="689" y="368"/>
                </a:lnTo>
                <a:lnTo>
                  <a:pt x="689" y="374"/>
                </a:lnTo>
                <a:lnTo>
                  <a:pt x="689" y="374"/>
                </a:lnTo>
                <a:lnTo>
                  <a:pt x="694" y="374"/>
                </a:lnTo>
                <a:lnTo>
                  <a:pt x="694" y="374"/>
                </a:lnTo>
                <a:lnTo>
                  <a:pt x="694" y="374"/>
                </a:lnTo>
                <a:lnTo>
                  <a:pt x="699" y="374"/>
                </a:lnTo>
                <a:lnTo>
                  <a:pt x="699" y="374"/>
                </a:lnTo>
                <a:lnTo>
                  <a:pt x="705" y="374"/>
                </a:lnTo>
                <a:lnTo>
                  <a:pt x="705" y="374"/>
                </a:lnTo>
                <a:lnTo>
                  <a:pt x="705" y="379"/>
                </a:lnTo>
                <a:lnTo>
                  <a:pt x="710" y="379"/>
                </a:lnTo>
                <a:lnTo>
                  <a:pt x="710" y="379"/>
                </a:lnTo>
                <a:lnTo>
                  <a:pt x="715" y="379"/>
                </a:lnTo>
                <a:lnTo>
                  <a:pt x="715" y="379"/>
                </a:lnTo>
                <a:lnTo>
                  <a:pt x="715" y="379"/>
                </a:lnTo>
                <a:lnTo>
                  <a:pt x="720" y="379"/>
                </a:lnTo>
                <a:lnTo>
                  <a:pt x="720" y="379"/>
                </a:lnTo>
                <a:lnTo>
                  <a:pt x="725" y="379"/>
                </a:lnTo>
                <a:lnTo>
                  <a:pt x="725" y="384"/>
                </a:lnTo>
                <a:lnTo>
                  <a:pt x="725" y="384"/>
                </a:lnTo>
                <a:lnTo>
                  <a:pt x="731" y="384"/>
                </a:lnTo>
                <a:lnTo>
                  <a:pt x="731" y="384"/>
                </a:lnTo>
                <a:lnTo>
                  <a:pt x="736" y="384"/>
                </a:lnTo>
                <a:lnTo>
                  <a:pt x="736" y="384"/>
                </a:lnTo>
                <a:lnTo>
                  <a:pt x="736" y="384"/>
                </a:lnTo>
                <a:lnTo>
                  <a:pt x="741" y="384"/>
                </a:lnTo>
                <a:lnTo>
                  <a:pt x="741" y="384"/>
                </a:lnTo>
                <a:lnTo>
                  <a:pt x="746" y="384"/>
                </a:lnTo>
                <a:lnTo>
                  <a:pt x="746" y="389"/>
                </a:lnTo>
                <a:lnTo>
                  <a:pt x="746" y="389"/>
                </a:lnTo>
                <a:lnTo>
                  <a:pt x="751" y="389"/>
                </a:lnTo>
                <a:lnTo>
                  <a:pt x="751" y="389"/>
                </a:lnTo>
                <a:lnTo>
                  <a:pt x="756" y="389"/>
                </a:lnTo>
                <a:lnTo>
                  <a:pt x="756" y="389"/>
                </a:lnTo>
                <a:lnTo>
                  <a:pt x="756" y="389"/>
                </a:lnTo>
                <a:lnTo>
                  <a:pt x="762" y="389"/>
                </a:lnTo>
                <a:lnTo>
                  <a:pt x="762" y="389"/>
                </a:lnTo>
                <a:lnTo>
                  <a:pt x="767" y="394"/>
                </a:lnTo>
                <a:lnTo>
                  <a:pt x="767" y="394"/>
                </a:lnTo>
                <a:lnTo>
                  <a:pt x="767" y="394"/>
                </a:lnTo>
                <a:lnTo>
                  <a:pt x="772" y="394"/>
                </a:lnTo>
                <a:lnTo>
                  <a:pt x="772" y="394"/>
                </a:lnTo>
                <a:lnTo>
                  <a:pt x="772" y="394"/>
                </a:lnTo>
                <a:lnTo>
                  <a:pt x="777" y="394"/>
                </a:lnTo>
                <a:lnTo>
                  <a:pt x="777" y="394"/>
                </a:lnTo>
                <a:lnTo>
                  <a:pt x="782" y="394"/>
                </a:lnTo>
                <a:lnTo>
                  <a:pt x="782" y="394"/>
                </a:lnTo>
                <a:lnTo>
                  <a:pt x="782" y="399"/>
                </a:lnTo>
                <a:lnTo>
                  <a:pt x="788" y="399"/>
                </a:lnTo>
                <a:lnTo>
                  <a:pt x="788" y="399"/>
                </a:lnTo>
                <a:lnTo>
                  <a:pt x="793" y="399"/>
                </a:lnTo>
                <a:lnTo>
                  <a:pt x="793" y="399"/>
                </a:lnTo>
                <a:lnTo>
                  <a:pt x="793" y="399"/>
                </a:lnTo>
                <a:lnTo>
                  <a:pt x="798" y="399"/>
                </a:lnTo>
                <a:lnTo>
                  <a:pt x="798" y="399"/>
                </a:lnTo>
                <a:lnTo>
                  <a:pt x="803" y="399"/>
                </a:lnTo>
                <a:lnTo>
                  <a:pt x="803" y="399"/>
                </a:lnTo>
                <a:lnTo>
                  <a:pt x="803" y="405"/>
                </a:lnTo>
                <a:lnTo>
                  <a:pt x="808" y="405"/>
                </a:lnTo>
                <a:lnTo>
                  <a:pt x="808" y="405"/>
                </a:lnTo>
                <a:lnTo>
                  <a:pt x="813" y="405"/>
                </a:lnTo>
                <a:lnTo>
                  <a:pt x="813" y="405"/>
                </a:lnTo>
                <a:lnTo>
                  <a:pt x="813" y="405"/>
                </a:lnTo>
                <a:lnTo>
                  <a:pt x="819" y="405"/>
                </a:lnTo>
                <a:lnTo>
                  <a:pt x="819" y="405"/>
                </a:lnTo>
                <a:lnTo>
                  <a:pt x="824" y="405"/>
                </a:lnTo>
                <a:lnTo>
                  <a:pt x="824" y="405"/>
                </a:lnTo>
                <a:lnTo>
                  <a:pt x="824" y="410"/>
                </a:lnTo>
                <a:lnTo>
                  <a:pt x="829" y="410"/>
                </a:lnTo>
                <a:lnTo>
                  <a:pt x="829" y="410"/>
                </a:lnTo>
                <a:lnTo>
                  <a:pt x="834" y="410"/>
                </a:lnTo>
                <a:lnTo>
                  <a:pt x="834" y="410"/>
                </a:lnTo>
                <a:lnTo>
                  <a:pt x="834" y="410"/>
                </a:lnTo>
                <a:lnTo>
                  <a:pt x="839" y="410"/>
                </a:lnTo>
                <a:lnTo>
                  <a:pt x="839" y="410"/>
                </a:lnTo>
                <a:lnTo>
                  <a:pt x="845" y="410"/>
                </a:lnTo>
                <a:lnTo>
                  <a:pt x="845" y="410"/>
                </a:lnTo>
                <a:lnTo>
                  <a:pt x="845" y="415"/>
                </a:lnTo>
                <a:lnTo>
                  <a:pt x="850" y="415"/>
                </a:lnTo>
                <a:lnTo>
                  <a:pt x="850" y="415"/>
                </a:lnTo>
                <a:lnTo>
                  <a:pt x="850" y="415"/>
                </a:lnTo>
                <a:lnTo>
                  <a:pt x="855" y="415"/>
                </a:lnTo>
                <a:lnTo>
                  <a:pt x="855" y="415"/>
                </a:lnTo>
                <a:lnTo>
                  <a:pt x="860" y="415"/>
                </a:lnTo>
                <a:lnTo>
                  <a:pt x="860" y="415"/>
                </a:lnTo>
                <a:lnTo>
                  <a:pt x="860" y="415"/>
                </a:lnTo>
                <a:lnTo>
                  <a:pt x="865" y="415"/>
                </a:lnTo>
                <a:lnTo>
                  <a:pt x="865" y="415"/>
                </a:lnTo>
                <a:lnTo>
                  <a:pt x="871" y="420"/>
                </a:lnTo>
                <a:lnTo>
                  <a:pt x="871" y="420"/>
                </a:lnTo>
                <a:lnTo>
                  <a:pt x="871" y="420"/>
                </a:lnTo>
                <a:lnTo>
                  <a:pt x="876" y="420"/>
                </a:lnTo>
                <a:lnTo>
                  <a:pt x="876" y="420"/>
                </a:lnTo>
                <a:lnTo>
                  <a:pt x="881" y="420"/>
                </a:lnTo>
                <a:lnTo>
                  <a:pt x="881" y="420"/>
                </a:lnTo>
                <a:lnTo>
                  <a:pt x="881" y="420"/>
                </a:lnTo>
                <a:lnTo>
                  <a:pt x="886" y="420"/>
                </a:lnTo>
                <a:lnTo>
                  <a:pt x="886" y="420"/>
                </a:lnTo>
                <a:lnTo>
                  <a:pt x="891" y="420"/>
                </a:lnTo>
                <a:lnTo>
                  <a:pt x="891" y="425"/>
                </a:lnTo>
                <a:lnTo>
                  <a:pt x="891" y="425"/>
                </a:lnTo>
                <a:lnTo>
                  <a:pt x="896" y="425"/>
                </a:lnTo>
                <a:lnTo>
                  <a:pt x="896" y="425"/>
                </a:lnTo>
                <a:lnTo>
                  <a:pt x="902" y="425"/>
                </a:lnTo>
                <a:lnTo>
                  <a:pt x="902" y="425"/>
                </a:lnTo>
                <a:lnTo>
                  <a:pt x="902" y="425"/>
                </a:lnTo>
                <a:lnTo>
                  <a:pt x="907" y="425"/>
                </a:lnTo>
                <a:lnTo>
                  <a:pt x="907" y="425"/>
                </a:lnTo>
                <a:lnTo>
                  <a:pt x="912" y="425"/>
                </a:lnTo>
                <a:lnTo>
                  <a:pt x="912" y="425"/>
                </a:lnTo>
                <a:lnTo>
                  <a:pt x="912" y="431"/>
                </a:lnTo>
                <a:lnTo>
                  <a:pt x="917" y="431"/>
                </a:lnTo>
                <a:lnTo>
                  <a:pt x="917" y="431"/>
                </a:lnTo>
                <a:lnTo>
                  <a:pt x="922" y="431"/>
                </a:lnTo>
                <a:lnTo>
                  <a:pt x="922" y="431"/>
                </a:lnTo>
                <a:lnTo>
                  <a:pt x="922" y="431"/>
                </a:lnTo>
                <a:lnTo>
                  <a:pt x="928" y="431"/>
                </a:lnTo>
                <a:lnTo>
                  <a:pt x="928" y="431"/>
                </a:lnTo>
                <a:lnTo>
                  <a:pt x="928" y="431"/>
                </a:lnTo>
                <a:lnTo>
                  <a:pt x="933" y="431"/>
                </a:lnTo>
                <a:lnTo>
                  <a:pt x="933" y="431"/>
                </a:lnTo>
                <a:lnTo>
                  <a:pt x="938" y="436"/>
                </a:lnTo>
                <a:lnTo>
                  <a:pt x="938" y="436"/>
                </a:lnTo>
                <a:lnTo>
                  <a:pt x="938" y="436"/>
                </a:lnTo>
                <a:lnTo>
                  <a:pt x="943" y="436"/>
                </a:lnTo>
                <a:lnTo>
                  <a:pt x="943" y="436"/>
                </a:lnTo>
                <a:lnTo>
                  <a:pt x="948" y="436"/>
                </a:lnTo>
                <a:lnTo>
                  <a:pt x="948" y="436"/>
                </a:lnTo>
                <a:lnTo>
                  <a:pt x="948" y="436"/>
                </a:lnTo>
                <a:lnTo>
                  <a:pt x="953" y="436"/>
                </a:lnTo>
                <a:lnTo>
                  <a:pt x="953" y="436"/>
                </a:lnTo>
                <a:lnTo>
                  <a:pt x="959" y="436"/>
                </a:lnTo>
                <a:lnTo>
                  <a:pt x="959" y="436"/>
                </a:lnTo>
                <a:lnTo>
                  <a:pt x="959" y="441"/>
                </a:lnTo>
                <a:lnTo>
                  <a:pt x="964" y="441"/>
                </a:lnTo>
                <a:lnTo>
                  <a:pt x="964" y="441"/>
                </a:lnTo>
                <a:lnTo>
                  <a:pt x="969" y="441"/>
                </a:lnTo>
                <a:lnTo>
                  <a:pt x="969" y="441"/>
                </a:lnTo>
                <a:lnTo>
                  <a:pt x="969" y="441"/>
                </a:lnTo>
                <a:lnTo>
                  <a:pt x="974" y="441"/>
                </a:lnTo>
                <a:lnTo>
                  <a:pt x="974" y="441"/>
                </a:lnTo>
                <a:lnTo>
                  <a:pt x="979" y="441"/>
                </a:lnTo>
                <a:lnTo>
                  <a:pt x="979" y="441"/>
                </a:lnTo>
                <a:lnTo>
                  <a:pt x="979" y="441"/>
                </a:lnTo>
                <a:lnTo>
                  <a:pt x="985" y="441"/>
                </a:lnTo>
                <a:lnTo>
                  <a:pt x="985" y="446"/>
                </a:lnTo>
                <a:lnTo>
                  <a:pt x="990" y="446"/>
                </a:lnTo>
                <a:lnTo>
                  <a:pt x="990" y="446"/>
                </a:lnTo>
                <a:lnTo>
                  <a:pt x="990" y="446"/>
                </a:lnTo>
                <a:lnTo>
                  <a:pt x="995" y="446"/>
                </a:lnTo>
                <a:lnTo>
                  <a:pt x="995" y="446"/>
                </a:lnTo>
                <a:lnTo>
                  <a:pt x="995" y="446"/>
                </a:lnTo>
                <a:lnTo>
                  <a:pt x="1000" y="446"/>
                </a:lnTo>
                <a:lnTo>
                  <a:pt x="1000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05" y="446"/>
                </a:lnTo>
                <a:lnTo>
                  <a:pt x="1010" y="451"/>
                </a:lnTo>
                <a:lnTo>
                  <a:pt x="1010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16" y="451"/>
                </a:lnTo>
                <a:lnTo>
                  <a:pt x="1021" y="451"/>
                </a:lnTo>
                <a:lnTo>
                  <a:pt x="1021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26" y="451"/>
                </a:lnTo>
                <a:lnTo>
                  <a:pt x="1031" y="451"/>
                </a:lnTo>
                <a:lnTo>
                  <a:pt x="1031" y="451"/>
                </a:lnTo>
                <a:lnTo>
                  <a:pt x="1036" y="456"/>
                </a:lnTo>
                <a:lnTo>
                  <a:pt x="1036" y="456"/>
                </a:lnTo>
                <a:lnTo>
                  <a:pt x="1036" y="456"/>
                </a:lnTo>
                <a:lnTo>
                  <a:pt x="1042" y="456"/>
                </a:lnTo>
                <a:lnTo>
                  <a:pt x="1042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47" y="456"/>
                </a:lnTo>
                <a:lnTo>
                  <a:pt x="1052" y="456"/>
                </a:lnTo>
                <a:lnTo>
                  <a:pt x="1052" y="456"/>
                </a:lnTo>
                <a:lnTo>
                  <a:pt x="1057" y="456"/>
                </a:lnTo>
                <a:lnTo>
                  <a:pt x="1057" y="456"/>
                </a:lnTo>
                <a:lnTo>
                  <a:pt x="1057" y="462"/>
                </a:lnTo>
                <a:lnTo>
                  <a:pt x="1062" y="462"/>
                </a:lnTo>
                <a:lnTo>
                  <a:pt x="1062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67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3" y="462"/>
                </a:lnTo>
                <a:lnTo>
                  <a:pt x="1078" y="462"/>
                </a:lnTo>
                <a:lnTo>
                  <a:pt x="1078" y="462"/>
                </a:lnTo>
                <a:lnTo>
                  <a:pt x="1083" y="462"/>
                </a:lnTo>
                <a:lnTo>
                  <a:pt x="1083" y="462"/>
                </a:lnTo>
                <a:lnTo>
                  <a:pt x="1083" y="467"/>
                </a:lnTo>
                <a:lnTo>
                  <a:pt x="1088" y="467"/>
                </a:lnTo>
                <a:lnTo>
                  <a:pt x="1088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3" y="467"/>
                </a:lnTo>
                <a:lnTo>
                  <a:pt x="1099" y="467"/>
                </a:lnTo>
                <a:lnTo>
                  <a:pt x="1099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4" y="467"/>
                </a:lnTo>
                <a:lnTo>
                  <a:pt x="1109" y="467"/>
                </a:lnTo>
                <a:lnTo>
                  <a:pt x="1109" y="467"/>
                </a:lnTo>
                <a:lnTo>
                  <a:pt x="1114" y="472"/>
                </a:lnTo>
                <a:lnTo>
                  <a:pt x="1114" y="472"/>
                </a:lnTo>
                <a:lnTo>
                  <a:pt x="1114" y="472"/>
                </a:lnTo>
                <a:lnTo>
                  <a:pt x="1119" y="472"/>
                </a:lnTo>
                <a:lnTo>
                  <a:pt x="1119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25" y="472"/>
                </a:lnTo>
                <a:lnTo>
                  <a:pt x="1130" y="472"/>
                </a:lnTo>
                <a:lnTo>
                  <a:pt x="1130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35" y="472"/>
                </a:lnTo>
                <a:lnTo>
                  <a:pt x="1140" y="472"/>
                </a:lnTo>
                <a:lnTo>
                  <a:pt x="1140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45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0" y="477"/>
                </a:lnTo>
                <a:lnTo>
                  <a:pt x="1156" y="477"/>
                </a:lnTo>
                <a:lnTo>
                  <a:pt x="1156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1" y="477"/>
                </a:lnTo>
                <a:lnTo>
                  <a:pt x="1166" y="477"/>
                </a:lnTo>
                <a:lnTo>
                  <a:pt x="1166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1" y="482"/>
                </a:lnTo>
                <a:lnTo>
                  <a:pt x="1176" y="482"/>
                </a:lnTo>
                <a:lnTo>
                  <a:pt x="1176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2" y="482"/>
                </a:lnTo>
                <a:lnTo>
                  <a:pt x="1187" y="482"/>
                </a:lnTo>
                <a:lnTo>
                  <a:pt x="1187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2" y="482"/>
                </a:lnTo>
                <a:lnTo>
                  <a:pt x="1197" y="488"/>
                </a:lnTo>
                <a:lnTo>
                  <a:pt x="1197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2" y="488"/>
                </a:lnTo>
                <a:lnTo>
                  <a:pt x="1207" y="488"/>
                </a:lnTo>
                <a:lnTo>
                  <a:pt x="1207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3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18" y="488"/>
                </a:lnTo>
                <a:lnTo>
                  <a:pt x="1223" y="488"/>
                </a:lnTo>
                <a:lnTo>
                  <a:pt x="1223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28" y="493"/>
                </a:lnTo>
                <a:lnTo>
                  <a:pt x="1233" y="493"/>
                </a:lnTo>
                <a:lnTo>
                  <a:pt x="1233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39" y="493"/>
                </a:lnTo>
                <a:lnTo>
                  <a:pt x="1244" y="493"/>
                </a:lnTo>
                <a:lnTo>
                  <a:pt x="1244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49" y="493"/>
                </a:lnTo>
                <a:lnTo>
                  <a:pt x="1254" y="493"/>
                </a:lnTo>
                <a:lnTo>
                  <a:pt x="1254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59" y="498"/>
                </a:lnTo>
                <a:lnTo>
                  <a:pt x="1264" y="498"/>
                </a:lnTo>
                <a:lnTo>
                  <a:pt x="1264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0" y="498"/>
                </a:lnTo>
                <a:lnTo>
                  <a:pt x="1275" y="498"/>
                </a:lnTo>
                <a:lnTo>
                  <a:pt x="1275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0" y="498"/>
                </a:lnTo>
                <a:lnTo>
                  <a:pt x="1285" y="503"/>
                </a:lnTo>
                <a:lnTo>
                  <a:pt x="1285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0" y="503"/>
                </a:lnTo>
                <a:lnTo>
                  <a:pt x="1296" y="503"/>
                </a:lnTo>
                <a:lnTo>
                  <a:pt x="1296" y="503"/>
                </a:lnTo>
                <a:lnTo>
                  <a:pt x="1296" y="503"/>
                </a:lnTo>
                <a:lnTo>
                  <a:pt x="1301" y="503"/>
                </a:lnTo>
                <a:lnTo>
                  <a:pt x="1301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06" y="503"/>
                </a:lnTo>
                <a:lnTo>
                  <a:pt x="1311" y="503"/>
                </a:lnTo>
                <a:lnTo>
                  <a:pt x="1311" y="503"/>
                </a:lnTo>
                <a:lnTo>
                  <a:pt x="1316" y="508"/>
                </a:lnTo>
                <a:lnTo>
                  <a:pt x="1316" y="508"/>
                </a:lnTo>
                <a:lnTo>
                  <a:pt x="1316" y="508"/>
                </a:lnTo>
                <a:lnTo>
                  <a:pt x="1322" y="508"/>
                </a:lnTo>
                <a:lnTo>
                  <a:pt x="1322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27" y="508"/>
                </a:lnTo>
                <a:lnTo>
                  <a:pt x="1332" y="508"/>
                </a:lnTo>
                <a:lnTo>
                  <a:pt x="1332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37" y="508"/>
                </a:lnTo>
                <a:lnTo>
                  <a:pt x="1342" y="508"/>
                </a:lnTo>
                <a:lnTo>
                  <a:pt x="1342" y="508"/>
                </a:lnTo>
                <a:lnTo>
                  <a:pt x="1347" y="508"/>
                </a:lnTo>
                <a:lnTo>
                  <a:pt x="1347" y="513"/>
                </a:lnTo>
                <a:lnTo>
                  <a:pt x="1347" y="513"/>
                </a:lnTo>
                <a:lnTo>
                  <a:pt x="1353" y="513"/>
                </a:lnTo>
                <a:lnTo>
                  <a:pt x="1353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58" y="513"/>
                </a:lnTo>
                <a:lnTo>
                  <a:pt x="1363" y="513"/>
                </a:lnTo>
                <a:lnTo>
                  <a:pt x="1363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68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3" y="513"/>
                </a:lnTo>
                <a:lnTo>
                  <a:pt x="1379" y="519"/>
                </a:lnTo>
                <a:lnTo>
                  <a:pt x="1379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4" y="519"/>
                </a:lnTo>
                <a:lnTo>
                  <a:pt x="1389" y="519"/>
                </a:lnTo>
                <a:lnTo>
                  <a:pt x="1389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4" y="519"/>
                </a:lnTo>
                <a:lnTo>
                  <a:pt x="1399" y="519"/>
                </a:lnTo>
                <a:lnTo>
                  <a:pt x="1399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04" y="519"/>
                </a:lnTo>
                <a:lnTo>
                  <a:pt x="1410" y="519"/>
                </a:lnTo>
                <a:lnTo>
                  <a:pt x="1410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15" y="524"/>
                </a:lnTo>
                <a:lnTo>
                  <a:pt x="1420" y="524"/>
                </a:lnTo>
                <a:lnTo>
                  <a:pt x="1420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25" y="524"/>
                </a:lnTo>
                <a:lnTo>
                  <a:pt x="1430" y="524"/>
                </a:lnTo>
                <a:lnTo>
                  <a:pt x="1430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36" y="524"/>
                </a:lnTo>
                <a:lnTo>
                  <a:pt x="1441" y="524"/>
                </a:lnTo>
                <a:lnTo>
                  <a:pt x="1441" y="524"/>
                </a:lnTo>
                <a:lnTo>
                  <a:pt x="1446" y="524"/>
                </a:lnTo>
                <a:lnTo>
                  <a:pt x="1446" y="529"/>
                </a:lnTo>
                <a:lnTo>
                  <a:pt x="1446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1" y="529"/>
                </a:lnTo>
                <a:lnTo>
                  <a:pt x="1456" y="529"/>
                </a:lnTo>
                <a:lnTo>
                  <a:pt x="1456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1" y="529"/>
                </a:lnTo>
                <a:lnTo>
                  <a:pt x="1467" y="529"/>
                </a:lnTo>
                <a:lnTo>
                  <a:pt x="1467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2" y="529"/>
                </a:lnTo>
                <a:lnTo>
                  <a:pt x="1477" y="529"/>
                </a:lnTo>
                <a:lnTo>
                  <a:pt x="1477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2" y="534"/>
                </a:lnTo>
                <a:lnTo>
                  <a:pt x="1487" y="534"/>
                </a:lnTo>
                <a:lnTo>
                  <a:pt x="1487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3" y="534"/>
                </a:lnTo>
                <a:lnTo>
                  <a:pt x="1498" y="534"/>
                </a:lnTo>
                <a:lnTo>
                  <a:pt x="1498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3" y="534"/>
                </a:lnTo>
                <a:lnTo>
                  <a:pt x="1508" y="534"/>
                </a:lnTo>
                <a:lnTo>
                  <a:pt x="1508" y="534"/>
                </a:lnTo>
                <a:lnTo>
                  <a:pt x="1513" y="534"/>
                </a:lnTo>
                <a:lnTo>
                  <a:pt x="1513" y="539"/>
                </a:lnTo>
                <a:lnTo>
                  <a:pt x="1513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18" y="539"/>
                </a:lnTo>
                <a:lnTo>
                  <a:pt x="1524" y="539"/>
                </a:lnTo>
                <a:lnTo>
                  <a:pt x="1524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29" y="539"/>
                </a:lnTo>
                <a:lnTo>
                  <a:pt x="1534" y="539"/>
                </a:lnTo>
                <a:lnTo>
                  <a:pt x="1534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39" y="539"/>
                </a:lnTo>
                <a:lnTo>
                  <a:pt x="1544" y="539"/>
                </a:lnTo>
                <a:lnTo>
                  <a:pt x="1544" y="539"/>
                </a:lnTo>
                <a:lnTo>
                  <a:pt x="1550" y="539"/>
                </a:lnTo>
                <a:lnTo>
                  <a:pt x="1550" y="545"/>
                </a:lnTo>
                <a:lnTo>
                  <a:pt x="1550" y="545"/>
                </a:lnTo>
                <a:lnTo>
                  <a:pt x="1555" y="545"/>
                </a:lnTo>
                <a:lnTo>
                  <a:pt x="1555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0" y="545"/>
                </a:lnTo>
                <a:lnTo>
                  <a:pt x="1565" y="545"/>
                </a:lnTo>
                <a:lnTo>
                  <a:pt x="1565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0" y="545"/>
                </a:lnTo>
                <a:lnTo>
                  <a:pt x="1576" y="545"/>
                </a:lnTo>
                <a:lnTo>
                  <a:pt x="1576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1" y="545"/>
                </a:lnTo>
                <a:lnTo>
                  <a:pt x="1586" y="545"/>
                </a:lnTo>
                <a:lnTo>
                  <a:pt x="1586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1" y="550"/>
                </a:lnTo>
                <a:lnTo>
                  <a:pt x="1596" y="550"/>
                </a:lnTo>
                <a:lnTo>
                  <a:pt x="1596" y="550"/>
                </a:lnTo>
                <a:lnTo>
                  <a:pt x="1596" y="550"/>
                </a:lnTo>
                <a:lnTo>
                  <a:pt x="1601" y="550"/>
                </a:lnTo>
                <a:lnTo>
                  <a:pt x="1601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07" y="550"/>
                </a:lnTo>
                <a:lnTo>
                  <a:pt x="1612" y="550"/>
                </a:lnTo>
                <a:lnTo>
                  <a:pt x="1612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17" y="550"/>
                </a:lnTo>
                <a:lnTo>
                  <a:pt x="1622" y="550"/>
                </a:lnTo>
                <a:lnTo>
                  <a:pt x="1622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27" y="555"/>
                </a:lnTo>
                <a:lnTo>
                  <a:pt x="1633" y="555"/>
                </a:lnTo>
                <a:lnTo>
                  <a:pt x="1633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38" y="555"/>
                </a:lnTo>
                <a:lnTo>
                  <a:pt x="1643" y="555"/>
                </a:lnTo>
                <a:lnTo>
                  <a:pt x="1643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48" y="555"/>
                </a:lnTo>
                <a:lnTo>
                  <a:pt x="1653" y="555"/>
                </a:lnTo>
                <a:lnTo>
                  <a:pt x="1653" y="555"/>
                </a:lnTo>
                <a:lnTo>
                  <a:pt x="1658" y="555"/>
                </a:lnTo>
                <a:lnTo>
                  <a:pt x="1658" y="555"/>
                </a:lnTo>
                <a:lnTo>
                  <a:pt x="1658" y="560"/>
                </a:lnTo>
                <a:lnTo>
                  <a:pt x="1664" y="560"/>
                </a:lnTo>
                <a:lnTo>
                  <a:pt x="1664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69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4" y="560"/>
                </a:lnTo>
                <a:lnTo>
                  <a:pt x="1679" y="560"/>
                </a:lnTo>
                <a:lnTo>
                  <a:pt x="1679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84" y="560"/>
                </a:lnTo>
                <a:lnTo>
                  <a:pt x="1690" y="560"/>
                </a:lnTo>
                <a:lnTo>
                  <a:pt x="1690" y="560"/>
                </a:lnTo>
                <a:lnTo>
                  <a:pt x="1695" y="560"/>
                </a:lnTo>
                <a:lnTo>
                  <a:pt x="1695" y="560"/>
                </a:lnTo>
                <a:lnTo>
                  <a:pt x="1695" y="560"/>
                </a:lnTo>
                <a:lnTo>
                  <a:pt x="1700" y="565"/>
                </a:lnTo>
                <a:lnTo>
                  <a:pt x="1700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05" y="565"/>
                </a:lnTo>
                <a:lnTo>
                  <a:pt x="1710" y="565"/>
                </a:lnTo>
                <a:lnTo>
                  <a:pt x="1710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15" y="565"/>
                </a:lnTo>
                <a:lnTo>
                  <a:pt x="1721" y="565"/>
                </a:lnTo>
                <a:lnTo>
                  <a:pt x="1721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26" y="565"/>
                </a:lnTo>
                <a:lnTo>
                  <a:pt x="1731" y="565"/>
                </a:lnTo>
                <a:lnTo>
                  <a:pt x="1731" y="565"/>
                </a:lnTo>
                <a:lnTo>
                  <a:pt x="1736" y="565"/>
                </a:lnTo>
                <a:lnTo>
                  <a:pt x="1736" y="565"/>
                </a:lnTo>
                <a:lnTo>
                  <a:pt x="1736" y="571"/>
                </a:lnTo>
                <a:lnTo>
                  <a:pt x="1741" y="571"/>
                </a:lnTo>
                <a:lnTo>
                  <a:pt x="1741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47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2" y="571"/>
                </a:lnTo>
                <a:lnTo>
                  <a:pt x="1757" y="571"/>
                </a:lnTo>
                <a:lnTo>
                  <a:pt x="1757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2" y="571"/>
                </a:lnTo>
                <a:lnTo>
                  <a:pt x="1767" y="571"/>
                </a:lnTo>
                <a:lnTo>
                  <a:pt x="1767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3" y="571"/>
                </a:lnTo>
                <a:lnTo>
                  <a:pt x="1778" y="571"/>
                </a:lnTo>
                <a:lnTo>
                  <a:pt x="1778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3" y="576"/>
                </a:lnTo>
                <a:lnTo>
                  <a:pt x="1788" y="576"/>
                </a:lnTo>
                <a:lnTo>
                  <a:pt x="1788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3" y="576"/>
                </a:lnTo>
                <a:lnTo>
                  <a:pt x="1798" y="576"/>
                </a:lnTo>
                <a:lnTo>
                  <a:pt x="1798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4" y="576"/>
                </a:lnTo>
                <a:lnTo>
                  <a:pt x="1809" y="576"/>
                </a:lnTo>
                <a:lnTo>
                  <a:pt x="1809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4" y="576"/>
                </a:lnTo>
                <a:lnTo>
                  <a:pt x="1819" y="576"/>
                </a:lnTo>
                <a:lnTo>
                  <a:pt x="1819" y="581"/>
                </a:lnTo>
                <a:lnTo>
                  <a:pt x="1819" y="581"/>
                </a:lnTo>
                <a:lnTo>
                  <a:pt x="1824" y="581"/>
                </a:lnTo>
                <a:lnTo>
                  <a:pt x="1824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0" y="581"/>
                </a:lnTo>
                <a:lnTo>
                  <a:pt x="1835" y="581"/>
                </a:lnTo>
                <a:lnTo>
                  <a:pt x="1835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0" y="581"/>
                </a:lnTo>
                <a:lnTo>
                  <a:pt x="1845" y="581"/>
                </a:lnTo>
                <a:lnTo>
                  <a:pt x="1845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0" y="581"/>
                </a:lnTo>
                <a:lnTo>
                  <a:pt x="1855" y="581"/>
                </a:lnTo>
                <a:lnTo>
                  <a:pt x="1855" y="581"/>
                </a:lnTo>
                <a:lnTo>
                  <a:pt x="1861" y="581"/>
                </a:lnTo>
                <a:lnTo>
                  <a:pt x="1861" y="586"/>
                </a:lnTo>
                <a:lnTo>
                  <a:pt x="1861" y="586"/>
                </a:lnTo>
                <a:lnTo>
                  <a:pt x="1866" y="586"/>
                </a:lnTo>
                <a:lnTo>
                  <a:pt x="1866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1" y="586"/>
                </a:lnTo>
                <a:lnTo>
                  <a:pt x="1876" y="586"/>
                </a:lnTo>
                <a:lnTo>
                  <a:pt x="1876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1" y="586"/>
                </a:lnTo>
                <a:lnTo>
                  <a:pt x="1887" y="586"/>
                </a:lnTo>
                <a:lnTo>
                  <a:pt x="1887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2" y="586"/>
                </a:lnTo>
                <a:lnTo>
                  <a:pt x="1897" y="586"/>
                </a:lnTo>
                <a:lnTo>
                  <a:pt x="1897" y="586"/>
                </a:lnTo>
                <a:lnTo>
                  <a:pt x="1897" y="586"/>
                </a:lnTo>
                <a:lnTo>
                  <a:pt x="1902" y="586"/>
                </a:lnTo>
                <a:lnTo>
                  <a:pt x="1902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07" y="591"/>
                </a:lnTo>
                <a:lnTo>
                  <a:pt x="1912" y="591"/>
                </a:lnTo>
                <a:lnTo>
                  <a:pt x="1912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18" y="591"/>
                </a:lnTo>
                <a:lnTo>
                  <a:pt x="1923" y="591"/>
                </a:lnTo>
                <a:lnTo>
                  <a:pt x="1923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28" y="591"/>
                </a:lnTo>
                <a:lnTo>
                  <a:pt x="1933" y="591"/>
                </a:lnTo>
                <a:lnTo>
                  <a:pt x="1933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38" y="591"/>
                </a:lnTo>
                <a:lnTo>
                  <a:pt x="1944" y="591"/>
                </a:lnTo>
                <a:lnTo>
                  <a:pt x="1944" y="591"/>
                </a:lnTo>
                <a:lnTo>
                  <a:pt x="1949" y="596"/>
                </a:lnTo>
                <a:lnTo>
                  <a:pt x="1949" y="596"/>
                </a:lnTo>
                <a:lnTo>
                  <a:pt x="1949" y="596"/>
                </a:lnTo>
                <a:lnTo>
                  <a:pt x="1954" y="596"/>
                </a:lnTo>
                <a:lnTo>
                  <a:pt x="1954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59" y="596"/>
                </a:lnTo>
                <a:lnTo>
                  <a:pt x="1964" y="596"/>
                </a:lnTo>
                <a:lnTo>
                  <a:pt x="1964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69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75" y="596"/>
                </a:lnTo>
                <a:lnTo>
                  <a:pt x="1980" y="596"/>
                </a:lnTo>
                <a:lnTo>
                  <a:pt x="1980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85" y="596"/>
                </a:lnTo>
                <a:lnTo>
                  <a:pt x="1990" y="596"/>
                </a:lnTo>
                <a:lnTo>
                  <a:pt x="1990" y="602"/>
                </a:lnTo>
                <a:lnTo>
                  <a:pt x="1995" y="602"/>
                </a:lnTo>
                <a:lnTo>
                  <a:pt x="1995" y="602"/>
                </a:lnTo>
                <a:lnTo>
                  <a:pt x="1995" y="602"/>
                </a:lnTo>
                <a:lnTo>
                  <a:pt x="2001" y="602"/>
                </a:lnTo>
                <a:lnTo>
                  <a:pt x="2001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06" y="602"/>
                </a:lnTo>
                <a:lnTo>
                  <a:pt x="2011" y="602"/>
                </a:lnTo>
                <a:lnTo>
                  <a:pt x="2011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16" y="602"/>
                </a:lnTo>
                <a:lnTo>
                  <a:pt x="2021" y="602"/>
                </a:lnTo>
                <a:lnTo>
                  <a:pt x="2021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27" y="602"/>
                </a:lnTo>
                <a:lnTo>
                  <a:pt x="2032" y="602"/>
                </a:lnTo>
                <a:lnTo>
                  <a:pt x="2032" y="602"/>
                </a:lnTo>
                <a:lnTo>
                  <a:pt x="2037" y="602"/>
                </a:lnTo>
                <a:lnTo>
                  <a:pt x="2037" y="607"/>
                </a:lnTo>
                <a:lnTo>
                  <a:pt x="2037" y="607"/>
                </a:lnTo>
                <a:lnTo>
                  <a:pt x="2042" y="607"/>
                </a:lnTo>
                <a:lnTo>
                  <a:pt x="2042" y="607"/>
                </a:lnTo>
                <a:lnTo>
                  <a:pt x="2047" y="607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5334120" y="40370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problems are highly complex and extremely frag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 flipH="1">
            <a:off x="3733560" y="50292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380880" y="152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obust problems are rare and highly struct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4956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“interesting” problems are on the bound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 flipH="1">
            <a:off x="4419720" y="2514600"/>
            <a:ext cx="17524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H="1">
            <a:off x="838080" y="1828800"/>
            <a:ext cx="533520" cy="7621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"/>
          <p:cNvSpPr/>
          <p:nvPr/>
        </p:nvSpPr>
        <p:spPr>
          <a:xfrm>
            <a:off x="3200400" y="487044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3191040" y="2028960"/>
            <a:ext cx="3571560" cy="3127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3191040" y="202896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3191040" y="485460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3191040" y="4812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3191040" y="20368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3833640" y="4812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3833640" y="203688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 flipV="1">
            <a:off x="4483080" y="4812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4483080" y="20368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V="1">
            <a:off x="5133960" y="4812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5133960" y="20368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 flipV="1">
            <a:off x="5783400" y="4812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5783400" y="20368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6434280" y="4812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6434280" y="203688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3191040" y="48672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6721560" y="48672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3191040" y="43005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6721560" y="43005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191040" y="373212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 flipH="1">
            <a:off x="6721560" y="373212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191040" y="31640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 flipH="1">
            <a:off x="6721560" y="31640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3191040" y="2597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 flipH="1">
            <a:off x="6721560" y="25970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3191040" y="2036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 flipH="1">
            <a:off x="6721560" y="20368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3191040" y="2028960"/>
            <a:ext cx="357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3191040" y="2028960"/>
            <a:ext cx="3571560" cy="2860560"/>
          </a:xfrm>
          <a:custGeom>
            <a:avLst/>
            <a:gdLst/>
            <a:ahLst/>
            <a:rect l="l" t="t" r="r" b="b"/>
            <a:pathLst>
              <a:path w="434" h="380">
                <a:moveTo>
                  <a:pt x="0" y="380"/>
                </a:moveTo>
                <a:lnTo>
                  <a:pt x="434" y="380"/>
                </a:lnTo>
                <a:lnTo>
                  <a:pt x="4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 flipV="1">
            <a:off x="3191040" y="2028960"/>
            <a:ext cx="1440" cy="27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2" name=""/>
          <p:cNvGraphicFramePr/>
          <p:nvPr/>
        </p:nvGraphicFramePr>
        <p:xfrm>
          <a:off x="152280" y="152280"/>
          <a:ext cx="2362320" cy="8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236232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4" name=""/>
          <p:cNvSpPr/>
          <p:nvPr/>
        </p:nvSpPr>
        <p:spPr>
          <a:xfrm>
            <a:off x="3516480" y="2022480"/>
            <a:ext cx="3249360" cy="258444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157320" y="28195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148640" y="60958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2971800" y="1676520"/>
            <a:ext cx="762120" cy="1828800"/>
          </a:xfrm>
          <a:prstGeom prst="ellipse">
            <a:avLst/>
          </a:prstGeom>
          <a:noFill/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4273920" y="1143000"/>
            <a:ext cx="42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Biology and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5181480" y="4648320"/>
            <a:ext cx="1828800" cy="304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6781680" y="449568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3050280" y="50292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5793480" y="5043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1830240" y="17524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1846440" y="429264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5" name=""/>
          <p:cNvGraphicFramePr/>
          <p:nvPr/>
        </p:nvGraphicFramePr>
        <p:xfrm>
          <a:off x="152280" y="152280"/>
          <a:ext cx="2362320" cy="8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236232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7" name=""/>
          <p:cNvGraphicFramePr/>
          <p:nvPr/>
        </p:nvGraphicFramePr>
        <p:xfrm>
          <a:off x="1752480" y="1600200"/>
          <a:ext cx="5943600" cy="26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600200"/>
                    <a:ext cx="59436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9" name=""/>
          <p:cNvGraphicFramePr/>
          <p:nvPr/>
        </p:nvGraphicFramePr>
        <p:xfrm>
          <a:off x="1905120" y="4916520"/>
          <a:ext cx="4952880" cy="110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916520"/>
                    <a:ext cx="49528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1" name=""/>
          <p:cNvSpPr/>
          <p:nvPr/>
        </p:nvSpPr>
        <p:spPr>
          <a:xfrm>
            <a:off x="3809880" y="2857680"/>
            <a:ext cx="2438640" cy="144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2" name=""/>
          <p:cNvGraphicFramePr/>
          <p:nvPr/>
        </p:nvGraphicFramePr>
        <p:xfrm>
          <a:off x="3505320" y="228600"/>
          <a:ext cx="493848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28600"/>
                    <a:ext cx="4938480" cy="2089080"/>
                  </a:xfrm>
                  <a:prstGeom prst="rect">
                    <a:avLst/>
                  </a:prstGeom>
                  <a:ln w="1908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74" name=""/>
          <p:cNvSpPr/>
          <p:nvPr/>
        </p:nvSpPr>
        <p:spPr>
          <a:xfrm>
            <a:off x="838080" y="76212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Random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5" name=""/>
          <p:cNvGraphicFramePr/>
          <p:nvPr/>
        </p:nvGraphicFramePr>
        <p:xfrm>
          <a:off x="3200400" y="4648320"/>
          <a:ext cx="261468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648320"/>
                    <a:ext cx="2614680" cy="1361880"/>
                  </a:xfrm>
                  <a:prstGeom prst="rect">
                    <a:avLst/>
                  </a:prstGeom>
                  <a:ln w="1908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77" name=""/>
          <p:cNvSpPr/>
          <p:nvPr/>
        </p:nvSpPr>
        <p:spPr>
          <a:xfrm>
            <a:off x="144792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obus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2209680" y="29718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problems are hopelessly fragile, and it’s easy to show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9" name=""/>
          <p:cNvSpPr/>
          <p:nvPr/>
        </p:nvSpPr>
        <p:spPr>
          <a:xfrm>
            <a:off x="3962520" y="2300400"/>
            <a:ext cx="4495680" cy="2971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4876920" y="2286000"/>
            <a:ext cx="3581280" cy="232092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233640" y="31384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5261400" y="603396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3948840" y="54133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7447680" y="54244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2728800" y="21366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2745000" y="467676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4039920" y="23623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4127040" y="45115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7556040" y="45115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304920" y="27288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hiller"/>
                <a:ea typeface="Arial"/>
              </a:rPr>
              <a:t>Avoiding the nightmare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7393680" y="225432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5622840" y="243000"/>
            <a:ext cx="30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ystems biology is here, it will fai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7467480" y="1143000"/>
            <a:ext cx="228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"/>
          <p:cNvSpPr/>
          <p:nvPr/>
        </p:nvSpPr>
        <p:spPr>
          <a:xfrm>
            <a:off x="304920" y="27288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hiller"/>
                <a:ea typeface="Arial"/>
              </a:rPr>
              <a:t>Avoiding the nightmare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5486400" y="162000"/>
            <a:ext cx="3429000" cy="2131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6183360" y="152280"/>
            <a:ext cx="2732040" cy="1665360"/>
          </a:xfrm>
          <a:custGeom>
            <a:avLst/>
            <a:gdLst/>
            <a:ahLst/>
            <a:rect l="l" t="t" r="r" b="b"/>
            <a:pathLst>
              <a:path w="2047" h="1628">
                <a:moveTo>
                  <a:pt x="0" y="0"/>
                </a:moveTo>
                <a:lnTo>
                  <a:pt x="0" y="21"/>
                </a:lnTo>
                <a:lnTo>
                  <a:pt x="5" y="36"/>
                </a:lnTo>
                <a:lnTo>
                  <a:pt x="5" y="57"/>
                </a:lnTo>
                <a:lnTo>
                  <a:pt x="10" y="73"/>
                </a:lnTo>
                <a:lnTo>
                  <a:pt x="10" y="88"/>
                </a:lnTo>
                <a:lnTo>
                  <a:pt x="10" y="104"/>
                </a:lnTo>
                <a:lnTo>
                  <a:pt x="15" y="119"/>
                </a:lnTo>
                <a:lnTo>
                  <a:pt x="15" y="135"/>
                </a:lnTo>
                <a:lnTo>
                  <a:pt x="20" y="151"/>
                </a:lnTo>
                <a:lnTo>
                  <a:pt x="20" y="166"/>
                </a:lnTo>
                <a:lnTo>
                  <a:pt x="20" y="182"/>
                </a:lnTo>
                <a:lnTo>
                  <a:pt x="26" y="192"/>
                </a:lnTo>
                <a:lnTo>
                  <a:pt x="26" y="208"/>
                </a:lnTo>
                <a:lnTo>
                  <a:pt x="26" y="223"/>
                </a:lnTo>
                <a:lnTo>
                  <a:pt x="31" y="233"/>
                </a:lnTo>
                <a:lnTo>
                  <a:pt x="31" y="249"/>
                </a:lnTo>
                <a:lnTo>
                  <a:pt x="36" y="265"/>
                </a:lnTo>
                <a:lnTo>
                  <a:pt x="36" y="275"/>
                </a:lnTo>
                <a:lnTo>
                  <a:pt x="36" y="290"/>
                </a:lnTo>
                <a:lnTo>
                  <a:pt x="41" y="301"/>
                </a:lnTo>
                <a:lnTo>
                  <a:pt x="41" y="311"/>
                </a:lnTo>
                <a:lnTo>
                  <a:pt x="46" y="327"/>
                </a:lnTo>
                <a:lnTo>
                  <a:pt x="46" y="337"/>
                </a:lnTo>
                <a:lnTo>
                  <a:pt x="46" y="347"/>
                </a:lnTo>
                <a:lnTo>
                  <a:pt x="51" y="358"/>
                </a:lnTo>
                <a:lnTo>
                  <a:pt x="51" y="373"/>
                </a:lnTo>
                <a:lnTo>
                  <a:pt x="57" y="384"/>
                </a:lnTo>
                <a:lnTo>
                  <a:pt x="57" y="394"/>
                </a:lnTo>
                <a:lnTo>
                  <a:pt x="57" y="404"/>
                </a:lnTo>
                <a:lnTo>
                  <a:pt x="62" y="415"/>
                </a:lnTo>
                <a:lnTo>
                  <a:pt x="62" y="425"/>
                </a:lnTo>
                <a:lnTo>
                  <a:pt x="67" y="436"/>
                </a:lnTo>
                <a:lnTo>
                  <a:pt x="67" y="446"/>
                </a:lnTo>
                <a:lnTo>
                  <a:pt x="67" y="456"/>
                </a:lnTo>
                <a:lnTo>
                  <a:pt x="72" y="467"/>
                </a:lnTo>
                <a:lnTo>
                  <a:pt x="72" y="477"/>
                </a:lnTo>
                <a:lnTo>
                  <a:pt x="77" y="487"/>
                </a:lnTo>
                <a:lnTo>
                  <a:pt x="77" y="493"/>
                </a:lnTo>
                <a:lnTo>
                  <a:pt x="77" y="503"/>
                </a:lnTo>
                <a:lnTo>
                  <a:pt x="83" y="513"/>
                </a:lnTo>
                <a:lnTo>
                  <a:pt x="83" y="524"/>
                </a:lnTo>
                <a:lnTo>
                  <a:pt x="88" y="529"/>
                </a:lnTo>
                <a:lnTo>
                  <a:pt x="88" y="539"/>
                </a:lnTo>
                <a:lnTo>
                  <a:pt x="88" y="550"/>
                </a:lnTo>
                <a:lnTo>
                  <a:pt x="93" y="555"/>
                </a:lnTo>
                <a:lnTo>
                  <a:pt x="93" y="565"/>
                </a:lnTo>
                <a:lnTo>
                  <a:pt x="93" y="576"/>
                </a:lnTo>
                <a:lnTo>
                  <a:pt x="98" y="581"/>
                </a:lnTo>
                <a:lnTo>
                  <a:pt x="98" y="591"/>
                </a:lnTo>
                <a:lnTo>
                  <a:pt x="103" y="596"/>
                </a:lnTo>
                <a:lnTo>
                  <a:pt x="103" y="607"/>
                </a:lnTo>
                <a:lnTo>
                  <a:pt x="103" y="612"/>
                </a:lnTo>
                <a:lnTo>
                  <a:pt x="108" y="622"/>
                </a:lnTo>
                <a:lnTo>
                  <a:pt x="108" y="627"/>
                </a:lnTo>
                <a:lnTo>
                  <a:pt x="114" y="638"/>
                </a:lnTo>
                <a:lnTo>
                  <a:pt x="114" y="643"/>
                </a:lnTo>
                <a:lnTo>
                  <a:pt x="114" y="653"/>
                </a:lnTo>
                <a:lnTo>
                  <a:pt x="119" y="658"/>
                </a:lnTo>
                <a:lnTo>
                  <a:pt x="119" y="664"/>
                </a:lnTo>
                <a:lnTo>
                  <a:pt x="124" y="674"/>
                </a:lnTo>
                <a:lnTo>
                  <a:pt x="124" y="679"/>
                </a:lnTo>
                <a:lnTo>
                  <a:pt x="124" y="684"/>
                </a:lnTo>
                <a:lnTo>
                  <a:pt x="129" y="695"/>
                </a:lnTo>
                <a:lnTo>
                  <a:pt x="129" y="700"/>
                </a:lnTo>
                <a:lnTo>
                  <a:pt x="134" y="705"/>
                </a:lnTo>
                <a:lnTo>
                  <a:pt x="134" y="710"/>
                </a:lnTo>
                <a:lnTo>
                  <a:pt x="134" y="721"/>
                </a:lnTo>
                <a:lnTo>
                  <a:pt x="140" y="726"/>
                </a:lnTo>
                <a:lnTo>
                  <a:pt x="140" y="731"/>
                </a:lnTo>
                <a:lnTo>
                  <a:pt x="145" y="736"/>
                </a:lnTo>
                <a:lnTo>
                  <a:pt x="145" y="747"/>
                </a:lnTo>
                <a:lnTo>
                  <a:pt x="145" y="752"/>
                </a:lnTo>
                <a:lnTo>
                  <a:pt x="150" y="757"/>
                </a:lnTo>
                <a:lnTo>
                  <a:pt x="150" y="762"/>
                </a:lnTo>
                <a:lnTo>
                  <a:pt x="155" y="767"/>
                </a:lnTo>
                <a:lnTo>
                  <a:pt x="155" y="772"/>
                </a:lnTo>
                <a:lnTo>
                  <a:pt x="155" y="778"/>
                </a:lnTo>
                <a:lnTo>
                  <a:pt x="160" y="783"/>
                </a:lnTo>
                <a:lnTo>
                  <a:pt x="160" y="793"/>
                </a:lnTo>
                <a:lnTo>
                  <a:pt x="165" y="798"/>
                </a:lnTo>
                <a:lnTo>
                  <a:pt x="165" y="804"/>
                </a:lnTo>
                <a:lnTo>
                  <a:pt x="165" y="809"/>
                </a:lnTo>
                <a:lnTo>
                  <a:pt x="171" y="814"/>
                </a:lnTo>
                <a:lnTo>
                  <a:pt x="171" y="819"/>
                </a:lnTo>
                <a:lnTo>
                  <a:pt x="171" y="824"/>
                </a:lnTo>
                <a:lnTo>
                  <a:pt x="176" y="829"/>
                </a:lnTo>
                <a:lnTo>
                  <a:pt x="176" y="835"/>
                </a:lnTo>
                <a:lnTo>
                  <a:pt x="181" y="840"/>
                </a:lnTo>
                <a:lnTo>
                  <a:pt x="181" y="845"/>
                </a:lnTo>
                <a:lnTo>
                  <a:pt x="181" y="850"/>
                </a:lnTo>
                <a:lnTo>
                  <a:pt x="186" y="855"/>
                </a:lnTo>
                <a:lnTo>
                  <a:pt x="186" y="861"/>
                </a:lnTo>
                <a:lnTo>
                  <a:pt x="191" y="866"/>
                </a:lnTo>
                <a:lnTo>
                  <a:pt x="191" y="866"/>
                </a:lnTo>
                <a:lnTo>
                  <a:pt x="191" y="871"/>
                </a:lnTo>
                <a:lnTo>
                  <a:pt x="197" y="876"/>
                </a:lnTo>
                <a:lnTo>
                  <a:pt x="197" y="881"/>
                </a:lnTo>
                <a:lnTo>
                  <a:pt x="202" y="886"/>
                </a:lnTo>
                <a:lnTo>
                  <a:pt x="202" y="892"/>
                </a:lnTo>
                <a:lnTo>
                  <a:pt x="202" y="897"/>
                </a:lnTo>
                <a:lnTo>
                  <a:pt x="207" y="902"/>
                </a:lnTo>
                <a:lnTo>
                  <a:pt x="207" y="902"/>
                </a:lnTo>
                <a:lnTo>
                  <a:pt x="212" y="907"/>
                </a:lnTo>
                <a:lnTo>
                  <a:pt x="212" y="912"/>
                </a:lnTo>
                <a:lnTo>
                  <a:pt x="212" y="918"/>
                </a:lnTo>
                <a:lnTo>
                  <a:pt x="217" y="923"/>
                </a:lnTo>
                <a:lnTo>
                  <a:pt x="217" y="928"/>
                </a:lnTo>
                <a:lnTo>
                  <a:pt x="223" y="928"/>
                </a:lnTo>
                <a:lnTo>
                  <a:pt x="223" y="933"/>
                </a:lnTo>
                <a:lnTo>
                  <a:pt x="223" y="938"/>
                </a:lnTo>
                <a:lnTo>
                  <a:pt x="228" y="943"/>
                </a:lnTo>
                <a:lnTo>
                  <a:pt x="228" y="949"/>
                </a:lnTo>
                <a:lnTo>
                  <a:pt x="233" y="949"/>
                </a:lnTo>
                <a:lnTo>
                  <a:pt x="233" y="954"/>
                </a:lnTo>
                <a:lnTo>
                  <a:pt x="233" y="959"/>
                </a:lnTo>
                <a:lnTo>
                  <a:pt x="238" y="964"/>
                </a:lnTo>
                <a:lnTo>
                  <a:pt x="238" y="964"/>
                </a:lnTo>
                <a:lnTo>
                  <a:pt x="243" y="969"/>
                </a:lnTo>
                <a:lnTo>
                  <a:pt x="243" y="975"/>
                </a:lnTo>
                <a:lnTo>
                  <a:pt x="243" y="975"/>
                </a:lnTo>
                <a:lnTo>
                  <a:pt x="248" y="980"/>
                </a:lnTo>
                <a:lnTo>
                  <a:pt x="248" y="985"/>
                </a:lnTo>
                <a:lnTo>
                  <a:pt x="248" y="990"/>
                </a:lnTo>
                <a:lnTo>
                  <a:pt x="254" y="990"/>
                </a:lnTo>
                <a:lnTo>
                  <a:pt x="254" y="995"/>
                </a:lnTo>
                <a:lnTo>
                  <a:pt x="259" y="1000"/>
                </a:lnTo>
                <a:lnTo>
                  <a:pt x="259" y="1000"/>
                </a:lnTo>
                <a:lnTo>
                  <a:pt x="259" y="1006"/>
                </a:lnTo>
                <a:lnTo>
                  <a:pt x="264" y="1011"/>
                </a:lnTo>
                <a:lnTo>
                  <a:pt x="264" y="1011"/>
                </a:lnTo>
                <a:lnTo>
                  <a:pt x="269" y="1016"/>
                </a:lnTo>
                <a:lnTo>
                  <a:pt x="269" y="1021"/>
                </a:lnTo>
                <a:lnTo>
                  <a:pt x="269" y="1021"/>
                </a:lnTo>
                <a:lnTo>
                  <a:pt x="274" y="1026"/>
                </a:lnTo>
                <a:lnTo>
                  <a:pt x="274" y="1026"/>
                </a:lnTo>
                <a:lnTo>
                  <a:pt x="280" y="1032"/>
                </a:lnTo>
                <a:lnTo>
                  <a:pt x="280" y="1037"/>
                </a:lnTo>
                <a:lnTo>
                  <a:pt x="280" y="1037"/>
                </a:lnTo>
                <a:lnTo>
                  <a:pt x="285" y="1042"/>
                </a:lnTo>
                <a:lnTo>
                  <a:pt x="285" y="1042"/>
                </a:lnTo>
                <a:lnTo>
                  <a:pt x="290" y="1047"/>
                </a:lnTo>
                <a:lnTo>
                  <a:pt x="290" y="1052"/>
                </a:lnTo>
                <a:lnTo>
                  <a:pt x="290" y="1052"/>
                </a:lnTo>
                <a:lnTo>
                  <a:pt x="295" y="1058"/>
                </a:lnTo>
                <a:lnTo>
                  <a:pt x="295" y="1058"/>
                </a:lnTo>
                <a:lnTo>
                  <a:pt x="300" y="1063"/>
                </a:lnTo>
                <a:lnTo>
                  <a:pt x="300" y="1068"/>
                </a:lnTo>
                <a:lnTo>
                  <a:pt x="300" y="1068"/>
                </a:lnTo>
                <a:lnTo>
                  <a:pt x="305" y="1073"/>
                </a:lnTo>
                <a:lnTo>
                  <a:pt x="305" y="1073"/>
                </a:lnTo>
                <a:lnTo>
                  <a:pt x="311" y="1078"/>
                </a:lnTo>
                <a:lnTo>
                  <a:pt x="311" y="1078"/>
                </a:lnTo>
                <a:lnTo>
                  <a:pt x="311" y="1083"/>
                </a:lnTo>
                <a:lnTo>
                  <a:pt x="316" y="1083"/>
                </a:lnTo>
                <a:lnTo>
                  <a:pt x="316" y="1089"/>
                </a:lnTo>
                <a:lnTo>
                  <a:pt x="321" y="1089"/>
                </a:lnTo>
                <a:lnTo>
                  <a:pt x="321" y="1094"/>
                </a:lnTo>
                <a:lnTo>
                  <a:pt x="321" y="1099"/>
                </a:lnTo>
                <a:lnTo>
                  <a:pt x="326" y="1099"/>
                </a:lnTo>
                <a:lnTo>
                  <a:pt x="326" y="1104"/>
                </a:lnTo>
                <a:lnTo>
                  <a:pt x="326" y="1104"/>
                </a:lnTo>
                <a:lnTo>
                  <a:pt x="331" y="1109"/>
                </a:lnTo>
                <a:lnTo>
                  <a:pt x="331" y="1109"/>
                </a:lnTo>
                <a:lnTo>
                  <a:pt x="337" y="1115"/>
                </a:lnTo>
                <a:lnTo>
                  <a:pt x="337" y="1115"/>
                </a:lnTo>
                <a:lnTo>
                  <a:pt x="337" y="1120"/>
                </a:lnTo>
                <a:lnTo>
                  <a:pt x="342" y="1120"/>
                </a:lnTo>
                <a:lnTo>
                  <a:pt x="342" y="1120"/>
                </a:lnTo>
                <a:lnTo>
                  <a:pt x="347" y="1125"/>
                </a:lnTo>
                <a:lnTo>
                  <a:pt x="347" y="1125"/>
                </a:lnTo>
                <a:lnTo>
                  <a:pt x="347" y="1130"/>
                </a:lnTo>
                <a:lnTo>
                  <a:pt x="352" y="1130"/>
                </a:lnTo>
                <a:lnTo>
                  <a:pt x="352" y="1135"/>
                </a:lnTo>
                <a:lnTo>
                  <a:pt x="357" y="1135"/>
                </a:lnTo>
                <a:lnTo>
                  <a:pt x="357" y="1140"/>
                </a:lnTo>
                <a:lnTo>
                  <a:pt x="357" y="1140"/>
                </a:lnTo>
                <a:lnTo>
                  <a:pt x="362" y="1146"/>
                </a:lnTo>
                <a:lnTo>
                  <a:pt x="362" y="1146"/>
                </a:lnTo>
                <a:lnTo>
                  <a:pt x="368" y="1151"/>
                </a:lnTo>
                <a:lnTo>
                  <a:pt x="368" y="1151"/>
                </a:lnTo>
                <a:lnTo>
                  <a:pt x="368" y="1151"/>
                </a:lnTo>
                <a:lnTo>
                  <a:pt x="373" y="1156"/>
                </a:lnTo>
                <a:lnTo>
                  <a:pt x="373" y="1156"/>
                </a:lnTo>
                <a:lnTo>
                  <a:pt x="378" y="1161"/>
                </a:lnTo>
                <a:lnTo>
                  <a:pt x="378" y="1161"/>
                </a:lnTo>
                <a:lnTo>
                  <a:pt x="378" y="1166"/>
                </a:lnTo>
                <a:lnTo>
                  <a:pt x="383" y="1166"/>
                </a:lnTo>
                <a:lnTo>
                  <a:pt x="383" y="1166"/>
                </a:lnTo>
                <a:lnTo>
                  <a:pt x="388" y="1172"/>
                </a:lnTo>
                <a:lnTo>
                  <a:pt x="388" y="1172"/>
                </a:lnTo>
                <a:lnTo>
                  <a:pt x="388" y="1177"/>
                </a:lnTo>
                <a:lnTo>
                  <a:pt x="394" y="1177"/>
                </a:lnTo>
                <a:lnTo>
                  <a:pt x="394" y="1177"/>
                </a:lnTo>
                <a:lnTo>
                  <a:pt x="394" y="1182"/>
                </a:lnTo>
                <a:lnTo>
                  <a:pt x="399" y="1182"/>
                </a:lnTo>
                <a:lnTo>
                  <a:pt x="399" y="1187"/>
                </a:lnTo>
                <a:lnTo>
                  <a:pt x="404" y="1187"/>
                </a:lnTo>
                <a:lnTo>
                  <a:pt x="404" y="1187"/>
                </a:lnTo>
                <a:lnTo>
                  <a:pt x="404" y="1192"/>
                </a:lnTo>
                <a:lnTo>
                  <a:pt x="409" y="1192"/>
                </a:lnTo>
                <a:lnTo>
                  <a:pt x="409" y="1197"/>
                </a:lnTo>
                <a:lnTo>
                  <a:pt x="414" y="1197"/>
                </a:lnTo>
                <a:lnTo>
                  <a:pt x="414" y="1197"/>
                </a:lnTo>
                <a:lnTo>
                  <a:pt x="414" y="1203"/>
                </a:lnTo>
                <a:lnTo>
                  <a:pt x="419" y="1203"/>
                </a:lnTo>
                <a:lnTo>
                  <a:pt x="419" y="1203"/>
                </a:lnTo>
                <a:lnTo>
                  <a:pt x="425" y="1208"/>
                </a:lnTo>
                <a:lnTo>
                  <a:pt x="425" y="1208"/>
                </a:lnTo>
                <a:lnTo>
                  <a:pt x="425" y="1213"/>
                </a:lnTo>
                <a:lnTo>
                  <a:pt x="430" y="1213"/>
                </a:lnTo>
                <a:lnTo>
                  <a:pt x="430" y="1213"/>
                </a:lnTo>
                <a:lnTo>
                  <a:pt x="435" y="1218"/>
                </a:lnTo>
                <a:lnTo>
                  <a:pt x="435" y="1218"/>
                </a:lnTo>
                <a:lnTo>
                  <a:pt x="435" y="1218"/>
                </a:lnTo>
                <a:lnTo>
                  <a:pt x="440" y="1223"/>
                </a:lnTo>
                <a:lnTo>
                  <a:pt x="440" y="1223"/>
                </a:lnTo>
                <a:lnTo>
                  <a:pt x="445" y="1223"/>
                </a:lnTo>
                <a:lnTo>
                  <a:pt x="445" y="1229"/>
                </a:lnTo>
                <a:lnTo>
                  <a:pt x="445" y="1229"/>
                </a:lnTo>
                <a:lnTo>
                  <a:pt x="451" y="1229"/>
                </a:lnTo>
                <a:lnTo>
                  <a:pt x="451" y="1234"/>
                </a:lnTo>
                <a:lnTo>
                  <a:pt x="456" y="1234"/>
                </a:lnTo>
                <a:lnTo>
                  <a:pt x="456" y="1234"/>
                </a:lnTo>
                <a:lnTo>
                  <a:pt x="456" y="1239"/>
                </a:lnTo>
                <a:lnTo>
                  <a:pt x="461" y="1239"/>
                </a:lnTo>
                <a:lnTo>
                  <a:pt x="461" y="1239"/>
                </a:lnTo>
                <a:lnTo>
                  <a:pt x="466" y="1244"/>
                </a:lnTo>
                <a:lnTo>
                  <a:pt x="466" y="1244"/>
                </a:lnTo>
                <a:lnTo>
                  <a:pt x="466" y="1244"/>
                </a:lnTo>
                <a:lnTo>
                  <a:pt x="471" y="1249"/>
                </a:lnTo>
                <a:lnTo>
                  <a:pt x="471" y="1249"/>
                </a:lnTo>
                <a:lnTo>
                  <a:pt x="471" y="1249"/>
                </a:lnTo>
                <a:lnTo>
                  <a:pt x="477" y="1254"/>
                </a:lnTo>
                <a:lnTo>
                  <a:pt x="477" y="1254"/>
                </a:lnTo>
                <a:lnTo>
                  <a:pt x="482" y="1254"/>
                </a:lnTo>
                <a:lnTo>
                  <a:pt x="482" y="1260"/>
                </a:lnTo>
                <a:lnTo>
                  <a:pt x="482" y="1260"/>
                </a:lnTo>
                <a:lnTo>
                  <a:pt x="487" y="1260"/>
                </a:lnTo>
                <a:lnTo>
                  <a:pt x="487" y="1260"/>
                </a:lnTo>
                <a:lnTo>
                  <a:pt x="492" y="1265"/>
                </a:lnTo>
                <a:lnTo>
                  <a:pt x="492" y="1265"/>
                </a:lnTo>
                <a:lnTo>
                  <a:pt x="492" y="1265"/>
                </a:lnTo>
                <a:lnTo>
                  <a:pt x="497" y="1270"/>
                </a:lnTo>
                <a:lnTo>
                  <a:pt x="497" y="1270"/>
                </a:lnTo>
                <a:lnTo>
                  <a:pt x="502" y="1270"/>
                </a:lnTo>
                <a:lnTo>
                  <a:pt x="502" y="1270"/>
                </a:lnTo>
                <a:lnTo>
                  <a:pt x="502" y="1275"/>
                </a:lnTo>
                <a:lnTo>
                  <a:pt x="508" y="1275"/>
                </a:lnTo>
                <a:lnTo>
                  <a:pt x="508" y="1275"/>
                </a:lnTo>
                <a:lnTo>
                  <a:pt x="513" y="1280"/>
                </a:lnTo>
                <a:lnTo>
                  <a:pt x="513" y="1280"/>
                </a:lnTo>
                <a:lnTo>
                  <a:pt x="513" y="1280"/>
                </a:lnTo>
                <a:lnTo>
                  <a:pt x="518" y="1280"/>
                </a:lnTo>
                <a:lnTo>
                  <a:pt x="518" y="1286"/>
                </a:lnTo>
                <a:lnTo>
                  <a:pt x="523" y="1286"/>
                </a:lnTo>
                <a:lnTo>
                  <a:pt x="523" y="1286"/>
                </a:lnTo>
                <a:lnTo>
                  <a:pt x="523" y="1291"/>
                </a:lnTo>
                <a:lnTo>
                  <a:pt x="528" y="1291"/>
                </a:lnTo>
                <a:lnTo>
                  <a:pt x="528" y="1291"/>
                </a:lnTo>
                <a:lnTo>
                  <a:pt x="534" y="1291"/>
                </a:lnTo>
                <a:lnTo>
                  <a:pt x="534" y="1296"/>
                </a:lnTo>
                <a:lnTo>
                  <a:pt x="534" y="1296"/>
                </a:lnTo>
                <a:lnTo>
                  <a:pt x="539" y="1296"/>
                </a:lnTo>
                <a:lnTo>
                  <a:pt x="539" y="1296"/>
                </a:lnTo>
                <a:lnTo>
                  <a:pt x="544" y="1301"/>
                </a:lnTo>
                <a:lnTo>
                  <a:pt x="544" y="1301"/>
                </a:lnTo>
                <a:lnTo>
                  <a:pt x="544" y="1301"/>
                </a:lnTo>
                <a:lnTo>
                  <a:pt x="549" y="1301"/>
                </a:lnTo>
                <a:lnTo>
                  <a:pt x="549" y="1306"/>
                </a:lnTo>
                <a:lnTo>
                  <a:pt x="549" y="1306"/>
                </a:lnTo>
                <a:lnTo>
                  <a:pt x="554" y="1306"/>
                </a:lnTo>
                <a:lnTo>
                  <a:pt x="554" y="1306"/>
                </a:lnTo>
                <a:lnTo>
                  <a:pt x="559" y="1311"/>
                </a:lnTo>
                <a:lnTo>
                  <a:pt x="559" y="1311"/>
                </a:lnTo>
                <a:lnTo>
                  <a:pt x="559" y="1311"/>
                </a:lnTo>
                <a:lnTo>
                  <a:pt x="565" y="1311"/>
                </a:lnTo>
                <a:lnTo>
                  <a:pt x="565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0" y="1317"/>
                </a:lnTo>
                <a:lnTo>
                  <a:pt x="575" y="1322"/>
                </a:lnTo>
                <a:lnTo>
                  <a:pt x="575" y="1322"/>
                </a:lnTo>
                <a:lnTo>
                  <a:pt x="580" y="1322"/>
                </a:lnTo>
                <a:lnTo>
                  <a:pt x="580" y="1322"/>
                </a:lnTo>
                <a:lnTo>
                  <a:pt x="580" y="1327"/>
                </a:lnTo>
                <a:lnTo>
                  <a:pt x="585" y="1327"/>
                </a:lnTo>
                <a:lnTo>
                  <a:pt x="585" y="1327"/>
                </a:lnTo>
                <a:lnTo>
                  <a:pt x="591" y="1327"/>
                </a:lnTo>
                <a:lnTo>
                  <a:pt x="591" y="1327"/>
                </a:lnTo>
                <a:lnTo>
                  <a:pt x="591" y="1332"/>
                </a:lnTo>
                <a:lnTo>
                  <a:pt x="596" y="1332"/>
                </a:lnTo>
                <a:lnTo>
                  <a:pt x="596" y="1332"/>
                </a:lnTo>
                <a:lnTo>
                  <a:pt x="601" y="1332"/>
                </a:lnTo>
                <a:lnTo>
                  <a:pt x="601" y="1337"/>
                </a:lnTo>
                <a:lnTo>
                  <a:pt x="601" y="1337"/>
                </a:lnTo>
                <a:lnTo>
                  <a:pt x="606" y="1337"/>
                </a:lnTo>
                <a:lnTo>
                  <a:pt x="606" y="1337"/>
                </a:lnTo>
                <a:lnTo>
                  <a:pt x="611" y="1337"/>
                </a:lnTo>
                <a:lnTo>
                  <a:pt x="611" y="1343"/>
                </a:lnTo>
                <a:lnTo>
                  <a:pt x="611" y="1343"/>
                </a:lnTo>
                <a:lnTo>
                  <a:pt x="616" y="1343"/>
                </a:lnTo>
                <a:lnTo>
                  <a:pt x="616" y="1343"/>
                </a:lnTo>
                <a:lnTo>
                  <a:pt x="622" y="1348"/>
                </a:lnTo>
                <a:lnTo>
                  <a:pt x="622" y="1348"/>
                </a:lnTo>
                <a:lnTo>
                  <a:pt x="622" y="1348"/>
                </a:lnTo>
                <a:lnTo>
                  <a:pt x="627" y="1348"/>
                </a:lnTo>
                <a:lnTo>
                  <a:pt x="627" y="1348"/>
                </a:lnTo>
                <a:lnTo>
                  <a:pt x="627" y="1353"/>
                </a:lnTo>
                <a:lnTo>
                  <a:pt x="632" y="1353"/>
                </a:lnTo>
                <a:lnTo>
                  <a:pt x="632" y="1353"/>
                </a:lnTo>
                <a:lnTo>
                  <a:pt x="637" y="1353"/>
                </a:lnTo>
                <a:lnTo>
                  <a:pt x="637" y="1353"/>
                </a:lnTo>
                <a:lnTo>
                  <a:pt x="637" y="1358"/>
                </a:lnTo>
                <a:lnTo>
                  <a:pt x="642" y="1358"/>
                </a:lnTo>
                <a:lnTo>
                  <a:pt x="642" y="1358"/>
                </a:lnTo>
                <a:lnTo>
                  <a:pt x="648" y="1358"/>
                </a:lnTo>
                <a:lnTo>
                  <a:pt x="648" y="1358"/>
                </a:lnTo>
                <a:lnTo>
                  <a:pt x="648" y="1363"/>
                </a:lnTo>
                <a:lnTo>
                  <a:pt x="653" y="1363"/>
                </a:lnTo>
                <a:lnTo>
                  <a:pt x="653" y="1363"/>
                </a:lnTo>
                <a:lnTo>
                  <a:pt x="658" y="1363"/>
                </a:lnTo>
                <a:lnTo>
                  <a:pt x="658" y="1363"/>
                </a:lnTo>
                <a:lnTo>
                  <a:pt x="658" y="1368"/>
                </a:lnTo>
                <a:lnTo>
                  <a:pt x="663" y="1368"/>
                </a:lnTo>
                <a:lnTo>
                  <a:pt x="663" y="1368"/>
                </a:lnTo>
                <a:lnTo>
                  <a:pt x="668" y="1368"/>
                </a:lnTo>
                <a:lnTo>
                  <a:pt x="668" y="1368"/>
                </a:lnTo>
                <a:lnTo>
                  <a:pt x="668" y="1374"/>
                </a:lnTo>
                <a:lnTo>
                  <a:pt x="674" y="1374"/>
                </a:lnTo>
                <a:lnTo>
                  <a:pt x="674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79" y="1374"/>
                </a:lnTo>
                <a:lnTo>
                  <a:pt x="684" y="1379"/>
                </a:lnTo>
                <a:lnTo>
                  <a:pt x="684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89" y="1379"/>
                </a:lnTo>
                <a:lnTo>
                  <a:pt x="694" y="1384"/>
                </a:lnTo>
                <a:lnTo>
                  <a:pt x="694" y="1384"/>
                </a:lnTo>
                <a:lnTo>
                  <a:pt x="694" y="1384"/>
                </a:lnTo>
                <a:lnTo>
                  <a:pt x="699" y="1384"/>
                </a:lnTo>
                <a:lnTo>
                  <a:pt x="699" y="1384"/>
                </a:lnTo>
                <a:lnTo>
                  <a:pt x="705" y="1384"/>
                </a:lnTo>
                <a:lnTo>
                  <a:pt x="705" y="1389"/>
                </a:lnTo>
                <a:lnTo>
                  <a:pt x="705" y="1389"/>
                </a:lnTo>
                <a:lnTo>
                  <a:pt x="710" y="1389"/>
                </a:lnTo>
                <a:lnTo>
                  <a:pt x="710" y="1389"/>
                </a:lnTo>
                <a:lnTo>
                  <a:pt x="715" y="1389"/>
                </a:lnTo>
                <a:lnTo>
                  <a:pt x="715" y="1389"/>
                </a:lnTo>
                <a:lnTo>
                  <a:pt x="715" y="1394"/>
                </a:lnTo>
                <a:lnTo>
                  <a:pt x="720" y="1394"/>
                </a:lnTo>
                <a:lnTo>
                  <a:pt x="720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25" y="1394"/>
                </a:lnTo>
                <a:lnTo>
                  <a:pt x="731" y="1400"/>
                </a:lnTo>
                <a:lnTo>
                  <a:pt x="731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36" y="1400"/>
                </a:lnTo>
                <a:lnTo>
                  <a:pt x="741" y="1400"/>
                </a:lnTo>
                <a:lnTo>
                  <a:pt x="741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46" y="1405"/>
                </a:lnTo>
                <a:lnTo>
                  <a:pt x="751" y="1405"/>
                </a:lnTo>
                <a:lnTo>
                  <a:pt x="751" y="1405"/>
                </a:lnTo>
                <a:lnTo>
                  <a:pt x="756" y="1410"/>
                </a:lnTo>
                <a:lnTo>
                  <a:pt x="756" y="1410"/>
                </a:lnTo>
                <a:lnTo>
                  <a:pt x="756" y="1410"/>
                </a:lnTo>
                <a:lnTo>
                  <a:pt x="762" y="1410"/>
                </a:lnTo>
                <a:lnTo>
                  <a:pt x="762" y="1410"/>
                </a:lnTo>
                <a:lnTo>
                  <a:pt x="767" y="1410"/>
                </a:lnTo>
                <a:lnTo>
                  <a:pt x="767" y="1415"/>
                </a:lnTo>
                <a:lnTo>
                  <a:pt x="767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2" y="1415"/>
                </a:lnTo>
                <a:lnTo>
                  <a:pt x="777" y="1415"/>
                </a:lnTo>
                <a:lnTo>
                  <a:pt x="777" y="1415"/>
                </a:lnTo>
                <a:lnTo>
                  <a:pt x="782" y="1420"/>
                </a:lnTo>
                <a:lnTo>
                  <a:pt x="782" y="1420"/>
                </a:lnTo>
                <a:lnTo>
                  <a:pt x="782" y="1420"/>
                </a:lnTo>
                <a:lnTo>
                  <a:pt x="788" y="1420"/>
                </a:lnTo>
                <a:lnTo>
                  <a:pt x="788" y="1420"/>
                </a:lnTo>
                <a:lnTo>
                  <a:pt x="793" y="1420"/>
                </a:lnTo>
                <a:lnTo>
                  <a:pt x="793" y="1420"/>
                </a:lnTo>
                <a:lnTo>
                  <a:pt x="793" y="1425"/>
                </a:lnTo>
                <a:lnTo>
                  <a:pt x="798" y="1425"/>
                </a:lnTo>
                <a:lnTo>
                  <a:pt x="798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3" y="1425"/>
                </a:lnTo>
                <a:lnTo>
                  <a:pt x="808" y="1425"/>
                </a:lnTo>
                <a:lnTo>
                  <a:pt x="808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3" y="1431"/>
                </a:lnTo>
                <a:lnTo>
                  <a:pt x="819" y="1431"/>
                </a:lnTo>
                <a:lnTo>
                  <a:pt x="819" y="1431"/>
                </a:lnTo>
                <a:lnTo>
                  <a:pt x="824" y="1431"/>
                </a:lnTo>
                <a:lnTo>
                  <a:pt x="824" y="1436"/>
                </a:lnTo>
                <a:lnTo>
                  <a:pt x="824" y="1436"/>
                </a:lnTo>
                <a:lnTo>
                  <a:pt x="829" y="1436"/>
                </a:lnTo>
                <a:lnTo>
                  <a:pt x="829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4" y="1436"/>
                </a:lnTo>
                <a:lnTo>
                  <a:pt x="839" y="1436"/>
                </a:lnTo>
                <a:lnTo>
                  <a:pt x="839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45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0" y="1441"/>
                </a:lnTo>
                <a:lnTo>
                  <a:pt x="855" y="1446"/>
                </a:lnTo>
                <a:lnTo>
                  <a:pt x="855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0" y="1446"/>
                </a:lnTo>
                <a:lnTo>
                  <a:pt x="865" y="1446"/>
                </a:lnTo>
                <a:lnTo>
                  <a:pt x="865" y="1446"/>
                </a:lnTo>
                <a:lnTo>
                  <a:pt x="871" y="1446"/>
                </a:lnTo>
                <a:lnTo>
                  <a:pt x="871" y="1451"/>
                </a:lnTo>
                <a:lnTo>
                  <a:pt x="871" y="1451"/>
                </a:lnTo>
                <a:lnTo>
                  <a:pt x="876" y="1451"/>
                </a:lnTo>
                <a:lnTo>
                  <a:pt x="876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1" y="1451"/>
                </a:lnTo>
                <a:lnTo>
                  <a:pt x="886" y="1451"/>
                </a:lnTo>
                <a:lnTo>
                  <a:pt x="886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1" y="1457"/>
                </a:lnTo>
                <a:lnTo>
                  <a:pt x="896" y="1457"/>
                </a:lnTo>
                <a:lnTo>
                  <a:pt x="896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2" y="1457"/>
                </a:lnTo>
                <a:lnTo>
                  <a:pt x="907" y="1462"/>
                </a:lnTo>
                <a:lnTo>
                  <a:pt x="907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2" y="1462"/>
                </a:lnTo>
                <a:lnTo>
                  <a:pt x="917" y="1462"/>
                </a:lnTo>
                <a:lnTo>
                  <a:pt x="917" y="1462"/>
                </a:lnTo>
                <a:lnTo>
                  <a:pt x="922" y="1462"/>
                </a:lnTo>
                <a:lnTo>
                  <a:pt x="922" y="1467"/>
                </a:lnTo>
                <a:lnTo>
                  <a:pt x="922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28" y="1467"/>
                </a:lnTo>
                <a:lnTo>
                  <a:pt x="933" y="1467"/>
                </a:lnTo>
                <a:lnTo>
                  <a:pt x="933" y="1467"/>
                </a:lnTo>
                <a:lnTo>
                  <a:pt x="938" y="1467"/>
                </a:lnTo>
                <a:lnTo>
                  <a:pt x="938" y="1467"/>
                </a:lnTo>
                <a:lnTo>
                  <a:pt x="938" y="1472"/>
                </a:lnTo>
                <a:lnTo>
                  <a:pt x="943" y="1472"/>
                </a:lnTo>
                <a:lnTo>
                  <a:pt x="943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48" y="1472"/>
                </a:lnTo>
                <a:lnTo>
                  <a:pt x="953" y="1472"/>
                </a:lnTo>
                <a:lnTo>
                  <a:pt x="953" y="1472"/>
                </a:lnTo>
                <a:lnTo>
                  <a:pt x="959" y="1472"/>
                </a:lnTo>
                <a:lnTo>
                  <a:pt x="959" y="1472"/>
                </a:lnTo>
                <a:lnTo>
                  <a:pt x="959" y="1477"/>
                </a:lnTo>
                <a:lnTo>
                  <a:pt x="964" y="1477"/>
                </a:lnTo>
                <a:lnTo>
                  <a:pt x="964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69" y="1477"/>
                </a:lnTo>
                <a:lnTo>
                  <a:pt x="974" y="1477"/>
                </a:lnTo>
                <a:lnTo>
                  <a:pt x="974" y="1477"/>
                </a:lnTo>
                <a:lnTo>
                  <a:pt x="979" y="1477"/>
                </a:lnTo>
                <a:lnTo>
                  <a:pt x="979" y="1482"/>
                </a:lnTo>
                <a:lnTo>
                  <a:pt x="979" y="1482"/>
                </a:lnTo>
                <a:lnTo>
                  <a:pt x="985" y="1482"/>
                </a:lnTo>
                <a:lnTo>
                  <a:pt x="985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0" y="1482"/>
                </a:lnTo>
                <a:lnTo>
                  <a:pt x="995" y="1482"/>
                </a:lnTo>
                <a:lnTo>
                  <a:pt x="995" y="1482"/>
                </a:lnTo>
                <a:lnTo>
                  <a:pt x="995" y="1482"/>
                </a:lnTo>
                <a:lnTo>
                  <a:pt x="1000" y="1488"/>
                </a:lnTo>
                <a:lnTo>
                  <a:pt x="1000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05" y="1488"/>
                </a:lnTo>
                <a:lnTo>
                  <a:pt x="1010" y="1488"/>
                </a:lnTo>
                <a:lnTo>
                  <a:pt x="1010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16" y="1488"/>
                </a:lnTo>
                <a:lnTo>
                  <a:pt x="1021" y="1493"/>
                </a:lnTo>
                <a:lnTo>
                  <a:pt x="1021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26" y="1493"/>
                </a:lnTo>
                <a:lnTo>
                  <a:pt x="1031" y="1493"/>
                </a:lnTo>
                <a:lnTo>
                  <a:pt x="1031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36" y="1493"/>
                </a:lnTo>
                <a:lnTo>
                  <a:pt x="1042" y="1493"/>
                </a:lnTo>
                <a:lnTo>
                  <a:pt x="1042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47" y="1498"/>
                </a:lnTo>
                <a:lnTo>
                  <a:pt x="1052" y="1498"/>
                </a:lnTo>
                <a:lnTo>
                  <a:pt x="1052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57" y="1498"/>
                </a:lnTo>
                <a:lnTo>
                  <a:pt x="1062" y="1498"/>
                </a:lnTo>
                <a:lnTo>
                  <a:pt x="1062" y="1498"/>
                </a:lnTo>
                <a:lnTo>
                  <a:pt x="1067" y="1503"/>
                </a:lnTo>
                <a:lnTo>
                  <a:pt x="1067" y="1503"/>
                </a:lnTo>
                <a:lnTo>
                  <a:pt x="1067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3" y="1503"/>
                </a:lnTo>
                <a:lnTo>
                  <a:pt x="1078" y="1503"/>
                </a:lnTo>
                <a:lnTo>
                  <a:pt x="1078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3" y="1503"/>
                </a:lnTo>
                <a:lnTo>
                  <a:pt x="1088" y="1508"/>
                </a:lnTo>
                <a:lnTo>
                  <a:pt x="1088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3" y="1508"/>
                </a:lnTo>
                <a:lnTo>
                  <a:pt x="1099" y="1508"/>
                </a:lnTo>
                <a:lnTo>
                  <a:pt x="1099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4" y="1508"/>
                </a:lnTo>
                <a:lnTo>
                  <a:pt x="1109" y="1508"/>
                </a:lnTo>
                <a:lnTo>
                  <a:pt x="1109" y="1508"/>
                </a:lnTo>
                <a:lnTo>
                  <a:pt x="1114" y="1514"/>
                </a:lnTo>
                <a:lnTo>
                  <a:pt x="1114" y="1514"/>
                </a:lnTo>
                <a:lnTo>
                  <a:pt x="1114" y="1514"/>
                </a:lnTo>
                <a:lnTo>
                  <a:pt x="1119" y="1514"/>
                </a:lnTo>
                <a:lnTo>
                  <a:pt x="1119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25" y="1514"/>
                </a:lnTo>
                <a:lnTo>
                  <a:pt x="1130" y="1514"/>
                </a:lnTo>
                <a:lnTo>
                  <a:pt x="1130" y="1514"/>
                </a:lnTo>
                <a:lnTo>
                  <a:pt x="1135" y="1514"/>
                </a:lnTo>
                <a:lnTo>
                  <a:pt x="1135" y="1514"/>
                </a:lnTo>
                <a:lnTo>
                  <a:pt x="1135" y="1519"/>
                </a:lnTo>
                <a:lnTo>
                  <a:pt x="1140" y="1519"/>
                </a:lnTo>
                <a:lnTo>
                  <a:pt x="1140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45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0" y="1519"/>
                </a:lnTo>
                <a:lnTo>
                  <a:pt x="1156" y="1519"/>
                </a:lnTo>
                <a:lnTo>
                  <a:pt x="1156" y="1519"/>
                </a:lnTo>
                <a:lnTo>
                  <a:pt x="1161" y="1519"/>
                </a:lnTo>
                <a:lnTo>
                  <a:pt x="1161" y="1519"/>
                </a:lnTo>
                <a:lnTo>
                  <a:pt x="1161" y="1524"/>
                </a:lnTo>
                <a:lnTo>
                  <a:pt x="1166" y="1524"/>
                </a:lnTo>
                <a:lnTo>
                  <a:pt x="1166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1" y="1524"/>
                </a:lnTo>
                <a:lnTo>
                  <a:pt x="1176" y="1524"/>
                </a:lnTo>
                <a:lnTo>
                  <a:pt x="1176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2" y="1524"/>
                </a:lnTo>
                <a:lnTo>
                  <a:pt x="1187" y="1524"/>
                </a:lnTo>
                <a:lnTo>
                  <a:pt x="1187" y="1524"/>
                </a:lnTo>
                <a:lnTo>
                  <a:pt x="1192" y="1529"/>
                </a:lnTo>
                <a:lnTo>
                  <a:pt x="1192" y="1529"/>
                </a:lnTo>
                <a:lnTo>
                  <a:pt x="1192" y="1529"/>
                </a:lnTo>
                <a:lnTo>
                  <a:pt x="1197" y="1529"/>
                </a:lnTo>
                <a:lnTo>
                  <a:pt x="1197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2" y="1529"/>
                </a:lnTo>
                <a:lnTo>
                  <a:pt x="1207" y="1529"/>
                </a:lnTo>
                <a:lnTo>
                  <a:pt x="1207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3" y="1529"/>
                </a:lnTo>
                <a:lnTo>
                  <a:pt x="1218" y="1529"/>
                </a:lnTo>
                <a:lnTo>
                  <a:pt x="1218" y="1534"/>
                </a:lnTo>
                <a:lnTo>
                  <a:pt x="1218" y="1534"/>
                </a:lnTo>
                <a:lnTo>
                  <a:pt x="1223" y="1534"/>
                </a:lnTo>
                <a:lnTo>
                  <a:pt x="1223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28" y="1534"/>
                </a:lnTo>
                <a:lnTo>
                  <a:pt x="1233" y="1534"/>
                </a:lnTo>
                <a:lnTo>
                  <a:pt x="1233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39" y="1534"/>
                </a:lnTo>
                <a:lnTo>
                  <a:pt x="1244" y="1534"/>
                </a:lnTo>
                <a:lnTo>
                  <a:pt x="1244" y="1534"/>
                </a:lnTo>
                <a:lnTo>
                  <a:pt x="1249" y="1540"/>
                </a:lnTo>
                <a:lnTo>
                  <a:pt x="1249" y="1540"/>
                </a:lnTo>
                <a:lnTo>
                  <a:pt x="1249" y="1540"/>
                </a:lnTo>
                <a:lnTo>
                  <a:pt x="1254" y="1540"/>
                </a:lnTo>
                <a:lnTo>
                  <a:pt x="1254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59" y="1540"/>
                </a:lnTo>
                <a:lnTo>
                  <a:pt x="1264" y="1540"/>
                </a:lnTo>
                <a:lnTo>
                  <a:pt x="1264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0" y="1540"/>
                </a:lnTo>
                <a:lnTo>
                  <a:pt x="1275" y="1540"/>
                </a:lnTo>
                <a:lnTo>
                  <a:pt x="1275" y="1540"/>
                </a:lnTo>
                <a:lnTo>
                  <a:pt x="1280" y="1545"/>
                </a:lnTo>
                <a:lnTo>
                  <a:pt x="1280" y="1545"/>
                </a:lnTo>
                <a:lnTo>
                  <a:pt x="1280" y="1545"/>
                </a:lnTo>
                <a:lnTo>
                  <a:pt x="1285" y="1545"/>
                </a:lnTo>
                <a:lnTo>
                  <a:pt x="1285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0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296" y="1545"/>
                </a:lnTo>
                <a:lnTo>
                  <a:pt x="1301" y="1545"/>
                </a:lnTo>
                <a:lnTo>
                  <a:pt x="1301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06" y="1545"/>
                </a:lnTo>
                <a:lnTo>
                  <a:pt x="1311" y="1550"/>
                </a:lnTo>
                <a:lnTo>
                  <a:pt x="1311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16" y="1550"/>
                </a:lnTo>
                <a:lnTo>
                  <a:pt x="1322" y="1550"/>
                </a:lnTo>
                <a:lnTo>
                  <a:pt x="1322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27" y="1550"/>
                </a:lnTo>
                <a:lnTo>
                  <a:pt x="1332" y="1550"/>
                </a:lnTo>
                <a:lnTo>
                  <a:pt x="1332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37" y="1550"/>
                </a:lnTo>
                <a:lnTo>
                  <a:pt x="1342" y="1550"/>
                </a:lnTo>
                <a:lnTo>
                  <a:pt x="1342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47" y="1555"/>
                </a:lnTo>
                <a:lnTo>
                  <a:pt x="1353" y="1555"/>
                </a:lnTo>
                <a:lnTo>
                  <a:pt x="1353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58" y="1555"/>
                </a:lnTo>
                <a:lnTo>
                  <a:pt x="1363" y="1555"/>
                </a:lnTo>
                <a:lnTo>
                  <a:pt x="1363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68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3" y="1555"/>
                </a:lnTo>
                <a:lnTo>
                  <a:pt x="1379" y="1560"/>
                </a:lnTo>
                <a:lnTo>
                  <a:pt x="1379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4" y="1560"/>
                </a:lnTo>
                <a:lnTo>
                  <a:pt x="1389" y="1560"/>
                </a:lnTo>
                <a:lnTo>
                  <a:pt x="1389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4" y="1560"/>
                </a:lnTo>
                <a:lnTo>
                  <a:pt x="1399" y="1560"/>
                </a:lnTo>
                <a:lnTo>
                  <a:pt x="1399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04" y="1560"/>
                </a:lnTo>
                <a:lnTo>
                  <a:pt x="1410" y="1560"/>
                </a:lnTo>
                <a:lnTo>
                  <a:pt x="1410" y="1560"/>
                </a:lnTo>
                <a:lnTo>
                  <a:pt x="1415" y="1560"/>
                </a:lnTo>
                <a:lnTo>
                  <a:pt x="1415" y="1565"/>
                </a:lnTo>
                <a:lnTo>
                  <a:pt x="1415" y="1565"/>
                </a:lnTo>
                <a:lnTo>
                  <a:pt x="1420" y="1565"/>
                </a:lnTo>
                <a:lnTo>
                  <a:pt x="1420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25" y="1565"/>
                </a:lnTo>
                <a:lnTo>
                  <a:pt x="1430" y="1565"/>
                </a:lnTo>
                <a:lnTo>
                  <a:pt x="1430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36" y="1565"/>
                </a:lnTo>
                <a:lnTo>
                  <a:pt x="1441" y="1565"/>
                </a:lnTo>
                <a:lnTo>
                  <a:pt x="1441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46" y="1565"/>
                </a:lnTo>
                <a:lnTo>
                  <a:pt x="1451" y="1565"/>
                </a:lnTo>
                <a:lnTo>
                  <a:pt x="1451" y="1571"/>
                </a:lnTo>
                <a:lnTo>
                  <a:pt x="1451" y="1571"/>
                </a:lnTo>
                <a:lnTo>
                  <a:pt x="1456" y="1571"/>
                </a:lnTo>
                <a:lnTo>
                  <a:pt x="1456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1" y="1571"/>
                </a:lnTo>
                <a:lnTo>
                  <a:pt x="1467" y="1571"/>
                </a:lnTo>
                <a:lnTo>
                  <a:pt x="1467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2" y="1571"/>
                </a:lnTo>
                <a:lnTo>
                  <a:pt x="1477" y="1571"/>
                </a:lnTo>
                <a:lnTo>
                  <a:pt x="1477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2" y="1571"/>
                </a:lnTo>
                <a:lnTo>
                  <a:pt x="1487" y="1571"/>
                </a:lnTo>
                <a:lnTo>
                  <a:pt x="1487" y="1571"/>
                </a:lnTo>
                <a:lnTo>
                  <a:pt x="1493" y="1571"/>
                </a:lnTo>
                <a:lnTo>
                  <a:pt x="1493" y="1576"/>
                </a:lnTo>
                <a:lnTo>
                  <a:pt x="1493" y="1576"/>
                </a:lnTo>
                <a:lnTo>
                  <a:pt x="1498" y="1576"/>
                </a:lnTo>
                <a:lnTo>
                  <a:pt x="1498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3" y="1576"/>
                </a:lnTo>
                <a:lnTo>
                  <a:pt x="1508" y="1576"/>
                </a:lnTo>
                <a:lnTo>
                  <a:pt x="1508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3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18" y="1576"/>
                </a:lnTo>
                <a:lnTo>
                  <a:pt x="1524" y="1576"/>
                </a:lnTo>
                <a:lnTo>
                  <a:pt x="1524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29" y="1576"/>
                </a:lnTo>
                <a:lnTo>
                  <a:pt x="1534" y="1581"/>
                </a:lnTo>
                <a:lnTo>
                  <a:pt x="1534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39" y="1581"/>
                </a:lnTo>
                <a:lnTo>
                  <a:pt x="1544" y="1581"/>
                </a:lnTo>
                <a:lnTo>
                  <a:pt x="1544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0" y="1581"/>
                </a:lnTo>
                <a:lnTo>
                  <a:pt x="1555" y="1581"/>
                </a:lnTo>
                <a:lnTo>
                  <a:pt x="1555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0" y="1581"/>
                </a:lnTo>
                <a:lnTo>
                  <a:pt x="1565" y="1581"/>
                </a:lnTo>
                <a:lnTo>
                  <a:pt x="1565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0" y="1581"/>
                </a:lnTo>
                <a:lnTo>
                  <a:pt x="1576" y="1581"/>
                </a:lnTo>
                <a:lnTo>
                  <a:pt x="1576" y="1581"/>
                </a:lnTo>
                <a:lnTo>
                  <a:pt x="1581" y="1586"/>
                </a:lnTo>
                <a:lnTo>
                  <a:pt x="1581" y="1586"/>
                </a:lnTo>
                <a:lnTo>
                  <a:pt x="1581" y="1586"/>
                </a:lnTo>
                <a:lnTo>
                  <a:pt x="1586" y="1586"/>
                </a:lnTo>
                <a:lnTo>
                  <a:pt x="1586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1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596" y="1586"/>
                </a:lnTo>
                <a:lnTo>
                  <a:pt x="1601" y="1586"/>
                </a:lnTo>
                <a:lnTo>
                  <a:pt x="1601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07" y="1586"/>
                </a:lnTo>
                <a:lnTo>
                  <a:pt x="1612" y="1586"/>
                </a:lnTo>
                <a:lnTo>
                  <a:pt x="1612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17" y="1586"/>
                </a:lnTo>
                <a:lnTo>
                  <a:pt x="1622" y="1586"/>
                </a:lnTo>
                <a:lnTo>
                  <a:pt x="1622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27" y="1591"/>
                </a:lnTo>
                <a:lnTo>
                  <a:pt x="1633" y="1591"/>
                </a:lnTo>
                <a:lnTo>
                  <a:pt x="1633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38" y="1591"/>
                </a:lnTo>
                <a:lnTo>
                  <a:pt x="1643" y="1591"/>
                </a:lnTo>
                <a:lnTo>
                  <a:pt x="1643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48" y="1591"/>
                </a:lnTo>
                <a:lnTo>
                  <a:pt x="1653" y="1591"/>
                </a:lnTo>
                <a:lnTo>
                  <a:pt x="1653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58" y="1591"/>
                </a:lnTo>
                <a:lnTo>
                  <a:pt x="1664" y="1591"/>
                </a:lnTo>
                <a:lnTo>
                  <a:pt x="1664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69" y="1591"/>
                </a:lnTo>
                <a:lnTo>
                  <a:pt x="1674" y="1597"/>
                </a:lnTo>
                <a:lnTo>
                  <a:pt x="1674" y="1597"/>
                </a:lnTo>
                <a:lnTo>
                  <a:pt x="1674" y="1597"/>
                </a:lnTo>
                <a:lnTo>
                  <a:pt x="1679" y="1597"/>
                </a:lnTo>
                <a:lnTo>
                  <a:pt x="1679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84" y="1597"/>
                </a:lnTo>
                <a:lnTo>
                  <a:pt x="1690" y="1597"/>
                </a:lnTo>
                <a:lnTo>
                  <a:pt x="1690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695" y="1597"/>
                </a:lnTo>
                <a:lnTo>
                  <a:pt x="1700" y="1597"/>
                </a:lnTo>
                <a:lnTo>
                  <a:pt x="1700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05" y="1597"/>
                </a:lnTo>
                <a:lnTo>
                  <a:pt x="1710" y="1597"/>
                </a:lnTo>
                <a:lnTo>
                  <a:pt x="1710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15" y="1597"/>
                </a:lnTo>
                <a:lnTo>
                  <a:pt x="1721" y="1597"/>
                </a:lnTo>
                <a:lnTo>
                  <a:pt x="1721" y="1597"/>
                </a:lnTo>
                <a:lnTo>
                  <a:pt x="1726" y="1602"/>
                </a:lnTo>
                <a:lnTo>
                  <a:pt x="1726" y="1602"/>
                </a:lnTo>
                <a:lnTo>
                  <a:pt x="1726" y="1602"/>
                </a:lnTo>
                <a:lnTo>
                  <a:pt x="1731" y="1602"/>
                </a:lnTo>
                <a:lnTo>
                  <a:pt x="1731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36" y="1602"/>
                </a:lnTo>
                <a:lnTo>
                  <a:pt x="1741" y="1602"/>
                </a:lnTo>
                <a:lnTo>
                  <a:pt x="1741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47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2" y="1602"/>
                </a:lnTo>
                <a:lnTo>
                  <a:pt x="1757" y="1602"/>
                </a:lnTo>
                <a:lnTo>
                  <a:pt x="1757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2" y="1602"/>
                </a:lnTo>
                <a:lnTo>
                  <a:pt x="1767" y="1602"/>
                </a:lnTo>
                <a:lnTo>
                  <a:pt x="1767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3" y="1602"/>
                </a:lnTo>
                <a:lnTo>
                  <a:pt x="1778" y="1602"/>
                </a:lnTo>
                <a:lnTo>
                  <a:pt x="1778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3" y="1607"/>
                </a:lnTo>
                <a:lnTo>
                  <a:pt x="1788" y="1607"/>
                </a:lnTo>
                <a:lnTo>
                  <a:pt x="1788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3" y="1607"/>
                </a:lnTo>
                <a:lnTo>
                  <a:pt x="1798" y="1607"/>
                </a:lnTo>
                <a:lnTo>
                  <a:pt x="1798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4" y="1607"/>
                </a:lnTo>
                <a:lnTo>
                  <a:pt x="1809" y="1607"/>
                </a:lnTo>
                <a:lnTo>
                  <a:pt x="1809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4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19" y="1607"/>
                </a:lnTo>
                <a:lnTo>
                  <a:pt x="1824" y="1607"/>
                </a:lnTo>
                <a:lnTo>
                  <a:pt x="1824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0" y="1607"/>
                </a:lnTo>
                <a:lnTo>
                  <a:pt x="1835" y="1607"/>
                </a:lnTo>
                <a:lnTo>
                  <a:pt x="1835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0" y="1612"/>
                </a:lnTo>
                <a:lnTo>
                  <a:pt x="1845" y="1612"/>
                </a:lnTo>
                <a:lnTo>
                  <a:pt x="1845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0" y="1612"/>
                </a:lnTo>
                <a:lnTo>
                  <a:pt x="1855" y="1612"/>
                </a:lnTo>
                <a:lnTo>
                  <a:pt x="1855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1" y="1612"/>
                </a:lnTo>
                <a:lnTo>
                  <a:pt x="1866" y="1612"/>
                </a:lnTo>
                <a:lnTo>
                  <a:pt x="1866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1" y="1612"/>
                </a:lnTo>
                <a:lnTo>
                  <a:pt x="1876" y="1612"/>
                </a:lnTo>
                <a:lnTo>
                  <a:pt x="1876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1" y="1612"/>
                </a:lnTo>
                <a:lnTo>
                  <a:pt x="1887" y="1612"/>
                </a:lnTo>
                <a:lnTo>
                  <a:pt x="1887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2" y="1612"/>
                </a:lnTo>
                <a:lnTo>
                  <a:pt x="1897" y="1612"/>
                </a:lnTo>
                <a:lnTo>
                  <a:pt x="1897" y="1617"/>
                </a:lnTo>
                <a:lnTo>
                  <a:pt x="1897" y="1617"/>
                </a:lnTo>
                <a:lnTo>
                  <a:pt x="1902" y="1617"/>
                </a:lnTo>
                <a:lnTo>
                  <a:pt x="1902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07" y="1617"/>
                </a:lnTo>
                <a:lnTo>
                  <a:pt x="1912" y="1617"/>
                </a:lnTo>
                <a:lnTo>
                  <a:pt x="1912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18" y="1617"/>
                </a:lnTo>
                <a:lnTo>
                  <a:pt x="1923" y="1617"/>
                </a:lnTo>
                <a:lnTo>
                  <a:pt x="1923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28" y="1617"/>
                </a:lnTo>
                <a:lnTo>
                  <a:pt x="1933" y="1617"/>
                </a:lnTo>
                <a:lnTo>
                  <a:pt x="1933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38" y="1617"/>
                </a:lnTo>
                <a:lnTo>
                  <a:pt x="1944" y="1617"/>
                </a:lnTo>
                <a:lnTo>
                  <a:pt x="1944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49" y="1617"/>
                </a:lnTo>
                <a:lnTo>
                  <a:pt x="1954" y="1617"/>
                </a:lnTo>
                <a:lnTo>
                  <a:pt x="1954" y="1617"/>
                </a:lnTo>
                <a:lnTo>
                  <a:pt x="1959" y="1617"/>
                </a:lnTo>
                <a:lnTo>
                  <a:pt x="1959" y="1617"/>
                </a:lnTo>
                <a:lnTo>
                  <a:pt x="1959" y="1622"/>
                </a:lnTo>
                <a:lnTo>
                  <a:pt x="1964" y="1622"/>
                </a:lnTo>
                <a:lnTo>
                  <a:pt x="1964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69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75" y="1622"/>
                </a:lnTo>
                <a:lnTo>
                  <a:pt x="1980" y="1622"/>
                </a:lnTo>
                <a:lnTo>
                  <a:pt x="1980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85" y="1622"/>
                </a:lnTo>
                <a:lnTo>
                  <a:pt x="1990" y="1622"/>
                </a:lnTo>
                <a:lnTo>
                  <a:pt x="1990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1995" y="1622"/>
                </a:lnTo>
                <a:lnTo>
                  <a:pt x="2001" y="1622"/>
                </a:lnTo>
                <a:lnTo>
                  <a:pt x="2001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06" y="1622"/>
                </a:lnTo>
                <a:lnTo>
                  <a:pt x="2011" y="1622"/>
                </a:lnTo>
                <a:lnTo>
                  <a:pt x="2011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16" y="1622"/>
                </a:lnTo>
                <a:lnTo>
                  <a:pt x="2021" y="1622"/>
                </a:lnTo>
                <a:lnTo>
                  <a:pt x="2021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27" y="1622"/>
                </a:lnTo>
                <a:lnTo>
                  <a:pt x="2032" y="1628"/>
                </a:lnTo>
                <a:lnTo>
                  <a:pt x="2032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37" y="1628"/>
                </a:lnTo>
                <a:lnTo>
                  <a:pt x="2042" y="1628"/>
                </a:lnTo>
                <a:lnTo>
                  <a:pt x="2042" y="1628"/>
                </a:lnTo>
                <a:lnTo>
                  <a:pt x="2047" y="1628"/>
                </a:lnTo>
                <a:lnTo>
                  <a:pt x="204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5546880" y="17784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5613480" y="171936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8227440" y="171936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8102880" y="152280"/>
            <a:ext cx="75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457200" y="312408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decouple organizational and computational complex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explicitly exploit robustness/fragility in compu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tial recent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tip of a huge and growing iceberg, ye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approach in its inf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7084800" y="4876920"/>
            <a:ext cx="180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sy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3033000" y="203184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3581280" y="3276720"/>
            <a:ext cx="388620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utational complexity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3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2971800" y="1371600"/>
            <a:ext cx="4343400" cy="30492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3124080" y="1752480"/>
            <a:ext cx="3581640" cy="609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743200" y="2057400"/>
            <a:ext cx="3352680" cy="10666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2133720" y="2438280"/>
            <a:ext cx="1676160" cy="2057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1828800" y="2666880"/>
            <a:ext cx="990720" cy="2743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1523880" y="2819520"/>
            <a:ext cx="609840" cy="3276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533520" y="228600"/>
            <a:ext cx="52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ain-specific assum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ormously success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crafted the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mpatible assum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er of Babel where even experts cannot commun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theories” f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allenges un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3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2971800" y="1371600"/>
            <a:ext cx="4343400" cy="30492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3124080" y="1752480"/>
            <a:ext cx="3581640" cy="609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2743200" y="2057400"/>
            <a:ext cx="3352680" cy="10666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2133720" y="2438280"/>
            <a:ext cx="1676160" cy="2057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828800" y="2666880"/>
            <a:ext cx="990720" cy="2743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523880" y="2819520"/>
            <a:ext cx="609840" cy="3276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023840" y="1142640"/>
            <a:ext cx="167004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31337 0.38148 E">
                                      <p:cBhvr>
                                        <p:cTn id="348" dur="2000" fill="hold"/>
                                        <p:tgtEl>
                                          <p:spTgt spid="5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209000" y="0"/>
            <a:ext cx="1935000" cy="2895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72504" b="10861"/>
          <a:stretch/>
        </p:blipFill>
        <p:spPr>
          <a:xfrm>
            <a:off x="0" y="3886200"/>
            <a:ext cx="1676520" cy="297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35943" t="8076" r="28123" b="37433"/>
          <a:stretch/>
        </p:blipFill>
        <p:spPr>
          <a:xfrm>
            <a:off x="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rcRect l="46253" t="0" r="18753" b="10861"/>
          <a:stretch/>
        </p:blipFill>
        <p:spPr>
          <a:xfrm>
            <a:off x="7086600" y="388620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79320" y="4648320"/>
            <a:ext cx="6109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Is there any hop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510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What is the ultimate showstop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33520" y="2057400"/>
            <a:ext cx="81532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2971800" y="1371600"/>
            <a:ext cx="4343400" cy="30492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3124080" y="1752480"/>
            <a:ext cx="3581640" cy="609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2743200" y="2057400"/>
            <a:ext cx="3352680" cy="10666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2133720" y="2438280"/>
            <a:ext cx="1676160" cy="2057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828800" y="2666880"/>
            <a:ext cx="990720" cy="2743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1523880" y="2819520"/>
            <a:ext cx="609840" cy="3276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997920" y="1142640"/>
            <a:ext cx="172188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852720" y="3750840"/>
            <a:ext cx="167004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2967 0.22592 E">
                                      <p:cBhvr>
                                        <p:cTn id="354" dur="2000" fill="hold"/>
                                        <p:tgtEl>
                                          <p:spTgt spid="5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2971800" y="1371600"/>
            <a:ext cx="4343400" cy="30492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3124080" y="1752480"/>
            <a:ext cx="3581640" cy="609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743200" y="2057400"/>
            <a:ext cx="3352680" cy="10666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2133720" y="2438280"/>
            <a:ext cx="1676160" cy="2057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828800" y="2666880"/>
            <a:ext cx="990720" cy="2743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1523880" y="2819520"/>
            <a:ext cx="609840" cy="3276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2514600" y="2286000"/>
            <a:ext cx="1523880" cy="1600200"/>
          </a:xfrm>
          <a:prstGeom prst="line">
            <a:avLst/>
          </a:prstGeom>
          <a:ln w="763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601560" y="33480"/>
            <a:ext cx="7037640" cy="6838920"/>
          </a:xfrm>
          <a:custGeom>
            <a:avLst/>
            <a:gdLst/>
            <a:ahLst/>
            <a:rect l="l" t="t" r="r" b="b"/>
            <a:pathLst>
              <a:path w="4433" h="4308">
                <a:moveTo>
                  <a:pt x="0" y="697"/>
                </a:moveTo>
                <a:cubicBezTo>
                  <a:pt x="7" y="1272"/>
                  <a:pt x="184" y="3198"/>
                  <a:pt x="339" y="3753"/>
                </a:cubicBezTo>
                <a:cubicBezTo>
                  <a:pt x="494" y="4308"/>
                  <a:pt x="715" y="4046"/>
                  <a:pt x="928" y="4025"/>
                </a:cubicBezTo>
                <a:cubicBezTo>
                  <a:pt x="1141" y="4004"/>
                  <a:pt x="1524" y="3783"/>
                  <a:pt x="1616" y="3625"/>
                </a:cubicBezTo>
                <a:cubicBezTo>
                  <a:pt x="1708" y="3467"/>
                  <a:pt x="1457" y="3375"/>
                  <a:pt x="1478" y="3076"/>
                </a:cubicBezTo>
                <a:cubicBezTo>
                  <a:pt x="1499" y="2777"/>
                  <a:pt x="1466" y="2039"/>
                  <a:pt x="1742" y="1833"/>
                </a:cubicBezTo>
                <a:cubicBezTo>
                  <a:pt x="2018" y="1627"/>
                  <a:pt x="2816" y="1798"/>
                  <a:pt x="3133" y="1840"/>
                </a:cubicBezTo>
                <a:cubicBezTo>
                  <a:pt x="3450" y="1882"/>
                  <a:pt x="3438" y="2162"/>
                  <a:pt x="3646" y="2086"/>
                </a:cubicBezTo>
                <a:cubicBezTo>
                  <a:pt x="3854" y="2010"/>
                  <a:pt x="4335" y="1558"/>
                  <a:pt x="4384" y="1384"/>
                </a:cubicBezTo>
                <a:cubicBezTo>
                  <a:pt x="4433" y="1210"/>
                  <a:pt x="4411" y="1249"/>
                  <a:pt x="3938" y="1043"/>
                </a:cubicBezTo>
                <a:cubicBezTo>
                  <a:pt x="3465" y="837"/>
                  <a:pt x="2144" y="296"/>
                  <a:pt x="1548" y="148"/>
                </a:cubicBezTo>
                <a:cubicBezTo>
                  <a:pt x="952" y="0"/>
                  <a:pt x="618" y="64"/>
                  <a:pt x="360" y="155"/>
                </a:cubicBezTo>
                <a:cubicBezTo>
                  <a:pt x="102" y="246"/>
                  <a:pt x="75" y="584"/>
                  <a:pt x="0" y="697"/>
                </a:cubicBezTo>
                <a:close/>
              </a:path>
            </a:pathLst>
          </a:custGeom>
          <a:solidFill>
            <a:srgbClr val="ff7c80">
              <a:alpha val="8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5482440" y="1096920"/>
            <a:ext cx="1164240" cy="1161720"/>
          </a:xfrm>
          <a:prstGeom prst="rightArrow">
            <a:avLst>
              <a:gd name="adj1" fmla="val 50000"/>
              <a:gd name="adj2" fmla="val 25054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rot="2276400">
            <a:off x="2571840" y="3384000"/>
            <a:ext cx="1164240" cy="1161720"/>
          </a:xfrm>
          <a:prstGeom prst="rightArrow">
            <a:avLst>
              <a:gd name="adj1" fmla="val 50000"/>
              <a:gd name="adj2" fmla="val 25054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3852720" y="3750840"/>
            <a:ext cx="167004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3725280" y="2684160"/>
            <a:ext cx="172188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577800" y="98280"/>
            <a:ext cx="3483000" cy="3546720"/>
          </a:xfrm>
          <a:custGeom>
            <a:avLst/>
            <a:gdLst/>
            <a:ahLst/>
            <a:rect l="l" t="t" r="r" b="b"/>
            <a:pathLst>
              <a:path w="2194" h="2234">
                <a:moveTo>
                  <a:pt x="20" y="647"/>
                </a:moveTo>
                <a:cubicBezTo>
                  <a:pt x="0" y="968"/>
                  <a:pt x="84" y="1828"/>
                  <a:pt x="261" y="2031"/>
                </a:cubicBezTo>
                <a:cubicBezTo>
                  <a:pt x="438" y="2234"/>
                  <a:pt x="857" y="1945"/>
                  <a:pt x="1083" y="1863"/>
                </a:cubicBezTo>
                <a:cubicBezTo>
                  <a:pt x="1309" y="1781"/>
                  <a:pt x="1433" y="1736"/>
                  <a:pt x="1617" y="1540"/>
                </a:cubicBezTo>
                <a:cubicBezTo>
                  <a:pt x="1801" y="1344"/>
                  <a:pt x="2194" y="930"/>
                  <a:pt x="2186" y="690"/>
                </a:cubicBezTo>
                <a:cubicBezTo>
                  <a:pt x="2178" y="450"/>
                  <a:pt x="1869" y="196"/>
                  <a:pt x="1568" y="98"/>
                </a:cubicBezTo>
                <a:cubicBezTo>
                  <a:pt x="1267" y="0"/>
                  <a:pt x="638" y="14"/>
                  <a:pt x="380" y="105"/>
                </a:cubicBezTo>
                <a:cubicBezTo>
                  <a:pt x="122" y="196"/>
                  <a:pt x="95" y="534"/>
                  <a:pt x="20" y="647"/>
                </a:cubicBezTo>
                <a:close/>
              </a:path>
            </a:pathLst>
          </a:custGeom>
          <a:solidFill>
            <a:srgbClr val="ff7c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693360" y="662760"/>
            <a:ext cx="2302560" cy="1684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6172200" y="365760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crafted” theories are special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impro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questions and ans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5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5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7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28600" y="7632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fying language is (new) mathema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ed to describe one important idea using simplest example and minimal m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st the beginning, but promising foundation for 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4093560" y="4105080"/>
            <a:ext cx="1480320" cy="57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4797360" y="3281040"/>
            <a:ext cx="1636920" cy="576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6477120" y="18108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9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1752480" y="0"/>
            <a:ext cx="7391520" cy="6858000"/>
          </a:xfrm>
          <a:prstGeom prst="rect">
            <a:avLst/>
          </a:prstGeom>
          <a:solidFill>
            <a:srgbClr val="ffff66">
              <a:alpha val="48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H="1">
            <a:off x="1752480" y="1219320"/>
            <a:ext cx="7467840" cy="5715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-11160" y="-22320"/>
            <a:ext cx="2362320" cy="1600200"/>
          </a:xfrm>
          <a:custGeom>
            <a:avLst/>
            <a:gdLst/>
            <a:ahLst/>
            <a:rect l="l" t="t" r="r" b="b"/>
            <a:pathLst>
              <a:path w="2085" h="1783">
                <a:moveTo>
                  <a:pt x="0" y="1776"/>
                </a:moveTo>
                <a:cubicBezTo>
                  <a:pt x="0" y="1776"/>
                  <a:pt x="0" y="888"/>
                  <a:pt x="0" y="0"/>
                </a:cubicBezTo>
                <a:cubicBezTo>
                  <a:pt x="0" y="0"/>
                  <a:pt x="1032" y="0"/>
                  <a:pt x="2064" y="0"/>
                </a:cubicBezTo>
                <a:cubicBezTo>
                  <a:pt x="2085" y="370"/>
                  <a:pt x="1839" y="1027"/>
                  <a:pt x="1495" y="1323"/>
                </a:cubicBezTo>
                <a:cubicBezTo>
                  <a:pt x="1151" y="1619"/>
                  <a:pt x="288" y="1783"/>
                  <a:pt x="0" y="177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304920" y="33526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4955040" y="2286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79268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-252000" y="-409680"/>
            <a:ext cx="3450960" cy="3439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971800" y="1371600"/>
            <a:ext cx="4343400" cy="30492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3124080" y="1752480"/>
            <a:ext cx="3581640" cy="609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2743200" y="2057400"/>
            <a:ext cx="3352680" cy="10666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2133720" y="2438280"/>
            <a:ext cx="1676160" cy="2057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1828800" y="2666880"/>
            <a:ext cx="990720" cy="2743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1523880" y="2819520"/>
            <a:ext cx="609840" cy="3276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2514600" y="2286000"/>
            <a:ext cx="1523880" cy="1600200"/>
          </a:xfrm>
          <a:prstGeom prst="line">
            <a:avLst/>
          </a:prstGeom>
          <a:ln w="7632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601560" y="33480"/>
            <a:ext cx="7037640" cy="6838920"/>
          </a:xfrm>
          <a:custGeom>
            <a:avLst/>
            <a:gdLst/>
            <a:ahLst/>
            <a:rect l="l" t="t" r="r" b="b"/>
            <a:pathLst>
              <a:path w="4433" h="4308">
                <a:moveTo>
                  <a:pt x="0" y="697"/>
                </a:moveTo>
                <a:cubicBezTo>
                  <a:pt x="7" y="1272"/>
                  <a:pt x="184" y="3198"/>
                  <a:pt x="339" y="3753"/>
                </a:cubicBezTo>
                <a:cubicBezTo>
                  <a:pt x="494" y="4308"/>
                  <a:pt x="715" y="4046"/>
                  <a:pt x="928" y="4025"/>
                </a:cubicBezTo>
                <a:cubicBezTo>
                  <a:pt x="1141" y="4004"/>
                  <a:pt x="1524" y="3783"/>
                  <a:pt x="1616" y="3625"/>
                </a:cubicBezTo>
                <a:cubicBezTo>
                  <a:pt x="1708" y="3467"/>
                  <a:pt x="1457" y="3375"/>
                  <a:pt x="1478" y="3076"/>
                </a:cubicBezTo>
                <a:cubicBezTo>
                  <a:pt x="1499" y="2777"/>
                  <a:pt x="1466" y="2039"/>
                  <a:pt x="1742" y="1833"/>
                </a:cubicBezTo>
                <a:cubicBezTo>
                  <a:pt x="2018" y="1627"/>
                  <a:pt x="2816" y="1798"/>
                  <a:pt x="3133" y="1840"/>
                </a:cubicBezTo>
                <a:cubicBezTo>
                  <a:pt x="3450" y="1882"/>
                  <a:pt x="3438" y="2162"/>
                  <a:pt x="3646" y="2086"/>
                </a:cubicBezTo>
                <a:cubicBezTo>
                  <a:pt x="3854" y="2010"/>
                  <a:pt x="4335" y="1558"/>
                  <a:pt x="4384" y="1384"/>
                </a:cubicBezTo>
                <a:cubicBezTo>
                  <a:pt x="4433" y="1210"/>
                  <a:pt x="4411" y="1249"/>
                  <a:pt x="3938" y="1043"/>
                </a:cubicBezTo>
                <a:cubicBezTo>
                  <a:pt x="3465" y="837"/>
                  <a:pt x="2144" y="296"/>
                  <a:pt x="1548" y="148"/>
                </a:cubicBezTo>
                <a:cubicBezTo>
                  <a:pt x="952" y="0"/>
                  <a:pt x="618" y="64"/>
                  <a:pt x="360" y="155"/>
                </a:cubicBezTo>
                <a:cubicBezTo>
                  <a:pt x="102" y="246"/>
                  <a:pt x="75" y="584"/>
                  <a:pt x="0" y="697"/>
                </a:cubicBezTo>
                <a:close/>
              </a:path>
            </a:pathLst>
          </a:custGeom>
          <a:solidFill>
            <a:srgbClr val="ff7c80">
              <a:alpha val="8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6290280" y="2852640"/>
            <a:ext cx="14637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3432600" y="4910040"/>
            <a:ext cx="2666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7400880" y="1481040"/>
            <a:ext cx="18158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2367000" y="5562360"/>
            <a:ext cx="306864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1683720" y="6248160"/>
            <a:ext cx="1325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825600" y="2166840"/>
            <a:ext cx="1858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5482440" y="1096920"/>
            <a:ext cx="1164240" cy="1161720"/>
          </a:xfrm>
          <a:prstGeom prst="rightArrow">
            <a:avLst>
              <a:gd name="adj1" fmla="val 50000"/>
              <a:gd name="adj2" fmla="val 25054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 rot="2276400">
            <a:off x="2571840" y="3384000"/>
            <a:ext cx="1164240" cy="1161720"/>
          </a:xfrm>
          <a:prstGeom prst="rightArrow">
            <a:avLst>
              <a:gd name="adj1" fmla="val 50000"/>
              <a:gd name="adj2" fmla="val 25054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3852720" y="3750840"/>
            <a:ext cx="167004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3725280" y="2684160"/>
            <a:ext cx="1721880" cy="711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577800" y="98280"/>
            <a:ext cx="3483000" cy="3546720"/>
          </a:xfrm>
          <a:custGeom>
            <a:avLst/>
            <a:gdLst/>
            <a:ahLst/>
            <a:rect l="l" t="t" r="r" b="b"/>
            <a:pathLst>
              <a:path w="2194" h="2234">
                <a:moveTo>
                  <a:pt x="20" y="647"/>
                </a:moveTo>
                <a:cubicBezTo>
                  <a:pt x="0" y="968"/>
                  <a:pt x="84" y="1828"/>
                  <a:pt x="261" y="2031"/>
                </a:cubicBezTo>
                <a:cubicBezTo>
                  <a:pt x="438" y="2234"/>
                  <a:pt x="857" y="1945"/>
                  <a:pt x="1083" y="1863"/>
                </a:cubicBezTo>
                <a:cubicBezTo>
                  <a:pt x="1309" y="1781"/>
                  <a:pt x="1433" y="1736"/>
                  <a:pt x="1617" y="1540"/>
                </a:cubicBezTo>
                <a:cubicBezTo>
                  <a:pt x="1801" y="1344"/>
                  <a:pt x="2194" y="930"/>
                  <a:pt x="2186" y="690"/>
                </a:cubicBezTo>
                <a:cubicBezTo>
                  <a:pt x="2178" y="450"/>
                  <a:pt x="1869" y="196"/>
                  <a:pt x="1568" y="98"/>
                </a:cubicBezTo>
                <a:cubicBezTo>
                  <a:pt x="1267" y="0"/>
                  <a:pt x="638" y="14"/>
                  <a:pt x="380" y="105"/>
                </a:cubicBezTo>
                <a:cubicBezTo>
                  <a:pt x="122" y="196"/>
                  <a:pt x="95" y="534"/>
                  <a:pt x="20" y="647"/>
                </a:cubicBezTo>
                <a:close/>
              </a:path>
            </a:pathLst>
          </a:custGeom>
          <a:solidFill>
            <a:srgbClr val="ff7c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693360" y="662760"/>
            <a:ext cx="2302560" cy="1684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228600" y="3505320"/>
            <a:ext cx="8686800" cy="274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edagogical strate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scribe theorems on highly abstracted &amp; simplified toy models that illustrate essence of gener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early “math-free” exposition using cartoons and pictu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09000" y="0"/>
            <a:ext cx="1935000" cy="2895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0" t="0" r="72504" b="10861"/>
          <a:stretch/>
        </p:blipFill>
        <p:spPr>
          <a:xfrm>
            <a:off x="0" y="3886200"/>
            <a:ext cx="1676520" cy="2971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35943" t="8076" r="28123" b="37433"/>
          <a:stretch/>
        </p:blipFill>
        <p:spPr>
          <a:xfrm>
            <a:off x="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rcRect l="46253" t="0" r="18753" b="10861"/>
          <a:stretch/>
        </p:blipFill>
        <p:spPr>
          <a:xfrm>
            <a:off x="7086600" y="388620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79320" y="4648320"/>
            <a:ext cx="6109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Is there any hop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3510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What is the ultimate showstop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3520" y="2057400"/>
            <a:ext cx="8153280" cy="250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905120" y="3822840"/>
            <a:ext cx="5029200" cy="1739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ake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veryth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s robust and reliable as our softwar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13040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bu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ncertainty in environment and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ici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carce resourc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large system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o do this, it may be necessary to have hig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plexity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mplic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e want simple, robust, verifiable external behavior, so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gineering design 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130400"/>
            <a:ext cx="84582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a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rifiab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 short proo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gineering design 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robustness &amp; efficiency that i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erifiab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quire highly complex organization and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ness, evolvability, and verifiability are compat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off to some extent against efficiency, cost, complexit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7:42:31Z</dcterms:created>
  <dc:creator>BA&amp;H User</dc:creator>
  <dc:description/>
  <dc:language>en-US</dc:language>
  <cp:lastModifiedBy> </cp:lastModifiedBy>
  <cp:lastPrinted>2002-05-28T18:09:41Z</cp:lastPrinted>
  <dcterms:modified xsi:type="dcterms:W3CDTF">2003-11-21T16:34:36Z</dcterms:modified>
  <cp:revision>6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8163372</vt:r8>
  </property>
  <property fmtid="{D5CDD505-2E9C-101B-9397-08002B2CF9AE}" pid="3" name="_AuthorEmail">
    <vt:lpwstr>doyle@cds.caltech.edu</vt:lpwstr>
  </property>
  <property fmtid="{D5CDD505-2E9C-101B-9397-08002B2CF9AE}" pid="4" name="_AuthorEmailDisplayName">
    <vt:lpwstr>doyle</vt:lpwstr>
  </property>
  <property fmtid="{D5CDD505-2E9C-101B-9397-08002B2CF9AE}" pid="5" name="_EmailSubject">
    <vt:lpwstr>ASE presentation</vt:lpwstr>
  </property>
</Properties>
</file>