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800" y="-1440"/>
            <a:ext cx="2981160" cy="460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1440"/>
            <a:ext cx="2981520" cy="460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1800" y="8702280"/>
            <a:ext cx="298116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95560" y="8702280"/>
            <a:ext cx="298152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10CB1E9-82E1-4F7B-9B12-C3667571B4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01520" y="8729640"/>
            <a:ext cx="1268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920" bIns="43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B8F5FF-28BC-4BE0-9BCD-A88422638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1155240" y="691920"/>
            <a:ext cx="4565880" cy="342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914400" y="4351320"/>
            <a:ext cx="5045040" cy="4122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95560" y="8702280"/>
            <a:ext cx="298152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6AC14E8-4744-40ED-A638-AF261AC4ED3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1800" y="8702280"/>
            <a:ext cx="298116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1800" y="-1440"/>
            <a:ext cx="2981160" cy="460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95560" y="-1440"/>
            <a:ext cx="2981520" cy="460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24080" y="879480"/>
            <a:ext cx="4228920" cy="31719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64880" y="4358880"/>
            <a:ext cx="4753080" cy="35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5AAC-DF7E-4620-A2D5-331E35F2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A1E-2F3A-4D54-89F0-D427EA4C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B0E-CD0F-4393-A4B9-FC7AA34F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65F0-99CB-4846-8236-FD657C32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EF3-50B6-4358-9165-D94BE530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E79-CFB6-441B-B85C-1198E45A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976-C9B7-49E7-AD6D-153423FB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9AF-AFAB-4049-999F-74A9FE6C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064-307C-448B-B828-71ECB82F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2F81-EB65-462A-916A-C3D1E057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3523-BF04-4906-AEED-90C40840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F69B-88C0-4176-A963-52247E57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524A-E25C-433E-A9BF-37AB02FA1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28800" y="2819520"/>
            <a:ext cx="5519880" cy="40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Avogadro-Scale Engineer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00000"/>
                </a:solidFill>
                <a:latin typeface="Arial"/>
              </a:rPr>
              <a:t>Form and Fun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Courier New"/>
              </a:rPr>
              <a:t>http://cba.mit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SF CCR-01224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66960" y="563400"/>
            <a:ext cx="5448240" cy="1494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68580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Local Search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24" name="srch" descr=""/>
          <p:cNvPicPr/>
          <p:nvPr/>
        </p:nvPicPr>
        <p:blipFill>
          <a:blip r:embed="rId2"/>
          <a:stretch/>
        </p:blipFill>
        <p:spPr>
          <a:xfrm>
            <a:off x="147600" y="2286000"/>
            <a:ext cx="8920080" cy="1990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68580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Global Convex Optimizatio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26" name="srch" descr=""/>
          <p:cNvPicPr/>
          <p:nvPr/>
        </p:nvPicPr>
        <p:blipFill>
          <a:blip r:embed="rId2"/>
          <a:stretch/>
        </p:blipFill>
        <p:spPr>
          <a:xfrm>
            <a:off x="147600" y="2286000"/>
            <a:ext cx="8920080" cy="1990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573360" y="2658960"/>
            <a:ext cx="2611440" cy="1495440"/>
          </a:xfrm>
          <a:custGeom>
            <a:avLst/>
            <a:gdLst/>
            <a:ahLst/>
            <a:rect l="l" t="t" r="r" b="b"/>
            <a:pathLst>
              <a:path w="1645" h="942">
                <a:moveTo>
                  <a:pt x="0" y="152"/>
                </a:moveTo>
                <a:cubicBezTo>
                  <a:pt x="189" y="279"/>
                  <a:pt x="835" y="942"/>
                  <a:pt x="1109" y="917"/>
                </a:cubicBezTo>
                <a:cubicBezTo>
                  <a:pt x="1383" y="892"/>
                  <a:pt x="1533" y="191"/>
                  <a:pt x="1645" y="0"/>
                </a:cubicBezTo>
              </a:path>
            </a:pathLst>
          </a:custGeom>
          <a:noFill/>
          <a:ln w="76320">
            <a:solidFill>
              <a:srgbClr val="d108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920" y="4572000"/>
            <a:ext cx="86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28e"/>
                </a:solidFill>
                <a:latin typeface="Arial"/>
              </a:rPr>
              <a:t>Interior point solution to a semidefinite program on a relaxed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1240" y="127944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03e"/>
                </a:solidFill>
                <a:latin typeface="Arial"/>
              </a:rPr>
              <a:t>(Pablo Parrilo et al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880" y="1165320"/>
            <a:ext cx="4364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computer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linear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semidefinite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integer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dynamic prog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toolpath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fault-tolerant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28e"/>
                </a:solidFill>
                <a:latin typeface="Arial"/>
              </a:rPr>
              <a:t>developmental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3505320"/>
            <a:ext cx="114300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6160" y="3200400"/>
            <a:ext cx="24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tatistical Mechanic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59880" y="2666880"/>
            <a:ext cx="567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028e"/>
                </a:solidFill>
                <a:latin typeface="Arial"/>
              </a:rPr>
              <a:t>macroscopic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baba"/>
                </a:solidFill>
                <a:latin typeface="Arial"/>
              </a:rPr>
              <a:t>internal configur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028e"/>
                </a:solidFill>
                <a:latin typeface="Arial"/>
              </a:rPr>
              <a:t>microscopic degrees of free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tatistical-Mechanical Engineering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59880" y="2666880"/>
            <a:ext cx="567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028e"/>
                </a:solidFill>
                <a:latin typeface="Arial"/>
              </a:rPr>
              <a:t>macroscopic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baba"/>
                </a:solidFill>
                <a:latin typeface="Arial"/>
              </a:rPr>
              <a:t>internal configur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028e"/>
                </a:solidFill>
                <a:latin typeface="Arial"/>
              </a:rPr>
              <a:t>microscopic degrees of free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rogramming Distributed System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72920" y="1981080"/>
            <a:ext cx="175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2aa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2aa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2aa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2aa"/>
                </a:solidFill>
                <a:latin typeface="Arial"/>
              </a:rPr>
              <a:t>execu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2aa"/>
                </a:solidFill>
                <a:latin typeface="Arial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2aa"/>
                </a:solidFill>
                <a:latin typeface="Arial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2362320"/>
            <a:ext cx="0" cy="380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3124080"/>
            <a:ext cx="0" cy="381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3886200"/>
            <a:ext cx="0" cy="380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4572000"/>
            <a:ext cx="0" cy="380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5334120"/>
            <a:ext cx="0" cy="380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Graphical Message-Passing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72920" y="1981080"/>
            <a:ext cx="175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2aa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baba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baba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baba"/>
                </a:solidFill>
                <a:latin typeface="Arial"/>
              </a:rPr>
              <a:t>execu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baba"/>
                </a:solidFill>
                <a:latin typeface="Arial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2aa"/>
                </a:solidFill>
                <a:latin typeface="Arial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2362320"/>
            <a:ext cx="0" cy="33526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5025"/>
          <a:stretch/>
        </p:blipFill>
        <p:spPr>
          <a:xfrm>
            <a:off x="0" y="3763800"/>
            <a:ext cx="4343400" cy="3094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0" b="11866"/>
          <a:stretch/>
        </p:blipFill>
        <p:spPr>
          <a:xfrm>
            <a:off x="4495680" y="3786120"/>
            <a:ext cx="4648320" cy="3071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724280" y="8380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04920" y="838080"/>
            <a:ext cx="4190760" cy="31356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360" y="151920"/>
            <a:ext cx="5257800" cy="76212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Graphical Network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63920" y="193680"/>
            <a:ext cx="3884400" cy="736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25964" dir="2700000" blurRad="0" rotWithShape="0">
              <a:srgbClr val="000000">
                <a:alpha val="2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Sum Produc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87880" y="1076400"/>
            <a:ext cx="432432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Arial"/>
                <a:ea typeface="HG Mincho Light J"/>
              </a:rPr>
              <a:t>Belief propagation, …, (Loeliger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21720" y="2641680"/>
            <a:ext cx="1591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en-GB" sz="2200" spc="-1" strike="noStrike" baseline="-33000">
                <a:solidFill>
                  <a:srgbClr val="000000"/>
                </a:solidFill>
                <a:latin typeface="Times New Roman"/>
                <a:ea typeface="HG Mincho Light J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88120" y="2630520"/>
            <a:ext cx="195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en-GB" sz="2200" spc="-1" strike="noStrike" baseline="-33000">
                <a:solidFill>
                  <a:srgbClr val="000000"/>
                </a:solidFill>
                <a:latin typeface="Times New Roman"/>
                <a:ea typeface="HG Mincho Light J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02000" y="2579760"/>
            <a:ext cx="527040" cy="527040"/>
          </a:xfrm>
          <a:prstGeom prst="rect">
            <a:avLst/>
          </a:prstGeom>
          <a:noFill/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18600" y="2637000"/>
            <a:ext cx="1684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x</a:t>
            </a:r>
            <a:r>
              <a:rPr b="0" i="1" lang="en-GB" sz="2200" spc="-1" strike="noStrike" baseline="-33000">
                <a:solidFill>
                  <a:srgbClr val="000000"/>
                </a:solidFill>
                <a:latin typeface="Times New Roman"/>
                <a:ea typeface="HG Mincho Light J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36800" y="2585880"/>
            <a:ext cx="527400" cy="527040"/>
          </a:xfrm>
          <a:prstGeom prst="ellipse">
            <a:avLst/>
          </a:prstGeom>
          <a:noFill/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16080" y="2849400"/>
            <a:ext cx="719280" cy="1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59160" y="2849400"/>
            <a:ext cx="719280" cy="1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81680" y="2577960"/>
            <a:ext cx="438120" cy="551160"/>
          </a:xfrm>
          <a:custGeom>
            <a:avLst/>
            <a:gdLst>
              <a:gd name="textAreaLeft" fmla="*/ 360 w 438120"/>
              <a:gd name="textAreaRight" fmla="*/ 437760 w 438120"/>
              <a:gd name="textAreaTop" fmla="*/ 360 h 551160"/>
              <a:gd name="textAreaBottom" fmla="*/ 550800 h 551160"/>
            </a:gdLst>
            <a:ahLst/>
            <a:rect l="textAreaLeft" t="textAreaTop" r="textAreaRight" b="textAreaBottom"/>
            <a:pathLst>
              <a:path w="21600" h="27168">
                <a:moveTo>
                  <a:pt x="71" y="0"/>
                </a:moveTo>
                <a:arcTo wR="71" hR="71" stAng="16200000" swAng="-5400000"/>
                <a:lnTo>
                  <a:pt x="0" y="27097"/>
                </a:lnTo>
                <a:arcTo wR="71" hR="71" stAng="10800000" swAng="-5400000"/>
                <a:lnTo>
                  <a:pt x="21529" y="27168"/>
                </a:lnTo>
                <a:arcTo wR="71" hR="71" stAng="5400000" swAng="-5400000"/>
                <a:lnTo>
                  <a:pt x="21600" y="71"/>
                </a:lnTo>
                <a:arcTo wR="71" hR="71" stAng="0" swAng="-5400000"/>
                <a:close/>
              </a:path>
            </a:pathLst>
          </a:custGeom>
          <a:noFill/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03960" y="2851200"/>
            <a:ext cx="717480" cy="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46000" y="2625840"/>
            <a:ext cx="1684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x</a:t>
            </a:r>
            <a:r>
              <a:rPr b="0" i="1" lang="en-GB" sz="2200" spc="-1" strike="noStrike" baseline="-33000">
                <a:solidFill>
                  <a:srgbClr val="000000"/>
                </a:solidFill>
                <a:latin typeface="Times New Roman"/>
                <a:ea typeface="HG Mincho Light J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419800" y="2087280"/>
            <a:ext cx="673200" cy="49212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9800" y="3125880"/>
            <a:ext cx="690480" cy="41436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86160" y="1876320"/>
            <a:ext cx="527040" cy="527040"/>
          </a:xfrm>
          <a:prstGeom prst="rect">
            <a:avLst/>
          </a:prstGeom>
          <a:noFill/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86160" y="3282840"/>
            <a:ext cx="527040" cy="527040"/>
          </a:xfrm>
          <a:prstGeom prst="rect">
            <a:avLst/>
          </a:prstGeom>
          <a:noFill/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17880" y="2174760"/>
            <a:ext cx="763560" cy="52704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006720" y="3014640"/>
            <a:ext cx="797040" cy="47304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02360" y="2585880"/>
            <a:ext cx="527040" cy="527040"/>
          </a:xfrm>
          <a:prstGeom prst="ellipse">
            <a:avLst/>
          </a:prstGeom>
          <a:noFill/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02360" y="3278160"/>
            <a:ext cx="527040" cy="527040"/>
          </a:xfrm>
          <a:prstGeom prst="ellipse">
            <a:avLst/>
          </a:prstGeom>
          <a:noFill/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02360" y="1824120"/>
            <a:ext cx="527040" cy="527040"/>
          </a:xfrm>
          <a:prstGeom prst="ellipse">
            <a:avLst/>
          </a:prstGeom>
          <a:noFill/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905120" y="4495680"/>
                <a:ext cx="555948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/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nary>
                          <m:naryPr>
                            <m:chr m:val="∏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2135880" y="630864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28e"/>
                </a:solidFill>
                <a:latin typeface="Arial"/>
              </a:rPr>
              <a:t>trees: exact         loops: approxi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4952880" cy="609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ethe Approximatio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56800" y="74628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03e"/>
                </a:solidFill>
                <a:latin typeface="Arial"/>
              </a:rPr>
              <a:t>(Jonathan Yedid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654360" y="1225440"/>
                <a:ext cx="5337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≈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nary>
                    <m:r>
                      <m:t xml:space="preserve">H</m:t>
                    </m:r>
                    <m:r>
                      <m:t xml:space="preserve">≈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1555560" y="4029120"/>
            <a:ext cx="3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41148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2819520"/>
            <a:ext cx="40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440" y="2895480"/>
            <a:ext cx="4572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181480"/>
            <a:ext cx="4572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981080" y="259056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752480" y="33523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837720" y="2590560"/>
            <a:ext cx="6858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905120" y="44953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143000" y="44953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21337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1337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5181480"/>
            <a:ext cx="4572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219320"/>
            <a:ext cx="3276360" cy="3657600"/>
          </a:xfrm>
          <a:prstGeom prst="ellipse">
            <a:avLst/>
          </a:prstGeom>
          <a:noFill/>
          <a:ln w="57240">
            <a:solidFill>
              <a:srgbClr val="d10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3962520"/>
            <a:ext cx="762120" cy="761760"/>
          </a:xfrm>
          <a:prstGeom prst="ellipse">
            <a:avLst/>
          </a:prstGeom>
          <a:noFill/>
          <a:ln w="57240">
            <a:solidFill>
              <a:srgbClr val="0a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1981080"/>
            <a:ext cx="762120" cy="762120"/>
          </a:xfrm>
          <a:prstGeom prst="ellipse">
            <a:avLst/>
          </a:prstGeom>
          <a:noFill/>
          <a:ln w="57240">
            <a:solidFill>
              <a:srgbClr val="0a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981080"/>
            <a:ext cx="762120" cy="762120"/>
          </a:xfrm>
          <a:prstGeom prst="ellipse">
            <a:avLst/>
          </a:prstGeom>
          <a:noFill/>
          <a:ln w="57240">
            <a:solidFill>
              <a:srgbClr val="0a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295280" y="1249200"/>
                <a:ext cx="8384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31640" y="3505320"/>
                <a:ext cx="2235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581280" y="2057400"/>
                <a:ext cx="5058000" cy="24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the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the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097080" y="4191120"/>
                <a:ext cx="5589720" cy="26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afsr%20factor%20graph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4419720" cy="3673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6320" y="533520"/>
            <a:ext cx="4647960" cy="1954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324840" y="190512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03e"/>
                </a:solidFill>
                <a:latin typeface="Arial"/>
              </a:rPr>
              <a:t>(Ben Vigo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ben" descr=""/>
          <p:cNvPicPr/>
          <p:nvPr/>
        </p:nvPicPr>
        <p:blipFill>
          <a:blip r:embed="rId3"/>
          <a:stretch/>
        </p:blipFill>
        <p:spPr>
          <a:xfrm>
            <a:off x="228600" y="2590920"/>
            <a:ext cx="4559400" cy="3617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2520" y="457200"/>
            <a:ext cx="4038840" cy="12952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Noise-Locked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Loop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7120" y="6354720"/>
            <a:ext cx="41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9028e"/>
                </a:solidFill>
                <a:latin typeface="Arial"/>
              </a:rPr>
              <a:t>CDMA LFSR code acquis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9T17:51:02Z</dcterms:created>
  <dc:creator>Physics and Media</dc:creator>
  <dc:description/>
  <dc:language>en-US</dc:language>
  <cp:lastModifiedBy>PHM</cp:lastModifiedBy>
  <cp:lastPrinted>1997-02-02T14:23:30Z</cp:lastPrinted>
  <dcterms:modified xsi:type="dcterms:W3CDTF">2003-11-19T12:08:48Z</dcterms:modified>
  <cp:revision>1435</cp:revision>
  <dc:subject/>
  <dc:title>Thin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mp\tmp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