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12.png" ContentType="image/png"/>
  <Override PartName="/ppt/media/image27.jpeg" ContentType="image/jpeg"/>
  <Override PartName="/ppt/media/image8.png" ContentType="image/png"/>
  <Override PartName="/ppt/media/image13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1440"/>
            <a:ext cx="2981160" cy="460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1440"/>
            <a:ext cx="2981520" cy="460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1800" y="8702280"/>
            <a:ext cx="298116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95560" y="8702280"/>
            <a:ext cx="298152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B6675ED-8B75-4166-B896-10A571F90A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01520" y="8729640"/>
            <a:ext cx="1268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920" bIns="43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05B3D5-9D1A-4FC1-BEEC-F724B50F4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55240" y="691920"/>
            <a:ext cx="4565880" cy="342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914400" y="4351320"/>
            <a:ext cx="5045040" cy="4122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95560" y="8702280"/>
            <a:ext cx="298152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35BF138-A18C-4E68-9A30-7574A6D52E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1800" y="8702280"/>
            <a:ext cx="298116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1800" y="-1440"/>
            <a:ext cx="2981160" cy="460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95560" y="-1440"/>
            <a:ext cx="2981520" cy="460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24080" y="879480"/>
            <a:ext cx="4228920" cy="31719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64880" y="4358880"/>
            <a:ext cx="4753080" cy="35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854-F6C9-4549-A8AA-4D8F768D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8EA-1FAC-4FE5-B92D-9CED3E5D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0B2-96C6-4A60-A4E8-204F113F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E9A-7B19-411C-95D9-97169B0A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F02-05E4-4DA2-A1E5-8B2763FC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AA1-A800-4414-B6E6-5309E15F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B26-055D-48B8-B825-5369B020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136-23A5-4AEA-B27C-EE20CAC9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B7C-4C30-44D6-9D94-522D3605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749-B8B6-478A-8ABC-7B545F3C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890-A7D3-454B-BAB0-C596E655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AB0-C2CC-491B-A54D-77B8FEFB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C3AD-14D5-4495-A44B-38372DA63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28800" y="2819520"/>
            <a:ext cx="5519880" cy="40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Avogadro-Scale Engineer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00000"/>
                </a:solidFill>
                <a:latin typeface="Arial"/>
              </a:rPr>
              <a:t>Form and Fun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Courier New"/>
              </a:rPr>
              <a:t>http://cba.mit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SF CCR-01224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6960" y="563400"/>
            <a:ext cx="5448240" cy="1494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4647960" cy="76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Threshold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8840" y="1752480"/>
            <a:ext cx="5871240" cy="4649760"/>
            <a:chOff x="78840" y="1752480"/>
            <a:chExt cx="5871240" cy="4649760"/>
          </a:xfrm>
        </p:grpSpPr>
        <p:sp>
          <p:nvSpPr>
            <p:cNvPr id="113" name=""/>
            <p:cNvSpPr/>
            <p:nvPr/>
          </p:nvSpPr>
          <p:spPr>
            <a:xfrm>
              <a:off x="1149480" y="1752480"/>
              <a:ext cx="0" cy="441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920880" y="594360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149480" y="1905120"/>
              <a:ext cx="4800600" cy="4038480"/>
            </a:xfrm>
            <a:prstGeom prst="line">
              <a:avLst/>
            </a:prstGeom>
            <a:ln w="76320">
              <a:solidFill>
                <a:srgbClr val="08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4040" y="603396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8840" y="35956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rr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149480" y="1905120"/>
            <a:ext cx="7325640" cy="4038480"/>
            <a:chOff x="1149480" y="1905120"/>
            <a:chExt cx="7325640" cy="4038480"/>
          </a:xfrm>
        </p:grpSpPr>
        <p:grpSp>
          <p:nvGrpSpPr>
            <p:cNvPr id="119" name=""/>
            <p:cNvGrpSpPr/>
            <p:nvPr/>
          </p:nvGrpSpPr>
          <p:grpSpPr>
            <a:xfrm>
              <a:off x="1149480" y="1905120"/>
              <a:ext cx="4800600" cy="4038480"/>
              <a:chOff x="1149480" y="1905120"/>
              <a:chExt cx="4800600" cy="4038480"/>
            </a:xfrm>
          </p:grpSpPr>
          <p:sp>
            <p:nvSpPr>
              <p:cNvPr id="120" name=""/>
              <p:cNvSpPr/>
              <p:nvPr/>
            </p:nvSpPr>
            <p:spPr>
              <a:xfrm flipV="1">
                <a:off x="2521080" y="1905120"/>
                <a:ext cx="3429000" cy="4038480"/>
              </a:xfrm>
              <a:prstGeom prst="line">
                <a:avLst/>
              </a:prstGeom>
              <a:ln w="76320">
                <a:solidFill>
                  <a:srgbClr val="d108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9480" y="5943600"/>
                <a:ext cx="1371600" cy="0"/>
              </a:xfrm>
              <a:prstGeom prst="line">
                <a:avLst/>
              </a:prstGeom>
              <a:ln w="76320">
                <a:solidFill>
                  <a:srgbClr val="d108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793480" y="2787480"/>
              <a:ext cx="268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1948: Commun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(Shann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790600" y="3854520"/>
            <a:ext cx="32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963: Comp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(Winograd, von Neuman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2760" y="484488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~2003: Fabr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wan1" descr=""/>
          <p:cNvPicPr/>
          <p:nvPr/>
        </p:nvPicPr>
        <p:blipFill>
          <a:blip r:embed="rId1"/>
          <a:stretch/>
        </p:blipFill>
        <p:spPr>
          <a:xfrm>
            <a:off x="5934240" y="438120"/>
            <a:ext cx="3209760" cy="4006800"/>
          </a:xfrm>
          <a:prstGeom prst="rect">
            <a:avLst/>
          </a:prstGeom>
          <a:ln w="0">
            <a:noFill/>
          </a:ln>
        </p:spPr>
      </p:pic>
      <p:pic>
        <p:nvPicPr>
          <p:cNvPr id="126" name="jvn2" descr=""/>
          <p:cNvPicPr/>
          <p:nvPr/>
        </p:nvPicPr>
        <p:blipFill>
          <a:blip r:embed="rId2"/>
          <a:stretch/>
        </p:blipFill>
        <p:spPr>
          <a:xfrm>
            <a:off x="0" y="4915080"/>
            <a:ext cx="5638680" cy="1942920"/>
          </a:xfrm>
          <a:prstGeom prst="rect">
            <a:avLst/>
          </a:prstGeom>
          <a:ln w="0">
            <a:noFill/>
          </a:ln>
        </p:spPr>
      </p:pic>
      <p:pic>
        <p:nvPicPr>
          <p:cNvPr id="127" name="jvns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4295880" cy="3857760"/>
          </a:xfrm>
          <a:prstGeom prst="rect">
            <a:avLst/>
          </a:prstGeom>
          <a:ln w="0">
            <a:noFill/>
          </a:ln>
        </p:spPr>
      </p:pic>
      <p:pic>
        <p:nvPicPr>
          <p:cNvPr id="128" name="jvn1" descr=""/>
          <p:cNvPicPr/>
          <p:nvPr/>
        </p:nvPicPr>
        <p:blipFill>
          <a:blip r:embed="rId4"/>
          <a:stretch/>
        </p:blipFill>
        <p:spPr>
          <a:xfrm>
            <a:off x="0" y="0"/>
            <a:ext cx="4495680" cy="2193840"/>
          </a:xfrm>
          <a:prstGeom prst="rect">
            <a:avLst/>
          </a:prstGeom>
          <a:ln w="0">
            <a:noFill/>
          </a:ln>
        </p:spPr>
      </p:pic>
      <p:pic>
        <p:nvPicPr>
          <p:cNvPr id="129" name="cowan" descr=""/>
          <p:cNvPicPr/>
          <p:nvPr/>
        </p:nvPicPr>
        <p:blipFill>
          <a:blip r:embed="rId5"/>
          <a:stretch/>
        </p:blipFill>
        <p:spPr>
          <a:xfrm>
            <a:off x="5295960" y="3911760"/>
            <a:ext cx="3848040" cy="2565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23280" y="10368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9028e"/>
                </a:solidFill>
                <a:latin typeface="Arial"/>
              </a:rPr>
              <a:t>VLS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69480" y="2757600"/>
            <a:ext cx="204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9028e"/>
                </a:solidFill>
                <a:latin typeface="Arial"/>
              </a:rPr>
              <a:t>VHS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8200" y="4662360"/>
            <a:ext cx="146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VH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75160" y="4570560"/>
            <a:ext cx="69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70602"/>
                </a:solidFill>
                <a:latin typeface="Arial"/>
              </a:rPr>
              <a:t>Physics  Chemistry  Biology  Electrical  Mechanical  Civil 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55840" y="1766880"/>
            <a:ext cx="1284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70602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70602"/>
                </a:solidFill>
                <a:latin typeface="Arial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70602"/>
                </a:solidFill>
                <a:latin typeface="Arial"/>
              </a:rPr>
              <a:t>En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70602"/>
                </a:solidFill>
                <a:latin typeface="Arial"/>
              </a:rPr>
              <a:t>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16240" y="5195880"/>
            <a:ext cx="2132280" cy="368280"/>
            <a:chOff x="4116240" y="5195880"/>
            <a:chExt cx="2132280" cy="368280"/>
          </a:xfrm>
        </p:grpSpPr>
        <p:sp>
          <p:nvSpPr>
            <p:cNvPr id="54" name=""/>
            <p:cNvSpPr/>
            <p:nvPr/>
          </p:nvSpPr>
          <p:spPr>
            <a:xfrm>
              <a:off x="4116240" y="5195880"/>
              <a:ext cx="15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length sc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15000" y="5378400"/>
              <a:ext cx="533520" cy="0"/>
            </a:xfrm>
            <a:prstGeom prst="line">
              <a:avLst/>
            </a:prstGeom>
            <a:ln w="57240">
              <a:solidFill>
                <a:srgbClr val="00004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7440" y="2528640"/>
            <a:ext cx="1413720" cy="1220400"/>
            <a:chOff x="37440" y="2528640"/>
            <a:chExt cx="1413720" cy="1220400"/>
          </a:xfrm>
        </p:grpSpPr>
        <p:sp>
          <p:nvSpPr>
            <p:cNvPr id="57" name=""/>
            <p:cNvSpPr/>
            <p:nvPr/>
          </p:nvSpPr>
          <p:spPr>
            <a:xfrm>
              <a:off x="37440" y="3106440"/>
              <a:ext cx="141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level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744480" y="2528640"/>
              <a:ext cx="0" cy="533160"/>
            </a:xfrm>
            <a:prstGeom prst="line">
              <a:avLst/>
            </a:prstGeom>
            <a:ln w="57240">
              <a:solidFill>
                <a:srgbClr val="00004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819520" y="1843200"/>
            <a:ext cx="5867280" cy="2361960"/>
          </a:xfrm>
          <a:prstGeom prst="rect">
            <a:avLst/>
          </a:prstGeom>
          <a:gradFill rotWithShape="0">
            <a:gsLst>
              <a:gs pos="0">
                <a:srgbClr val="000040"/>
              </a:gs>
              <a:gs pos="100000">
                <a:srgbClr val="8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51960" y="19191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4320" y="3672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0" y="268128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03560" y="685800"/>
            <a:ext cx="1181160" cy="2003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675400" y="343080"/>
            <a:ext cx="2401920" cy="240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70640" y="4686480"/>
            <a:ext cx="2509560" cy="2095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398680" y="4691160"/>
            <a:ext cx="2590920" cy="2073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82240" y="6151680"/>
            <a:ext cx="45792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400" spc="-1" strike="noStrike">
                <a:solidFill>
                  <a:srgbClr val="b80047"/>
                </a:solidFill>
                <a:latin typeface="Arial"/>
                <a:ea typeface="HG Mincho Light J"/>
              </a:rPr>
              <a:t>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2922480"/>
            <a:ext cx="54324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400" spc="-1" strike="noStrike">
                <a:solidFill>
                  <a:srgbClr val="b80047"/>
                </a:solidFill>
                <a:latin typeface="Arial"/>
                <a:ea typeface="HG Mincho Light J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2960" y="4522680"/>
            <a:ext cx="45648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400" spc="-1" strike="noStrike">
                <a:solidFill>
                  <a:srgbClr val="b80047"/>
                </a:solidFill>
                <a:latin typeface="Arial"/>
                <a:ea typeface="Lucidasans"/>
              </a:rPr>
              <a:t>μ</a:t>
            </a:r>
            <a:r>
              <a:rPr b="1" i="1" lang="en-GB" sz="2400" spc="-1" strike="noStrike">
                <a:solidFill>
                  <a:srgbClr val="b80047"/>
                </a:solidFill>
                <a:latin typeface="Arial"/>
                <a:ea typeface="HG Mincho Light J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284560" y="3000240"/>
            <a:ext cx="2820960" cy="1343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75280" y="76320"/>
            <a:ext cx="74592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b80047"/>
                </a:solidFill>
                <a:latin typeface="Arial"/>
                <a:ea typeface="HG Mincho Light J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44000" y="76320"/>
            <a:ext cx="94860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b80047"/>
                </a:solidFill>
                <a:latin typeface="Arial"/>
                <a:ea typeface="HG Mincho Light J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20400" y="1371600"/>
            <a:ext cx="27216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400" spc="-1" strike="noStrike">
                <a:solidFill>
                  <a:srgbClr val="b80047"/>
                </a:solidFill>
                <a:latin typeface="Arial"/>
                <a:ea typeface="HG Mincho Light J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5715000" y="2670120"/>
            <a:ext cx="2514600" cy="2054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13221" t="0" r="5555" b="0"/>
          <a:stretch/>
        </p:blipFill>
        <p:spPr>
          <a:xfrm>
            <a:off x="0" y="3102120"/>
            <a:ext cx="3276720" cy="37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105520" y="0"/>
          <a:ext cx="4038480" cy="275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0"/>
                    <a:ext cx="403848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306440" y="0"/>
            <a:ext cx="3905280" cy="4952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162400" y="1676520"/>
            <a:ext cx="3981600" cy="5181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63946" t="0" r="0" b="0"/>
          <a:stretch/>
        </p:blipFill>
        <p:spPr>
          <a:xfrm>
            <a:off x="142920" y="4859280"/>
            <a:ext cx="1762200" cy="1998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57800" y="4913280"/>
            <a:ext cx="380988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70640" y="0"/>
            <a:ext cx="2521080" cy="2590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776920" y="2666880"/>
            <a:ext cx="3062160" cy="229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6320" y="47520"/>
            <a:ext cx="3128760" cy="1957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352680" y="30240"/>
            <a:ext cx="2971800" cy="2408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324000" y="2209680"/>
            <a:ext cx="2266920" cy="2667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38320" y="4896000"/>
            <a:ext cx="3143160" cy="1962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2895480" y="2438280"/>
            <a:ext cx="2590920" cy="2508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921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uk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4726080"/>
          </a:xfrm>
          <a:prstGeom prst="rect">
            <a:avLst/>
          </a:prstGeom>
          <a:ln w="0">
            <a:noFill/>
          </a:ln>
        </p:spPr>
      </p:pic>
      <p:pic>
        <p:nvPicPr>
          <p:cNvPr id="91" name="us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3052800"/>
          </a:xfrm>
          <a:prstGeom prst="rect">
            <a:avLst/>
          </a:prstGeom>
          <a:ln w="0">
            <a:noFill/>
          </a:ln>
        </p:spPr>
      </p:pic>
      <p:pic>
        <p:nvPicPr>
          <p:cNvPr id="92" name="czech" descr=""/>
          <p:cNvPicPr/>
          <p:nvPr/>
        </p:nvPicPr>
        <p:blipFill>
          <a:blip r:embed="rId3"/>
          <a:stretch/>
        </p:blipFill>
        <p:spPr>
          <a:xfrm>
            <a:off x="0" y="2438280"/>
            <a:ext cx="4876920" cy="2400480"/>
          </a:xfrm>
          <a:prstGeom prst="rect">
            <a:avLst/>
          </a:prstGeom>
          <a:ln w="0">
            <a:noFill/>
          </a:ln>
        </p:spPr>
      </p:pic>
      <p:pic>
        <p:nvPicPr>
          <p:cNvPr id="93" name="italy" descr=""/>
          <p:cNvPicPr/>
          <p:nvPr/>
        </p:nvPicPr>
        <p:blipFill>
          <a:blip r:embed="rId4"/>
          <a:stretch/>
        </p:blipFill>
        <p:spPr>
          <a:xfrm>
            <a:off x="3809880" y="3656160"/>
            <a:ext cx="5334120" cy="3049560"/>
          </a:xfrm>
          <a:prstGeom prst="rect">
            <a:avLst/>
          </a:prstGeom>
          <a:ln w="0">
            <a:noFill/>
          </a:ln>
        </p:spPr>
      </p:pic>
      <p:pic>
        <p:nvPicPr>
          <p:cNvPr id="94" name="scand" descr=""/>
          <p:cNvPicPr/>
          <p:nvPr/>
        </p:nvPicPr>
        <p:blipFill>
          <a:blip r:embed="rId5"/>
          <a:stretch/>
        </p:blipFill>
        <p:spPr>
          <a:xfrm>
            <a:off x="0" y="4694400"/>
            <a:ext cx="5791320" cy="2163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267080" y="609480"/>
            <a:ext cx="533520" cy="46483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4840" y="1387440"/>
            <a:ext cx="33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Demonstration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mergent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8160" y="388764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0602"/>
                </a:solidFill>
                <a:latin typeface="Arial"/>
              </a:rPr>
              <a:t>(don’t scal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36840" y="1387440"/>
            <a:ext cx="33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Deep thinking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mergent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2840" y="38862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0602"/>
                </a:solidFill>
                <a:latin typeface="Arial"/>
              </a:rPr>
              <a:t>(don’t wor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09480"/>
            <a:ext cx="403848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609480"/>
            <a:ext cx="403848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95680" y="5333760"/>
            <a:ext cx="0" cy="533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5160" y="594360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rigor + relev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08760" y="4662360"/>
            <a:ext cx="44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28e"/>
                </a:solidFill>
                <a:latin typeface="Arial"/>
              </a:rPr>
              <a:t>error-corrected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0880" y="2666880"/>
            <a:ext cx="63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28e"/>
                </a:solidFill>
                <a:latin typeface="Arial"/>
              </a:rPr>
              <a:t>physical graphical message-p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9200" y="1600200"/>
            <a:ext cx="55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28e"/>
                </a:solidFill>
                <a:latin typeface="Arial"/>
              </a:rPr>
              <a:t>distributed convex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58400" y="4738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70602"/>
                </a:solidFill>
                <a:latin typeface="Arial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41760" y="16002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70602"/>
                </a:solidFill>
                <a:latin typeface="Arial"/>
              </a:rPr>
              <a:t>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88640" y="3733920"/>
            <a:ext cx="53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28e"/>
                </a:solidFill>
                <a:latin typeface="Arial"/>
              </a:rPr>
              <a:t>self-modification/re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854840" y="2209680"/>
            <a:ext cx="0" cy="23623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9T17:51:02Z</dcterms:created>
  <dc:creator>Physics and Media</dc:creator>
  <dc:description/>
  <dc:language>en-US</dc:language>
  <cp:lastModifiedBy>PHM</cp:lastModifiedBy>
  <cp:lastPrinted>1997-02-02T14:23:30Z</cp:lastPrinted>
  <dcterms:modified xsi:type="dcterms:W3CDTF">2003-11-18T04:15:40Z</dcterms:modified>
  <cp:revision>1435</cp:revision>
  <dc:subject/>
  <dc:title>Th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mp\tmp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