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3108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8DF-07E8-41FA-8D09-A1A97317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35753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54320" y="18725040"/>
            <a:ext cx="35753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5AF-669C-4345-8205-8D19C66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47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54320" y="1872504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4720" y="1872504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9AF-774D-4182-A515-AC0A11E0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2760" y="898200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1200" y="898200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54320" y="1872504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2760" y="1872504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1200" y="18725040"/>
            <a:ext cx="1151244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F19-43C8-456A-AF3E-189230EA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54320" y="8982000"/>
            <a:ext cx="35753760" cy="18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089-AFC3-466E-94C5-522B51F2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35753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AFE-BA5C-4ECB-B25E-A8C13ABA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7447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4720" y="8982000"/>
            <a:ext cx="17447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2E0-0848-491E-A34B-A068B951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ED2-C31A-4E6E-A03C-70F0A36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54320" y="2763720"/>
            <a:ext cx="35753760" cy="24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6F6-762F-458C-BF5A-25D560A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4720" y="8982000"/>
            <a:ext cx="17447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54320" y="1872504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6BF-533D-44F5-AF49-E625473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7447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47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4720" y="1872504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A3D-01C0-403F-82D4-098752E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543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4720" y="8982000"/>
            <a:ext cx="17447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54320" y="18725040"/>
            <a:ext cx="35753760" cy="8897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F56-FDFD-4894-BF51-3518AB0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4320" y="2763720"/>
            <a:ext cx="35753760" cy="5181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54320" y="8982000"/>
            <a:ext cx="35753760" cy="186530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 fontScale="99000"/>
          </a:bodyPr>
          <a:p>
            <a:pPr marL="1550880" indent="-155088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1320" indent="-12913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171760" indent="-103356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241760" indent="-10339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311760" indent="-1035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311760" indent="-1035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311760" indent="-1035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54320" y="28325520"/>
            <a:ext cx="8763120" cy="20732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1560" y="28325520"/>
            <a:ext cx="13319280" cy="20732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ct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4960" y="28325520"/>
            <a:ext cx="8763120" cy="20732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9960"/>
                <a:tab algn="l" pos="8359920"/>
              </a:tabLst>
            </a:pPr>
            <a:fld id="{62421861-0941-401B-A422-1068035D72E8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2062400" cy="344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480" rIns="438480" tIns="219240" bIns="219240" anchor="t">
            <a:spAutoFit/>
          </a:bodyPr>
          <a:p>
            <a:pPr algn="ctr">
              <a:tabLst>
                <a:tab algn="l" pos="0"/>
                <a:tab algn="l" pos="4390920"/>
                <a:tab algn="l" pos="87822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Times New Roman"/>
              </a:rPr>
              <a:t>Higher-order composite pulses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90920"/>
                <a:tab algn="l" pos="8782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90920"/>
                <a:tab algn="l" pos="8782200"/>
              </a:tabLst>
            </a:pPr>
            <a:r>
              <a:rPr b="0" lang="en-US" sz="46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Kenneth Brown, Isaac Chuang, Aram Harrow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it_seal" descr=""/>
          <p:cNvPicPr/>
          <p:nvPr/>
        </p:nvPicPr>
        <p:blipFill>
          <a:blip r:embed="rId1"/>
          <a:stretch/>
        </p:blipFill>
        <p:spPr>
          <a:xfrm>
            <a:off x="39017520" y="460440"/>
            <a:ext cx="2556000" cy="257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03160" y="5713560"/>
            <a:ext cx="10515600" cy="33462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rent control of quantum systems, as in nuclear magnetic resonance (NMR), requires the ability to precisely control the timing, power, frequency and phase of radiofrequency (RF) pul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ften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22400" y="4764240"/>
            <a:ext cx="6426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General problem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10744200"/>
            <a:ext cx="10515600" cy="586584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onl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rrors in pul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that when we think we are applying a rotation by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actually apply a rotation by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(1+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ly, this might correspond to a macroscopic NMR sample that experiences an inhomogenous RF field.  Sinc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es through the sample, it cannot be eliminated by calibration.  This means that our solution must work for all sufficiently small values of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22400" y="9715680"/>
            <a:ext cx="6426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Simplified problem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3160" y="18660960"/>
            <a:ext cx="10515600" cy="226692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site pul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several faulty pulses simulate one good pu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goal is to reduce the error from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2400" y="17451360"/>
            <a:ext cx="6426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Solution idea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ba-logo" descr=""/>
          <p:cNvPicPr/>
          <p:nvPr/>
        </p:nvPicPr>
        <p:blipFill>
          <a:blip r:embed="rId2"/>
          <a:stretch/>
        </p:blipFill>
        <p:spPr>
          <a:xfrm>
            <a:off x="758880" y="914400"/>
            <a:ext cx="7886520" cy="206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1200" y="23302800"/>
            <a:ext cx="10509120" cy="16560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ly, only constructions based on Tycko’s average Hamiltonian theory that map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Times New Roman"/>
              </a:rPr>
              <a:t>[Wimperis, J. Magn. Reson. B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109,</a:t>
            </a:r>
            <a:r>
              <a:rPr b="0" lang="en-US" sz="2700" spc="-1" strike="noStrike">
                <a:solidFill>
                  <a:srgbClr val="3333cc"/>
                </a:solidFill>
                <a:latin typeface="Times New Roman"/>
              </a:rPr>
              <a:t> 221 (1994)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22400" y="22064760"/>
            <a:ext cx="6426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Previous work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81880" y="6778800"/>
            <a:ext cx="10515600" cy="226692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gorithm to construct a pulse sequence to correct to order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positive integer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methods to achiev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381760" y="5562720"/>
            <a:ext cx="6426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Our goal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71600" y="10002960"/>
            <a:ext cx="10515600" cy="712404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tter-Suzuki expan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roximate the des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 as a sequence of pul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desired pulse as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X+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me feasibl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X+Y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=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aX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bX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cX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cY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equenc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(a,b,c,…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creating composite pulses (i.e. works for any X and Y).  Unfortunately, its length is exponential in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only known algorithm for finding the sequence is also exponential in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92000" y="9153360"/>
            <a:ext cx="6426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Method 1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57080" y="10129680"/>
            <a:ext cx="10507680" cy="820404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adapted version of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ovay-Kitaev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quantum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of the algorithm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-by order cancel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irst cancel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, which introduces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igher-order errors. Then cancel th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, again introducing higher-order errors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sive constr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ep: Use the fact that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xp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)exp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)exp(-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)exp(-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6600"/>
                </a:solidFill>
                <a:latin typeface="cmsy10"/>
              </a:rPr>
              <a:t>¼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exp(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a+b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(AB-BA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ning time is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poly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 conjecture that the number of pulses is also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poly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oughly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66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but haven’t proven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645960" y="9391680"/>
            <a:ext cx="6426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Method 2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89160" y="29938680"/>
            <a:ext cx="1578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29089440"/>
            <a:ext cx="53305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84640" y="27476280"/>
            <a:ext cx="2584440" cy="152568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06680" y="27476280"/>
            <a:ext cx="2577960" cy="152568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359160" y="29225880"/>
            <a:ext cx="657360" cy="99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6680" y="26411400"/>
            <a:ext cx="591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rst order composite pulse seq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18680" y="30146760"/>
            <a:ext cx="1578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31320" y="29319480"/>
            <a:ext cx="53308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45680" y="27930600"/>
            <a:ext cx="2578320" cy="264780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9931320" y="27930240"/>
            <a:ext cx="1300320" cy="133164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0588680" y="29433960"/>
            <a:ext cx="657000" cy="98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23640" y="26411400"/>
            <a:ext cx="591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rder composite pulse seq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3801680" y="29305080"/>
            <a:ext cx="1300320" cy="132408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82200" y="4951440"/>
            <a:ext cx="503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order: 2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563320" y="9678960"/>
            <a:ext cx="5038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rder: 6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36040" y="14169960"/>
            <a:ext cx="503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rder: 18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928360" y="18746640"/>
            <a:ext cx="430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rder: 44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55280" y="25072920"/>
            <a:ext cx="51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eenth order: 1,884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900080" y="23238000"/>
            <a:ext cx="145800" cy="1584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900080" y="23618880"/>
            <a:ext cx="145800" cy="15876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900080" y="24001560"/>
            <a:ext cx="145800" cy="150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eq1" descr=""/>
          <p:cNvPicPr/>
          <p:nvPr/>
        </p:nvPicPr>
        <p:blipFill>
          <a:blip r:embed="rId3"/>
          <a:stretch/>
        </p:blipFill>
        <p:spPr>
          <a:xfrm>
            <a:off x="35840880" y="5562720"/>
            <a:ext cx="4673880" cy="3655800"/>
          </a:xfrm>
          <a:prstGeom prst="rect">
            <a:avLst/>
          </a:prstGeom>
          <a:ln w="0">
            <a:noFill/>
          </a:ln>
        </p:spPr>
      </p:pic>
      <p:pic>
        <p:nvPicPr>
          <p:cNvPr id="80" name="seq2" descr=""/>
          <p:cNvPicPr/>
          <p:nvPr/>
        </p:nvPicPr>
        <p:blipFill>
          <a:blip r:embed="rId4"/>
          <a:stretch/>
        </p:blipFill>
        <p:spPr>
          <a:xfrm>
            <a:off x="35840880" y="10283760"/>
            <a:ext cx="4673880" cy="3656160"/>
          </a:xfrm>
          <a:prstGeom prst="rect">
            <a:avLst/>
          </a:prstGeom>
          <a:ln w="0">
            <a:noFill/>
          </a:ln>
        </p:spPr>
      </p:pic>
      <p:pic>
        <p:nvPicPr>
          <p:cNvPr id="81" name="seq3" descr=""/>
          <p:cNvPicPr/>
          <p:nvPr/>
        </p:nvPicPr>
        <p:blipFill>
          <a:blip r:embed="rId5"/>
          <a:stretch/>
        </p:blipFill>
        <p:spPr>
          <a:xfrm>
            <a:off x="35840880" y="14709600"/>
            <a:ext cx="4673880" cy="3649680"/>
          </a:xfrm>
          <a:prstGeom prst="rect">
            <a:avLst/>
          </a:prstGeom>
          <a:ln w="0">
            <a:noFill/>
          </a:ln>
        </p:spPr>
      </p:pic>
      <p:pic>
        <p:nvPicPr>
          <p:cNvPr id="82" name="seq4" descr=""/>
          <p:cNvPicPr/>
          <p:nvPr/>
        </p:nvPicPr>
        <p:blipFill>
          <a:blip r:embed="rId6"/>
          <a:stretch/>
        </p:blipFill>
        <p:spPr>
          <a:xfrm>
            <a:off x="35840880" y="19280160"/>
            <a:ext cx="4673880" cy="3656160"/>
          </a:xfrm>
          <a:prstGeom prst="rect">
            <a:avLst/>
          </a:prstGeom>
          <a:ln w="0">
            <a:noFill/>
          </a:ln>
        </p:spPr>
      </p:pic>
      <p:pic>
        <p:nvPicPr>
          <p:cNvPr id="83" name="seq15" descr=""/>
          <p:cNvPicPr/>
          <p:nvPr/>
        </p:nvPicPr>
        <p:blipFill>
          <a:blip r:embed="rId7"/>
          <a:stretch/>
        </p:blipFill>
        <p:spPr>
          <a:xfrm>
            <a:off x="35840880" y="25757280"/>
            <a:ext cx="4673880" cy="3655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169640" y="586584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69640" y="12039480"/>
            <a:ext cx="248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96560" y="16760880"/>
            <a:ext cx="116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192040" y="21640680"/>
            <a:ext cx="65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761280" y="18899280"/>
            <a:ext cx="8616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ffective error vs. base error with method 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error_scaling" descr=""/>
          <p:cNvPicPr/>
          <p:nvPr/>
        </p:nvPicPr>
        <p:blipFill>
          <a:blip r:embed="rId8"/>
          <a:stretch/>
        </p:blipFill>
        <p:spPr>
          <a:xfrm>
            <a:off x="21615480" y="19783440"/>
            <a:ext cx="13363560" cy="1045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649760"/>
            <a:ext cx="11829960" cy="21027960"/>
          </a:xfrm>
          <a:custGeom>
            <a:avLst/>
            <a:gdLst>
              <a:gd name="textAreaLeft" fmla="*/ 577440 w 11829960"/>
              <a:gd name="textAreaRight" fmla="*/ 11252520 w 11829960"/>
              <a:gd name="textAreaTop" fmla="*/ 577440 h 21027960"/>
              <a:gd name="textAreaBottom" fmla="*/ 20450520 h 21027960"/>
            </a:gdLst>
            <a:ahLst/>
            <a:rect l="textAreaLeft" t="textAreaTop" r="textAreaRight" b="textAreaBottom"/>
            <a:pathLst>
              <a:path w="21600" h="38394">
                <a:moveTo>
                  <a:pt x="3600" y="0"/>
                </a:moveTo>
                <a:arcTo wR="3600" hR="3600" stAng="16200000" swAng="-5400000"/>
                <a:lnTo>
                  <a:pt x="0" y="34794"/>
                </a:lnTo>
                <a:arcTo wR="3600" hR="3600" stAng="10800000" swAng="-5400000"/>
                <a:lnTo>
                  <a:pt x="18000" y="38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52360" y="5332320"/>
            <a:ext cx="22199760" cy="13487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35360"/>
            <a:ext cx="12414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694440" y="4116240"/>
            <a:ext cx="8397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664680" y="3886200"/>
            <a:ext cx="8397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90240" y="4800600"/>
            <a:ext cx="5476680" cy="25223760"/>
          </a:xfrm>
          <a:custGeom>
            <a:avLst/>
            <a:gdLst>
              <a:gd name="textAreaLeft" fmla="*/ 267120 w 5476680"/>
              <a:gd name="textAreaRight" fmla="*/ 5209560 w 5476680"/>
              <a:gd name="textAreaTop" fmla="*/ 267120 h 25223760"/>
              <a:gd name="textAreaBottom" fmla="*/ 24956640 h 25223760"/>
            </a:gdLst>
            <a:ahLst/>
            <a:rect l="textAreaLeft" t="textAreaTop" r="textAreaRight" b="textAreaBottom"/>
            <a:pathLst>
              <a:path w="21600" h="99477">
                <a:moveTo>
                  <a:pt x="3600" y="0"/>
                </a:moveTo>
                <a:arcTo wR="3600" hR="3600" stAng="16200000" swAng="-5400000"/>
                <a:lnTo>
                  <a:pt x="0" y="95877"/>
                </a:lnTo>
                <a:arcTo wR="3600" hR="3600" stAng="10800000" swAng="-5400000"/>
                <a:lnTo>
                  <a:pt x="18000" y="99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5000" y="19732680"/>
            <a:ext cx="7886880" cy="594504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lses in NMR are rotations by angles in the plane, so they can be represented by v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perform a rotation by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our correction should be 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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se corrections can be built out of rotations by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rst-order, these rotations add (so the vectors will always sum to zero), but the higher-order terms are more compl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414240" y="18899280"/>
            <a:ext cx="6426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Notation used in graphs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0:30:59Z</dcterms:created>
  <dc:creator>Isaac Chuang</dc:creator>
  <dc:description/>
  <dc:language>en-US</dc:language>
  <cp:lastModifiedBy>Isaac Chuang</cp:lastModifiedBy>
  <dcterms:modified xsi:type="dcterms:W3CDTF">2003-11-14T20:31:08Z</dcterms:modified>
  <cp:revision>1</cp:revision>
  <dc:subject/>
  <dc:title>PowerPoint Presentation</dc:title>
</cp:coreProperties>
</file>