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F3E-1D85-4CD1-A72B-FD836AB3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7A6-C841-4CAC-93E8-5B346387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C0A-0189-4A86-996C-DA03E9B9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A6E-AE3A-4FF8-A8CF-8A0005C6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98F-7558-4C1E-8DEE-A333E78B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309-3D02-4EDC-8620-74659E9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D47-FF79-40F2-8808-8A327BA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ED2-968E-48CA-B52D-B60E53B0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725-F4E1-41BC-A4C2-E08C3438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6B3-F9EA-4CE5-833A-214B97E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441-6114-4240-BDC2-A1D3AC0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809-7298-40BB-95D1-66277A5D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208E-AA1E-4A7A-A787-77D513ED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ba.mit.edu/media/logos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hyperlink" Target="http://cba.mit.edu/media/logos/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78560"/>
            <a:ext cx="914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olecular Machine (Jacobson)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IT - November 2003</a:t>
            </a:r>
            <a:r>
              <a:rPr b="1" lang="en-US" sz="19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80960"/>
            <a:ext cx="91440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vogadro Scale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itmedia" descr=""/>
          <p:cNvPicPr/>
          <p:nvPr/>
        </p:nvPicPr>
        <p:blipFill>
          <a:blip r:embed="rId1"/>
          <a:stretch/>
        </p:blipFill>
        <p:spPr>
          <a:xfrm>
            <a:off x="0" y="0"/>
            <a:ext cx="2747880" cy="1260360"/>
          </a:xfrm>
          <a:prstGeom prst="rect">
            <a:avLst/>
          </a:prstGeom>
          <a:ln w="0">
            <a:noFill/>
          </a:ln>
        </p:spPr>
      </p:pic>
      <p:pic>
        <p:nvPicPr>
          <p:cNvPr id="44" name="02.10.CBAlogo.MIT.40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0"/>
            <a:ext cx="281952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03360" y="360684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y 1 -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9680" y="2438280"/>
            <a:ext cx="61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~Getting to the Age of Complexit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80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damental Limits, Conservation Laws and Uncertainty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" y="4114800"/>
            <a:ext cx="70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Uncertainty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mplexity 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Complexity &gt;=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ility 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&gt;=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19120"/>
            <a:ext cx="9144000" cy="14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Fundamental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W)  /  [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M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 [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0" y="3048120"/>
            <a:ext cx="81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rvation of Fragility Per Unit Complexity (Doyle’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486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Resources for Exponential Complexity Sc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514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] Quantum Phase Space ,2] Error Correcting Fabrication,3] Fault Tolerant Hardware Architectures ,4] Fault Tolerant Software or Codes, 5] Nonlinear Functional Approxi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17600" y="1635120"/>
            <a:ext cx="591840" cy="563040"/>
            <a:chOff x="417600" y="1635120"/>
            <a:chExt cx="591840" cy="563040"/>
          </a:xfrm>
        </p:grpSpPr>
        <p:sp>
          <p:nvSpPr>
            <p:cNvPr id="48" name=""/>
            <p:cNvSpPr/>
            <p:nvPr/>
          </p:nvSpPr>
          <p:spPr>
            <a:xfrm>
              <a:off x="417600" y="191880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1840" y="1948680"/>
              <a:ext cx="162360" cy="25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1480" y="1834920"/>
              <a:ext cx="248760" cy="244080"/>
            </a:xfrm>
            <a:prstGeom prst="ellipse">
              <a:avLst/>
            </a:prstGeom>
            <a:gradFill rotWithShape="0">
              <a:gsLst>
                <a:gs pos="0">
                  <a:srgbClr val="b9b9ec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6400" y="1721160"/>
              <a:ext cx="0" cy="14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801720" y="1987200"/>
              <a:ext cx="141480" cy="777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5840" y="2010960"/>
              <a:ext cx="98640" cy="1209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7360" y="2075760"/>
              <a:ext cx="124560" cy="122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4880" y="2010240"/>
              <a:ext cx="124560" cy="1216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040" y="1635120"/>
              <a:ext cx="124920" cy="122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03120" y="825480"/>
            <a:ext cx="1201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 molec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1n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96040" y="5721480"/>
            <a:ext cx="1922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PowerPC 75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cro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56mm×8.799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5×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4320" y="5256360"/>
            <a:ext cx="1411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icondu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85760" y="2900520"/>
            <a:ext cx="8628120" cy="672120"/>
            <a:chOff x="185760" y="2900520"/>
            <a:chExt cx="8628120" cy="672120"/>
          </a:xfrm>
        </p:grpSpPr>
        <p:grpSp>
          <p:nvGrpSpPr>
            <p:cNvPr id="61" name=""/>
            <p:cNvGrpSpPr/>
            <p:nvPr/>
          </p:nvGrpSpPr>
          <p:grpSpPr>
            <a:xfrm>
              <a:off x="363600" y="2900520"/>
              <a:ext cx="8450280" cy="245880"/>
              <a:chOff x="363600" y="2900520"/>
              <a:chExt cx="8450280" cy="245880"/>
            </a:xfrm>
          </p:grpSpPr>
          <p:sp>
            <p:nvSpPr>
              <p:cNvPr id="62" name=""/>
              <p:cNvSpPr/>
              <p:nvPr/>
            </p:nvSpPr>
            <p:spPr>
              <a:xfrm>
                <a:off x="363600" y="3023280"/>
                <a:ext cx="845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2120" rIns="132120" tIns="-65880" bIns="-65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63600" y="2900520"/>
                <a:ext cx="7801920" cy="245880"/>
                <a:chOff x="363600" y="2900520"/>
                <a:chExt cx="7801920" cy="2458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636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3381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2878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645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23908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21396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18884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16552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313000" y="2900520"/>
                  <a:ext cx="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2120" rIns="132120" tIns="65880" bIns="65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185760" y="3164040"/>
              <a:ext cx="8272440" cy="408600"/>
              <a:chOff x="185760" y="3164040"/>
              <a:chExt cx="8272440" cy="408600"/>
            </a:xfrm>
          </p:grpSpPr>
          <p:sp>
            <p:nvSpPr>
              <p:cNvPr id="74" name=""/>
              <p:cNvSpPr/>
              <p:nvPr/>
            </p:nvSpPr>
            <p:spPr>
              <a:xfrm>
                <a:off x="185760" y="3164040"/>
                <a:ext cx="7092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9881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202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9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0963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442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4704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33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7888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26760" y="3164040"/>
                <a:ext cx="63144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1040"/>
                    <a:tab algn="l" pos="1701720"/>
                    <a:tab algn="l" pos="2552760"/>
                    <a:tab algn="l" pos="3403440"/>
                    <a:tab algn="l" pos="4254480"/>
                    <a:tab algn="l" pos="5105520"/>
                    <a:tab algn="l" pos="5956200"/>
                    <a:tab algn="l" pos="6807240"/>
                    <a:tab algn="l" pos="7658280"/>
                    <a:tab algn="l" pos="8508960"/>
                    <a:tab algn="l" pos="9360000"/>
                    <a:tab algn="l" pos="1021068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9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8253360" y="2602080"/>
            <a:ext cx="439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118800" tIns="59400" bIns="59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01680" y="5256360"/>
            <a:ext cx="1270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per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36440" y="527040"/>
            <a:ext cx="1233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(S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816120"/>
            <a:ext cx="857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53480" y="2257560"/>
            <a:ext cx="806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2160" y="2293920"/>
            <a:ext cx="0" cy="687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030400"/>
            <a:ext cx="0" cy="950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454880" y="3057480"/>
            <a:ext cx="676440" cy="979200"/>
            <a:chOff x="7454880" y="3057480"/>
            <a:chExt cx="676440" cy="979200"/>
          </a:xfrm>
        </p:grpSpPr>
        <p:sp>
          <p:nvSpPr>
            <p:cNvPr id="91" name=""/>
            <p:cNvSpPr/>
            <p:nvPr/>
          </p:nvSpPr>
          <p:spPr>
            <a:xfrm flipV="1">
              <a:off x="7460640" y="3057480"/>
              <a:ext cx="0" cy="979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880" y="4036680"/>
              <a:ext cx="676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ecoli" descr=""/>
          <p:cNvPicPr/>
          <p:nvPr/>
        </p:nvPicPr>
        <p:blipFill>
          <a:blip r:embed="rId1"/>
          <a:srcRect l="0" t="0" r="5082" b="0"/>
          <a:stretch/>
        </p:blipFill>
        <p:spPr>
          <a:xfrm>
            <a:off x="3516480" y="649440"/>
            <a:ext cx="1698480" cy="14335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4751280" y="2346480"/>
            <a:ext cx="1101600" cy="634680"/>
            <a:chOff x="4751280" y="2346480"/>
            <a:chExt cx="1101600" cy="634680"/>
          </a:xfrm>
        </p:grpSpPr>
        <p:sp>
          <p:nvSpPr>
            <p:cNvPr id="95" name=""/>
            <p:cNvSpPr/>
            <p:nvPr/>
          </p:nvSpPr>
          <p:spPr>
            <a:xfrm>
              <a:off x="4766040" y="2346480"/>
              <a:ext cx="0" cy="63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751280" y="2356560"/>
              <a:ext cx="11016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622880" y="5637240"/>
            <a:ext cx="17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tube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kk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95320" y="2295360"/>
            <a:ext cx="952200" cy="685800"/>
            <a:chOff x="1795320" y="2295360"/>
            <a:chExt cx="952200" cy="685800"/>
          </a:xfrm>
        </p:grpSpPr>
        <p:sp>
          <p:nvSpPr>
            <p:cNvPr id="99" name=""/>
            <p:cNvSpPr/>
            <p:nvPr/>
          </p:nvSpPr>
          <p:spPr>
            <a:xfrm>
              <a:off x="1803600" y="229536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5320" y="2295360"/>
              <a:ext cx="952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dna.5" descr=""/>
          <p:cNvPicPr/>
          <p:nvPr/>
        </p:nvPicPr>
        <p:blipFill>
          <a:blip r:embed="rId2"/>
          <a:stretch/>
        </p:blipFill>
        <p:spPr>
          <a:xfrm>
            <a:off x="2658960" y="898560"/>
            <a:ext cx="704880" cy="18828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208160" y="3102480"/>
            <a:ext cx="674640" cy="978840"/>
            <a:chOff x="1208160" y="3102480"/>
            <a:chExt cx="674640" cy="978840"/>
          </a:xfrm>
        </p:grpSpPr>
        <p:sp>
          <p:nvSpPr>
            <p:cNvPr id="103" name=""/>
            <p:cNvSpPr/>
            <p:nvPr/>
          </p:nvSpPr>
          <p:spPr>
            <a:xfrm flipV="1">
              <a:off x="1877040" y="3102480"/>
              <a:ext cx="0" cy="9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08160" y="4081320"/>
              <a:ext cx="674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17360" y="3716280"/>
            <a:ext cx="1389240" cy="1443240"/>
            <a:chOff x="117360" y="3716280"/>
            <a:chExt cx="1389240" cy="1443240"/>
          </a:xfrm>
        </p:grpSpPr>
        <p:pic>
          <p:nvPicPr>
            <p:cNvPr id="106" name="001%20nc" descr=""/>
            <p:cNvPicPr/>
            <p:nvPr/>
          </p:nvPicPr>
          <p:blipFill>
            <a:blip r:embed="rId3"/>
            <a:srcRect l="9399" t="8175" r="9399" b="11321"/>
            <a:stretch/>
          </p:blipFill>
          <p:spPr>
            <a:xfrm>
              <a:off x="117360" y="3716280"/>
              <a:ext cx="138924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34520" y="3816000"/>
              <a:ext cx="78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2757600" y="3076200"/>
            <a:ext cx="0" cy="1436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owerpc750" descr=""/>
          <p:cNvPicPr/>
          <p:nvPr/>
        </p:nvPicPr>
        <p:blipFill>
          <a:blip r:embed="rId4"/>
          <a:srcRect l="31563" t="0" r="30481" b="0"/>
          <a:stretch/>
        </p:blipFill>
        <p:spPr>
          <a:xfrm>
            <a:off x="7499520" y="3649680"/>
            <a:ext cx="1617480" cy="2092320"/>
          </a:xfrm>
          <a:prstGeom prst="rect">
            <a:avLst/>
          </a:prstGeom>
          <a:ln w="0">
            <a:noFill/>
          </a:ln>
        </p:spPr>
      </p:pic>
      <p:pic>
        <p:nvPicPr>
          <p:cNvPr id="110" name="cell%20landscape" descr=""/>
          <p:cNvPicPr/>
          <p:nvPr/>
        </p:nvPicPr>
        <p:blipFill>
          <a:blip r:embed="rId5"/>
          <a:srcRect l="0" t="0" r="16303" b="7605"/>
          <a:stretch/>
        </p:blipFill>
        <p:spPr>
          <a:xfrm>
            <a:off x="5438880" y="1030320"/>
            <a:ext cx="1677960" cy="1420920"/>
          </a:xfrm>
          <a:prstGeom prst="rect">
            <a:avLst/>
          </a:prstGeom>
          <a:ln w="0">
            <a:noFill/>
          </a:ln>
        </p:spPr>
      </p:pic>
      <p:pic>
        <p:nvPicPr>
          <p:cNvPr id="111" name="GFP" descr=""/>
          <p:cNvPicPr/>
          <p:nvPr/>
        </p:nvPicPr>
        <p:blipFill>
          <a:blip r:embed="rId6"/>
          <a:stretch/>
        </p:blipFill>
        <p:spPr>
          <a:xfrm>
            <a:off x="1657440" y="1636560"/>
            <a:ext cx="912600" cy="885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4400"/>
            <a:ext cx="91440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Molecular Machines (Jacobson)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oi_z" descr=""/>
          <p:cNvPicPr/>
          <p:nvPr/>
        </p:nvPicPr>
        <p:blipFill>
          <a:blip r:embed="rId7"/>
          <a:srcRect l="11949" t="0" r="22303" b="0"/>
          <a:stretch/>
        </p:blipFill>
        <p:spPr>
          <a:xfrm>
            <a:off x="4157640" y="3490920"/>
            <a:ext cx="1749600" cy="1290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40280" y="3797280"/>
            <a:ext cx="1265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I 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 0.1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646440" y="3066120"/>
            <a:ext cx="956880" cy="2499120"/>
            <a:chOff x="3646440" y="3066120"/>
            <a:chExt cx="956880" cy="2499120"/>
          </a:xfrm>
        </p:grpSpPr>
        <p:grpSp>
          <p:nvGrpSpPr>
            <p:cNvPr id="116" name=""/>
            <p:cNvGrpSpPr/>
            <p:nvPr/>
          </p:nvGrpSpPr>
          <p:grpSpPr>
            <a:xfrm>
              <a:off x="3646440" y="3066120"/>
              <a:ext cx="956880" cy="2499120"/>
              <a:chOff x="3646440" y="3066120"/>
              <a:chExt cx="956880" cy="249912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3654720" y="3066120"/>
                <a:ext cx="0" cy="2499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646440" y="5565240"/>
                <a:ext cx="95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668040" y="4267080"/>
              <a:ext cx="436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610760" y="566640"/>
            <a:ext cx="7063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86400" y="2637000"/>
            <a:ext cx="2013120" cy="344160"/>
            <a:chOff x="5486400" y="2637000"/>
            <a:chExt cx="2013120" cy="344160"/>
          </a:xfrm>
        </p:grpSpPr>
        <p:sp>
          <p:nvSpPr>
            <p:cNvPr id="122" name=""/>
            <p:cNvSpPr/>
            <p:nvPr/>
          </p:nvSpPr>
          <p:spPr>
            <a:xfrm>
              <a:off x="5490360" y="2637000"/>
              <a:ext cx="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86400" y="2642040"/>
              <a:ext cx="201312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cystelli" descr=""/>
          <p:cNvPicPr/>
          <p:nvPr/>
        </p:nvPicPr>
        <p:blipFill>
          <a:blip r:embed="rId8"/>
          <a:stretch/>
        </p:blipFill>
        <p:spPr>
          <a:xfrm>
            <a:off x="7372440" y="1089000"/>
            <a:ext cx="1122120" cy="1611360"/>
          </a:xfrm>
          <a:prstGeom prst="rect">
            <a:avLst/>
          </a:prstGeom>
          <a:ln w="0">
            <a:noFill/>
          </a:ln>
        </p:spPr>
      </p:pic>
      <p:pic>
        <p:nvPicPr>
          <p:cNvPr id="125" name="cmos7s-new" descr=""/>
          <p:cNvPicPr/>
          <p:nvPr/>
        </p:nvPicPr>
        <p:blipFill>
          <a:blip r:embed="rId9"/>
          <a:srcRect l="0" t="0" r="5019" b="4910"/>
          <a:stretch/>
        </p:blipFill>
        <p:spPr>
          <a:xfrm>
            <a:off x="4245120" y="4819680"/>
            <a:ext cx="1476360" cy="1789200"/>
          </a:xfrm>
          <a:prstGeom prst="rect">
            <a:avLst/>
          </a:prstGeom>
          <a:ln w="0">
            <a:noFill/>
          </a:ln>
        </p:spPr>
      </p:pic>
      <p:pic>
        <p:nvPicPr>
          <p:cNvPr id="126" name="swnt_1b" descr=""/>
          <p:cNvPicPr/>
          <p:nvPr/>
        </p:nvPicPr>
        <p:blipFill>
          <a:blip r:embed="rId10"/>
          <a:stretch/>
        </p:blipFill>
        <p:spPr>
          <a:xfrm>
            <a:off x="1676520" y="4419720"/>
            <a:ext cx="1828800" cy="104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34880"/>
            <a:ext cx="9144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bricational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1320" y="2666880"/>
            <a:ext cx="73072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W)  /  [ a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n (M)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 [ a</a:t>
            </a:r>
            <a:r>
              <a:rPr b="0" lang="en-US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43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33720" y="1219320"/>
          <a:ext cx="1095120" cy="12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109512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14400" y="4343400"/>
          <a:ext cx="757224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757224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588480" y="1143000"/>
            <a:ext cx="44226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Time*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Per unit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mit-logo" descr=""/>
          <p:cNvPicPr/>
          <p:nvPr/>
        </p:nvPicPr>
        <p:blipFill>
          <a:blip r:embed="rId5"/>
          <a:stretch/>
        </p:blipFill>
        <p:spPr>
          <a:xfrm>
            <a:off x="380880" y="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135" name="02.10.CBAlogo.MIT.40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91520" y="0"/>
            <a:ext cx="175248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119320" cy="2666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4495680"/>
            <a:ext cx="2960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hard P. Feyn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18-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219320"/>
            <a:ext cx="5486400" cy="47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emist does a mysterious thing when he wants to make a molecule. He sees that it has got that ring, so he mixes this and that, and he shakes it, and he fiddles around. And, at the end of a difficult process, he usually does succeed in synthesizing what he wa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8000" y="6491160"/>
            <a:ext cx="451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zyvex.com/nanotech/feynma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0"/>
            <a:ext cx="22161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is Plenty of Room at the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ember 29th, 195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87640" y="0"/>
          <a:ext cx="5048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0"/>
                    <a:ext cx="5048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uthers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9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NA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35760"/>
            <a:ext cx="4038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ed.upenn.edu/naf/services/catalog99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" y="1731960"/>
            <a:ext cx="167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mermade" descr=""/>
          <p:cNvPicPr/>
          <p:nvPr/>
        </p:nvPicPr>
        <p:blipFill>
          <a:blip r:embed="rId3"/>
          <a:stretch/>
        </p:blipFill>
        <p:spPr>
          <a:xfrm>
            <a:off x="368280" y="2612880"/>
            <a:ext cx="3178080" cy="3329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10320" y="1770120"/>
            <a:ext cx="1960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720" y="6497640"/>
            <a:ext cx="5704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iochem.ucl.ac.uk/bsm/xtal/teach/repl/kleno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klenow_mode" descr=""/>
          <p:cNvPicPr/>
          <p:nvPr/>
        </p:nvPicPr>
        <p:blipFill>
          <a:blip r:embed="rId1"/>
          <a:stretch/>
        </p:blipFill>
        <p:spPr>
          <a:xfrm>
            <a:off x="2819520" y="927000"/>
            <a:ext cx="3809880" cy="242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976400" y="6172200"/>
            <a:ext cx="6009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lvl="4" marL="2284560" indent="-455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es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3)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352-355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eplicate Linearly with Proofreading and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old to 3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ol" descr=""/>
          <p:cNvPicPr/>
          <p:nvPr/>
        </p:nvPicPr>
        <p:blipFill>
          <a:blip r:embed="rId2"/>
          <a:stretch/>
        </p:blipFill>
        <p:spPr>
          <a:xfrm>
            <a:off x="152280" y="3403440"/>
            <a:ext cx="2743200" cy="1597320"/>
          </a:xfrm>
          <a:prstGeom prst="rect">
            <a:avLst/>
          </a:prstGeom>
          <a:ln w="0">
            <a:noFill/>
          </a:ln>
        </p:spPr>
      </p:pic>
      <p:pic>
        <p:nvPicPr>
          <p:cNvPr id="154" name="pol2" descr=""/>
          <p:cNvPicPr/>
          <p:nvPr/>
        </p:nvPicPr>
        <p:blipFill>
          <a:blip r:embed="rId3"/>
          <a:stretch/>
        </p:blipFill>
        <p:spPr>
          <a:xfrm>
            <a:off x="3124080" y="3403440"/>
            <a:ext cx="2743200" cy="1625760"/>
          </a:xfrm>
          <a:prstGeom prst="rect">
            <a:avLst/>
          </a:prstGeom>
          <a:ln w="0">
            <a:noFill/>
          </a:ln>
        </p:spPr>
      </p:pic>
      <p:pic>
        <p:nvPicPr>
          <p:cNvPr id="155" name="pol3" descr=""/>
          <p:cNvPicPr/>
          <p:nvPr/>
        </p:nvPicPr>
        <p:blipFill>
          <a:blip r:embed="rId4"/>
          <a:stretch/>
        </p:blipFill>
        <p:spPr>
          <a:xfrm>
            <a:off x="6153120" y="3262320"/>
            <a:ext cx="2838600" cy="1741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9600" y="5181480"/>
            <a:ext cx="2385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mplate dependant 5'-3'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mer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1240" y="5181480"/>
            <a:ext cx="233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'-3' error-correc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onuc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4840" y="5181480"/>
            <a:ext cx="180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'-5' proofrea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uc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iny_klenow.num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070400" y="1106640"/>
            <a:ext cx="167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07120" y="2130480"/>
            <a:ext cx="197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Step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ult-Tolerant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IMAGE-winograd-cowan-title" descr=""/>
          <p:cNvPicPr/>
          <p:nvPr/>
        </p:nvPicPr>
        <p:blipFill>
          <a:blip r:embed="rId1"/>
          <a:stretch/>
        </p:blipFill>
        <p:spPr>
          <a:xfrm>
            <a:off x="189000" y="1536840"/>
            <a:ext cx="3705120" cy="4822560"/>
          </a:xfrm>
          <a:prstGeom prst="rect">
            <a:avLst/>
          </a:prstGeom>
          <a:ln w="0">
            <a:noFill/>
          </a:ln>
        </p:spPr>
      </p:pic>
      <p:pic>
        <p:nvPicPr>
          <p:cNvPr id="164" name="IMAGE-winograd-cowan-3-5-hamming" descr=""/>
          <p:cNvPicPr/>
          <p:nvPr/>
        </p:nvPicPr>
        <p:blipFill>
          <a:blip r:embed="rId2"/>
          <a:stretch/>
        </p:blipFill>
        <p:spPr>
          <a:xfrm>
            <a:off x="4448160" y="1511280"/>
            <a:ext cx="42465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5120" y="2514600"/>
            <a:ext cx="624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] Quantum Phase Sp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] Error Correcting Fabr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] Fault Tolerant Hardware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] Fault Tolerant Software or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] Nonlinear Functional Approxi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762120"/>
            <a:ext cx="789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which increase the complexity of a system exponentially with a linear addition in re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4280" y="144360"/>
            <a:ext cx="79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esourcees for Exponential Sc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5257800"/>
            <a:ext cx="85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we combine these in new ways to create something 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5480" y="1295280"/>
            <a:ext cx="836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bricating Complexit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stical-Mechanical Engineer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damental Limits and Uncertainty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m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iption Languages and Designs Tool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vogadro Scale Engineering: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3:44Z</dcterms:created>
  <dc:creator>saul griffith</dc:creator>
  <dc:description/>
  <dc:language>en-US</dc:language>
  <cp:lastModifiedBy>MIT</cp:lastModifiedBy>
  <dcterms:modified xsi:type="dcterms:W3CDTF">2003-12-01T19:07:08Z</dcterms:modified>
  <cp:revision>226</cp:revision>
  <dc:subject/>
  <dc:title>Predicated assembly and biomimetics in micro/nano-manufacture</dc:title>
</cp:coreProperties>
</file>